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0E78D-3103-4477-BFA2-C823A66B0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D3291-0344-499C-A43B-0B2740A1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1F144-246D-4094-BEFC-A13446757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58FF8-BC21-485C-8C17-00DDBB5A0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16FB5-9290-4611-BC2D-D4806DA0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EA8C1-2CD1-451B-84E3-82F37F1B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B8E23-BCA3-47E1-9155-2C8D7451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FE8D2-9B37-4465-AEE1-092F3AA5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49E77-1939-4693-9D9A-B0E3D856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47C65-75CB-4FAC-A354-159429C4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6ECC8-6F32-4B73-9B47-174A60D1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A290E-4F57-4778-B129-6DF72334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7608-AA43-42D4-8DE4-F9F241332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5201-65F9-42CA-903D-77519C72E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3241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bruary 5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62481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3"/>
          <p:cNvSpPr/>
          <p:nvPr/>
        </p:nvSpPr>
        <p:spPr>
          <a:xfrm>
            <a:off x="1066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uary 28,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09120" y="837720"/>
            <a:ext cx="7975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rcial Operations Subcommittee (CO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ir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helle Trenary, Tenaska Power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ce Chair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Schatz, TXU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ocol Revision Subcommittee (P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ir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anda Frazier, Lumin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ce Chair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 Lyons, Exel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iability and Operations Subcommittee (R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ir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an Bern, Oncor Electric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ce Chair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one Staples, Tenaska Power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lesale Market Subcommittee (W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ir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remy Carpenter, Tenaska Power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ce Chair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Kee, CPS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3b3b3"/>
                </a:solidFill>
                <a:latin typeface="Arial"/>
              </a:rPr>
              <a:t>Retail Market Subcommittee (RMS) (RMS meets February 2, 20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3b3b3"/>
                </a:solidFill>
                <a:latin typeface="Arial"/>
              </a:rPr>
              <a:t>Chair: </a:t>
            </a:r>
            <a:r>
              <a:rPr b="0" lang="en-US" sz="1800" spc="-1" strike="noStrike">
                <a:solidFill>
                  <a:srgbClr val="b3b3b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b3b3b3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3b3b3"/>
                </a:solidFill>
                <a:latin typeface="Arial"/>
              </a:rPr>
              <a:t>Vice Chai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315080" y="152280"/>
            <a:ext cx="53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2016 TAC Subcommittee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Albracht, Brittney</dc:creator>
  <dc:description/>
  <dc:language>en-US</dc:language>
  <cp:lastModifiedBy>Albracht, Brittney</cp:lastModifiedBy>
  <dcterms:modified xsi:type="dcterms:W3CDTF">2016-01-21T18:05:41Z</dcterms:modified>
  <cp:revision>77</cp:revision>
  <dc:subject/>
  <dc:title>Instructions</dc:title>
</cp:coreProperties>
</file>