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F9DD-647D-44D6-9676-FD727F29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6078-DBC7-4EC0-BD41-9977836FF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6FA3-F2F2-4C91-9967-32D5A60D7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723-7513-47A4-96A8-46BFACA2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508-2FB9-4430-8A62-87DA0763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A15-0C1B-4B00-92DB-0EAAFA71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1BA-0503-44CF-8C21-B98748D4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58A4-579F-439C-B177-4B83E8E8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A7E8-5620-4266-8B15-9D91C7AA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08AB-27BF-49A4-B06F-618EA62F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438E-8467-4F25-9800-537F6394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988B-128B-46ED-A693-D0F05B09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BE94-81CF-4FD3-91DB-7D689016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5A1C-C01E-4661-B91D-C84603C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15C-D9A9-40FD-A670-2FDEB69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0AC5-9329-42D4-8D6A-F8FDBF08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3668-E8EB-44D0-BCB5-71A6A4E9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5F38-43A5-4F69-B4AC-226F6497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3E0E-CDE9-4CDD-BEF0-1732BA45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32EE-524F-459F-935A-32C2C54C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B66E-5A95-42C3-816B-8E215392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6094-020E-4E89-81DF-367450E1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EB80-04CF-4942-A307-AEFC74CB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4035-7161-420E-A074-7A89784C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1C8F-FE2E-48E5-99A9-0BC93ED5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3DD-E7AB-46B9-B2C8-B6A4E298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D0C3-68B9-40A8-AC32-CB543E86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7A7C-AC74-421D-B949-A4C45F5C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2E87-EB45-4DE3-AB02-4C0F583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C618C-2DDE-4E70-83C0-2E53075F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F570-E758-4F06-B983-26E79649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792B-4200-4A88-A1FC-B2319F4C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5E07-1EF8-40F0-B7CF-1687FE5A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81C69-9DD8-40A8-A885-CE95C54A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3289-CF53-40A7-AFCE-7DBB90D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C12D5-EF11-4AE4-8828-EB42F92A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9EE-40D5-4A8B-9C6B-933F3FC7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712A-42A7-4B39-AB73-95FAD91E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C4475-13D4-4A32-BFFC-324A49D3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180E-F9BB-40CF-9553-BF1F3872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FA3A6-1A57-4DB4-A2BD-2D5387CC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0773B-4FCD-422B-A887-F46A5328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A55B1-82D4-4892-AF71-07A92A92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435E-D250-4DBC-B95F-A42B3674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BC2E-4DF1-400F-8005-919858F1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7663-0D50-4659-A8D9-5346EC9F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5D27E-FEF8-427C-8398-F3F7B64D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780-98CA-4F77-90DD-F137DD5B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9C4D7-0E0C-433F-B9AC-7AC2D690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C6E27-5210-4352-89B0-C26610DC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1E14B-B4B6-443A-A3A3-1ABFE76F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41279-B004-49E2-83CB-CE1D6F82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D93A-6089-4C7E-B343-EFF733B2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8864-C617-4401-8360-1013FCE8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1B4C7-3E4D-410F-8819-7BF8F6C7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B2AD5-3A88-4E45-BAE3-AD3753B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2D19D-6688-415D-92DA-5A77C196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1374E-9036-4358-8A8A-D700B569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E54-89BB-467E-9980-2983783D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09B4-EC69-421C-A3C8-32E57530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C39B9-9818-4151-B996-3BC3BD5E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09D04-E67C-46E3-8B80-1A5D8C35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FDA2D-33F7-4120-AD0E-7924ADBC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611CB-0BCF-49C2-BB5A-2926077A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63811-FABE-4906-9813-F96C7596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F117-241C-49D7-B52B-693B52B1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B86BC-0A2A-4634-90A7-3C4D30EB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86749-D911-443C-8C0A-6546E3A6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878E3-07EE-43B8-9710-B3BE25EC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AF1-E6DB-4D97-A3F6-69F8C5F7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D9552-1877-46BD-AC4E-FD4CDD12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4C094-A329-4E4F-9AF2-2CE86698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9C040-63BD-4717-B0F5-D4B513B4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C1D2E-75B4-49F1-94E5-9B94913E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E5273-12A5-474E-B62F-CA01B72C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2374A-2349-4816-B672-DDF8F570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0079B-431F-4463-A959-1DE96332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D4011-A8C5-42DB-9A67-F91C52C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9C57F-A21B-4718-AC33-6A8E0527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320A-EC96-4B15-8C02-20AE1FB2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4F6-6620-44CF-AD59-54E7D91B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7EE0A-9359-4DDC-B4F3-0CB148A6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CC88E-D342-450B-928D-D873B4A7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764F5-0F37-4ACD-9BF7-BA9A2F4A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D812-2618-405B-A2AE-460A0F40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C265B-25F3-4B56-8596-EB3D5A09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351-8983-4209-9340-DA55527B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40A9-E1D5-439A-A32A-288D39093DC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2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07E3-EA09-4983-8AB5-528FA1827F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59D3-77A8-4EC1-896B-EC3785CB215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D11A-3D95-4209-A545-2283E0029E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53A6-6A52-4432-95C5-438A386FDBF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DCB4-06A4-4DC5-B182-7D2C7E779B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80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4A8C-A320-40C4-BA53-BEAB0D110B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December 9, 2015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COPS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8, 20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5AE4-21AE-43B6-BD16-54E756027FE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RCOT’s Updates!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430E-71DA-4310-8B30-5D356F6A343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143000" y="9140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ird Quarter Performance Metr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All transactional Performance </a:t>
            </a:r>
            <a:r>
              <a:rPr b="1" lang="en-US" sz="2200" spc="-1" strike="noStrike">
                <a:solidFill>
                  <a:srgbClr val="c00000"/>
                </a:solidFill>
                <a:latin typeface="Gill Sans MT"/>
              </a:rPr>
              <a:t>100%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ttp://www.ercot.com/content/wcm/key_documents_lists/78083/12.RMS_3Q_2015_PM_Comparison.pptx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light 1015 Complete and Year End Summar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ttp://www.ercot.com/content/wcm/key_documents_lists/78083/12.__Flight_Testing_Update_to_RMS120915.v2.pptx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advertent Gain Statistics Repor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ttp://www.ercot.com/content/wcm/key_documents_lists/78083/12.__December_RMS_2015_IAG_Numbers.v2.pptx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ttp://www.ercot.com/content/wcm/key_documents_lists/78083/12._Inadvertent_Stats___September_2015.v2.pptx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RMS January  5</a:t>
            </a:r>
            <a:r>
              <a:rPr b="0" lang="en-US" sz="4400" spc="-1" strike="noStrike" baseline="30000">
                <a:solidFill>
                  <a:srgbClr val="572314"/>
                </a:solidFill>
                <a:latin typeface="Gill Sans MT"/>
              </a:rPr>
              <a:t>th</a:t>
            </a: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 Meeting:  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90360" y="8380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ly 2 voting items were identified and discussed during the agenda planning call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Working Groups with the exception of the Advanced Metering Working Group (AMWG) had provided their December meeting updates during the December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MS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COT stated their monthly reports may not be available for RMS’ review due to the early January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eting dat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orum concerns with the New Year’s holiday weekend and potential weather events that could affect flight delays/cancellations to Austi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Conclusion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January 5, 2016 RMS was cancelled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553F-674D-441C-BC50-A9C4B550F2E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528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75BB-A18C-4DCA-A14D-4F5006FA7FB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C:\Users\00015621\AppData\Local\Microsoft\Windows\Temporary Internet Files\Content.IE5\BO9MEPUZ\questions-2[1].jpg"/>
          <p:cNvPicPr/>
          <p:nvPr/>
        </p:nvPicPr>
        <p:blipFill>
          <a:blip r:embed="rId1"/>
          <a:stretch/>
        </p:blipFill>
        <p:spPr>
          <a:xfrm>
            <a:off x="1676520" y="762120"/>
            <a:ext cx="678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NPRR740,  RMS Votes To Endorse 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6668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PRR74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tail Clarification and Cleanup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s Nodal Protocol Revision Request (NPRR) updates Section 15 to clarify 867_02, 867_03 and 867_04 transactions are forwarded by ERCOT to the Competitive Retailer (CR) Data Universal Numbering System (DUNS) provided in the 867_02, 867_03 or 867_04 transactions received from the Transmission and/or Distribution Service Provider (TDSP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2/1/15:  Texas SET’s review and consensus recommended that RMS Endorse NPRR74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2/9/15:  RMS Unanimously Endorsed NPRR74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12/10/15:  PRS Unanimously Approved NPRR740 per RMS’ recommendation.   PRS will review NPRR740 Impact Analysis (IA) during their 1/14/16 meeting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01/14/16:  PRS Approved NPRR740 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64F1-49F6-4975-9057-C92F6F474B0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RMS Voting During December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61760" y="6094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exas Data Transport &amp; MarkeTrak Systems (TDTMS) Transition Activities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DTMS Working Group Procedures –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ly Approved by R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DTMS Implementation Gui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ly Approved by R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FD0C-D704-48D1-8C08-036A5CBFC2E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14"/>
          <p:cNvGraphicFramePr/>
          <p:nvPr/>
        </p:nvGraphicFramePr>
        <p:xfrm>
          <a:off x="4114800" y="3048120"/>
          <a:ext cx="9144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481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5"/>
          <p:cNvGraphicFramePr/>
          <p:nvPr/>
        </p:nvGraphicFramePr>
        <p:xfrm>
          <a:off x="4191120" y="5105520"/>
          <a:ext cx="914400" cy="771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1055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RMS Voting During December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3996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Disband MarkeTrak Taskforce (MTTF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Unanimously Approv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016 Draft Retail IT Service Level Agreement (SLA) -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http://www.ercot.com/content/wcm/key_documents_lists/78083/08.__Retail_SLA_2016_Draft_v1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D5C6-43C2-4CB4-BEAE-2CEDAD86109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Advanced Metering Working Group (AMWG)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680" y="83808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MT Successfully Implemented the December 19-20, 2015 Releas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rrected Deficiencies and Usability Defects, such 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dification of functionality to provide Third Party scheduled report expiration to automatically align with customer Energy Data Agreement end dat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 of the screen message “It may take a few moments to authenticate your information and obtain your usage data” for customers after login while they are waiting for their landing p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 of ROR friendly/switch names to the SMT ROR search drop down during customers registering for a new SMT account.  This will assist customers in finding their R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nge of the naming of the Residential Customer report export button from the incorrect title “Export Report in Excel” to the correct title of “Export Report in CSV”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09080" indent="-15912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816B-D46D-4BAC-A517-AA4A008E155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9907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Help Desk Call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84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  -133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Help Desk Ticket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8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  -13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idential =              314 (-125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UI access issues =          90 (- 75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istration issues =       157  (-63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Registered Users (R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62,163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+     69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Is in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7,073,746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(+2,542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Meters in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7,003,756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+2,671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320" y="-22896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MT Statistics Since Last Month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9309-8281-4380-93E9-A93AA5282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142640" y="914040"/>
            <a:ext cx="7986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ergy Data Agreement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623 (-731)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EPN = 1; CNP =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85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 Oncor =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53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 Device Agreement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89 (    +2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 Devic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9,971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(+12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arties Registered @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64 (    +2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Ps Registered @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101(   +3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Demand Rea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           4,13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    1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rt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    1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MT Statistics Since Last Month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82DF-ADC6-42FB-A287-5949C642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Retail Market Training Taskforce (RMTTF)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66680" y="60948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elop training in sections (not necessarily in the order of present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 , Roles &amp; Responsibil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ail Transa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anced Meter Technology –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inal review 1/11/1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story –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inal review 1/11/1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et Rules –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itial review 1/12/1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Transparency –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itial review 1/12/1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 First instructor led class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February 9, 2016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igned with Market Test Flight 021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E54A-5124-42E0-8EB4-D10F6D3C598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Retail Market Training Taskforce (RMTTF)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6BD0-6DF3-4FA7-97BB-92D14E76B39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1219320" y="771480"/>
            <a:ext cx="76197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Kathy Scott </cp:lastModifiedBy>
  <dcterms:modified xsi:type="dcterms:W3CDTF">2016-01-20T04:45:18Z</dcterms:modified>
  <cp:revision>1181</cp:revision>
  <dc:subject/>
  <dc:title>Instructions</dc:title>
</cp:coreProperties>
</file>