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77E19-5CAA-4246-86ED-1C271A739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BDABC-4B5B-4C2B-ADE8-B2D2D9C08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86D-1F77-461F-9B87-27A96932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8C6-8750-4BE0-96A0-80F4CBD0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E02137-1ED0-41BB-8A06-51E8BAD6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B703D0-8530-4B2B-8D24-2F9077EA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21E366-B440-4883-85B3-2B38C1B1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40C775-10B7-409F-812F-C98349A9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3FE3D4-7BFB-4FE7-9D03-F66F2420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D1F29C-43A1-4F25-B023-7CA8A89E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E51B66-E0D0-495F-8F2D-A18B5053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036B1B-8116-480F-A782-FE8E2114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83F247-9379-4E1C-947F-7FB7C23F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0392AC-4175-4E8D-96FE-69F12793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9D2-AFA2-4FF8-B51F-D1C01AEB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71A7DE-A9B8-46C4-A6EF-5F705155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AF3D25-EBF6-486B-A29E-3164D064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E7853-34C6-4229-B31D-85D2B8F1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39DA8-94D3-49BC-BC45-36ADE030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7A89A6-3EC8-4E5F-A588-C147AB57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99C340-0FBE-492F-9063-68858221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B2C3D-C901-4A67-B79A-EE54AE6C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752FE0-5466-4658-BAD1-A68914C1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9113A7-EA5E-40ED-BFC4-9CA9F3B1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796A5F-FE86-43AA-9A75-FB8455F4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95F-EEF3-4E99-97DC-FF9602EB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D00A3F-1652-4D43-AE98-4AF402B9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FC470-FD60-4DC1-B539-DA237C93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A3002-EEED-445F-85E2-CE42377D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51BB5-877A-402D-B5EA-3FFD0DB7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9D5EF-59A6-4809-A370-938B06AF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52F2F-B2B7-4948-8EB6-FF87B28B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EDB28-1CA4-4F06-A959-73E5D041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B9456-9EF9-4D6F-B71D-6C03ED88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0EEA0-EABE-4F60-AFC6-1A8BF01E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5564F-E20F-4BDB-BA10-D55E3CC9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E139-AD82-4629-B454-A1130562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BB374-87E6-452D-92F7-D4CD4DE0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F4B60-F107-4531-99BD-9C47A0B8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DDE75-D392-45D6-AD84-3FCA309E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2D3974-0AD0-448A-A35C-F8DBA2C5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D7EEF7-85ED-492B-A68D-1714FAD8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918278-2E04-433B-8C65-10A524D2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5A138D-3820-4248-BC4B-15AFFE27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53BBA0-F006-4FD0-872B-AD2FA3C7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739220-EB75-4F83-BF84-6C86489F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246569-63BD-42FD-972C-3766BC95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436D-7C3E-4C71-B5AF-7A17385F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9AF8C2-2EA7-4B32-AA4B-F200D950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CDD453-D11F-4F9F-990C-8B420447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5EE1E4-6364-46ED-B144-DE08D337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A1622D-20E6-44FC-8253-7548C75B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1E6777-CC77-4250-9558-01D1F5C6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C675-BC01-43A6-9194-2EAC7961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EB67-C36A-4084-BCEB-22C588E1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6912-322C-43E1-8A34-35C906ED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816E-1CF9-454D-89BA-789AF887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FA59-5591-43D0-83BB-8E50B982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8B75A-D4F4-4544-B235-7070A98C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71186-3746-47A3-B8C2-83762E6D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4CA55-B2D1-4EF9-AE42-F7A3343F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B3168-6047-416F-933F-5CF2D264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4A57F-8AD7-49C1-B346-96A51EF7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A2311-0BFF-4E2F-9AEA-C0EC1D7D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CCEB5-4C72-4AD4-9E3B-BD169353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25F-A723-4F01-9493-E45E4B50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1944-1491-4078-BB88-939D30AB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0EBB1-C6AB-48BA-84AE-9E12955E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14939-3D36-4804-94FD-9A887D29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8702F-FBE6-4F9A-AD3E-7F04AF69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02F28-68E0-4E11-ABC0-22A99743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27200-782D-4DAA-B024-817970FF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C1B311-4962-4D7B-B4CE-5A497CCF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E1476B-C148-44BC-AFBC-E8F3FD86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A379A7-592A-48EE-A84C-B8360079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C89208-07D1-4558-BC90-3645452F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E7BFD0-9007-4603-932B-7A09BD97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DF88-9813-4D8F-8FBB-A1B1485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0097F2-2252-48BB-A3E0-099F5B45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29F10D-CDFF-4AB0-B8E0-D10CAA1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72BA6C-FA18-49DD-9FE4-A2F2B6BC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ED9F4B-22CB-4744-9DF3-A0EECDF1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E14262-4DD7-4011-BA84-3E58FDB9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19F97C-27B2-41D6-8EA0-50C42FF4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5C0AF5-63C5-4CC5-86E8-3BE1A679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1536AB-25C1-4B9D-975A-EFA19D18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A216F0-1688-4D81-8FA8-E5B996DD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C638D2-C42A-484A-B715-A5B4DFF3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50F9-1D60-42B8-A8F6-312B2944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858900-B0B0-4A70-9561-06551862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8FBA08-4A54-4010-8554-98FB3F4A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886432-1672-45F0-99D9-715A108E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B80E59-F9D6-44B3-BDBA-91006A46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1309D1-BDF1-4448-AA4F-B5007E9E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7B3C2C-C540-4C8B-986A-6581665A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4F9F7D-6213-44DA-A5A6-83BC6910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8CC2CE-4C7D-4839-9480-B24E5B30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C9EA0D-8925-49C3-A174-A2C7A375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1B4695-E288-4AB4-96D7-38329479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0A46-8989-456C-8D40-11089320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7DF88C-AC63-47F6-AACF-CA6D5A82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DDFA5B-015E-4F35-9EAC-B53EC48C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74344A-EC69-401D-8E38-28D684E4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150159-CDA4-4406-8BFB-14DBA3B2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0B8E79-127D-4E60-BC63-92195708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5A351D-A209-4EED-8188-1C867D01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C069FB-6F21-4512-9633-A028280F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907D17-514C-4F4F-8440-20831A32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EB8A96-4BEB-42E5-9852-BE97F094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66E1C5-5675-4FF0-8442-D68AF087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CA08-E9DC-4BB4-AC5A-9A4D8B5D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1DB725-94A3-44F8-9D30-17F51465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82581-5334-4C21-A38F-C2D6FF73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A805B4-DBC3-4F04-A856-16644597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54862-6EA9-4A77-913B-ADC7D534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5EF16-4B8A-4E75-9D50-84D3BB62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89C3B-4372-4F66-BF54-F02BEF7B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B7AEE9-31CB-400D-9094-24F0FFB8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362AB-3018-4DEB-BCDF-1649D4AD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DDD3FF-D83B-48D0-B6D8-758C59AA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AB154-EEDB-4D44-B221-107BE21E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B5ED-C877-4614-B7FC-EAE091BB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42B5D-4A09-4C45-96F9-C07FA1F3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90B55-1B57-4884-832F-8485D121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F3A92-9F8C-4D36-B688-982B9B43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2D4234B-3A9A-4477-B47C-77417C70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962406-FEFB-41BC-BD42-76F2C409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F4B2363-75C6-4F33-AD3C-88DE9ABB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5B9875-3671-4A4A-9C7D-51D85ABD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D1CCEC-4C0E-45F1-837E-524D80EA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23CB7F-4461-4E68-B7FC-8C14041F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DE2CFA-64FD-4483-B2F0-4C7923C0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2880-1C3C-4786-AB3A-0512BD73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66DEC4-5478-4343-8750-45CE8B3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41F4A3-F870-4505-ADD8-C2266081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5CF9547-419E-42DA-9AD2-E3F95581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2A9936-5581-4F0D-866F-C35FF53F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6A50EF-18A0-452E-97F7-9F2C227D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2FFB24-3195-4AC8-B7B2-748DF41B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E6502F-D900-4D60-876B-8C980D90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4F514A-6637-4A82-A661-9024FFE2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ECCA4A-3805-45B4-934E-3FF72E97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40D21F-F754-40C2-AC5D-AAF4EB4D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FDFA-B6FA-4A3B-B397-1456A5A2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836E96-0DF4-4B5F-8E7A-1EF00CC1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485BD1-D2A8-44B1-9A0B-3EE39C36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D57036-7A43-4923-851E-A185EBC8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06F1DD-6086-47EA-B92B-6F038E91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C581E-8297-4293-9BB0-50C31360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704CC4-1158-40DA-AE97-CE743FDC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ADA28E-ABA2-41BB-9F2B-405C56B3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56DE-7006-462E-9B9B-E6A74ED3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BE9D3-2ACB-4B9C-A22E-A99662D5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A8F-C6D0-48E5-A74F-8F097D40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A50D2-2A83-46B4-926D-65964F99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6FC15-C36D-4437-88AC-2A10CA94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745E-E139-43B1-A0CA-E8C88077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0222-8249-4E3F-8542-D5C100E3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0690-0161-469F-ADAF-781E5F75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00DE-8D13-4A96-B99A-44A929A6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B052-629D-407E-B1B9-52DD990F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971-18E5-4545-B04A-310B93C1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EDF-818E-4491-BBD6-0A38369D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961-8D6D-4321-85CA-1F5277D1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D45BC-7F5B-4C48-AB41-B46EE557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4A2D8-54EC-4F93-A6FE-25E82ECE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9985C-BC60-4BF8-94B2-29C517E9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136EF-576F-4AF0-A75B-C218A8EF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D8143-90DA-4566-BCF2-21F202CD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18608-8E4F-4EDC-BCC1-712781E0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17645-9867-47C2-AF76-493BCFE9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D71FA-5B4A-4391-81D0-2BE6E558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4B482-D831-47FD-BC54-1A97AE4A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618-DBE1-43CC-AA6D-2B82B2A5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ECF24-C2B0-4C71-BA5A-897D80E6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D6623-6362-4F35-B936-F32EE14D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58530-91D6-4C19-AD43-230769D9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48256E-2373-4CE3-8681-FECE4E2A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0EA97C-F9B1-4AC1-A76A-834E668F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47E0D5-5536-4B69-BECA-6B77DEBD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DF60FF-294D-48B1-9253-0D6FDF07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DAED2A-2A09-44DE-9C23-DD7D6264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26A909-D831-4419-A428-9EFD5680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98D8B5-4EF3-45E7-9E7F-4BDEDCF4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A11-3705-4F74-9288-4BD64D6A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C5010-C05B-4B65-9D6E-00369BE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30FFF6-A588-43A0-84A9-A356C370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67F2D-1695-48CE-B045-6609E033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02C820-9034-46F1-BA35-C03E0B08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1CF092-FF2B-4D55-B989-5C323175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4C8E50-91F5-4B99-BCAC-B3C84AFF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165025-0D90-4D64-AB15-763D4697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3F7996-D0E5-48FC-AE02-B0CE319C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C93A68-CA3E-4C8A-A3B8-B6D05F47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5C1FCC-6558-40EB-9671-B50CF913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D7F-4F06-4D89-8B98-B1734028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9FB317-6BCA-44BD-A52C-46230E9E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CC8487-9068-48E9-AD38-7C52DC39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3AE041-F7F2-433A-94C1-2B062033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BB8D45-AC12-4341-9F11-2297E9A3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C248EC-4CF1-40ED-A4DA-5553A47C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735F37-5982-4962-ACFF-FFEFD54E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436054-5837-4BAD-9D41-F7365239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EAEDA2-DD97-4735-855C-B8109DE0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B7A407-CD53-426C-8756-8DB2578A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65B4A1-A7CE-49D7-AB2F-7892AE27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12552-8783-4822-AA9E-BA2F89EC13E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89387-0342-44A9-B021-DB475883A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27722-BF60-4EBB-8DD2-2863EFE072E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7D684-2775-4013-BB67-6CCA2D682B8D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85F5E-1E89-4E97-97F5-75CADCB32CF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406C7-F371-4C25-9331-C37A5F8B71E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8C9C8-3EC8-4736-9CAE-4E8962AC414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E72E9-0A51-4A4D-9B7A-7206872BDF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7AC1B-13E4-4E8E-A879-83632B33082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6DE96-FEB2-43C9-8AFA-BB6EA9E88AD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A62B6-4824-4FA8-838D-968C6E3E17B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93470-46A1-4D7A-80F6-24C225017F4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8C2D8-D9E7-4DAA-8E14-969F00236A87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20E28-0FC1-4040-9533-4829723825AC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6EECF-E997-487C-B86D-EB22C2834C1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399BD-F825-489B-86FF-10F25F1DF74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10923-697F-4076-B6A9-E9BBD84E5DB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492E3-419B-4D8E-9517-718582C524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7AC65-73FD-467A-8738-E86B9E19C71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79650-2679-46E6-848F-8B7044229C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E153C-FE20-4362-8526-B3FD91AE6BA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A3A98-E580-4A1B-9EF2-A3AF1F5E81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441E6-0FF4-4944-847C-C254BB3762C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29274-EAE4-4658-8953-966F1AFD1333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BBFC4-9AD4-42EA-87F4-A32E4531FC2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9D1A8-DBD2-42C0-A098-9E5EDC696D8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4B13E-298F-432B-B34A-AF004F3B506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7DE6D-5FB6-429A-801B-4BD3F610A6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40814-3D07-4D18-B7EB-42DF1991BB7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F1562-B8AA-4AF9-98DE-F9FB18E908E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73EAC-DF9F-4D66-897E-B3069CE9185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EEDAD-AA48-43DD-9A2D-B242C308D5A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65485-367D-47C5-9994-A2A3A3B8963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F26A6-1CFF-4EF6-A49A-8D8AC9FA8F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99C33-B1A9-4242-B823-96D918909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106C2-4E3C-460A-AC0A-37F8FADFD826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10729-45F9-46A5-81D6-A186B6652969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56D9B-84CA-4020-8448-88DEC7A1264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90DD5-05FC-49E1-B511-9A2B08C7A00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A8D07-0EC6-4A50-AD47-01999FABF82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53853-5A3F-4B56-915D-02BF698461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10937-344D-4E0C-A480-6B56299F64F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A5B55-B6B9-438E-B437-BB8A995A5A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627640"/>
            <a:chOff x="787320" y="2804760"/>
            <a:chExt cx="7543800" cy="262764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3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an B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46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uary 28, 2016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Vote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endorsed NOGRR143, Alignment of Nodal Operating Guides with NERC Reliability Standard, BAL-001-TRE-1 as recommended by OW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Unanimous vot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ecommend tabling to sync up with NPRR691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endorsed NOGRR147, Reactive Power Testing Requirements as recommended by OW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Unanimous vote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uary 28, 2016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ern, Alan</cp:lastModifiedBy>
  <cp:lastPrinted>2013-01-30T23:16:36Z</cp:lastPrinted>
  <dcterms:modified xsi:type="dcterms:W3CDTF">2016-01-20T22:05:01Z</dcterms:modified>
  <cp:revision>84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