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1A551-6752-4194-A444-A842D855C5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E75DF-C94C-48E4-AB74-57EA06CF7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E6144-6AEB-4A7A-9F49-C71305B5D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D1B06-F409-435E-B03B-20BEFF2A4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47679-E4A0-40A4-AC5C-C0980B69A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E072A-6BB7-47D4-8B7F-78C80876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F370C-D90F-4AF8-A9E0-480219E01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CA8C7-64C0-4908-AE1F-1696077F4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C2D71-5B65-4590-B214-A10FF33A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C177E-1EAA-4B71-B518-3D5B7047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8D451-0E06-4F4D-BD94-32FE7791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40C0-20BB-4A8F-B0F4-5E19EB374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7C60-A849-4364-8E23-2916AA74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FB3C-9582-410C-A4A4-25BC1023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B0BF-7981-4709-92D1-AA0C3553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68C0-E68A-427C-ACAD-03D90459C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89B04-0FDC-4BDA-B119-8DD2855203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45431-55FE-4671-9FA1-1D67B9B96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689DA-694E-45E0-99AB-5D52ADA61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7: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nuary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40, Retail Clarification and Cleanup </a:t>
            </a:r>
            <a:endParaRPr b="0" lang="en-US" sz="2400" spc="-1" strike="noStrike">
              <a:solidFill>
                <a:srgbClr val="000000"/>
              </a:solidFill>
              <a:latin typeface="Arial"/>
            </a:endParaRPr>
          </a:p>
        </p:txBody>
      </p:sp>
      <p:sp>
        <p:nvSpPr>
          <p:cNvPr id="189" name="Rectangle 2"/>
          <p:cNvSpPr/>
          <p:nvPr/>
        </p:nvSpPr>
        <p:spPr>
          <a:xfrm>
            <a:off x="487440" y="957240"/>
            <a:ext cx="8134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Section 15, Customer Registration, to clarify 867_02, 867_03 and 867_04 transactions are forwarded by ERCOT to the Competitive Retailer (CR) Data Universal Numbering System (DUNS) provided in the 867_02, 867_03 or 867_04 transactions received from the Transmission and/or Distribution Service Provider (TDS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40 as submitted.  On 1/14/16, PRS unanimously voted to endorse and forward to TAC the 12/10/15 PRS Report and the Impact Analysis for NPRR74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42, CRR Balancing Account Invoice Data Cuts</a:t>
            </a:r>
            <a:endParaRPr b="0" lang="en-US" sz="2400" spc="-1" strike="noStrike">
              <a:solidFill>
                <a:srgbClr val="000000"/>
              </a:solidFill>
              <a:latin typeface="Arial"/>
            </a:endParaRPr>
          </a:p>
        </p:txBody>
      </p:sp>
      <p:sp>
        <p:nvSpPr>
          <p:cNvPr id="191" name="Rectangle 2"/>
          <p:cNvSpPr/>
          <p:nvPr/>
        </p:nvSpPr>
        <p:spPr>
          <a:xfrm>
            <a:off x="511200" y="1063800"/>
            <a:ext cx="8121600" cy="31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s the prior month account fund balance CRRBAFBBAL as a new determinant to represent CRRBAF</a:t>
            </a:r>
            <a:r>
              <a:rPr b="0" lang="en-US" sz="1800" spc="-1" strike="noStrike" baseline="-25000">
                <a:solidFill>
                  <a:srgbClr val="000000"/>
                </a:solidFill>
                <a:latin typeface="Arial"/>
              </a:rPr>
              <a:t> (m-1)</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Market Information System (MIS), Settlements and Billing (S&amp;B), and Enterprise Information Services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2/10/15, PRS unanimously voted to recommend approval of NPRR742 as submitted.  On 1/14/16, PRS unanimously voted to endorse and forward to TAC the 12/10/15 PRS Report and the Impact Analysis for NPRR74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43, Revision to MCE to Have a Floor For Load Exposure</a:t>
            </a:r>
            <a:endParaRPr b="0" lang="en-US" sz="2000" spc="-1" strike="noStrike">
              <a:solidFill>
                <a:srgbClr val="000000"/>
              </a:solidFill>
              <a:latin typeface="Arial"/>
            </a:endParaRPr>
          </a:p>
        </p:txBody>
      </p:sp>
      <p:sp>
        <p:nvSpPr>
          <p:cNvPr id="193" name="Rectangle 2"/>
          <p:cNvSpPr/>
          <p:nvPr/>
        </p:nvSpPr>
        <p:spPr>
          <a:xfrm>
            <a:off x="487440" y="1084320"/>
            <a:ext cx="8169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the Ancillary Service Capacity Monitor display on the ERCOT website with additional information by adding the On-Line and Off-Line Reserves used for the Operating Reserve Demand Curve (ORDC), High Dispatch Limit (HDL), and Low Dispatch Limit (LDL) as new items to the displa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8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5k and $55k; no impacts to ERCOT staffing; impacts to Credit Monitoring and Management (CMM), Commercial Systems Integration (CSI),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2/10/15, PRS unanimously voted to recommend approval of NPRR743 as submitted.  On 1/14/16, PRS unanimously voted to endorse and forward to TAC the 12/10/15 PRS Report and the Impact Analysis for NPRR743 with a recommended priority of 2016 and a rank of 156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2/16/15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285840" y="714240"/>
            <a:ext cx="861048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1, Alignment of Protocols with NERC Reliability Standard, BAL-001-TRE-1*</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13, Reactive Power Tes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0, Update to Settlement Stability Repor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4, Digital Attestation Signature Authority Expans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9, Prohibiting Load Resources in Participating as Dynamically Scheduled Resourc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0, Retail Clarification and Clean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2, CRR Balancing Account Invoice Data Cu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3, Revision to MCE to Have a Floor For Load Exposure</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ext Steps for NPRR667, Ancillary Service Redesign</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667 Workshop scheduled for Monday, February 1</a:t>
            </a:r>
            <a:r>
              <a:rPr b="0" lang="en-US" sz="1800" spc="-1" strike="noStrike" baseline="30000">
                <a:solidFill>
                  <a:srgbClr val="000000"/>
                </a:solidFill>
                <a:latin typeface="Arial"/>
              </a:rPr>
              <a:t>st</a:t>
            </a:r>
            <a:r>
              <a:rPr b="0" lang="en-US" sz="1800" spc="-1" strike="noStrike">
                <a:solidFill>
                  <a:srgbClr val="000000"/>
                </a:solidFill>
                <a:latin typeface="Arial"/>
              </a:rPr>
              <a:t>, to review Market Participant comment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s noted in the preamble to the NPRR, ERCOT proposes an implementation date three years from the date of NPRR approval by the ERCOT Board.</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requests feedback from TAC on the expected timeline and next steps for NPRR667</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691, Alignment of Protocols with NERC Reliability Standard,  BAL-001-TRE-1 </a:t>
            </a:r>
            <a:endParaRPr b="0" lang="en-US" sz="1800" spc="-1" strike="noStrike">
              <a:solidFill>
                <a:srgbClr val="000000"/>
              </a:solidFill>
              <a:latin typeface="Arial"/>
            </a:endParaRPr>
          </a:p>
        </p:txBody>
      </p:sp>
      <p:sp>
        <p:nvSpPr>
          <p:cNvPr id="179"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Protocol language with NERC Reliability Standard, BAL-001-TRE-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odal Operating Guide Revision Request (NOGRR) 143, Alignment of Nodal Operating Guides with North American Electric Reliability Corporation (NERC) Reliability Standard, BAL-001-TRE-1, Primary Frequency Response in the ERCOT Reg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impacts captured in Impact Analysis for NOGRR14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2/15, PRS voted to recommend approval of NPRR691 as amended by the 11/10/15 PDCWG comments.  There were two abstentions from the Independent Generator and Consumer Market Segments.  On 12/10/15, PRS unanimously voted to endorse and forward to TAC the 11/12/15 PRS Report as amended by the 12/4/15 ERCOT comments and the Impact Analysis for NPRR691.  The Consumer Market Segment was not present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13, Reactive Power Testing Requirements</a:t>
            </a:r>
            <a:endParaRPr b="0" lang="en-US" sz="2400" spc="-1" strike="noStrike">
              <a:solidFill>
                <a:srgbClr val="000000"/>
              </a:solidFill>
              <a:latin typeface="Arial"/>
            </a:endParaRPr>
          </a:p>
        </p:txBody>
      </p:sp>
      <p:sp>
        <p:nvSpPr>
          <p:cNvPr id="181" name="Rectangle 2"/>
          <p:cNvSpPr/>
          <p:nvPr/>
        </p:nvSpPr>
        <p:spPr>
          <a:xfrm>
            <a:off x="563400" y="785880"/>
            <a:ext cx="7998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he language in Section 8.1.1.2.1.4, Voltage Support Service Qualification, to reference the Reactive Power testing requirements in the Nodal Operating Guides and reflect the revisions to harmonize the Nodal Protocol requirements with recently approved NERC Reliability Standar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OGRR147, Reactive Power Testing Requir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impacts captured in Impact Analysis for NOGRR14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5/15, PRS unanimously voted to recommend approval of NPRR713 as amended by the 9/14/15 NRG comments.  On 12/10/15, PRS unanimously voted to endorse and forward to TAC the 11/12/15 PRS Report and the Impact Analysis for NPRR713.  The Consumer Market Segment was not present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20, Update to Settlement Stability Reporting Requirements</a:t>
            </a:r>
            <a:endParaRPr b="0" lang="en-US" sz="2000" spc="-1" strike="noStrike">
              <a:solidFill>
                <a:srgbClr val="000000"/>
              </a:solidFill>
              <a:latin typeface="Arial"/>
            </a:endParaRPr>
          </a:p>
        </p:txBody>
      </p:sp>
      <p:sp>
        <p:nvSpPr>
          <p:cNvPr id="183" name="Rectangle 2"/>
          <p:cNvSpPr/>
          <p:nvPr/>
        </p:nvSpPr>
        <p:spPr>
          <a:xfrm>
            <a:off x="487440" y="968400"/>
            <a:ext cx="8134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and clarifies the Settlement stability reporting requirements included in Section 8.2, ERCOT Performance Monitor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20 as amended by the 12/9/15 Communications and Settlement Working Group (CSWG) comments.  On 1/14/16, PRS unanimously voted to endorse and forward to TAC the 12/10/15 PRS Report and the Impact Analysis for NPRR7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34, Digital Attestation Signature Authority Expansion</a:t>
            </a:r>
            <a:endParaRPr b="0" lang="en-US" sz="2000" spc="-1" strike="noStrike">
              <a:solidFill>
                <a:srgbClr val="000000"/>
              </a:solidFill>
              <a:latin typeface="Arial"/>
            </a:endParaRPr>
          </a:p>
        </p:txBody>
      </p:sp>
      <p:sp>
        <p:nvSpPr>
          <p:cNvPr id="185" name="Rectangle 2"/>
          <p:cNvSpPr/>
          <p:nvPr/>
        </p:nvSpPr>
        <p:spPr>
          <a:xfrm>
            <a:off x="511200" y="1063800"/>
            <a:ext cx="8121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e list of authorized Market Participant employees capable of providing the required annual attestation related to Digital Certifica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34 as amended by the 12/7/15 ERCOT comments.  On 1/14/16, PRS unanimously voted to endorse and forward to TAC the 12/10/15 PRS Report and the Impact Analysis for NPRR734.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39, Prohibiting Load Resources in Participating as Dynamically Scheduled Resources </a:t>
            </a:r>
            <a:endParaRPr b="0" lang="en-US" sz="1800" spc="-1" strike="noStrike">
              <a:solidFill>
                <a:srgbClr val="000000"/>
              </a:solidFill>
              <a:latin typeface="Arial"/>
            </a:endParaRPr>
          </a:p>
        </p:txBody>
      </p:sp>
      <p:sp>
        <p:nvSpPr>
          <p:cNvPr id="187" name="Rectangle 2"/>
          <p:cNvSpPr/>
          <p:nvPr/>
        </p:nvSpPr>
        <p:spPr>
          <a:xfrm>
            <a:off x="487440" y="99216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oses a gap in the Protocols to prohibit participation by sites associated with Dynamically Scheduled Resources (DSRs) as a Load Resour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2/15, PRS unanimously voted to recommend approval of NPRR739 as amended by the 11/2/15 ERCOT comments and as revised by PRS.  On 12/10/15, PRS unanimously voted to endorse and forward to TAC the 11/12/15 PRS Report and the Impact Analysis for NPRR73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Luminant</cp:lastModifiedBy>
  <cp:lastPrinted>2013-01-30T23:16:36Z</cp:lastPrinted>
  <dcterms:modified xsi:type="dcterms:W3CDTF">2016-01-20T18:56:32Z</dcterms:modified>
  <cp:revision>28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