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4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4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4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CF1BC-25A7-4F65-BEBB-DE6AA9F4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21ABB-768E-4ADC-83FA-47E2FC837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AB1E8-068D-43BF-BDCA-F3B3DFC86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067-430E-4F6A-B536-754A6963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528-20EE-44F0-B6EB-44989E1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A332C-CBD7-4EFF-91A9-6310DB2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BE676-05BF-42D1-A8A9-B9A5221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B0F0E-609B-46DB-BC2D-162757B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26C34-1BDB-4316-BB3A-421C1DB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B739E-BDBD-42DA-ADA9-DC63E3E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FDCE0-D23F-400D-911F-C0CBF01F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063F7-7FFE-4727-946F-DDF59F59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CB001-041F-4EC8-8278-7A30732E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E77EC-8A31-4662-8C33-57C508CF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6AC7F-4941-4E8E-9E6F-122C7048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5CD-B936-48B6-9963-CE483295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0858A8-EC27-4D9E-B2D8-0D8F91F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24754-70EE-4235-A026-78AA770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BE54B-F6EB-44FC-A036-510E674F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7F0509-E05F-47A1-95D7-276379A9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CE116-02F5-46F1-879B-304360D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06688B-E7F2-4F92-9D8C-2713D8E9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B8B56-958D-4B13-973C-EAC235E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070E3-20E3-4876-82EB-DEDA5796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7F09F-32C1-4B27-BDF6-30AB642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8489E4-ADFE-4487-A4CA-AB9802F1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389-306A-4487-97B7-664E0521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F30F72-F8C0-4AC3-98E3-2320732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8BBF0C-9106-4DAE-981F-E2970A02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720E9D-6FEC-4697-8D12-CD018E5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A84417-BE6E-4A8F-901F-DC58CF1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AE357-A7C2-4617-B423-7EC4A43C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FB494-C726-4D89-943A-614F9A8F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0F48D1-3BBA-45CD-B5C0-06CE1FE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6254AE-F855-463E-9ED4-A2A628A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BEAE25-24B2-43DB-91D0-ACE3FC5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6A6E1-DC08-4690-955B-0F54E94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51B-19AC-463D-B732-E860EB6B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D6C75-C2D4-428D-99CF-61ECE436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A1766-1CC4-4931-8F53-E1FA2B9C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FE0FC6-4BA6-4993-83B5-9DCA5EA0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BFB01D-1B47-48F6-99BE-975F0E8D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3AADE6-B841-4829-B3A8-3C27A362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A7008-BB47-4C2B-BE21-C50DF9E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EB727-A810-45CD-AAFB-E2ED2D4D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16C682-841B-4A5C-80D0-7465E532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EF890F-51F5-4CE4-A9BF-5BC94211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08B8C1-11FC-4918-8153-A296CB4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2A84-D85F-4948-8D7D-08392E6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09756-1797-4B91-941D-499798C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955C85-142A-4AFA-A3C5-E372F9FB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932C1E-28A3-4F78-A53E-153677B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DCEFA4-8E87-4174-8DC9-42C2EC14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D4836D-DB7A-4BF5-B1C3-2748DFB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F6923E-3323-4DDA-B578-B455204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A4ED5B-83E1-4EAD-BA97-4481BF0F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1056E5-5EB8-42CA-B7F4-8F716834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EF426C-2B8D-4961-B2D3-ED21E1FD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A724F-0DC5-450A-85C3-4FB8EE6E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215-4B16-42FD-98F6-F6D8DB2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877FF7-DC7D-44FA-81F2-18E3E344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3B7AE5-95F5-4C3D-AC9F-949ED79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91A3E-8F62-4140-BE0C-8C18269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7CA6D-47AF-47F9-8B0D-4270CD5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17ECBA-8D0E-4ADF-AA9F-F9752BB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22289B-4200-4933-8F99-67D9D39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3D9E19-A7DC-4058-B3B2-E204C362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93D813-8437-4234-955C-E5A6105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4B67FE-6F69-43FD-9BAA-9BDFE58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951AC-CDCF-405F-99BA-843AE74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76F7-B6B9-4428-A5DC-7DE67C2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8990C-642C-4F83-8175-990AEE36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24224-3DEF-49B7-BC92-D14BBDF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07A9D8-917E-44B8-9248-F3B3A15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D7B026-BDB9-49CE-90C0-99B5687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6B7E3-7EAC-4EF5-8DE5-8EB66BD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684782-C4DD-4C07-BB20-658FCF6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8AD00-7DA4-4FC9-8E92-59ADC5B0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B6D720-204A-4656-918F-CA4434C9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D9133-9729-4476-82B4-2C774A0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844-9B84-4FAA-B59D-1B36FA5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DC29-7824-4F1C-95C1-F70C5965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7B52-F5E2-489C-82C6-0C29D3A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A00-D85F-4CF1-8D93-4DC7FFF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C2F-41CA-4380-9995-B234876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F927-10C3-467A-974A-0611BCD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59F9-5854-4751-8F34-7045BA1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550A-B22F-4F9E-B535-B6184831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462B-69CE-47CD-B6AB-B43A7256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3A6-0926-4A22-8675-C73B575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539-8ABA-4351-801D-4F90FFBE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66EE6-6323-4B02-8DB3-94FEB5E5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430-82EE-4BF1-978B-CCD291D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43AF7-F742-4D4B-92BA-1E7FF77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C480C-A30B-4EE4-8DE4-015CCEA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A9A25-6CD1-4432-B480-D0BFC341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9826D-F070-4EA8-910A-48F38E3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78C58-8EE8-4766-992B-D3DCA10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92118-10EE-49A2-8430-07655D7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12FB3-0A12-4288-8163-7B046D5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D384B-7369-49AF-9050-14B29C9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F13C4-9000-4A0F-9D36-5CFDF2D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057E5-16AF-412C-B5A8-635DD575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147-1CAD-4B64-8289-C93164FC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8FF36-5261-41A0-80FC-ADC4505C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953BF-914B-414D-8995-C05BA5A9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C5B29-4F47-48D4-B27A-DF30686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A4338-4895-426F-BBC3-F7C755E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68915-A516-454D-B245-41214711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9D237-3A83-40D2-A692-CAFFC38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B1E84-1458-49B4-82FA-37ED7F62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B4825-583E-4FE3-9E59-FB85CBA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F75FC-32DA-450D-9994-2928D792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746AF-D996-43E9-A9E0-6001B83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9AF-B9CD-40BE-86A1-F0D2CD0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D2CED-B173-4231-80A8-836D68F7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4D85F-87E2-4E05-920D-B70EA44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E5373-6AA3-4F74-872E-810F39FA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96228-1380-435C-8530-02D2AAB9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702F3-2AE8-46DB-B0C5-18ACE17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A5EDA-71CB-4DD2-A987-B17968F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56D88-65C1-46C7-B933-5D39798C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88CA5-578E-4094-A4B7-D522C01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ED13F-64B9-403A-9DBE-F71279F3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BA427-8A72-4219-8E4A-0D98DFC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66-8657-4A5A-BD15-6756466B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702B2-C648-439B-AA60-4FD453C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E177F-17CB-49D6-984C-D2A096D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012F8-ADED-4359-B2A1-57F1D86B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BB219-5C47-4D27-A15A-79FDB966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5DE16-1EC4-457C-9182-4BB1DB7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B9864-A2B1-48D2-AC60-7C5D048D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13D3A-EBF3-4781-A390-C1DBAB97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83770-1F0A-4EE5-9AC8-4BD949A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A5E11-0EE3-4AAC-8562-ED8B1054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41BA5-1DD7-487B-871E-C4AF0AA7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688-B592-4DA8-8358-BCA62BD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A48DF-30E6-459E-B110-B92E2928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D81D1-D93D-4212-BE33-1C7CA4D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F870E-EB13-407C-95BC-DADF6C1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972F2-0796-4E4D-8AB0-39D33BF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21A55-AFA1-4076-A325-428B313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34BD5-9F3E-4793-AEC0-3579AD46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D2144-6568-4998-9C43-11307B0E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027D1-22AF-4E0E-976D-63B06215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A236D-49EE-4556-A4EF-9A1CF838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25CC8-1938-4CE8-BB25-D738D43F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3B2BD-4919-4845-B282-3C7A66474F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270B0-D395-4096-B5A4-03D467A0D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2E1E3-1928-476B-A82C-4DAFE9ACBC8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5B0E-6B51-485A-BFC0-C460BD112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BA188-2D33-4D78-8BB8-689ED31E5CA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2DFF0-882E-49B1-BE39-FAB099405120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4A59F-EB70-444F-B063-33E450FC74C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84F56-B45D-4BB5-B405-6651C21E6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68FEE-81BD-41C4-8970-FC135254B7A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6CD7A-803B-4CA5-9D83-41E3CDB95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70ACD-CC4B-4CED-8D40-AD205CA6318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6261D-8A23-4699-BE54-732C9C2731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6D7FC-FE33-4412-9C12-0B730B5F08A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22945-F024-4BF1-8799-36836BDF121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4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BE04-2FEA-406E-A1CC-C16C3C9D51E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4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6B1A8-2769-47E6-99F9-9220B1E9C49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4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50CB4-756E-41E6-BA12-5A2863AFE6B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ftr" idx="4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180BD-815D-404A-BCF6-4E671F7F3DD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</a:t>
            </a:r>
            <a:r>
              <a:rPr b="0" lang="en-US" sz="9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204F1-7504-475C-8FB1-CE4448B734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5D97-C27D-4E31-B97E-FF56002148A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DB790-E956-4ED2-9233-CFB981DB2BB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ftr" idx="4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F9C3F-DF44-43CC-A9FD-AFAE30A418D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4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54867-F0D7-4FA4-8245-6E681DE9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D02BD-BB09-4191-BED6-20CECCC72D2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47336-7AE9-46B9-A75E-5CD437A7E6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8B8E6-773D-469B-97F2-1295E0C3633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7281A-D403-4C08-8D5F-9B2C21377B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D4235-0425-4217-814A-5E204D504CC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C5010-F21D-48DB-83BB-4985F5C41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32FF4-7FC1-4CBE-9B41-070B27876B2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FD64A-367C-41E5-BBFF-333EF66083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4FE95-D714-4AF3-AF42-24506D46138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5E096-D0BD-4D88-9B97-015F443DA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960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anuary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ebruary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e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5 – Change ERS Availability from an Hourly to 15-minute Interval Evaluation plus Other Minor Chang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CR 787 – Maintain NDCRC Data For Generator Transfer Between Resource Entit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AWG Discussion on ORDC Paramet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Amended by WMS As Responsive to TAC (Unanimous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Referral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4 – RUC Trigger for the Reliability Deployment Price Adder and Alignment with RUC Settlement (QMWG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6 – Adjustments Due to Negative Load (COP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7 – Revision of Voltage Control Requirements (QMWG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PRR 748 – Revisions associated with COM-002-4 and Other Clarifications Associated with Dispatch Instructions (QMWG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SAWG ORDC Paper (Possible Vote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0/7/15 – Commissioner Anderson files mem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0/29/15 – TAC assigns WMS to discuss mem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/04/15 – WMS assigns SAWG to discuss and create docu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liminary findings due at December 2015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nal findings due at February 2016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2/02/15 – WMS updates timeline at request of TA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AWG final product due to WMS on 1/06/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to present final product to TAC on 1/28/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SAWG ORDC Paper (Possible Vote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AWG ORDC Discussion Analysis and Positions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 Review of ORDC Options Whitepap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Level of 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# of standard deviations used to formulate LOL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VOL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ignment of ORDC and PR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Other inputs used to calculate LOL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RCOT ORDC Options Analy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sition Pap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11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7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SAWG ORDC Paper (Possible Vote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MS unanimously voted to endorse SAWG product as amended by WMS as responsive to TA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edits limited to adding “at this time” next to two SAWG consensus it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MS endorsement does not reflect any unanimous recommendations by either WMS or SAW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step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esent to TA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AC vote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le with PUCT?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New and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scussion on WRUC operations and settlements (QMWG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levant with inversion of typical gas/coal production costs and upcoming cold weath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scussion regarding Panhandle System Strength Constraint (CMWG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3-01-30T23:16:36Z</cp:lastPrinted>
  <dcterms:modified xsi:type="dcterms:W3CDTF">2016-01-19T13:05:37Z</dcterms:modified>
  <cp:revision>85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