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1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2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3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2A05-E704-47B0-AEF1-56B1D6D80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8EE4-ACE8-43D2-9D0F-993E99E06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B316-C1F3-40CB-B85B-C57F6C072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6371-FE1D-40EE-9EC7-09C6B4CCE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9058-D2AF-40E6-937F-13237D7BB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D357-C6B3-4C11-8214-E1DCD6573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2AE7-273A-4631-BC12-6516C6909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AA27-A088-429F-A014-F8AC3D1F2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B981-D910-4462-B1F0-841A1EF34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C5EF-1A9D-4469-8E2D-A38A2400B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671F-4984-4857-AE55-D17C163A0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99A3-C075-40C1-BB5C-E5DDC86DB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6947-402B-462A-A3A1-3F1FE39E2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FAD9-DAD0-4D3A-9C03-FD5D7FB18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5D06-7249-4D17-99EB-39C067906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B904-9645-44AD-9C46-95C2BB077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5AC8-061F-4F68-AA40-61DA6E8D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3120-9112-4BA0-86C3-083D8CF8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7118-A2CF-4778-A8A6-76E47992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EBA9-9F94-48D1-9F58-FB0FF425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FD46-BFD8-426C-B884-63CE6A2D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4AC0-8B77-4CFF-BAEE-F8736774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B153-5BC4-473D-8753-3C3F2A1E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3580-82D1-47DC-9C44-1E6A6939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C054-F405-4C40-B497-20CEE7DA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66F3-D971-4AC5-BC88-699FD0FD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1E1A-A45A-44B3-8B7E-30FF5308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2465-FC56-48F7-BE81-8E0ECBBD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EF19-DAB0-4E74-8E81-68CED1F6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CB20-0D90-43AB-B4F1-0C2C9ACF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1747-13C1-4F58-B1AD-CCF246EE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FF74-0EDB-4019-9733-DDC90DBC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F46D-0FB7-49D9-84DA-3ECC3627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EF1A-D85C-43E9-9326-48223211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A57E-8F5A-4904-BA2F-EA88787B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7B74-93F3-4A7B-A7C2-6E389D8D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0A2E-111A-412D-94CB-8F65EFAD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2B51-C2DA-4888-8998-0B5AC4D4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D525-DEF1-4F8D-9CDF-10271DD0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5A51-D3EB-43E7-8B31-8F8CA7C7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475C-F4F1-47A4-9491-3ADD08F05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503C-F748-413C-81CA-1B3BBF16B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0E000-DB70-4B49-A094-0F5AE37589B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B907B-A895-4CC1-858D-1FB41A2BB4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D8F5D-BDED-45EF-B414-ADEA8AA1F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T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/28/20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munications and Settlements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CS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PRR742, Balancing Account Data Cu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WG created NPRR742 to include the prior month’s data cut in the Extract and to align the Nodal Protocols with the COPMG and the Balancing Account Extract User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ork in Prog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SLA requirements for Data Transpa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eview of COPMG0041, Updates to Market Notice Communication Process (Edits to COPMG Section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review of the issue addressed by NPRR746, Adjustments Due to Negative Load, to determine if there are other scenarios that need to be add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review of NPRR744, RUC Trigger for the Reliability Deployment Price Adder and Alignment with RUC Settlement, to investigate/verify data sufficiency for shadow sett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filing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P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Validation Process Comple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d Profiling Guide (LPG)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will submit an NPRR for Protocol Section 18, Load Profiling, and an LPGRR for the Load Profiling Guide in tan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ing February 2016 for submittal of the NPRR/LPG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Information System User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ISU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ad Forecast Distribution Factors Report Chang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publication of once per day, at 5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cheduled to 2016, due to required Protocol languag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implemented 1-2 months after NPRR is 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working on draft NP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closure Data User Guides Review and Re-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available for review on the MISUG web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ternal Web Services (EW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d 3 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process to make EWS Modification a “real”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proposed project with other Subcommittees and Market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tlements Semina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Settlements Semina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invited (WebEx availab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 10, 2016, Following CO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Austin, Room 206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:00 PM to 3:30 P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Topic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COT Settlements: Organization, Processes and Contro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R Balancing Account Settlement: How the Calculation Works and Affects Market Participa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COT Credit: High-level Calculations and Process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tlement Impacts of 2016 NPRR Implementa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5181480" y="976320"/>
            <a:ext cx="36576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29718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533520" y="91404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COPS Meeting and Settlements Semin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February 10, 20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38088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 A: 2015 Q4 Settlement Stability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itle 1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13"/>
          <p:cNvGrpSpPr/>
          <p:nvPr/>
        </p:nvGrpSpPr>
        <p:grpSpPr>
          <a:xfrm>
            <a:off x="542880" y="422280"/>
            <a:ext cx="7728120" cy="1922400"/>
            <a:chOff x="542880" y="422280"/>
            <a:chExt cx="7728120" cy="1922400"/>
          </a:xfrm>
        </p:grpSpPr>
        <p:pic>
          <p:nvPicPr>
            <p:cNvPr id="245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542880" y="4222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9"/>
            <p:cNvSpPr/>
            <p:nvPr/>
          </p:nvSpPr>
          <p:spPr>
            <a:xfrm>
              <a:off x="726840" y="2006280"/>
              <a:ext cx="75441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Straight Connector 12"/>
            <p:cNvSpPr/>
            <p:nvPr/>
          </p:nvSpPr>
          <p:spPr>
            <a:xfrm flipV="1">
              <a:off x="726840" y="17283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Box 1"/>
          <p:cNvSpPr/>
          <p:nvPr/>
        </p:nvSpPr>
        <p:spPr>
          <a:xfrm>
            <a:off x="1163520" y="2344680"/>
            <a:ext cx="6438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ment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5 Q4 Update to C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ke H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13/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8.2(c)(i) Track number of price change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90520" y="792000"/>
          <a:ext cx="6748560" cy="1160640"/>
        </p:xfrm>
        <a:graphic>
          <a:graphicData uri="http://schemas.openxmlformats.org/drawingml/2006/table">
            <a:tbl>
              <a:tblPr/>
              <a:tblGrid>
                <a:gridCol w="1139760"/>
                <a:gridCol w="628560"/>
                <a:gridCol w="709920"/>
                <a:gridCol w="701640"/>
                <a:gridCol w="728640"/>
                <a:gridCol w="647640"/>
                <a:gridCol w="561960"/>
                <a:gridCol w="717480"/>
                <a:gridCol w="912960"/>
              </a:tblGrid>
              <a:tr h="271800">
                <a:tc gridSpan="9"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ing Period: 2015 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Corrected Settlement Point Pr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Intervals Aff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P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M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C Ad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P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M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C Ad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251" name="TextBox 7"/>
          <p:cNvSpPr/>
          <p:nvPr/>
        </p:nvSpPr>
        <p:spPr>
          <a:xfrm>
            <a:off x="1401840" y="2646360"/>
            <a:ext cx="563724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re were no price changes in Q4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8.2(c)(ii) Track number and types of disputes submitted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326880" y="1612800"/>
            <a:ext cx="851220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3"/>
          <p:cNvSpPr/>
          <p:nvPr/>
        </p:nvSpPr>
        <p:spPr>
          <a:xfrm>
            <a:off x="352440" y="866880"/>
            <a:ext cx="832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8.2(c)(iii) Compliance with timeliness of response to disputes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495360" y="1638360"/>
            <a:ext cx="81849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Data Working Group (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MDWG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088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SUG Upda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UG has evolved since its inception in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UG encompasses all data-related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name chang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Data Working Group (MDW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plan is to continue to report to C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DWG Sc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rket Data Working Group (MDWG) reporting to Commercial Operations Subcommittee (COPS) provides a forum for discussion, input and comment on issues related to ERCOT market data, including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ata out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ata acc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ata accurac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ata classifi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4525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8.2(c)(iv) Other Settlement metric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TextBox 11"/>
          <p:cNvSpPr/>
          <p:nvPr/>
        </p:nvSpPr>
        <p:spPr>
          <a:xfrm>
            <a:off x="314280" y="4037040"/>
            <a:ext cx="451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S Final settlement OD data is not represented in graph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5183280" y="42829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verage percent change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113440" y="4624560"/>
          <a:ext cx="3119400" cy="1636560"/>
        </p:xfrm>
        <a:graphic>
          <a:graphicData uri="http://schemas.openxmlformats.org/drawingml/2006/table">
            <a:tbl>
              <a:tblPr/>
              <a:tblGrid>
                <a:gridCol w="930240"/>
                <a:gridCol w="691920"/>
                <a:gridCol w="1497240"/>
              </a:tblGrid>
              <a:tr h="269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e 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273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272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</a:tbl>
          </a:graphicData>
        </a:graphic>
      </p:graphicFrame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262080" y="998640"/>
            <a:ext cx="860256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8.2(c)(iv) Other Settlement metric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900000" y="5622840"/>
            <a:ext cx="741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Total of Charges” represents the sum of statements that are a net charge to the Market Participant (i.e., the amount due to ERCO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158840" y="3583080"/>
          <a:ext cx="6904080" cy="1833480"/>
        </p:xfrm>
        <a:graphic>
          <a:graphicData uri="http://schemas.openxmlformats.org/drawingml/2006/table">
            <a:tbl>
              <a:tblPr/>
              <a:tblGrid>
                <a:gridCol w="1155600"/>
                <a:gridCol w="1202040"/>
                <a:gridCol w="974520"/>
                <a:gridCol w="1141560"/>
                <a:gridCol w="1131840"/>
                <a:gridCol w="129852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-Q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330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</a:tr>
              <a:tr h="328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08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7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2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525600" y="981000"/>
            <a:ext cx="4822560" cy="2395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"/>
          <p:cNvPicPr/>
          <p:nvPr/>
        </p:nvPicPr>
        <p:blipFill>
          <a:blip r:embed="rId2"/>
          <a:stretch/>
        </p:blipFill>
        <p:spPr>
          <a:xfrm>
            <a:off x="5099040" y="1189080"/>
            <a:ext cx="332424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3"/>
          <p:cNvSpPr/>
          <p:nvPr/>
        </p:nvSpPr>
        <p:spPr>
          <a:xfrm>
            <a:off x="352440" y="866880"/>
            <a:ext cx="832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8.2(c)(iv) Other Settlement metric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887400" y="5594400"/>
            <a:ext cx="741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Total of Charges” represents the sum of statements that are a net charge to the Market Participant (i.e., the amount due to ERCO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085760" y="3622680"/>
          <a:ext cx="7069320" cy="1897200"/>
        </p:xfrm>
        <a:graphic>
          <a:graphicData uri="http://schemas.openxmlformats.org/drawingml/2006/table">
            <a:tbl>
              <a:tblPr/>
              <a:tblGrid>
                <a:gridCol w="1050840"/>
                <a:gridCol w="1289160"/>
                <a:gridCol w="1171800"/>
                <a:gridCol w="1170000"/>
                <a:gridCol w="1169640"/>
                <a:gridCol w="121788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-Q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8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</a:tr>
              <a:tr h="351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de"/>
                    </a:solidFill>
                  </a:tcPr>
                </a:tc>
              </a:tr>
              <a:tr h="327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73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3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23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3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433440" y="1084320"/>
            <a:ext cx="4803840" cy="2317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5176800" y="1417680"/>
            <a:ext cx="366228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60" y="16812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8.2(c)(v) Availability of ESIID consumption d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236520" y="657360"/>
            <a:ext cx="8685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36160" y="16812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8.2(c)(v) Availability of ESIID consumption d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6" name="Picture 1" descr=""/>
          <p:cNvPicPr/>
          <p:nvPr/>
        </p:nvPicPr>
        <p:blipFill>
          <a:blip r:embed="rId1"/>
          <a:stretch/>
        </p:blipFill>
        <p:spPr>
          <a:xfrm>
            <a:off x="235080" y="658800"/>
            <a:ext cx="86738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36160" y="16812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8.2(c)(v) Availability of ESIID consumption d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225360" y="657360"/>
            <a:ext cx="8675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160" y="16812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8.2(c)(v) Availability of ESIID consumption d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0" name="Picture 1" descr=""/>
          <p:cNvPicPr/>
          <p:nvPr/>
        </p:nvPicPr>
        <p:blipFill>
          <a:blip r:embed="rId1"/>
          <a:stretch/>
        </p:blipFill>
        <p:spPr>
          <a:xfrm>
            <a:off x="235080" y="655560"/>
            <a:ext cx="8673840" cy="53802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2"/>
          <p:cNvSpPr/>
          <p:nvPr/>
        </p:nvSpPr>
        <p:spPr>
          <a:xfrm>
            <a:off x="5715000" y="1600200"/>
            <a:ext cx="22096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ng data for Final settlement – Reason currently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60" y="16812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8.2(c)(v) Availability of ESIID consumption d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3" name="Picture 1" descr=""/>
          <p:cNvPicPr/>
          <p:nvPr/>
        </p:nvPicPr>
        <p:blipFill>
          <a:blip r:embed="rId1"/>
          <a:stretch/>
        </p:blipFill>
        <p:spPr>
          <a:xfrm>
            <a:off x="235080" y="662040"/>
            <a:ext cx="867384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36160" y="16812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8.2(c)(v) Availability of ESIID consumption d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5" name="Picture 1" descr=""/>
          <p:cNvPicPr/>
          <p:nvPr/>
        </p:nvPicPr>
        <p:blipFill>
          <a:blip r:embed="rId1"/>
          <a:stretch/>
        </p:blipFill>
        <p:spPr>
          <a:xfrm>
            <a:off x="235080" y="662040"/>
            <a:ext cx="867384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8.2(g) Net Allocation to Load (Board Report)- Totals and $/MWh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TextBox 2"/>
          <p:cNvSpPr/>
          <p:nvPr/>
        </p:nvSpPr>
        <p:spPr>
          <a:xfrm>
            <a:off x="3514680" y="739800"/>
            <a:ext cx="2492280" cy="19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NET ALLOCATION TO LOAD (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2679840" y="4091040"/>
            <a:ext cx="394488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AUCTION REVENUE PER CONGESTION MANAGEMENT ZONE ($M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12920" y="958680"/>
          <a:ext cx="7962840" cy="2913120"/>
        </p:xfrm>
        <a:graphic>
          <a:graphicData uri="http://schemas.openxmlformats.org/drawingml/2006/table">
            <a:tbl>
              <a:tblPr/>
              <a:tblGrid>
                <a:gridCol w="2392200"/>
                <a:gridCol w="476280"/>
                <a:gridCol w="423720"/>
                <a:gridCol w="433440"/>
                <a:gridCol w="372960"/>
                <a:gridCol w="422280"/>
                <a:gridCol w="474840"/>
                <a:gridCol w="465120"/>
                <a:gridCol w="396720"/>
                <a:gridCol w="439920"/>
                <a:gridCol w="406440"/>
                <a:gridCol w="387360"/>
                <a:gridCol w="474480"/>
                <a:gridCol w="397080"/>
              </a:tblGrid>
              <a:tr h="196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13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ncing Account Payout to Lo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4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5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4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Zonal Auction Distributio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5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7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7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5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4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5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4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al Auction Distributio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9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8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9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3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6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9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3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2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5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1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8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7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C Settlemen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illary Services Settlemen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1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9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9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2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Start Service Settl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 Services Settlemen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R Settlemen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R Capacity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 Neutrality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ergency Energy Charg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Point Deviation Pay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S Settlement 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C Settlemen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Admin Fee Settlemen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k Load Transfer Settl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 Charge for Excep. Fuel Co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$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.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.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4.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.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.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.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.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7.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6.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.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.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al-Time Adjusted Metered Load (MWh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/MWh*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5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5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5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1.0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7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4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3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5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1.8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2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5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8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9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90" name="TextBox 5"/>
          <p:cNvSpPr/>
          <p:nvPr/>
        </p:nvSpPr>
        <p:spPr>
          <a:xfrm>
            <a:off x="2757600" y="5562720"/>
            <a:ext cx="39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The total ERS charges have been evenly allocated across the contract perio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 The $/MWh value as calculated per PR 8.2 (2) g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92040" y="4491000"/>
          <a:ext cx="8139240" cy="789120"/>
        </p:xfrm>
        <a:graphic>
          <a:graphicData uri="http://schemas.openxmlformats.org/drawingml/2006/table">
            <a:tbl>
              <a:tblPr/>
              <a:tblGrid>
                <a:gridCol w="2455920"/>
                <a:gridCol w="466920"/>
                <a:gridCol w="441000"/>
                <a:gridCol w="451080"/>
                <a:gridCol w="379440"/>
                <a:gridCol w="423720"/>
                <a:gridCol w="503280"/>
                <a:gridCol w="466560"/>
                <a:gridCol w="397080"/>
                <a:gridCol w="450720"/>
                <a:gridCol w="424080"/>
                <a:gridCol w="396720"/>
                <a:gridCol w="485640"/>
                <a:gridCol w="397080"/>
              </a:tblGrid>
              <a:tr h="1314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al Auction Distribution($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1314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4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4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4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4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4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5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4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4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7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7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7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8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8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0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0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8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7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4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7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7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0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3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4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9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7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5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4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9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8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9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3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6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9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3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2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5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1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8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17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Data Working Group (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MDWG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Out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port formats, Performance/SLA, Documentation, Trainin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blic websit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- Dashboards, Public Repor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lerts and Notification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– Access, not content or guideli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arket Information System (MIS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– Data downloads, User interface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ternal Web Servic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EWS) – Automated access point (API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posed for modifica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– FTP limited legacy use for Retail transaction submissions and LRS data transfers and Commercial API used by Retail Market for Fine ESIID/Find Transa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Accura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port corrections, Report enhancem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Class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ublic, Secure, Certified, Digital certifica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Data Working Group (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MDWG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88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/9/2015 – COPS approved the creation of the MDWG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13/2016 – COPS approved the MDWG Scope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26/2016 – MDWG to elect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/10/2016 – COPS will confirm MDWG Leadership and vote to disband the MIS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/25/2016 – COPS will ask TAC to approve a revised COPS Procedures document, removing the MISUG and adding the MDWG; Once approved ERCOT Staff will create the new MDWG landing page and the MISUG will be moved to inactive groups under the COPS web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PS Chair/Vice-Chair will continue to update TAC on MDWG activ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ions/Concer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 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0520" y="6858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PS Leadership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Elected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1-9-201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 – Michelle Trenary, Tenaska Powe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e Chair – John Schatz, TXU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ion of the Market Data Working Group (MDWG)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Approved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12-9-20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WG will replace (or rename) the Market Information System User Group (MIS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DWG Scope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Approved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1-13-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rket Data Working Group (MDWG) reporting to Commercial Operations Subcommittee (COPS) provides a forum for discussion, input and comment on issues related to ERCOT market data, including data output, data access, data accuracy, and data classif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 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0520" y="609480"/>
            <a:ext cx="81536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SWG’s Comments to NPRR720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Update to Settlement Stability Reporting Requirement </a:t>
            </a:r>
            <a:r>
              <a:rPr b="1" lang="en-US" sz="2500" spc="-1" strike="noStrike">
                <a:solidFill>
                  <a:srgbClr val="c00000"/>
                </a:solidFill>
                <a:latin typeface="Arial"/>
              </a:rPr>
              <a:t>Approved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12-9-20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720 updates and clarifies the Settlement Stability report requirements included in Protocol Section 8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WG’s Comments clarify reporting inputs, specifically to ensure Load cuts used in $/MWh calculations are appropriate to the settlement charg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WG’s Comments to LPGRR055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Extend Load Profile Model Calendar Inputs to 2030 </a:t>
            </a:r>
            <a:r>
              <a:rPr b="1" lang="en-US" sz="2500" spc="-1" strike="noStrike">
                <a:solidFill>
                  <a:srgbClr val="c00000"/>
                </a:solidFill>
                <a:latin typeface="Arial"/>
              </a:rPr>
              <a:t>Approved  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12-9-20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PGRR055 extends the Load Profile Model Calendar-related inputs in Appendix E, Profile Model Spreadsheets, from 2020 to 20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WG’s Comments include corrections to Appendix E, which are captured in the spreadsheets attached to LPGRR0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 Assigned Review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0520" y="609480"/>
            <a:ext cx="81536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SWG’s Comments to NPRR74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UC Trigger for the Reliability Deployment Price Adder and Alignment with RUC Settlement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Approved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1-9-201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red to COPS by the 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WG Comments requested PRS to table NPRR744 to allow the CSWG to investigate data sufficiency for shadow sett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view of NPRR74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djustments Due to Negative Load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OPS reviewed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1-9-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red by the W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supports NPRR746 and recommends that it continue through the stakeholde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SWG will verify there are not other charge types adversely affected by negative load; CSWG will submit a new NPRR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RCOT Upda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15 3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Quarter Non-Registered DG Installed Capa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Load Zone increased by 2.4 M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7 MW due to Competitive ad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 MW due to NOIE ad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3 MW due to Capacity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.43 MW due to dropped Non-Registered 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838080" y="1676520"/>
          <a:ext cx="7391520" cy="2649240"/>
        </p:xfrm>
        <a:graphic>
          <a:graphicData uri="http://schemas.openxmlformats.org/drawingml/2006/table">
            <a:tbl>
              <a:tblPr/>
              <a:tblGrid>
                <a:gridCol w="1654200"/>
                <a:gridCol w="1146240"/>
                <a:gridCol w="1476360"/>
                <a:gridCol w="3114720"/>
              </a:tblGrid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_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regate_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h_Exported_Prior_12_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A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5,9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C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HOUS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49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7,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LC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NOR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38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41,8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RAYB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SOU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64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28,8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W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5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5,6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4,8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RCOT Upda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95640" indent="-395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15 Q4 ERCOT Settlement Stability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5640" indent="-395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e Appendix A for full re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3 Disputes submitted in 2015: 24 Granted, 29 Denied, 0 O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 change from previous settlement ticked up for December Finals and July True-ups due to ERCOT not receiving generation data for 2 gener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sum of statements that are a net charge to Market Particip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640" indent="-3956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Average $4.54MM (Down from 2014’s $6.46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5640" indent="-3956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M Average $5.76MM (Down from 2014’s $8.21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s used for Initial settlement throughout 2015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640" indent="-3956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volumes: 200K to 400K MWh, 20% to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5640" indent="-3956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 of ESI IDs estimated for Initial settlement:  3% to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Allocations to Load throughout 2015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640" indent="-3956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month, Sept - $0.28/MWh, High month, August $1.84/MW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5640" indent="-3956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month, Sept - $9MM, High month, August $67.9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640" indent="-3956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Michelle Trenary</cp:lastModifiedBy>
  <cp:lastPrinted>2015-09-23T20:39:02Z</cp:lastPrinted>
  <dcterms:modified xsi:type="dcterms:W3CDTF">2016-01-21T14:51:42Z</dcterms:modified>
  <cp:revision>1476</cp:revision>
  <dc:subject/>
  <dc:title>Instructions</dc:title>
</cp:coreProperties>
</file>