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7C8-0A66-41CC-AEC3-79ADD2B8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5B9-5DAB-4446-AF26-DCECC8F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9A1-9944-4E8D-949C-D31E8BCF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804-17AD-4604-ACF9-3AD5A72B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3B7-4329-48C3-91F7-DA911096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9CE-6369-4C40-9054-8068260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AA2-4C79-4D05-A898-9CA22CCA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59B-607D-4D6A-B8FC-52EFB1BA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882-EB92-400C-90CE-C647CD5A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5A0-92BC-4E60-9A99-ADCA70A3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862-60A7-4CD1-96CA-8FEE717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8E7-CAF4-466B-BE36-691E4255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617-C293-4540-81EF-87F85818C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December 2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el Cost Components in the Fuel Ad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CMRR009 Calculation of Minimum Fuel Requirements F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continued discussion of Appealing Verifiable Cost Rejections per Section 12 of the V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Level of Appeal: Review by an “ERCOT Verifiable Cost Appeals group” that is not part of the ERCOT verifiable cost team.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 of Appeal: Review by the ERCOT Board (not limited to unaffiliated Directors)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fting a VCMRR to incorporate these chan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developing list of fuel cost components that can be included in the Fuel 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el Cost Components in the Fuel Ad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CMRR009 Calculation of Minimum Fuel Requirements F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5181480"/>
                <a:gridCol w="1143000"/>
                <a:gridCol w="917640"/>
                <a:gridCol w="987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tural Gas Cost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cl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al gas commodity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fuel lo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commodity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capacity reservation demand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balancing co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minimum requirement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peline pena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injection and withdrawal fuel lo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injection and withdrawal commodity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capacity reservation demand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r Cha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dging gains/lo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CMRR012 - Alignment with NPRR732, Alignment of Verifiable Cost Language Within Protoc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732 revised paragraph (11) of Section 5.6.1 that describes how ERCOT will determine Resource costs  in the event that a QSE or Resource Entity fails to file verifiable costs within thirty (30) days of a request to file such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CMRR012 removes language in the Verifiable Cost Manual that would be in conflict with the Protocols as modified by NPRR7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eral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ing draft NPRR to remove vendor fuel names for fuel indices from protoco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to provide a market notice 60 days prior to the effective date of the vendor chang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ng need for a coal Index pric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sibility of replacing the $1.50 /MMBtu for solid fuel with a delivered coal index pr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need to utilize a coal index price for exceptional fuel cost and fuel adder calculations for coal and lignit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5-11-30T17:45:24Z</cp:lastPrinted>
  <dcterms:modified xsi:type="dcterms:W3CDTF">2015-12-01T16:35:27Z</dcterms:modified>
  <cp:revision>84</cp:revision>
  <dc:subject/>
  <dc:title>PowerPoint Presentation</dc:title>
</cp:coreProperties>
</file>