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AD3BB-BE58-4688-89A8-B0CC5C155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D9C36-869A-4F6F-AC51-AE8ADC096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5F4-B72A-4AAC-A52D-6C058A8C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405-A539-4A83-8CF5-F8F0BE78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F2EA5-1418-448E-ADD5-48A166C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1B244B-E2CE-4735-8E26-E9725D6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3D8AF-44AD-41FA-B3ED-06F865A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A56A8D-9D67-4BB8-A663-642D5DA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9EDB8-894A-4A77-95A8-828010C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1466F-1E06-4379-B946-78DBCE7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CC3F9E-1704-4388-8ACF-8918D7AD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C7069-3B62-49F6-BEC1-672B7631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15386-2D8F-458B-A8AD-FFA89180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FDF85-5EBE-4FC6-9F3D-88C3314F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A15-0073-48BC-9802-758C1BAF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5C705-1897-4064-BF71-07E09ABE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8D23B-9A9C-47D8-8532-4D4F840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1E883-2ABF-433B-B1B7-FF6BFA92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D3801-D61D-4647-B2E3-E577D0A2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46D68-7A93-4FE6-8930-6CF8097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68DAC-8835-4442-AB6D-237764E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07349-AB1C-462B-9038-E254964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3788D-E506-4BF2-83AB-AD08F84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6F7C5-C2C1-482B-818F-1C9533A2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EE8D9-3CED-4031-B8DF-50A44B53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316-8425-4EFA-A18E-838013E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44F19-F8D7-498B-972E-B32E32D2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6BE94-D78B-45E3-8456-8388B2F3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D63FBC-45D8-48BD-A5FA-2342343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CD9E2-1176-4CD2-B0AA-95481551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5237C-9607-4DA9-8EF1-B6465A8A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452750-913C-4887-A637-5707CCD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C2ED5-87EF-4E37-84E6-8234C77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4327DF-6D8C-4664-857B-E11D6A3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496832-DCC6-4C86-91F1-9507F6C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B4B0AB-A49E-4F04-8AA8-9B3482D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EB50-1FED-4BC8-9331-C564D929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6F02FE-6D7D-48A2-8FB2-11B0C2B2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5DD2D4-9DA7-4E9D-A83B-E8CBF096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02B4CA-237C-417C-961F-9D0A7AB1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C7DA-11A1-4E3C-B4D1-3F817F8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C12-6946-4321-8C70-DAB89A1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64C6-55B1-47A6-A962-36435493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B631-E81B-4A61-AF8B-1720FD14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1DF9-07D0-4674-BFF3-973FF5CB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B1AF-7F1E-423D-BE90-1FEE553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58B-5F9F-4DED-B7C0-59A0651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5449-C326-468B-95A9-7C34D7A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70C4-EA3A-402C-B13F-0F50D19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297-8D1A-4D0B-B561-E60C879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F6C-54DA-4CD2-97AF-4E240AB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B6E-5AC4-4150-A7EE-0B2251DA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BA4-5587-49AA-B867-CB77015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393-B256-4403-9BAD-E6D1E18B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17F0F-A494-46C5-94A0-9854B70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1E2-E21D-46A2-95A4-8D85562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0446A-9383-4832-B756-60E69D3A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A12A2-0481-4088-B6C4-47247C45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41B35-DB53-4738-992B-563A863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68C5E-048C-4672-A376-7C3B4D60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F13E0-B4AA-4A43-B70B-93BE5AC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720FB-A06E-4427-BA38-E3037AA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7D333-5115-4C16-B740-C56FE00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08411-EEF5-4C9E-A5FC-35C7473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7D7A1-3810-4D44-B8E8-1A1ECC3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5D95F-3777-4BD6-B391-2FA29314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833-B4A2-4490-A70F-1204210B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662BC-3C71-44AE-BFDB-FE64F435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E47043-C3C6-4271-8C55-8AFF70AD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63B6BC-4C77-41E1-9A62-062B7DF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E462F-8727-492B-8E16-7B15F0A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E0D8B-4CF3-454E-8DB8-106AD7D1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88000-BEAA-4F83-AE4D-6E8DFA01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EBF06-C22C-4F4A-85B3-C44B443F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A36F66-1EFD-434A-AC3F-E54A3C1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EC331B-5786-4233-9590-1ECAF1F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C6221-BCC9-4270-990C-AF6A54E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481-FC5E-4D4C-BD0C-54997C3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A3E58-E350-44A6-A3E1-908AC7AE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87E4CD-BEEA-4E8A-BE70-6101F8AA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99B8C-339F-4E15-83B5-E572AFB8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72BAB-5CCA-4957-89EE-7A2B722B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F075E-FC7B-4264-901D-5F94D6B7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76AF3-35B5-4D64-9F7D-C9BFE78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E58F12-2EEC-4708-80B8-6F58AA77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5BE1A0-0CB3-4692-8B77-051583E7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039A17-121B-481A-88D7-770F0DCE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EDA6E-5E7C-4510-8AB8-1FAEC744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95C-9FC8-498F-8026-6D493401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DCC419-22F8-4A5D-90C3-6D69623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CA691-0288-4832-B330-DA170290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174D3-937C-4258-AF42-0D014E3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4E6B9-4613-4516-B59E-1BBEC398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1905A-5AF2-4B73-B942-EAB4F3EB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E52E3-6BC7-4C1F-96D2-9614A7CD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8D0A7-DD39-46E7-9731-A7FEBF3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2E3B27-CF40-4CAA-B4C7-7B0BB3DA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B23CE3-2C24-4AE7-9DFE-FC64496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564FEB-139E-4774-A5A9-1B1BB47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4ED-D594-4FD6-A091-FE3D81D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D610C-223E-447F-91E7-54C183AE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A3B26-C68C-417B-8E11-80CC87C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5C351-92AD-4CCE-96C4-A84C56A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DA166-985E-4379-96A2-6F36D3F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974004-98C0-4BEF-84BF-AE971979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306200-7697-486D-AA5C-03538C32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9EA690-E0DA-4819-AD09-6B255329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F71FA-FD2C-438C-8958-543A9CE1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95AC7-991E-43A0-BAFE-D41CBA2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BB173-E86B-4177-BDA4-0F4FDC8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7CF0A-35D1-4C7F-82A7-0832EF04C0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29AA5-2A7F-4FE9-B162-1753E0339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C8F67-3DC7-42FD-8F1A-1D23975F880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33210-BC1A-4788-A3FB-D760D13CD89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41D48-B10E-4860-9D5F-BFFAA89C73E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D3175-C804-41B2-9D3D-D0AEEE6607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3FF0F-5AF2-44DE-9623-B0F4711A66D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02F8A-D4A1-4F95-B1D2-7C873AECC11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F3ADA-E6A6-4D88-8F7D-A7F86A9F75F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EC7A1-EC30-4B37-8DBC-BB166CC39E7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1E50C-A3A4-41F7-9EDD-BCB9A249DEA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6478C-EB6A-4247-84F1-C5408369D9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47A3F-C0C9-4BDC-957A-ED7175AC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324C2-B440-4FE4-85A4-614DE22FD13C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D1346-B74B-4809-8F30-305EC0BCC16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D7899-83DF-4A70-940E-B93CAFD15A9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64DB4-7A62-4561-BDBC-F527C53A88D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A140D-41C7-411E-ABEC-D8503C49988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C59C0-05DB-4A82-916F-F53C52C8D2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A9C3A-8E41-42A5-8DC1-EA2BC1F5C22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F04CE-7BC8-44CE-B080-5CB610A308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80D81-53DC-4D00-BB8D-615A153FA3A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AC790-C4B7-44FB-B5C1-326C52D44AB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1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WebEx informational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vember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1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2001960"/>
            <a:ext cx="81532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GRR045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Alignment with NPRR705, Provides Consistency for References to the End Date of the Generation Interconnection Process, endorsed as recommended by the Planning Working Group (PLWG) – Passed unanimous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RGRR007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Adding Solar Resource Registration Inputs, endorsed as recommended by the Resource Data Working Group (RDWG) in the 10/20/15 RDWG Report with a recommended priority of 2016 and rank of 1500 - Passed unanimously. 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1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11-17T21:56:51Z</dcterms:modified>
  <cp:revision>85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