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0099C-D477-4837-AB27-C5F9E6792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92AB-ACC6-4DFD-B9EC-A92743816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2F292-92E6-4814-AADD-D0721E76F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4F738-67CB-4E52-9712-5A17EFB68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6E9-6244-4A50-BFF5-20DE29DA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932-3473-4965-A5D9-9376C30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E35-308D-45BB-A301-3BFE384C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49E-A2A9-4E7D-A1FC-B653AA50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223-B344-4FAE-A65A-BD502F06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D50-D91E-45F0-81B7-161C9D9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39F-CA2B-4465-99B8-98050B38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CDF-9086-4E51-B057-35A0EC22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A98-B5C9-4F76-8C4A-26BE2E9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EF8-2978-4259-96F5-35D8520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2D2-F1B1-4594-8FA5-45369C0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034-3A80-47C0-8FD5-78D4FC9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AA38A-9F66-40D8-84B8-9390A42F9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FF1F4-80FE-414F-94D1-238C7F73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FE5EF-6972-477E-8B51-FE96CA9E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3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ember 19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285840" y="714240"/>
            <a:ext cx="8610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CR786 , Retail Market Test Enviro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41, Season Definition Change for Switchable Resources Reporting Unavailable Capacity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5 , Provides Consistency for References to the End Date of the Generation Interconnection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12 , Clarification of RUC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19 , Removal of Trigger and Requirement to Reduce the Distributed Generation (DG) Registration Threshold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25 , Modifications to CDR PUN Capacity Forecasting and PUN Net Capacity Reporting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27 , Removal of Language Related to NPRR327, State Estimator Data Redaction Methodology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30 , Elimination of the RUC Behavioral Pricing Rule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35 , Load Resource Controlled by High-Set Under-Frequency Relay Resource Parameter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36 , Updates to the Ancillary Service Capacity Monitor Disp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37 , Clarification of SASM Notif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38360"/>
            <a:ext cx="84931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Requests Recommended for Approval by PRS – With Opposing Votes (Vo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49, Addressing Issues Surrounding High Dispatch Limit (HDL) Over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178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98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PRR649, Addressing Issues Surrounding High Dispatch Limit (HDL) Over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85840" y="655560"/>
          <a:ext cx="8585280" cy="5794560"/>
        </p:xfrm>
        <a:graphic>
          <a:graphicData uri="http://schemas.openxmlformats.org/drawingml/2006/table">
            <a:tbl>
              <a:tblPr/>
              <a:tblGrid>
                <a:gridCol w="1245960"/>
                <a:gridCol w="7339320"/>
              </a:tblGrid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poses a lost opportunity compensation mechanism for Generation Resources that are issued a High Dispatch Limit (HDL) manual override that results in a real power reduction (subject to certain criteria) by compensating the Qualified Scheduling Entity (QSE) for its lost opportunity relative to its expected Real-Time Market (RTM) positio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79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0/15/15, PRS voted to endorse the 8/13/15 PRS Report as amended by the 9/30/15 ERCOT comments and requested a revised Impact Analysis be brought back to PRS for consideration.  There were two abstentions from the Consumer and Independent Retail Electric Provider (IREP) Market Segments.  On 11/12/15, PRS voted to endorse and forward to TAC the 10/15/15 PRS Report as amended by the 11/11/15 Odessa-Ector comments and the revised Impact Analysis for NPRR649 with a recommended priority of 2016 and rank of 1520.  There was one opposing vote from the Consumer Market Segment and one abstention from the IREP Market Segmen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– Priority – 2016; Rank – 1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$100k and $125k; Settlements and Billing (S&amp;B), Commercial Systems Integration (CSI), Energy Management System (EMS), Enterprise Information Services (EIS), Registration System (RE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1796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is needed to ensure Resources are not financially harmed by following ERCOT reliability instructions.  In the past, these instructions have been documented to exceed $300k (PUCT Docket 41790, ODESSA-ECTOR POWER PARTNERS, L.P.'S APPEAL AND COMPLAINT AGAINST ERCOT'S DENIAL OF SETTLEMENT DISPUTES).  In the future, with the increase offer caps these losses on a single resource following instructions could be much more significant.  This NPRR may reduce costly appeals and arbitration and satisfies ERCOT’s obligations under settlement agreement from PUCT Docket 4179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11-13T15:32:44Z</dcterms:modified>
  <cp:revision>27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