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ED7D-690F-4C2D-93D2-71426FCD8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B0CC-5715-4000-9146-83AB6971A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4263-BEA1-462A-8722-981AB4B4F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91EF-0440-482D-82F5-3AA7532F5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367CC-7D8F-41DB-B461-88BD1EA21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9B84-2ED3-415D-B394-77BAC1FC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9A0FE-EC00-4AD4-915D-A11B6B52B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4F7FD-39D6-48E3-BC3F-191F0D531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62F52-72F6-4474-8484-DB7C23C15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87DA0-2E7A-4A44-95AE-7EFF9E7F2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8D569-7D33-4BF9-8E9F-AC2E4C486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68FD5-A2F8-4907-AB51-182E32306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3B288-1765-44D4-A0A9-90B4B5ABE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2F335-64CE-49E5-A693-B2047CD07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3161-B009-4004-A20D-0BE33F71C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6D44-71E3-4F95-8559-094A6D4AF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9552C-BD91-4D07-8CB8-A0CE420C9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2167-96CF-403A-9BC1-5CAACD43D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CA1D8-F52D-4DAC-A7D9-0F9BD7065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E8C21-F15F-48E5-9B93-8BCE4D90A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4F417-B1F4-4231-AFDF-06E29DF9B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55A5F-F02A-4D71-A0AC-EFE70F4046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0BB38-4643-43FB-8E2D-E40E4C701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66856-6809-41B0-876E-C6FEE1111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7E285-12DA-4CE4-B65C-089FAEF7A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2172EC-F53C-4C8D-B36E-D812BF8E5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94B6E-725E-4E7F-BEFB-24FD46F97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F9403-2AC5-4B36-A0D6-D759AD0B1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4BA78-9C23-4EEA-B59B-462ABCD59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2D13F-B1F4-41D1-B2D1-90CC3044B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31656-65DE-41C9-A087-209C7758B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B90FC-48C3-4845-8371-E918D6BAD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998821-2F6F-439D-925F-793E890E7F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981D0-0CBB-438A-AB3E-854DAE062A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00AC01-B69D-41C5-A609-D98EA7A568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B4DD9-1725-440C-9EBB-302017C4A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10617-BCC2-4867-A808-8C0522F08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7114-3BDD-411B-A427-7FA41495C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7724D-BC02-417F-B98A-DDD305F20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ACAC4-0A27-43DF-8621-7B6D70E56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17347-322E-45E2-8E3D-84573A259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C68FB-514D-4944-8CED-D5AD63F42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42BF4-8B78-4C79-B8C3-7F13927B0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4CEAE-08D3-4A7B-8B2B-15654E157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3351B-C86D-41C6-9041-D221AA690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A6B0A-B6E9-44FE-93FC-EA96590E1E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86E44E-4D57-469A-A54B-BF38F6A55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426A8D-A620-47B6-B6B7-33977D8ED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8C08-5C1D-4BD5-A952-D933D75ED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021A6-533F-4A3F-8BAA-A509EA23E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F2EEF0-92E0-4E2A-B17A-4872C3090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6CFB3-30C2-4374-8BBB-8038ED075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F5CBE-9EDF-4B6A-AEFA-C2A315461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2E0EEC-BE9C-45E6-AB53-7EEB4E235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15EE5-9116-4E84-B819-DA83B301F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F6D8B-2EB9-4DBA-B680-0AA4FA735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25FE6-77CA-4B5E-809F-B01B1AEA8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88A6A-2B23-492A-B98E-F191C70E5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946D72-D201-4114-9AFC-68F32ACE53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D0E8C-0A2E-4616-BE7D-94EB8A78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FAB686-FA9A-42D5-98B7-6B67C593B3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E3FC78-AF3E-443A-8A3D-E832EC750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756AD-0A41-4684-9C1D-B69A9A880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33C56-C7AC-447E-A2A3-BBA4C7DF0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E7B1C-4714-4EB3-B49F-6E904F41C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FE0BE-3398-4D8E-B44B-4BC635D0F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C3512-EAAC-4DD2-9B55-5D4D49ECB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4F1EF-B199-4AD9-AAD3-C43FFFC8F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56E8F-FB8C-489A-AE0D-86819689A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7BF5D-4AAA-40E0-9F1C-1CC3B2E46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D3A9-A24B-4DD4-9FF9-E677A2AE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1F26D-747D-4336-A857-AB6DB3CC9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31E43-B3A0-42B7-87FE-E95602A23C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6022E3-2FAE-4E56-BE73-0A68F0760C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1615DA-9532-441E-9BFB-0BE8BE6FDD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3C028-F812-4162-8074-61829DADC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9D004C-57A3-440D-A46E-E2ADF7F05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DB6E3-3F3A-45DA-A765-66AD5CD15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144CE-25A7-429D-B25D-A3813345C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1CEC19-ABFA-4D76-86A8-DF6810B6F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D7457-865D-46B1-AB32-977E07DFD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E7436-9471-4AB9-B8AF-B20919DDF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4E4A3-B330-4AE1-873C-22464D4B9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9C7D4-4670-4A85-B44E-0C308742A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A3536-71AE-41F4-A268-7E9D2FA63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95E100-753E-4F98-ADEB-A77A0F4D0D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8BB139-119C-4ECF-B893-AB5CB2BD68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1D02-F00E-4BF5-A22F-241D201DC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9C6A-501D-4D2D-9600-B5E424C8022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EBEB-E1E4-497D-8572-31FD1A8A71B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0C05-CEFC-4AA1-809F-72D5B4A8F49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17A8-C6C5-4576-A44D-CE2433F990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A929-62F5-4CEB-8027-EE6871F75FF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628C-1115-4553-B643-D7B758E956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8C50-CB53-497A-9D3D-5ACD031AFB3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rcot.com/content/wcm/key_documents_lists/54227/13.__November_RMS_2015_IAG_Numbers.pptx"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rcot.com/content/wcm/key_documents_lists/54227/07.__RMS_Procedures_Approved_07022013_TDTWG_Update.doc"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rcot.com/content/wcm/key_documents_lists/54227/11.__AMWG_CR_2015_033_RMS_20151103.pptx" TargetMode="External"/><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rcot.com/committees/board/tac/rms/tdtms/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rcot.com/content/wcm/key_documents_lists/54227/12.__Texas_Market_Test_Plan_Final_102715v3.docx" TargetMode="External"/><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November 3, 2015 </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19,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CFC6-BF99-4146-B9ED-86BC5382E3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392" name=""/>
          <p:cNvSpPr txBox="1"/>
          <p:nvPr/>
        </p:nvSpPr>
        <p:spPr>
          <a:xfrm>
            <a:off x="914400" y="304560"/>
            <a:ext cx="8229600" cy="472428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Inadvertent Gain Statistics Market Notice 11/6/15 </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726480" indent="-1872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1"/>
              </a:rPr>
              <a:t>http://www.ercot.com/content/wcm/key_documents_lists/54227/13.__November_RMS_2015_IAG_Numbers.ppt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2" marL="726480" indent="-1872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Gill Sans MT"/>
              </a:rPr>
              <a:t>http://www.ercot.com/content/wcm/key_documents_lists/54227/13.__Inadvertent_Stats___August_2015.ppt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NOTICE DATE:</a:t>
            </a:r>
            <a:r>
              <a:rPr b="0" lang="en-US" sz="1400" spc="-1" strike="noStrike">
                <a:solidFill>
                  <a:srgbClr val="000000"/>
                </a:solidFill>
                <a:latin typeface="Gill Sans MT"/>
              </a:rPr>
              <a:t>  November 6, 2015</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NOTICE TYPE:</a:t>
            </a:r>
            <a:r>
              <a:rPr b="0" lang="en-US" sz="1400" spc="-1" strike="noStrike">
                <a:solidFill>
                  <a:srgbClr val="000000"/>
                </a:solidFill>
                <a:latin typeface="Gill Sans MT"/>
              </a:rPr>
              <a:t>  R-A110615-01 Retail </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SHORT DESCRIPTION:</a:t>
            </a:r>
            <a:r>
              <a:rPr b="0" lang="en-US" sz="1400" spc="-1" strike="noStrike">
                <a:solidFill>
                  <a:srgbClr val="000000"/>
                </a:solidFill>
                <a:latin typeface="Gill Sans MT"/>
              </a:rPr>
              <a:t>  Inadvertent Gain Statistics presentations</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INTENDED AUDIENCE:</a:t>
            </a:r>
            <a:r>
              <a:rPr b="0" lang="en-US" sz="1400" spc="-1" strike="noStrike">
                <a:solidFill>
                  <a:srgbClr val="000000"/>
                </a:solidFill>
                <a:latin typeface="Gill Sans MT"/>
              </a:rPr>
              <a:t>  Retail Electric Providers</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AY AFFECTED:</a:t>
            </a:r>
            <a:r>
              <a:rPr b="0" lang="en-US" sz="1400" spc="-1" strike="noStrike">
                <a:solidFill>
                  <a:srgbClr val="000000"/>
                </a:solidFill>
                <a:latin typeface="Gill Sans MT"/>
              </a:rPr>
              <a:t>  November 6, 2015</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LONG DESCRIPTION:</a:t>
            </a:r>
            <a:r>
              <a:rPr b="0" lang="en-US" sz="1400" spc="-1" strike="noStrike">
                <a:solidFill>
                  <a:srgbClr val="000000"/>
                </a:solidFill>
                <a:latin typeface="Gill Sans MT"/>
              </a:rPr>
              <a:t>  The Retail Market Subcommittee (RMS) and ERCOT are making the Inadvertent Gain (IAG) / Inadvertent Loss (IAL) statistics that have been reviewed at RMS meetings over the past several months available to all Retail Electric Providers (REPs) to provide transparency and as part of an effort to reduce the number of inadvertent switches (IAS) in the market.  ERCOT will make monthly IAG/IAL statistics presentations at RMS for the next few months.  The presentations for </a:t>
            </a:r>
            <a:r>
              <a:rPr b="0" lang="en-US" sz="1400" spc="-1" strike="noStrike" u="sng">
                <a:solidFill>
                  <a:srgbClr val="000000"/>
                </a:solidFill>
                <a:uFillTx/>
                <a:latin typeface="Gill Sans MT"/>
              </a:rPr>
              <a:t>June</a:t>
            </a:r>
            <a:r>
              <a:rPr b="0" lang="en-US" sz="1400" spc="-1" strike="noStrike">
                <a:solidFill>
                  <a:srgbClr val="000000"/>
                </a:solidFill>
                <a:latin typeface="Gill Sans MT"/>
              </a:rPr>
              <a:t>, </a:t>
            </a:r>
            <a:r>
              <a:rPr b="0" lang="en-US" sz="1400" spc="-1" strike="noStrike" u="sng">
                <a:solidFill>
                  <a:srgbClr val="000000"/>
                </a:solidFill>
                <a:uFillTx/>
                <a:latin typeface="Gill Sans MT"/>
              </a:rPr>
              <a:t>July</a:t>
            </a:r>
            <a:r>
              <a:rPr b="0" lang="en-US" sz="1400" spc="-1" strike="noStrike">
                <a:solidFill>
                  <a:srgbClr val="000000"/>
                </a:solidFill>
                <a:latin typeface="Gill Sans MT"/>
              </a:rPr>
              <a:t>, and </a:t>
            </a:r>
            <a:r>
              <a:rPr b="0" lang="en-US" sz="1400" spc="-1" strike="noStrike" u="sng">
                <a:solidFill>
                  <a:srgbClr val="000000"/>
                </a:solidFill>
                <a:uFillTx/>
                <a:latin typeface="Gill Sans MT"/>
              </a:rPr>
              <a:t>August</a:t>
            </a:r>
            <a:r>
              <a:rPr b="0" lang="en-US" sz="1400" spc="-1" strike="noStrike">
                <a:solidFill>
                  <a:srgbClr val="000000"/>
                </a:solidFill>
                <a:latin typeface="Gill Sans MT"/>
              </a:rPr>
              <a:t> can be found in the key documents section of the </a:t>
            </a:r>
            <a:r>
              <a:rPr b="0" lang="en-US" sz="1400" spc="-1" strike="noStrike" u="sng">
                <a:solidFill>
                  <a:srgbClr val="000000"/>
                </a:solidFill>
                <a:uFillTx/>
                <a:latin typeface="Gill Sans MT"/>
              </a:rPr>
              <a:t>November 3, 2015 RMS meeting page</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EPs are encouraged to review the presentations and continue to monitor future RMS meetings to stay abreast of market trends as they take appropriate actions towards the </a:t>
            </a:r>
            <a:r>
              <a:rPr b="1" lang="en-US" sz="1400" spc="-1" strike="noStrike" u="sng">
                <a:solidFill>
                  <a:srgbClr val="c00000"/>
                </a:solidFill>
                <a:uFillTx/>
                <a:latin typeface="Gill Sans MT"/>
              </a:rPr>
              <a:t>goal of reducing the number of inadvertent switches in the market</a:t>
            </a:r>
            <a:r>
              <a:rPr b="0" lang="en-US" sz="1400" spc="-1" strike="noStrike" u="sng">
                <a:solidFill>
                  <a:srgbClr val="c00000"/>
                </a:solidFill>
                <a:uFillTx/>
                <a:latin typeface="Gill Sans MT"/>
              </a:rPr>
              <a:t>.</a:t>
            </a:r>
            <a:r>
              <a:rPr b="0" lang="en-US" sz="1400" spc="-1" strike="noStrike">
                <a:solidFill>
                  <a:srgbClr val="c00000"/>
                </a:solidFill>
                <a:latin typeface="Gill Sans MT"/>
              </a:rPr>
              <a:t> </a:t>
            </a:r>
            <a:r>
              <a:rPr b="0" lang="en-US" sz="1400" spc="-1" strike="noStrike">
                <a:solidFill>
                  <a:srgbClr val="000000"/>
                </a:solidFill>
                <a:latin typeface="Gill Sans MT"/>
              </a:rPr>
              <a:t> REP identifiers (REP ##) within the presentations represent a specific REP and are preserved month to month.  To find out your specific REP identifier(s), please contact your ERCOT Account Manager.</a:t>
            </a:r>
            <a:endParaRPr b="0" lang="en-US" sz="14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9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E320-701A-41E0-95FB-62C97C843F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RMS December Meeting Date Change:   </a:t>
            </a:r>
            <a:endParaRPr b="0" lang="en-US" sz="4000" spc="-1" strike="noStrike">
              <a:solidFill>
                <a:srgbClr val="572314"/>
              </a:solidFill>
              <a:latin typeface="Gill Sans MT"/>
            </a:endParaRPr>
          </a:p>
        </p:txBody>
      </p:sp>
      <p:sp>
        <p:nvSpPr>
          <p:cNvPr id="397" name=""/>
          <p:cNvSpPr txBox="1"/>
          <p:nvPr/>
        </p:nvSpPr>
        <p:spPr>
          <a:xfrm>
            <a:off x="1066680" y="990720"/>
            <a:ext cx="7772400" cy="50292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S Leadership’s concerns about establishing a ‘</a:t>
            </a:r>
            <a:r>
              <a:rPr b="1" lang="en-US" sz="3200" spc="-1" strike="noStrike">
                <a:solidFill>
                  <a:srgbClr val="c00000"/>
                </a:solidFill>
                <a:latin typeface="Gill Sans MT"/>
              </a:rPr>
              <a:t>Quorum</a:t>
            </a:r>
            <a:r>
              <a:rPr b="1" lang="en-US" sz="3200" spc="-1" strike="noStrike">
                <a:solidFill>
                  <a:srgbClr val="000000"/>
                </a:solidFill>
                <a:latin typeface="Gill Sans MT"/>
              </a:rPr>
              <a:t>’ following the Thanksgiving holiday weekend, therefore, we have </a:t>
            </a:r>
            <a:r>
              <a:rPr b="1" lang="en-US" sz="3200" spc="-1" strike="noStrike">
                <a:solidFill>
                  <a:srgbClr val="c00000"/>
                </a:solidFill>
                <a:latin typeface="Gill Sans MT"/>
              </a:rPr>
              <a:t>rescheduled RMS from Tuesday, December 1, 2015 to Wednesday, December 9, 2015 at 1:00 PM</a:t>
            </a:r>
            <a:r>
              <a:rPr b="1" lang="en-US" sz="3200" spc="-1" strike="noStrike">
                <a:solidFill>
                  <a:srgbClr val="000000"/>
                </a:solidFill>
                <a:latin typeface="Gill Sans MT"/>
              </a:rPr>
              <a:t> following the Commercial Operations Subcommittee (COPS) meeting</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383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ttp://www.ercot.com/calendar/2015/12/9/78082-RMS </a:t>
            </a:r>
            <a:endParaRPr b="0" lang="en-US" sz="2400" spc="-1" strike="noStrike">
              <a:solidFill>
                <a:srgbClr val="000000"/>
              </a:solidFill>
              <a:latin typeface="Gill Sans MT"/>
            </a:endParaRPr>
          </a:p>
        </p:txBody>
      </p:sp>
      <p:sp>
        <p:nvSpPr>
          <p:cNvPr id="3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9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A5BC-4680-4A5B-A6EB-0389EFD1C67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35D7-CD8D-41F8-BB36-AA71453FC7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40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05" name="Picture 7" descr="C:\Users\00015621\AppData\Local\Microsoft\Windows\Temporary Internet Files\Content.IE5\BO9MEPUZ\questions-2[1].jpg"/>
          <p:cNvPicPr/>
          <p:nvPr/>
        </p:nvPicPr>
        <p:blipFill>
          <a:blip r:embed="rId1"/>
          <a:stretch/>
        </p:blipFill>
        <p:spPr>
          <a:xfrm>
            <a:off x="1676520" y="762120"/>
            <a:ext cx="678168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2314"/>
                </a:solidFill>
                <a:latin typeface="Gill Sans MT"/>
              </a:rPr>
              <a:t>RMS Procedures Voting Recommendation to TAC </a:t>
            </a:r>
            <a:endParaRPr b="0" lang="en-US" sz="25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ing Texas Data Transport Working Group (TDTWG) to Texas Data Transport and MarkeTrak Systems Working Group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tanding working groups reporting to RMS are: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SE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Gill Sans MT"/>
              </a:rPr>
              <a:t>Texas Data Transport and MarkeTrak Systems</a:t>
            </a:r>
            <a:r>
              <a:rPr b="1" lang="en-US" sz="2400" spc="-1" strike="noStrike" u="sng">
                <a:solidFill>
                  <a:srgbClr val="000000"/>
                </a:solidFill>
                <a:uFillTx/>
                <a:latin typeface="Gill Sans MT"/>
              </a:rPr>
              <a: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anced Meter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1/3/15:  RMS Unanimously Approved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1/19/15:  RMS Recommends TAC’s Approval of the revised RMS Procedure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54227/07.__RMS_Procedures_Approved_07022013_TDTWG_Update.doc</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AEC8-417B-40F1-8F91-2CF18A581BB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MGRR133,  Voting Recommendation to TAC </a:t>
            </a:r>
            <a:endParaRPr b="0" lang="en-US" sz="2800" spc="-1" strike="noStrike">
              <a:solidFill>
                <a:srgbClr val="572314"/>
              </a:solidFill>
              <a:latin typeface="Gill Sans MT"/>
            </a:endParaRPr>
          </a:p>
        </p:txBody>
      </p:sp>
      <p:sp>
        <p:nvSpPr>
          <p:cNvPr id="343" name=""/>
          <p:cNvSpPr txBox="1"/>
          <p:nvPr/>
        </p:nvSpPr>
        <p:spPr>
          <a:xfrm>
            <a:off x="1066680" y="380520"/>
            <a:ext cx="7772400" cy="4800600"/>
          </a:xfrm>
          <a:prstGeom prst="rect">
            <a:avLst/>
          </a:prstGeom>
          <a:noFill/>
          <a:ln w="0">
            <a:noFill/>
          </a:ln>
        </p:spPr>
        <p:txBody>
          <a:bodyPr anchor="t">
            <a:normAutofit fontScale="84000"/>
          </a:bodyPr>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33, Inadvertent Gain Valid Reject Reasons (Vote)</a:t>
            </a:r>
            <a:endParaRPr b="0" lang="en-US" sz="24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MGRR provides clarification to the inadvertent gain process for losing and gaining Competitive Retailers (CRs) when evaluating valid reject reasons.  It also minimizes the confusion of valid reject reasons, which will improve the processing of inadvertent gain MarkeTrak issues and facilitate timely resolution.  </a:t>
            </a: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0/6/15: Motion to Approve RMGRR133 as revised at the 10/6/15 RMS was Unanimously Approved </a:t>
            </a: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3/15: Impact Analysis was Unanimously Approved by RMS.  No cost impacts and can be effective 12/1/15</a:t>
            </a: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1/19/15:  RMS Recommends TAC’s Approval of RMGRR133</a:t>
            </a:r>
            <a:endParaRPr b="0" lang="en-US" sz="24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2C9D-120E-4ABF-8373-ECDF4B4C923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SCR786  Voting Endorsement </a:t>
            </a:r>
            <a:endParaRPr b="0" lang="en-US" sz="3200" spc="-1" strike="noStrike">
              <a:solidFill>
                <a:srgbClr val="572314"/>
              </a:solidFill>
              <a:latin typeface="Gill Sans MT"/>
            </a:endParaRPr>
          </a:p>
        </p:txBody>
      </p:sp>
      <p:sp>
        <p:nvSpPr>
          <p:cNvPr id="350" name=""/>
          <p:cNvSpPr txBox="1"/>
          <p:nvPr/>
        </p:nvSpPr>
        <p:spPr>
          <a:xfrm>
            <a:off x="939960" y="685800"/>
            <a:ext cx="822960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6 Alternative Proposal:</a:t>
            </a:r>
            <a:endParaRPr b="0" lang="en-US" sz="2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Preliminary Estimate  Between $100-$150K </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nnual Recurring Operations and Maintenance (O&amp;M) Budget Cost</a:t>
            </a:r>
            <a:r>
              <a:rPr b="0" lang="en-US" sz="1800" spc="-1" strike="noStrike">
                <a:solidFill>
                  <a:srgbClr val="000000"/>
                </a:solidFill>
                <a:latin typeface="Gill Sans MT"/>
              </a:rPr>
              <a:t>:  </a:t>
            </a:r>
            <a:r>
              <a:rPr b="1" lang="en-US" sz="1800" spc="-1" strike="noStrike">
                <a:solidFill>
                  <a:srgbClr val="c00000"/>
                </a:solidFill>
                <a:latin typeface="Gill Sans MT"/>
              </a:rPr>
              <a:t>1/3 price of full functionality due to 1 FTE needed for on-going system support   </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timated project duration</a:t>
            </a:r>
            <a:r>
              <a:rPr b="0" lang="en-US" sz="1800" spc="-1" strike="noStrike">
                <a:solidFill>
                  <a:srgbClr val="000000"/>
                </a:solidFill>
                <a:latin typeface="Gill Sans MT"/>
              </a:rPr>
              <a:t>:  </a:t>
            </a:r>
            <a:r>
              <a:rPr b="1" lang="en-US" sz="1800" spc="-1" strike="noStrike">
                <a:solidFill>
                  <a:srgbClr val="c00000"/>
                </a:solidFill>
                <a:latin typeface="Gill Sans MT"/>
              </a:rPr>
              <a:t>4-6 Months</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duce scope of the SCR and leverage an existing test environment (already configured for external testing) to achieve the majority of the requirements of this SCR.  This alternative would also help achieve a standard architecture for the retail test environment consistent with the upcoming data center refresh efforts.</a:t>
            </a:r>
            <a:endParaRPr b="0" lang="en-US" sz="1800" spc="-1" strike="noStrike">
              <a:solidFill>
                <a:srgbClr val="000000"/>
              </a:solidFill>
              <a:latin typeface="Gill Sans MT"/>
            </a:endParaRPr>
          </a:p>
          <a:p>
            <a:pPr lvl="3"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Endorsed SCR786 with a Priority of 2016 and Rank of 1510, this endorsement included 3 abstentions received from the Municipal segment.</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5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5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1D34-5000-4094-8505-55BC7A0A03E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4" name="Object 2"/>
          <p:cNvGraphicFramePr/>
          <p:nvPr/>
        </p:nvGraphicFramePr>
        <p:xfrm>
          <a:off x="8077320" y="5257800"/>
          <a:ext cx="914400" cy="771480"/>
        </p:xfrm>
        <a:graphic>
          <a:graphicData uri="http://schemas.openxmlformats.org/presentationml/2006/ole">
            <p:oleObj progId="PowerPoint.Show.12" r:id="rId1" spid="">
              <p:embed/>
              <p:pic>
                <p:nvPicPr>
                  <p:cNvPr id="355" name="Object 2" descr=""/>
                  <p:cNvPicPr/>
                  <p:nvPr/>
                </p:nvPicPr>
                <p:blipFill>
                  <a:blip r:embed="rId2"/>
                  <a:stretch/>
                </p:blipFill>
                <p:spPr>
                  <a:xfrm>
                    <a:off x="807732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17</a:t>
            </a:r>
            <a:r>
              <a:rPr b="0" lang="en-US" sz="2800" spc="-1" strike="noStrike">
                <a:solidFill>
                  <a:srgbClr val="000000"/>
                </a:solidFill>
                <a:latin typeface="Gill Sans MT"/>
              </a:rPr>
              <a:t>	</a:t>
            </a:r>
            <a:r>
              <a:rPr b="0" lang="en-US" sz="2800" spc="-1" strike="noStrike">
                <a:solidFill>
                  <a:srgbClr val="000000"/>
                </a:solidFill>
                <a:latin typeface="Gill Sans MT"/>
              </a:rPr>
              <a:t> (- 197)</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12</a:t>
            </a:r>
            <a:r>
              <a:rPr b="0" lang="en-US" sz="2800" spc="-1" strike="noStrike">
                <a:solidFill>
                  <a:srgbClr val="000000"/>
                </a:solidFill>
                <a:latin typeface="Gill Sans MT"/>
              </a:rPr>
              <a:t>	</a:t>
            </a:r>
            <a:r>
              <a:rPr b="0" lang="en-US" sz="2800" spc="-1" strike="noStrike">
                <a:solidFill>
                  <a:srgbClr val="000000"/>
                </a:solidFill>
                <a:latin typeface="Gill Sans MT"/>
              </a:rPr>
              <a:t> (-183)</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439 (-184)</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155 (- 66)</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220  (-24)</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2,094</a:t>
            </a:r>
            <a:r>
              <a:rPr b="0" lang="en-US" sz="2800" spc="-1" strike="noStrike">
                <a:solidFill>
                  <a:srgbClr val="000000"/>
                </a:solidFill>
                <a:latin typeface="Gill Sans MT"/>
              </a:rPr>
              <a:t> </a:t>
            </a:r>
            <a:r>
              <a:rPr b="1" lang="en-US" sz="2800" spc="-1" strike="noStrike">
                <a:solidFill>
                  <a:srgbClr val="000000"/>
                </a:solidFill>
                <a:latin typeface="Gill Sans MT"/>
              </a:rPr>
              <a:t>(+     918)</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071,204</a:t>
            </a:r>
            <a:r>
              <a:rPr b="1" lang="en-US" sz="2800" spc="-1" strike="noStrike">
                <a:solidFill>
                  <a:srgbClr val="000000"/>
                </a:solidFill>
                <a:latin typeface="Gill Sans MT"/>
              </a:rPr>
              <a:t> (+11,006)</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01,085</a:t>
            </a:r>
            <a:r>
              <a:rPr b="0" lang="en-US" sz="2800" spc="-1" strike="noStrike">
                <a:solidFill>
                  <a:srgbClr val="c00000"/>
                </a:solidFill>
                <a:latin typeface="Gill Sans MT"/>
              </a:rPr>
              <a:t> </a:t>
            </a:r>
            <a:r>
              <a:rPr b="1" lang="en-US" sz="2800" spc="-1" strike="noStrike">
                <a:solidFill>
                  <a:srgbClr val="000000"/>
                </a:solidFill>
                <a:latin typeface="Gill Sans MT"/>
              </a:rPr>
              <a:t>(+10,164</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Since Last Month</a:t>
            </a:r>
            <a:endParaRPr b="0" lang="en-US" sz="3600" spc="-1" strike="noStrike">
              <a:solidFill>
                <a:srgbClr val="572314"/>
              </a:solidFill>
              <a:latin typeface="Gill Sans MT"/>
            </a:endParaRPr>
          </a:p>
        </p:txBody>
      </p:sp>
      <p:sp>
        <p:nvSpPr>
          <p:cNvPr id="3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DE9E-D53D-408F-AA62-D0FCF6B45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42640" y="914040"/>
            <a:ext cx="7986600" cy="53341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ergy Data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1,354 (+1,017)</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EPN = 1; CNP = </a:t>
            </a:r>
            <a:r>
              <a:rPr b="1" lang="en-US" sz="2400" spc="-1" strike="noStrike">
                <a:solidFill>
                  <a:srgbClr val="000000"/>
                </a:solidFill>
                <a:latin typeface="Gill Sans MT"/>
              </a:rPr>
              <a:t>464</a:t>
            </a:r>
            <a:r>
              <a:rPr b="0" lang="en-US" sz="2400" spc="-1" strike="noStrike">
                <a:solidFill>
                  <a:srgbClr val="000000"/>
                </a:solidFill>
                <a:latin typeface="Gill Sans MT"/>
              </a:rPr>
              <a:t>; Oncor = </a:t>
            </a:r>
            <a:r>
              <a:rPr b="1" lang="en-US" sz="2400" spc="-1" strike="noStrike">
                <a:solidFill>
                  <a:srgbClr val="000000"/>
                </a:solidFill>
                <a:latin typeface="Gill Sans MT"/>
              </a:rPr>
              <a:t>889</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87(     -2)</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9,851</a:t>
            </a:r>
            <a:r>
              <a:rPr b="1" lang="en-US" sz="2800" spc="-1" strike="noStrike">
                <a:solidFill>
                  <a:srgbClr val="c00000"/>
                </a:solidFill>
                <a:latin typeface="Gill Sans MT"/>
              </a:rPr>
              <a:t>(+200)</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ie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62     (3)</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P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101    (3)</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mand Reads</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stomer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3,964</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13</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y</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4</a:t>
            </a:r>
            <a:endParaRPr b="0" lang="en-US" sz="2400" spc="-1" strike="noStrike">
              <a:solidFill>
                <a:srgbClr val="000000"/>
              </a:solidFill>
              <a:latin typeface="Gill Sans MT"/>
            </a:endParaRPr>
          </a:p>
        </p:txBody>
      </p:sp>
      <p:sp>
        <p:nvSpPr>
          <p:cNvPr id="362"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Since Last Month</a:t>
            </a:r>
            <a:endParaRPr b="0" lang="en-US" sz="3600" spc="-1" strike="noStrike">
              <a:solidFill>
                <a:srgbClr val="572314"/>
              </a:solidFill>
              <a:latin typeface="Gill Sans MT"/>
            </a:endParaRPr>
          </a:p>
        </p:txBody>
      </p:sp>
      <p:sp>
        <p:nvSpPr>
          <p:cNvPr id="3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6C97-073F-40D6-BDF8-F4606E392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67" name=""/>
          <p:cNvSpPr txBox="1"/>
          <p:nvPr/>
        </p:nvSpPr>
        <p:spPr>
          <a:xfrm>
            <a:off x="1066680" y="609480"/>
            <a:ext cx="7925040" cy="5486400"/>
          </a:xfrm>
          <a:prstGeom prst="rect">
            <a:avLst/>
          </a:prstGeom>
          <a:noFill/>
          <a:ln w="0">
            <a:noFill/>
          </a:ln>
        </p:spPr>
        <p:txBody>
          <a:bodyPr anchor="t">
            <a:normAutofit fontScale="97000"/>
          </a:bodyPr>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MWG Change Requests </a:t>
            </a:r>
            <a:r>
              <a:rPr b="1" lang="en-US" sz="3200" spc="-1" strike="noStrike">
                <a:solidFill>
                  <a:srgbClr val="c00000"/>
                </a:solidFill>
                <a:latin typeface="Gill Sans MT"/>
              </a:rPr>
              <a:t>2015-033 </a:t>
            </a:r>
            <a:r>
              <a:rPr b="1" lang="en-US" sz="3200" spc="-1" strike="noStrike">
                <a:solidFill>
                  <a:srgbClr val="000000"/>
                </a:solidFill>
                <a:latin typeface="Gill Sans MT"/>
              </a:rPr>
              <a:t>Cost to Implement Estimate: </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vides User ID and Password Rules up front on User Interface Registration Page.</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st estimated at $0-20K, changes are associated to SMT’s system usability.</a:t>
            </a: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54227/11.__AMWG_CR_2015_033_RMS_20151103.pptx</a:t>
            </a:r>
            <a:r>
              <a:rPr b="0" lang="en-US" sz="2000" spc="-1" strike="noStrike" u="sng">
                <a:solidFill>
                  <a:srgbClr val="000000"/>
                </a:solidFill>
                <a:uFillTx/>
                <a:latin typeface="Gill Sans MT"/>
              </a:rPr>
              <a:t> </a:t>
            </a: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Approved by RMS with 1 abstention</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6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EDAB-9B1D-4907-B972-C94FC5BF77A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 name="Object 8"/>
          <p:cNvGraphicFramePr/>
          <p:nvPr/>
        </p:nvGraphicFramePr>
        <p:xfrm>
          <a:off x="7391520" y="4419720"/>
          <a:ext cx="914400" cy="771480"/>
        </p:xfrm>
        <a:graphic>
          <a:graphicData uri="http://schemas.openxmlformats.org/presentationml/2006/ole">
            <p:oleObj r:id="rId2" spid="">
              <p:embed/>
              <p:pic>
                <p:nvPicPr>
                  <p:cNvPr id="374" name="Object 8" descr=""/>
                  <p:cNvPicPr/>
                  <p:nvPr/>
                </p:nvPicPr>
                <p:blipFill>
                  <a:blip r:embed="rId3"/>
                  <a:stretch/>
                </p:blipFill>
                <p:spPr>
                  <a:xfrm>
                    <a:off x="7391520" y="4419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1526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2314"/>
                </a:solidFill>
                <a:latin typeface="Gill Sans MT"/>
              </a:rPr>
              <a:t>Texas Data Transport &amp; MarkeTrak Systems (TDTMS)</a:t>
            </a:r>
            <a:endParaRPr b="0" lang="en-US" sz="2500" spc="-1" strike="noStrike">
              <a:solidFill>
                <a:srgbClr val="572314"/>
              </a:solidFill>
              <a:latin typeface="Gill Sans MT"/>
            </a:endParaRPr>
          </a:p>
        </p:txBody>
      </p:sp>
      <p:sp>
        <p:nvSpPr>
          <p:cNvPr id="376" name=""/>
          <p:cNvSpPr txBox="1"/>
          <p:nvPr/>
        </p:nvSpPr>
        <p:spPr>
          <a:xfrm>
            <a:off x="761760" y="609480"/>
            <a:ext cx="8381880" cy="54864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DTMS Transition Activities –  </a:t>
            </a:r>
            <a:endParaRPr b="0" lang="en-US" sz="3200" spc="-1" strike="noStrike">
              <a:solidFill>
                <a:srgbClr val="000000"/>
              </a:solidFill>
              <a:latin typeface="Gill Sans MT"/>
            </a:endParaRPr>
          </a:p>
          <a:p>
            <a:pPr lvl="2" marL="885960" indent="-228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5 TDTMS Leadership – Unanimous Approval</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ir:  Isabelle Durham, CenterPoint Energy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ice Chair:  Monica Jones, NRG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ice Chair:  Jim Lee, AEP Service Corporation </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ew TDTMS Scope Statement - Unanimous Approval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ew Webpage created on ERCOT.com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mmittees/board/tac/rms/tdtms/index.html</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7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2E9C-66BF-47BB-9676-1AD2A6824C4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42640" y="-1526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exas SET </a:t>
            </a:r>
            <a:endParaRPr b="0" lang="en-US" sz="3600" spc="-1" strike="noStrike">
              <a:solidFill>
                <a:srgbClr val="572314"/>
              </a:solidFill>
              <a:latin typeface="Gill Sans MT"/>
            </a:endParaRPr>
          </a:p>
        </p:txBody>
      </p:sp>
      <p:sp>
        <p:nvSpPr>
          <p:cNvPr id="383" name=""/>
          <p:cNvSpPr txBox="1"/>
          <p:nvPr/>
        </p:nvSpPr>
        <p:spPr>
          <a:xfrm>
            <a:off x="1143000" y="914040"/>
            <a:ext cx="77724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Market Test Plan (Vo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54227/12.__Texas_Market_Test_Plan_Final_102715v3.doc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Motion to Approve the Texas Market Test Plan as recommended by TX SET received  unanimous approval by RMS.</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19, 2015</a:t>
            </a:r>
            <a:endParaRPr b="0" lang="en-US" sz="1200" spc="-1" strike="noStrike">
              <a:solidFill>
                <a:srgbClr val="000000"/>
              </a:solidFill>
              <a:latin typeface="Arial"/>
            </a:endParaRPr>
          </a:p>
        </p:txBody>
      </p:sp>
      <p:sp>
        <p:nvSpPr>
          <p:cNvPr id="38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7266-662E-46EA-8DB3-EC04A2841C4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9" name="Object 1"/>
          <p:cNvGraphicFramePr/>
          <p:nvPr/>
        </p:nvGraphicFramePr>
        <p:xfrm>
          <a:off x="4419720" y="2362320"/>
          <a:ext cx="914400" cy="771480"/>
        </p:xfrm>
        <a:graphic>
          <a:graphicData uri="http://schemas.openxmlformats.org/presentationml/2006/ole">
            <p:oleObj r:id="rId2" spid="">
              <p:embed/>
              <p:pic>
                <p:nvPicPr>
                  <p:cNvPr id="390" name="Object 1" descr=""/>
                  <p:cNvPicPr/>
                  <p:nvPr/>
                </p:nvPicPr>
                <p:blipFill>
                  <a:blip r:embed="rId3"/>
                  <a:stretch/>
                </p:blipFill>
                <p:spPr>
                  <a:xfrm>
                    <a:off x="4419720" y="23623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11-12T23:53:11Z</dcterms:modified>
  <cp:revision>1138</cp:revision>
  <dc:subject/>
  <dc:title>Instructions</dc:title>
</cp:coreProperties>
</file>