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3BD5-D27B-42D6-BBF8-5BA60122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86A7-76E6-43F6-B388-C96F72DE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987E-D1EA-475D-BFB7-5F576D36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D1D7-9084-49C3-BA85-52791870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FBE5-3A1D-4459-8E00-8BD3CA2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05B7-BF66-4445-A820-B200471B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43FE-46C0-4ACE-9002-0FD14451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D96B-3923-4829-BAEA-A4A253E9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46CB-C353-49E7-9AC3-D4FB44E6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6665-3093-4788-909B-41E22B92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839A-A6C4-4E4B-AD46-7AE3CBC2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CE74-208B-42A5-A0D7-834D30F8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088D-AB23-43F7-A33B-300060CBD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193A-165C-4091-AD82-67BBFA9DC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gust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ternative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R786 Retail Market Test Environ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R786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786 instructs ERCOT to create a separate test environment that would be available for Market Participants to use for testing their own system changes prior to going live – a sandbox environment for the Mark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work on this SCR is proving the effort to be quite expensiv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began looking at ways we could use the current CERT environment to meet the needs of the Market for less mone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ternative - In Scope I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tems from the original SCR are in scope for the alternative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verall testing capabilities for all retail business processes by increasing capacity of 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transaction processing time through the reduction/elimination of manu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of blackou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of SIM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ging data only on agreed upo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for sandbox testing during normal business hours – Monday through Friday, 8:00 am to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ternative - In Scope Items (continued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tems from the original SCR are in scope for the alternative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Test the Following Functiona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of edi fi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of non-edi files, such as CBCI and Demand 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rak GUI and API testing, including performance testing of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 Compat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ternative – Out of Scope I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 new environment separate from the current CERT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imulating TDSP/CR trans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handle Prod like volumes from all MPs at the sam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around times that match protocol specifications when large volumes are submit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ssum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3 large MPs doing volume testing at the same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times with large volumes may not meet ERCOT Protocols – i.e. Performance Measures Crite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-like aggregation of .edi transactions, for example 1 file of 3,000 transactions, not 3,000 files with 1 transaction e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Bed ESIIDs will be used only for Flight testing and not included in Sandbox testing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e code releases will be migrated to CERT environment at the same time as Pr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code releases will be migrated to CERT before/after Prod migration.  ERCOT to provide 7 days notice prior to out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file level validations, not business validations, will be available for non-EDI files, such as Demand Response, ALRIS, and L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Operations support for environment available by request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antitative Benefi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quantitative benefits were included in the original SCR.  ERCOT believes that the alternative approach would still provide these benefi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or eliminate risk to the market by providing a robust testing environment accessible for Market Participants to test internal projects with ERCOT prior to going live in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esting duration by 80% due to increased stability of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unexpected cost of issues that are identified post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arket Participant testing hours by 8 man hours per Market Participant per marke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to complete IA for original SC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to complete IA for alternat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to RMS at October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to PRS at October 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SCR 786 Alternative complete IA to RMS November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SCR 786 Alternative complete IA to PRS November 1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Meiners, Catherine</dc:creator>
  <dc:description/>
  <dc:language>en-US</dc:language>
  <cp:lastModifiedBy>Kathy Scott </cp:lastModifiedBy>
  <dcterms:modified xsi:type="dcterms:W3CDTF">2015-11-12T02:50:53Z</dcterms:modified>
  <cp:revision>63</cp:revision>
  <dc:subject/>
  <dc:title>Instructions</dc:title>
</cp:coreProperties>
</file>