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AD88-7D7A-4C93-AE91-CCD9D924F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20F0-7CC2-43C7-9B26-B8D184DFC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17E19-95AF-4E7D-AE7F-83B5A6007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3EDB-11CA-4835-880B-0FCA35181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D4AE1-7127-4783-A505-32632EA43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8A67E-0E8F-4CD8-B169-E2F0A586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9548-5DDB-419F-8CE8-40CE46DD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1854-1D4F-4AB4-80F0-D99E4EC25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B8D4-3715-4524-90FF-137B8409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DF0A-4ADC-481F-8D2C-9C5854086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42AFD-0A7E-44EB-AE11-E2FF156D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384C-2C94-44DF-A026-080D368DF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EB1A-CE21-47EC-8140-4525BBE9A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BB38-06CE-438F-898C-06E8B6D12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57D5-1D0A-4EC0-91C7-8DD722B8D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7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RC PRC Standards &amp; SPCS Activities Report to </a:t>
            </a:r>
            <a:br>
              <a:rPr sz="4000"/>
            </a:br>
            <a:r>
              <a:rPr b="0" lang="en-US" sz="4000" spc="-1" strike="noStrike">
                <a:solidFill>
                  <a:srgbClr val="000000"/>
                </a:solidFill>
                <a:latin typeface="Arial"/>
              </a:rPr>
              <a:t>ERCOT SPWG</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12 &amp; 13, 201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m Franci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 RSAW Change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additions to RSA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SAW to include whenever it talks about Components and their records the brief state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ff3300"/>
                </a:solidFill>
                <a:latin typeface="Arial"/>
              </a:rPr>
              <a:t>in accordance with the Entity’s PSMP</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SAW evidence from dates of the “last two performances” to “</a:t>
            </a:r>
            <a:r>
              <a:rPr b="1" lang="en-US" sz="2800" spc="-1" strike="noStrike">
                <a:solidFill>
                  <a:srgbClr val="ff3300"/>
                </a:solidFill>
                <a:latin typeface="Arial"/>
              </a:rPr>
              <a:t>most recent performa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C-005 FAQ</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AQ Language Pending</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ntity is using the time- based methodology, is it required to have a complete Protection System component inventory?</a:t>
            </a:r>
            <a:endParaRPr b="0" lang="en-US" sz="20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zing the time- based methodology does not necessarily require a Protection System component inventory. It is noted that an inventory may be beneficial to an Entity and required if future plans are to utilize performance-based methodology on a specific set of components. </a:t>
            </a:r>
            <a:endParaRPr b="0" lang="en-US" sz="16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ime-based methodology, an Entity is required to provide evidence that their PSMP is meeting the expectations of the Implementation Plan, ( i.e. 30, 60, or 100% complete by the required dates). As such, the necessary evidence is dependent on how the PSMP is defined. </a:t>
            </a:r>
            <a:endParaRPr b="0" lang="en-US" sz="16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stance, if an Entity has selected a station-based or panel- based program, then the entity would need to show that they had completed the prescribed maintenance on 30, 60, or 100% of their stations or panels by the dates noted in the Implementation Plan.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C-005 FAQ</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ntity is using the time- based methodology, is it required to have a complete Protection System component inventory?</a:t>
            </a:r>
            <a:endParaRPr b="0" lang="en-US" sz="20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ed that if the Entity’s PSMP is specified at the individual component level (protective relays, dc control circuits, etc.) then an inventory of each component would be required to demonstrate that the Entity had completed a specified % of maintenance of each component.</a:t>
            </a:r>
            <a:endParaRPr b="0" lang="en-US" sz="16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lso noted that an entity may have to provide some information concerning numbers of components of a particular component type in their PSMP if they are found non-compliant with Requirement R3 or R4 in order to establish the violation severity level. However, this will not necessarily require a complete inventory of all components within a component type; but, only sufficient information to establish a VSL level/category.</a:t>
            </a:r>
            <a:endParaRPr b="0" lang="en-US" sz="1600" spc="-1" strike="noStrike">
              <a:solidFill>
                <a:srgbClr val="000000"/>
              </a:solidFill>
              <a:latin typeface="Arial"/>
            </a:endParaRPr>
          </a:p>
          <a:p>
            <a:pPr lvl="2" marL="914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2007 – 06 &amp; 06.2 </a:t>
            </a:r>
            <a:br>
              <a:rPr sz="4400"/>
            </a:br>
            <a:r>
              <a:rPr b="0" lang="en-US" sz="3600" spc="-1" strike="noStrike">
                <a:solidFill>
                  <a:srgbClr val="000000"/>
                </a:solidFill>
                <a:latin typeface="Arial"/>
              </a:rPr>
              <a:t>drafting teams </a:t>
            </a:r>
            <a:endParaRPr b="0" lang="en-US" sz="36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2007-06 originated in 2007 to address FERC Order 693 and SPCTF issues pertaining to PRC-00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C-027-1 was developed by the SPCSDT to address coordination of Protection Systems in isolating faults in the intended sequence during 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3 and 4 of PRC-001 are to be moved to the new standard PRC-027-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2007 – 06 &amp; 06.2 </a:t>
            </a:r>
            <a:br>
              <a:rPr sz="4400"/>
            </a:br>
            <a:r>
              <a:rPr b="0" lang="en-US" sz="4400" spc="-1" strike="noStrike">
                <a:solidFill>
                  <a:srgbClr val="000000"/>
                </a:solidFill>
                <a:latin typeface="Arial"/>
              </a:rPr>
              <a:t>drafting team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2007-06.2 Phase 2 of System Protection Coordination was established to address the Requirements 1, 2, 5, &amp; 6 of PRC-001 and in Phase 2 of this Project, NERC is proposing the complete retirement of PRC-001-1.1(i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2007 – 06 &amp; 06.2 </a:t>
            </a:r>
            <a:br>
              <a:rPr sz="4400"/>
            </a:br>
            <a:r>
              <a:rPr b="0" lang="en-US" sz="4400" spc="-1" strike="noStrike">
                <a:solidFill>
                  <a:srgbClr val="000000"/>
                </a:solidFill>
                <a:latin typeface="Arial"/>
              </a:rPr>
              <a:t>drafting team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2007-06.2 Phase 2 drafting team is propo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 R1 of PRC-001 will be incorporated into NERC Standard TOP-009-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R2, R5, and R6 of PRC-001 will be retired because those reliability objectives are addressed by other TOP/IRO standards pending regulatory appr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27-1</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6 of PRC-027-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l ballot for PRC-027-1 – Coordination of Protection Systems for Performance During Faults concluded 8 p.m. Eastern, Wednesday, October 14, 201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received sufficient affirmative votes for approv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Quorum/Approval) 89.16%/</a:t>
            </a:r>
            <a:r>
              <a:rPr b="1" lang="en-US" sz="2400" spc="-1" strike="noStrike">
                <a:solidFill>
                  <a:srgbClr val="ff0000"/>
                </a:solidFill>
                <a:latin typeface="Arial"/>
              </a:rPr>
              <a:t>80.9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27-1</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will be submitted to the Board of Trustees for adop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OP-009-1 is approved by ballot and adopted by the Board of Trustees, PRC-027-1 will be filed with the appropriate regulatory authorities in conjunction with TOP-009-1 to achieve </a:t>
            </a:r>
            <a:r>
              <a:rPr b="1" lang="en-US" sz="2800" spc="-1" strike="noStrike">
                <a:solidFill>
                  <a:srgbClr val="ff0000"/>
                </a:solidFill>
                <a:latin typeface="Arial"/>
              </a:rPr>
              <a:t>the complete retirement of PRC-001-1.1(i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CS</a:t>
            </a:r>
            <a:endParaRPr b="0" lang="en-US" sz="4400" spc="-1" strike="noStrike">
              <a:solidFill>
                <a:srgbClr val="000000"/>
              </a:solidFill>
              <a:latin typeface="Arial"/>
            </a:endParaRPr>
          </a:p>
        </p:txBody>
      </p:sp>
      <p:sp>
        <p:nvSpPr>
          <p:cNvPr id="51" name=""/>
          <p:cNvSpPr txBox="1"/>
          <p:nvPr/>
        </p:nvSpPr>
        <p:spPr>
          <a:xfrm>
            <a:off x="457200" y="1447920"/>
            <a:ext cx="822960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CS is scheduled to meet November 11 &amp; 12, 2015 at MRO Offices in St. Paul M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issue to be addressed will be the review of the SPCS paper “UAT Transformer Overcurrent Relay Loadability During a Transmission Depressed Voltage Event”</a:t>
            </a:r>
            <a:endParaRPr b="0" lang="en-US" sz="28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ysis reveals the 150 percent tap requirement in PRC-025-1 for the unit auxiliary transformer high-side overcurrent relay setting is a conservative setting that can be reduced.</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highly unlikely that the low side UAT load responsive relays will operate due to a depressed transmission voltage of .85 PU.</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CS</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UAT Transformer Overcurrent Relay Loadability During a Transmission Depressed Voltage Event”</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ecommended that this guideline be used by the industry to verify that the low side UAT load responsive relays remain secure for a depressed transmission voltage of .85 PU.</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ecommended that this guideline be used by the industry to verify that the low side UAT load responsive relays remain secure for a depressed transmission voltage of .85 PU.</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ecommended that the industry highly consider the low side UAT load responsive relays to pick up at a value of no less than 135% of the full load amps of the transform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3 (6)</a:t>
            </a:r>
            <a:endParaRPr b="0" lang="en-US" sz="4400" spc="-1" strike="noStrike">
              <a:solidFill>
                <a:srgbClr val="000000"/>
              </a:solidFill>
              <a:latin typeface="Arial"/>
            </a:endParaRPr>
          </a:p>
        </p:txBody>
      </p:sp>
      <p:sp>
        <p:nvSpPr>
          <p:cNvPr id="55"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C Order 80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approved Standard PRC-005-3 (maintenance of reclosing relays at specific lo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ed NERC to develop modifications to PRC-005-3 to include supervisory devices associated with auto-reclosing relay schemes to which the standard app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3 (6)</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C-005-6 draft submitted for comments 06/11/15 - 07/10/15</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on of Automatic Reclosing definition to four specific elements</a:t>
            </a:r>
            <a:endParaRPr b="0" lang="en-US" sz="28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losing relay</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relay(s) – relay(s) that perform voltage and/or sync check functions that enable or disable operation of the reclosing relay</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 sensing devices associated with the supervisory relay(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circuitry associated with the reclosing relay or supervisory relay(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3 (6)</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al ballot for PRC-005-6 – Protection System, Automatic Reclosing, and Sudden Pressure Relaying Maintenance concluded 8 p.m. Eastern, Monday, October 26, 20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tandard received sufficient affirmative votes for approval.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Quorum/Approval) 90.00%/</a:t>
            </a:r>
            <a:r>
              <a:rPr b="1" lang="en-US" sz="2400" spc="-1" strike="noStrike">
                <a:solidFill>
                  <a:srgbClr val="ff0000"/>
                </a:solidFill>
                <a:latin typeface="Arial"/>
              </a:rPr>
              <a:t>96.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3 (6)</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will be submitted to the Board of Trustees for adoption and then filed with the appropriate regulatory authori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 RSAW Changes</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ffort to answer questions raised at a technical conference and clear up certain issues concerning the proposed RSAW for PRC-005, the PSMTSDT developed a revised RSAW for PRC-005-6 and a New FAQ for the Supplementary Reference and FAQ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C-005 RSAW Changes</a:t>
            </a:r>
            <a:endParaRPr b="0" lang="en-US" sz="4400" spc="-1" strike="noStrike">
              <a:solidFill>
                <a:srgbClr val="000000"/>
              </a:solidFill>
              <a:latin typeface="Arial"/>
            </a:endParaRPr>
          </a:p>
        </p:txBody>
      </p:sp>
      <p:sp>
        <p:nvSpPr>
          <p:cNvPr id="6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additions to RSA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note to the Auditor</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ies may vary in the itemization of Components within their PSMP according to their established maintenance practices.  Some entities may choose to identify each Component individually; however, other entities may choose approaches such as itemizing the relay panels, local-zones-of-protection, entire stations, or other approaches, whereupon the Entity intends to manage their PSMP based on this itemization.  </a:t>
            </a:r>
            <a:r>
              <a:rPr b="1" lang="en-US" sz="2000" spc="-1" strike="noStrike">
                <a:solidFill>
                  <a:srgbClr val="ff3300"/>
                </a:solidFill>
                <a:latin typeface="Arial"/>
              </a:rPr>
              <a:t>To support this, it is recommended that the Entity be asked to specify how they identify their Components for management of their PSMP, and that subsequent approaches to request of maintenance records respect the Entity’s method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8:04:42Z</dcterms:created>
  <dc:creator>Registered User</dc:creator>
  <dc:description/>
  <dc:language>en-US</dc:language>
  <cp:lastModifiedBy>Francis, Sam</cp:lastModifiedBy>
  <dcterms:modified xsi:type="dcterms:W3CDTF">2015-11-03T19:44:31Z</dcterms:modified>
  <cp:revision>737</cp:revision>
  <dc:subject/>
  <dc:title>NERC PRC Standard Activities Report to ERCOT SPWG</dc:title>
</cp:coreProperties>
</file>