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7388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FE01-00FF-4BA4-814B-D2AC650A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CA92-7F5C-405D-AA7C-F4F3EA6B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929B-16D7-4EDA-9689-45657F13E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BB23-DB40-46C7-9603-ECBDFA864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E52D-5760-4596-9195-6120775D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8F7F-64E2-4A42-B90C-CD2DAEAA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B99C-234F-4561-9661-AAFEEC70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685C-40C0-42C5-BD9F-0A8FE4C2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BF14-6CD0-4FD3-9008-DB08F52D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F2B5-0D69-4DF4-96F2-FBE9E7FC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8EA4-4D8D-457A-9603-0E6F3BEC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2ED9-9ADA-4848-9B9C-C22577FB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F8D0-029B-4E1D-9EA0-6EC1E437B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960" y="152280"/>
            <a:ext cx="88390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mbria Math"/>
              </a:rPr>
              <a:t>Resource Cost Working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mbria Math"/>
              </a:rPr>
              <a:t>November 4, 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mbria Math"/>
              </a:rPr>
              <a:t>WMS Up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uel Cost Components in the Fuel Add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CMRR009 Calculation of Minimum Fuel Requirements F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280" y="160020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CWG continued discussion of Appealing Verifiable Cost Rejections per Section 12 of the VC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Level of Appeal: Review by an “ERCOT Verifiable Cost Appeals group” that is not part of the ERCOT verifiable cost team. 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Level of Appeal: Review by the ERCOT Board (not limited to unaffiliated Directors)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fting a VCMRR to incorporate these chan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CWG developing list of fuel cost components that can be included in the Fuel Add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CMRR012 - Alignment with NPRR732, Alignment of Verifiable Cost Language Within Protoc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PRR732 revised paragraph (11) of Section 5.6.1 that describes how ERCOT will determine Resource costs  in the event that a QSE or Resource Entity fails to file verifiable costs within thirty (30) days of a request to file such cos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VCMRR012 removes language in the Verifiable Cost Manual that would be in conflict with the Protocols as modified by NPRR73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neral Up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316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ing draft NPRR to remove vendor fuel names for fuel indices from protocol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RCOT to provide a market notice 60 days prior to the effective date of the vendor change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ing need for a coal Index price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sibility of replacing the $1.50 /MMBtu for solid fuel with a delivered coal index pr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y need to utilize a coal index price for exceptional fuel cost and fuel adder calculations for solid fuel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02:55:06Z</dcterms:created>
  <dc:creator>john</dc:creator>
  <dc:description/>
  <dc:language>en-US</dc:language>
  <cp:lastModifiedBy>Vinson, Paul T.</cp:lastModifiedBy>
  <cp:lastPrinted>2015-11-02T14:40:07Z</cp:lastPrinted>
  <dcterms:modified xsi:type="dcterms:W3CDTF">2015-11-02T14:45:34Z</dcterms:modified>
  <cp:revision>64</cp:revision>
  <dc:subject/>
  <dc:title>PowerPoint Presentation</dc:title>
</cp:coreProperties>
</file>