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AF1D-61DD-4078-BF73-0B89881E3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07AF-D4D1-4986-B3CC-9C486B9024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24B5-8FE6-4788-BAF6-608342F85E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BB62-367E-406B-BD98-9024830D56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BCC1-D9E9-4A65-8BC3-4243F62814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8E8E9-2585-4FA7-AA01-E59488BF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6F9D-2026-4608-B36C-4E36B1F0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DD862E-A15E-46B7-B8A0-3CC70FE8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ED9FA6-C630-4DC8-ADA4-9F7770AB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203565-D238-4068-A3E8-4B764A88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EBB8F7-9732-4528-94C3-4E3BE727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AABA88-AACE-4A55-936C-43A197EA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EDB95D-A013-42A9-87DE-DCBDD874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60F55F-FED5-4CFE-B0BC-5B64C006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BE94A2-40F7-40D4-BD07-51B78910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B5AFDA-AC98-4030-9BC1-A91F23A6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5C46-3A8F-4C24-B57C-E653B1C9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39CC-5410-4E65-9FDD-DC0E8363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CB74-74EE-4019-A599-5FCEDC3E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6C0B-0ACC-4EF1-BA05-6BB6A622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E321-63B7-446A-AAC0-F1EA2D75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501D-121A-4BCC-A2AF-14DD1A10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C041-D5B6-44B9-BC63-947CE63D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CC31-9F60-4C04-A84E-3CBADA41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926B-8E3B-48B9-8529-4D9A5547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F3FB-CBD0-41FF-ADF9-839AA731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EA5D-543B-47F0-8AC1-FF176472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165B-377C-448E-90ED-67E9BB34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B38B-2363-42A3-A557-729C69D7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AB1C-98D8-4FAE-9DD2-3C507223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29B1-BEA8-4B5C-9E50-3FAD0E3A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35E3-5250-4401-BADF-539B5B81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15094-3A5B-4374-8D56-E54F267E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C3761-9EA8-481B-A146-B1310355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C7DB8-63E6-4C8F-B086-38732112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2B02-BD77-42E5-9DB9-DB7608EC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B496E3-B7A3-4B81-8BAB-81287A40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8266F-BF8D-46A4-92F2-16BEF660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BCAC4-BFA7-4C11-9569-AC1A2B07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D05307-1B5B-440B-AEC4-9D927158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DD06DE-6EDF-44D8-88FE-2476F9BC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F741C2-9072-45A3-A31F-5BD52C06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FC609D-BF41-4129-9DC7-9D2874F0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12B58A-FC2C-40E0-B067-5CF16660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A17D99-D641-4B9D-B906-AD79BA68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C7CD7-AF79-4DFF-8ECC-46AF30EE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4367-0ED7-4607-B1C4-45B99955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B1DE0-15EF-49A1-81E1-9957F7CF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C1D9F-DB29-4DD4-8247-AC19CF95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47C9A-A948-4C57-86A6-C591A9A1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D92AB-03B7-4F7D-9D3C-07703D97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70EF1E-1A05-4DAA-BCAF-8C06780B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38A1E-C756-42EF-BFCD-258919C7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0FB3C2-A487-4B9D-9FC6-D09841F4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98783-7B52-41E7-B3E2-E6DBCA5A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0788E-5AB4-433B-9345-3D824EEE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DD266-8F58-4439-ABC4-C3A9B7C5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335C-E5D7-47AB-AA4F-6576CC75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D9409-1B62-4DD7-BE11-9487AA61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09028-A749-45E3-B15F-52B1A22A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5A0A8-EBB4-4C61-9F4F-4F6FA111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93CE56-EBC9-4023-8775-FC0D5664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B0D041-F2E1-4938-A126-59F17760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180121-F5A8-4252-A31B-A8683271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65A2F6-81EA-40B6-ACB6-7802E183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4D6E5-9A4E-48BD-AEF5-473B49D5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9F6F33-FE41-4BEE-8888-36F89D04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D9C602-86BE-4CE8-A57A-0F4FCF23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FB81-9203-4979-87C9-DBFC7D73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AAFA11-1B04-47AF-AB35-425A84CD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46C2F-5AAD-44E6-A38B-638E30A8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D269B-E91E-44FF-86FD-5EB5C24D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4CFB6-0F1E-49CB-91AB-90D9E083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99F22-F52B-4CD8-B0A4-5FA922D9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2456D-028F-4B7A-9C17-BD34FD6E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F667E1-3DB5-4670-A7F5-8F319D0E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B153F-A923-4931-BBB9-92D2DCBC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9DF9D3-AEBA-4040-AD25-DE40A86F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FD1005-3D74-42BC-8C85-DA80BF19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C880-0F7C-4ADD-AA95-FD5AC719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39561E-B4AB-4571-908A-0F43621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D5D14-4047-4D8E-A313-98B31ACC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A25C60-A789-4DB6-AB46-75DD61FE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E834D-E38D-4D96-8893-26973BB6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E23D9A-34A9-4330-9553-DBE713AC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FE73E4-9C34-46FB-838C-A9C5198C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8F4B41-71CF-47A0-9C6E-FF6DCACB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CBBA1F-0D59-4F04-ABA3-A867AC03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BB13FC-EC95-4541-8733-2B9F5FD4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06AB43-273A-4C7E-8D1F-9592D583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AC68-5DE6-4148-8AD3-E5956600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8147CA-67CE-444E-9C15-B6B67D57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AAACAA-FEE9-4561-B63A-E64798CB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AB2D6E-03FD-4890-A871-17934DF5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C9CF80-C54A-49A3-BAE5-6CEF890C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E475E3-E69F-44A2-B8F2-FD31C8F2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C0A89B-DBE3-4129-A397-EFFEF8C9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24913B-4814-40DE-8456-39C0A16D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50A245-7CF6-4DB8-8434-940631DA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B2AD2F-DEC1-4912-B853-AD59DCC1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A64DEB-58BB-4A79-A5FA-2EF875E6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9C2D-9D7B-4B29-8815-267AADFFE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EC70-B0AA-498E-9825-4D8B56ABB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8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E8FC-55B8-4A3D-A953-DBF6C343A3E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uary 3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0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48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19F1-23F1-4391-871D-B219CCEFAD5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96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C961-0D10-43CE-91E9-FB4D4B23B3A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A368-7483-417E-896E-C8C71FF40AC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1C7C-C1E6-453C-9157-0A587DFB1E7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7862-39F9-4A8D-A273-498218E926E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66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0D3F-876A-47A7-A1E1-A7CF71277E2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rcot.com/content/wcm/key_documents_lists/77254/07._RMS_Update_to_TAC_10_29_15.ppt" TargetMode="External"/><Relationship Id="rId2" Type="http://schemas.openxmlformats.org/officeDocument/2006/relationships/hyperlink" Target="http://www.ercot.com/content/wcm/key_documents_lists/77254/07._RMS_Update_to_TAC_10_29_15.ppt" TargetMode="External"/><Relationship Id="rId3" Type="http://schemas.openxmlformats.org/officeDocument/2006/relationships/hyperlink" Target="http://www.ercot.com/content/wcm/key_documents_lists/77254/08._COPS_Report.zip" TargetMode="External"/><Relationship Id="rId4" Type="http://schemas.openxmlformats.org/officeDocument/2006/relationships/hyperlink" Target="http://www.ercot.com/content/wcm/key_documents_lists/77254/08._COPS_UPDATE_TO_TAC_102915_v2.ppt" TargetMode="External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ontent/wcm/key_documents_lists/77254/04._TAC_October_2015_EMS_v3.pptx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rcot.com/content/wcm/key_documents_lists/77254/06._WMS_Report.zip" TargetMode="External"/><Relationship Id="rId2" Type="http://schemas.openxmlformats.org/officeDocument/2006/relationships/hyperlink" Target="http://www.ercot.com/content/wcm/key_documents_lists/77254/06._WMS_update_2015_10_29.ppt.pdf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rcot.com/content/wcm/key_documents_lists/77254/09._ROS_Report.zip" TargetMode="External"/><Relationship Id="rId2" Type="http://schemas.openxmlformats.org/officeDocument/2006/relationships/hyperlink" Target="http://www.ercot.com/content/wcm/key_documents_lists/77254/09._ROS_Procedures.Proposed_Revisions_ROS_20151008.doc" TargetMode="Externa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rcot.com/content/wcm/key_documents_lists/77254/09._ROS_Report.zip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October 29, 2015 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Technical Advisory Committee (TAC) Update to RMS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361960" y="32000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3581280" y="6400800"/>
            <a:ext cx="2210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v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CDA1-FF37-4AA2-AE4C-A8460287319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914400" y="6858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tail Market Subcommittee (RMS) Updat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ercot.com/content/wcm/key_documents_lists/77254/07._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RMS_Update_to_TAC_10_29_15.pp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ommercial Operations Subcommittee (COP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ercot.com/content/wcm/key_documents_lists/77254/08._COPS_Report.zip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http://www.ercot.com/content/wcm/key_documents_lists/77254/08._COPS_UPDATE_TO_TAC_102915_v2.pp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COPMGRR040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Alignment with NPRR719, Removal of Trigger and Requirement to Reduce the Distributed Generation (DG) Registration Threshold (Vote)- </a:t>
            </a:r>
            <a:r>
              <a:rPr b="0" lang="en-US" sz="2200" spc="-1" strike="noStrike">
                <a:solidFill>
                  <a:srgbClr val="c00000"/>
                </a:solidFill>
                <a:latin typeface="Gill Sans MT"/>
              </a:rPr>
              <a:t>“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Tabled” at TAC awaiting NPRR719  Approval at PRS,  TAC and the Board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D140-096F-427C-8591-A75C0CD4D90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itle 1"/>
          <p:cNvSpPr/>
          <p:nvPr/>
        </p:nvSpPr>
        <p:spPr>
          <a:xfrm>
            <a:off x="1143000" y="-25704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Arial"/>
              </a:rPr>
              <a:t>RMS/COPS Initiatives and Votes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2016 Ancillary Services Methodology (Vote)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95256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343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ww.ercot.com/content/wcm/key_documents_lists/77254/10._2016_AS_Methodology.z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343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343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lot of discussion concerning non-spin and regulation  requirements that were proposed by ERCOT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343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voting item required two Roll Call Votes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otion to Amend Percentiles proposed by ERCO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oll Call Vote (8 Yes) (19 No) (3 Abstention)- Motion Fail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otion to Approve as Recommended by ERCOT: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oll Call Vote (26 Yes)  (2 No) (2 Abstentions) – Motion Carri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343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2119-3408-4DCB-BB44-4410FA268B2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DREAM Taskforce Update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95256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Distributed Resource Energy and Ancillaries Market Taskforce (DREAM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REAM October 26, 2015 focused on: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finitions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nterconnection Procedures was provided by Oncor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nterconnection Handbook Review and Discussion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Reviewed and Discussed PG&amp;E Interconnection Process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Red-line of the Interconnection Handbook / Defining the process for a DER heavy Op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ww.ercot.com/calendar/2015/10/26/75693-DREAMTF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06B2-123B-4008-AA0D-805199E711B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Ancillary Services Re-design Update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9907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S (NPRR 667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attle CBA Power Point document expected to be posted on or around Novembe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CBA Workshop has already been scheduled on November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t ERCOT Met Cent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market discussions and/or comments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llowing the November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iscussions the full and final report is expected from Brattle the middle of December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rket Participants can provide their comments to the full report during the January/February 2016 timelines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COT is currently awaiting the CBA to be completed before they file their comments to NPRR66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ww.ercot.com/calendar/2015/11/9/73769-FAST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229F-4B02-4C98-8E28-2E7BFE3EADA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Operations, Planning and IT Report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066320" y="45684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Summary of Clean Power Plan Re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ww.ercot.com/content/wcm/key_documents_lists/77254/13._ERCOT_Analysis_of_the_Clean_Power_Plan_TAC_10.29.15.pd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C Leadership referred this discussion to the Wholesale Market Subcommittee (WMS) due to outstanding issues that still need to be resolved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DC12-260D-408D-8DC0-C11DB432489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Other Busines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066320" y="7621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Revisions to TAC Procedures (Vot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cludes process for Taskforces or Working Groups reporting directly to TAC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.  “TAC subcommittee (or TAC if the working group or taskforce reports directly to TAC)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Unanimously Approved as submitted to TAC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  These changes will be submitted to the Board during their December meeting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www.ercot.com/content/wcm/key_documents_lists/77254/14._TAC_Procedures_20151029_edits.docx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Discussion of 10/9/15 PUCT Open Meeting Action Item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RCOT provided the August 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ORDC presentation to TAC, Commissioner’s  comments/memo was on ORDC and their action item during the 10/9/15 open meeting were on Multiple Interval SCED.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MS was assigned the ORDC action item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ttp://www.ercot.com/content/wcm/key_documents_lists/77254/14._08132015_Analysis_of_PRC_Vs_ORDC.pptx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RCOT was assigned the Multiple Interval SCED action item.   Per Kenan (ERCOT) there isn’t a short term solution for Multiple Interval SCE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19A9-C589-45C9-9F45-8FFDFD74A9F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DA32-EC08-4DAA-AA7F-8D159BBE132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Content Placeholder 4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7053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90160" y="0"/>
            <a:ext cx="7953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RCOT Board Update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218960" y="7617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l Revision Requests submitted to the Board by TAC were Board approved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C Leadership discussed Joel Mickey’s (ERCOT’s) update to the Board concerning Interval SCEDs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Board was notified that the market is still working through these issues throughout the committee and subcommittee levels.  ERCOT plans to  provide a feasibility study to SAWG in December/January timeframe with a subsequent update to the ERCOT Board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1D38-3C49-434F-972C-A0B5088F7C2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S Initiatives and Vo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9072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odal Protocol Revision Requests (NPRRs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PRR70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Flexible Accounts, Payment of Invoices and Disposition of Interest on Cash Collateral --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 Unanimously Approv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PRR70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Clarifying ERCOT Actions During Energy Emergency Alerts ---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Approved with 2 Absten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PRR715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Clarification of Generator Modeling in the Market System –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Unanimously Approved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PRR71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Corrections to Aggregated Load and Participant Specific Generation Data Requirements –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 Unanimously Approv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PRR72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Daily Network Operations Model PSS/E File Posting Modification -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Unanimously Approv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B2F8-0376-4BFE-BBBB-012583E5CA3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S Initiatives and Vo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9072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odal Protocol Revision Requests (NPRRs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PRR728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Removal of Language Related to NPRR484, Revisions to Congestion Revenue Rights Credit Calculations and Payments, and NPRR554, Clarification of Future Credit Exposure Calculation-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Unanimously Approve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PRR729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Clarification of Metering Requirements for Resources -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Unanimously Approve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PRR731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Changes to Annual Reporting Requirements for RUC Decommitment Payment Amounts -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Unanimously Approve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PRR732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Alignment of Verifiable Cost Language within Protocols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Unanimously Approved with an Implementation date of 12/18/15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PRR733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Delete Expiration of Customer Load Data Protected Information Status -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Unanimously Approv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C162-B2D0-4651-99B9-898EA6B9ED9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S Initiatives and Vo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99072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EMS Upgrade Project Timeline Updat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ercot.com/content/wcm/key_documents_lists/77254/04._TAC_October_2015_EMS_v3.pptx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he EMS Upgrade is scheduled for go-live in May 2016.  Key dates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lose Loop Testing March – May 201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utover in late May 201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 general, revision requests that require EMS software changes to the legacy or new system need to be limited to urgent items only and have the following timelines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oftware migrations December 201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o-live after July 201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er ERCOT they will continue to look at IA(s) to see if they have an impact to the EMS project and the scheduled implementation timeline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3</a:t>
            </a:r>
            <a:r>
              <a:rPr b="0" lang="en-US" sz="1400" spc="-1" strike="noStrike">
                <a:solidFill>
                  <a:srgbClr val="b5a788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1B68-CB37-4F18-9C96-C1602BD7F56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Object 2" descr=""/>
          <p:cNvPicPr/>
          <p:nvPr/>
        </p:nvPicPr>
        <p:blipFill>
          <a:blip r:embed="rId2"/>
          <a:stretch/>
        </p:blipFill>
        <p:spPr>
          <a:xfrm>
            <a:off x="4343400" y="2057400"/>
            <a:ext cx="9144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Tabled and/or Withdrawn Revis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38080" y="6858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quest Previously Tabled at  TAC (Possible Vote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PGRR055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Extend Load Profile Model Calendar Inputs to 203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dditional comments are forthcoming from the Profile Working Group (PWG).  Since COPS doesn’t meet in November, therefore,  TAC may not see the additional comments until the December TAC meeting.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Continued to be “Tabled” awaiting COPS/PWG’s comments and recommend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BD8D-9AAC-46B7-94AF-302C3D1D47A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914400" y="6858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holesale Market Subcommittee (RO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ercot.com/content/wcm/key_documents_lists/77254/06._WMS_Report.zip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www.ercot.com/content/wcm/key_documents_lists/77254/06._WMS_update_2015_10_29.ppt.pdf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CMRR01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lignment with NPRR714, Real-Time Make-Whole Payment for Exceptional Fuel Cost (Vote)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Unanimously Approve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CMRR01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Timeline for Reviewing Resources Verifiable Costs for Five Year Updates (Vote)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Unanimously Approved with Austin Energy’s comment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Loads in SCED:  LMP Minus G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Discussion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MS requesting guidance from TAC members on LMP Minus G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.  Next month’s TAC agenda may include a Policy vote on this item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3, 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A530-F4D5-4D3A-B959-DF59D2E5AC9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itle 1"/>
          <p:cNvSpPr/>
          <p:nvPr/>
        </p:nvSpPr>
        <p:spPr>
          <a:xfrm>
            <a:off x="9907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Arial"/>
              </a:rPr>
              <a:t>WMS Initiatives and Votes: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Object 1" descr=""/>
          <p:cNvPicPr/>
          <p:nvPr/>
        </p:nvPicPr>
        <p:blipFill>
          <a:blip r:embed="rId3"/>
          <a:stretch/>
        </p:blipFill>
        <p:spPr>
          <a:xfrm>
            <a:off x="4343400" y="5562720"/>
            <a:ext cx="9144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914400" y="6858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liability Operations Subcommittee (RO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ercot.com/content/wcm/key_documents_lists/77254/09._ROS_Report.zip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firmation of ROS Leadership (Vo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ir:    Alan Bern, Oncor Electric Delive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ice Chair:  Mark Soutter, Invenergy Energy Manag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New ROS Leadership Unanimously Approv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evised ROS Procedures (Vote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www.ercot.com/content/wcm/key_documents_lists/77254/09._ROS_Procedures.Proposed_Revisions_ROS_20151008.do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ructural Review suggested changes pertaining to Working Group and Taskforces reporting to ROS and these changes addresses those recommendations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Unanimously Approv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7BD1-A994-4507-862F-B1092D03A985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itle 1"/>
          <p:cNvSpPr/>
          <p:nvPr/>
        </p:nvSpPr>
        <p:spPr>
          <a:xfrm>
            <a:off x="9907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Arial"/>
              </a:rPr>
              <a:t>ROS Initiatives and Votes: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914400" y="6858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liability Operations Subcommittee (RO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1695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ercot.com/content/wcm/key_documents_lists/77254/09._ROS_Report.zip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RRGRR00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lignment with NPRR705, Provides Consistency for References to the End Date of the Generation Interconnection Process (Vote) – “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Tabled” at TAC awaiting NPRR705 Approval at PRS, TAC and Boar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OGRR145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lignment with NPRR705, Provides Consistency for References to the End Date of the Generation Interconnection Process (Vote)- “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Tabled” at TAC awaiting NPRR705 Approval at PRS, TAC and Boar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OGRR146,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arifying ERCOT Actions During Energy Emergency Alerts – “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Tabled” at TAC awaiting NPRR708 Approval at the December Board meeting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Nov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912A-6D04-43BB-B5FE-DB769DF169F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itle 1"/>
          <p:cNvSpPr/>
          <p:nvPr/>
        </p:nvSpPr>
        <p:spPr>
          <a:xfrm>
            <a:off x="9907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Arial"/>
              </a:rPr>
              <a:t>ROS Initiatives and Votes: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Kathy Scott </cp:lastModifiedBy>
  <dcterms:modified xsi:type="dcterms:W3CDTF">2015-10-30T05:38:48Z</dcterms:modified>
  <cp:revision>902</cp:revision>
  <dc:subject/>
  <dc:title>Instructions</dc:title>
</cp:coreProperties>
</file>