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cy FB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2FB-2754-450A-88A0-66F48958C41C}" type="slidenum">
              <a:rPr b="0" lang="en-US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AAE6-4FAB-40B0-BFD4-88E4F955F8DA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8598-EED1-4EFF-8842-A2DFE0191857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51C-28BA-4D7F-BEB3-E8D0D7FDC7F6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F33-015F-4E5C-AF0C-D79A3DE6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1E5-159B-4FCE-8FE1-FAB8F89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752-F36D-4DB0-B6BA-87A2D660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B8F-AAA8-4FD4-A8C3-F0758A12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26F-9795-4B39-8ABF-B5E33F10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DBA-ED68-4E50-9D3A-3988A85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928-8157-4B60-8040-0AB646B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48F-EF9E-4C17-9204-E9A5D9E2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2AB-1B29-43B1-AB7F-C3470996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60F-3FBE-4430-8142-641FF12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B2A-ABCA-4747-8997-0E743EA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CC6-60CA-4FAA-A1E1-D780CC88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ED3A-7985-45F6-89C1-1AD585769C5B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0096-6DBE-4B70-A69B-7DCB650B3F32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Update to RMS </a:t>
            </a:r>
            <a:br>
              <a:rPr sz="5400"/>
            </a:br>
            <a:br>
              <a:rPr sz="2800"/>
            </a:b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November 3, 2015</a:t>
            </a:r>
            <a:endParaRPr b="0" lang="en-US" sz="5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819520" y="685800"/>
            <a:ext cx="358128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3048120" y="457200"/>
            <a:ext cx="3149640" cy="289548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2" name="AutoShape 28"/>
          <p:cNvSpPr/>
          <p:nvPr/>
        </p:nvSpPr>
        <p:spPr>
          <a:xfrm>
            <a:off x="3424320" y="785880"/>
            <a:ext cx="2371680" cy="1942920"/>
          </a:xfrm>
          <a:custGeom>
            <a:avLst/>
            <a:gdLst/>
            <a:ahLst/>
            <a:rect l="l" t="t" r="r" b="b"/>
            <a:pathLst>
              <a:path w="2371725" h="1943100">
                <a:moveTo>
                  <a:pt x="3" y="742196"/>
                </a:moveTo>
                <a:lnTo>
                  <a:pt x="905923" y="742201"/>
                </a:lnTo>
                <a:lnTo>
                  <a:pt x="1185863" y="0"/>
                </a:lnTo>
                <a:lnTo>
                  <a:pt x="1465802" y="742201"/>
                </a:lnTo>
                <a:lnTo>
                  <a:pt x="2371722" y="742196"/>
                </a:lnTo>
                <a:lnTo>
                  <a:pt x="1638814" y="1200897"/>
                </a:lnTo>
                <a:lnTo>
                  <a:pt x="1918764" y="1943095"/>
                </a:lnTo>
                <a:lnTo>
                  <a:pt x="1185863" y="1484386"/>
                </a:lnTo>
                <a:lnTo>
                  <a:pt x="452961" y="1943095"/>
                </a:lnTo>
                <a:lnTo>
                  <a:pt x="732911" y="1200897"/>
                </a:lnTo>
                <a:lnTo>
                  <a:pt x="3" y="742196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WordArt 30"/>
          <p:cNvSpPr txBox="1"/>
          <p:nvPr/>
        </p:nvSpPr>
        <p:spPr>
          <a:xfrm>
            <a:off x="2209680" y="685800"/>
            <a:ext cx="4724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latin typeface="Niagara Solid"/>
              </a:rPr>
              <a:t>TX SET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c00000"/>
              </a:solidFill>
              <a:latin typeface="Niagara Solid"/>
              <a:ea typeface="Niagara Soli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B84F-2BD1-43A9-AEE9-057532EE7F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</a:rPr>
              <a:t>October 2015 Meeting Updates</a:t>
            </a:r>
            <a:endParaRPr b="0" lang="en-US" sz="40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Texas Market Test Plan Review(Vote)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Test Flight 1015 Statistics Reviewed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Retail Market Guide (RMG) Safety Net Language Review 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Other Items Discussed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Texas SET Swim Lanes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Sharyland Utilities Conversion – Cancel / Rebill Issue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55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4"/>
                </a:solidFill>
                <a:latin typeface="Agency FB"/>
              </a:rPr>
              <a:t>RMS Assignment—RMG Section 7.13.2 Interval Data Recorder Meter Installation Process Review and Comparison to PWG changes to Protocols Section 18.6.1 Interval Data Recorder Meter Mandatory Installation Requirements Postponed</a:t>
            </a:r>
            <a:endParaRPr b="0" lang="en-US" sz="22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D70-CAA6-4AD7-8DEC-0DA137AD5D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</a:rPr>
              <a:t>October 2015 Meeting Updates</a:t>
            </a:r>
            <a:endParaRPr b="0" lang="en-US" sz="40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Next Meeting– ERCOT MET Center RM 168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November 9</a:t>
            </a:r>
            <a:r>
              <a:rPr b="0" lang="en-US" sz="20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 - 10</a:t>
            </a:r>
            <a:r>
              <a:rPr b="0" lang="en-US" sz="20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 Meetings Cancelled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499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November 30</a:t>
            </a:r>
            <a:r>
              <a:rPr b="0" lang="en-US" sz="20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 10:00 AM – 4:00 PM (May be Moved to December 8</a:t>
            </a:r>
            <a:r>
              <a:rPr b="0" lang="en-US" sz="20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2000" spc="-1" strike="noStrike">
                <a:solidFill>
                  <a:srgbClr val="0000a4"/>
                </a:solidFill>
                <a:latin typeface="Agency FB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Any questions?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TNMP09172015</cp:lastModifiedBy>
  <dcterms:modified xsi:type="dcterms:W3CDTF">2015-10-22T20:00:02Z</dcterms:modified>
  <cp:revision>296</cp:revision>
  <dc:subject/>
  <dc:title>PowerPoint Presentation</dc:title>
</cp:coreProperties>
</file>