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6FFBF-A855-4835-8453-C51666B83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2141D-B830-4CEF-84F7-C3C805ABC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CAF87-1A25-4250-ABF6-7E5FFA195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70B12-AB6D-4E3B-A2B3-6B41BF509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D9E3B-4975-4028-B267-227AD2860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71D-C1B3-47FD-922B-F212870B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F11-98E7-4BED-B322-6C384C58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C34-008C-4CA5-85E4-C3D88111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C2E-2846-4C3D-B70F-947B454E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727-A497-4C38-91EF-834D039E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C12-C125-4AD0-996F-FB7AE331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378-68A1-4CBA-B6B3-2AFC08ED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7FE-5E8D-4B2E-B500-D5D3C343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241-9187-49EF-B490-524F2D3A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A7D-B348-42A4-AEE6-7B9182C1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ABD-EAD5-4700-B7CA-768304F1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6878-3999-4DF0-BEDF-9848B4FF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61B6B-8944-4720-AB5B-3E744708BA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835DE-C347-4BC7-9AC9-9EE361B9B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6FE40-2F37-4602-B1D5-E53206F25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171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4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ohn Varn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5 PR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tober 29, 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03200" y="71424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Recommended for Approval by PRS – Unopposed (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02, Flexible Accounts, Payment of Invoices, and Disposition of Interest on Cash Col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15, Clarification of Generator Modeling in the Market Syste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16, Corrections to Aggregated Load and Participant Specific Generation Data Requirement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26, Daily Network Operations Model PSS/E File Posting Modificatio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28, Removal of Language Related to NPRR484, Revisions to Congestion Revenue Rights Credit Calculations and Payments, and NPRR554, Clarification of Future Credit Exposure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29, Clarification of Metering Requirements for Resourc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31, Changes to Annual Reporting Requirements for RUC Decommitment Payment Amount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32, Alignment of Verifiable Cost Language within Protocol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33, Delete Expiration of Customer Load Data Protected Information Statu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403200" y="738360"/>
            <a:ext cx="849312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ion Requests Recommended for Approval by PRS – With Opposing Votes (Vot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08, Clarifying ERCOT Actions During Energy Emergency Alert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8"/>
          <p:cNvGrpSpPr/>
          <p:nvPr/>
        </p:nvGrpSpPr>
        <p:grpSpPr>
          <a:xfrm>
            <a:off x="1295280" y="2735280"/>
            <a:ext cx="6553440" cy="1387440"/>
            <a:chOff x="1295280" y="2735280"/>
            <a:chExt cx="6553440" cy="1387440"/>
          </a:xfrm>
        </p:grpSpPr>
        <p:sp>
          <p:nvSpPr>
            <p:cNvPr id="178" name="TextBox 1"/>
            <p:cNvSpPr/>
            <p:nvPr/>
          </p:nvSpPr>
          <p:spPr>
            <a:xfrm>
              <a:off x="1295280" y="2756160"/>
              <a:ext cx="6553440" cy="12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vision Requests Recommende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r Approval by P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with Opposing Vo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traight Connector 3"/>
            <p:cNvSpPr/>
            <p:nvPr/>
          </p:nvSpPr>
          <p:spPr>
            <a:xfrm>
              <a:off x="1428480" y="273528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5"/>
            <p:cNvSpPr/>
            <p:nvPr/>
          </p:nvSpPr>
          <p:spPr>
            <a:xfrm>
              <a:off x="1437840" y="412272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403200" y="714240"/>
            <a:ext cx="849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79440" y="98280"/>
            <a:ext cx="84456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PRR708, Clarifying ERCOT Actions During Energy Emergency Al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7120" y="655560"/>
          <a:ext cx="8456760" cy="5578560"/>
        </p:xfrm>
        <a:graphic>
          <a:graphicData uri="http://schemas.openxmlformats.org/drawingml/2006/table">
            <a:tbl>
              <a:tblPr/>
              <a:tblGrid>
                <a:gridCol w="1246320"/>
                <a:gridCol w="7210440"/>
              </a:tblGrid>
              <a:tr h="2011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RCO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PRR adds the ability for operators to consider whether sufficient Resources are available to recover reserves within an acceptable timeframe following a disturbance before declaring an Energy Emergency Alert (EEA); separates and clarifies the triggers for entering each step of the EEA plan from the operational goals while operating within each level of EEA; formalizes an amount of Physical Responsive Capacity (PRC) for operators to target when determining Load shed amounts in EEA Level 3; and removes the requirement to notify the Southwest Power Pool Reliability Coordinator when an EEA is declared as this is  a North American Electric Reliability Corporation (NERC) requirement and is covered in the Operating Procedur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V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9/10/15, PRS voted to recommend approval of NPRR708 as amended by the 7/15/15 ERCOT comments.  There was one opposing vote from the Consumer Market Segment and one abstention from the Independent Power Marketer (IPM) Market Segment.  On 10/15/15, PRS voted to endorse and forward to TAC the 9/10/15 PRS Report and Impact Analysis for NPRR708.  There were two abstentions from the Independent Generator and Consumer Market Segm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/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on system implementation of NPRR706, Restore the ability to use Physical Responsive Reserve Capability as an Indicator of Available Frequency-Responsive Capac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mp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mpa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 Highligh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PRR provides clarity to the Market Participant about actions that ERCOT may take during the EEAs; addresses comments and issues raised related to the EEA steps during the three EEA workshops; and provides clarity to all Market Participants regarding ERCOT actions during EE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403200" y="738360"/>
            <a:ext cx="849312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 result of discussion from the 10/15/15 PRS meeting, workshops are being arranged for the following NPR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09, Revisions to Alternative Dispute Resolutio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11, Increase the Interval Data Recorder Meter Mandatory Install Requirement from 700 kW/kVA to 1.5 MW/M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34, Digital Attestation Signature Authority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PRS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ERCOT</cp:lastModifiedBy>
  <cp:lastPrinted>2013-01-30T23:16:36Z</cp:lastPrinted>
  <dcterms:modified xsi:type="dcterms:W3CDTF">2015-10-19T19:42:44Z</dcterms:modified>
  <cp:revision>272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