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8628-E334-44A9-97CC-3120B1D0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9ECF-0860-4A45-A162-6B344079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F023-FC27-43E4-B0E6-0EB487B0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B54D-5A90-4F91-898C-81F97CE0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6130-2AD2-4965-AA4D-5457A02B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8C1D-7418-49A1-9291-07C26F41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3C41-E47D-4FB5-AC17-B08EBA04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560F-E261-45CE-97B4-4E46B5D0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9522-8D3B-416B-9039-2370C0F4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ABFF-0396-4C16-9495-6AA29401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15F9-B339-4409-9647-C3637B91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1EE1-F4D0-439B-B0A0-60539DDD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A0C2-2F18-4877-8993-E629AA689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A7AA-B957-456B-A03F-A2CAE4F42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9,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7975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3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bility and Operations Subcommittee (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n Bern, Oncor Electric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Soutter, Invenergy Energ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25360" y="1522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15 ROS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lbracht, Brittney</dc:creator>
  <dc:description/>
  <dc:language>en-US</dc:language>
  <cp:lastModifiedBy>Albracht, Brittney</cp:lastModifiedBy>
  <dcterms:modified xsi:type="dcterms:W3CDTF">2015-10-22T19:12:10Z</dcterms:modified>
  <cp:revision>77</cp:revision>
  <dc:subject/>
  <dc:title>Instructions</dc:title>
</cp:coreProperties>
</file>