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D0B5B-D58E-46D4-8D9F-835A4AD42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6F4B4-9481-400B-8E4F-955F97E13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E4A-40A9-4177-9916-A6C27164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CE8-9DF8-435F-B58E-D9FEEB9D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5EA04A-CC0B-437B-A7C2-436A86ED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B7042B-B9FC-437C-A661-F7D508D1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81C0DE-42F8-470C-8DB8-D853B445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354CFD-CA3B-47D0-9960-CC53FCFF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5C3EF9-66C4-4737-9083-ACAE8A45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6C98FA-CA1D-4AB0-BAB1-6C68401D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6157AB-87CC-4755-8BF6-592FD0E5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DB00B9-5ED0-4501-879D-38AED710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4CCE8B-7C5D-416D-A635-01B46E3D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0336A1-EA84-4F04-BFF8-70E39EC9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A2D-7598-41BF-A857-66F94FD1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EE4B92-1147-4685-A518-17BA0387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426E57-F467-4A01-9A31-FD56C53A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501F88-8935-4AB1-8A3C-8044D640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7509BC-654E-47C0-9F3E-003C9D66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7DF948-0AD9-497F-B6B5-F4E223AA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52CD4B-4578-4179-9BF9-C0FF5F9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9613C9-B2EE-4ED9-841C-46E80E98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FA2136-4E8A-43B5-89B5-A81DD4BB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C0D923-B36C-451A-BAFF-97F6EE78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3AF5B8-D09E-4BEA-BDC7-F74689F3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F9B-1034-40F3-80E3-27AAAA59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93D2B9-A2D0-4D9E-9412-26A4619E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0D77B-6701-4462-82CE-853380BE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A0721-F526-4645-92C7-275990AA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A1257-32CA-4F01-8311-75900F4C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19CD8-00A1-4AD7-BFCB-F098CF7A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7DD20-DCDC-4B94-8FDE-66B6BBBB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7A290-3BDC-437D-B75F-77354CDC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33DF5-2042-43B1-894F-D4B50236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06E40-8105-4BA3-ADCC-D8046B07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FAEED-1A4E-40D3-A034-BF482EA0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E53F-F7AD-4D3B-AA06-C6776237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4E9C9-D642-4E68-89BB-7B394473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30CCD-3D9B-46CB-A75C-9D641A56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FF4AC-5C83-4DE9-A4AA-C691BC83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85B892-B984-42FF-8D6C-DA81CBC3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FD6F4C-032B-47F0-BA4E-438F61F5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4E5CD7-B5BC-488B-947D-9498E9B4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12183B-6406-455C-838E-2C76283F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8F868E-6008-41DB-A5E0-733564D8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447FA3-635F-4170-ADA1-049D2864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6C1F2C-7094-4E3D-A935-7F11071A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E81D-7B87-4909-8A49-D93718B2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E1FB6D-17AD-4075-B07C-4C9C17A7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79C987-E022-4051-948D-FA58E903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2B41C5-5DF5-4873-9356-366074D5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4E1124-A04F-4987-A342-945A7198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AEAF6A-100D-44E2-8D94-838E8710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3F26-B707-47BD-9031-1520386B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AABB-E75B-433C-BCDD-33C60A67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4B0C-8B2B-49FF-86AE-D76520CC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70A0-6BAE-4649-92B0-E1B2BE68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21C9-8375-4258-BA6E-207E5618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D2D91-1EE1-4F4D-A4D1-CEF8DC02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AF657-B9D8-4CC2-9E92-30D3615A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4E2D5-4312-4B57-A4D5-473F30AF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03585-D515-4D34-A2EA-30841D55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B3DFA-8726-485A-9783-4F9C11F3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0D386-B46E-410D-A58A-AFD95C07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9B09F-5754-4E3A-993D-8B622669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BCF-2C03-4361-A0E5-FEA6263B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5083-8AF4-46E4-B5DD-98DA7D67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6C42A-D7C6-4212-B409-2B8172D1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8C27B-717C-4C62-8A26-5FF2D2A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A69B8-DDEE-438D-9E0C-85D9C045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924E4-F497-42E6-8954-5D0F087C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7DA57-153E-4ED3-90DF-C93EEB3D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A6A401-65CE-4D37-8B53-C484A505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C7D792-50E4-4503-A09E-A72A5CF0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DF6314-1B4C-456F-8DED-898E7029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621D53-D86F-40AC-9857-12DC8B0E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7E96BB-F10B-481A-A74F-A8D9792B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FE12-9F72-4800-8874-94ECB24E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F04E82-35B9-4904-B85A-3AF73193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01250F-5FE8-4906-9948-3B40C2BB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71F342-5CFF-45B5-BC40-D2E806A4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85A27E-0F47-4AF5-8EB4-60B74373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E68BD3-A040-4B24-AACB-50DBFC13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9FD9A9-FFB1-4855-B2CF-B15DB94F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495E5B-91B1-4A4F-8521-BC521539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B2DD7F-6A99-4F07-8E90-05DB96A2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EB8B77-5D3A-47E9-A86C-97A2D93D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E0D56F-8EEA-44DF-A4BB-FCBEB7A4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5307-9242-4D35-9475-AB2424AF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8C9732-AF14-4C15-9F1E-3E800EB3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3185F5-237F-4FC4-A1DB-0F6FA193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5F57D3-22CC-4A4F-AC97-09408743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FD5F4B-838C-4A00-8AC6-3640968D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980E1A-437B-45F8-B33D-2BA94255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4FDAD0-75BB-450C-A10A-1D54F090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B7ED6D-9512-4871-B4B6-B94B058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EC36B9-122A-48E9-A677-D0D98972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EBD356-EF0E-4223-B3D9-2697C220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F9D933-8E4B-42C9-97B0-E734EF80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9DBB-1C6D-4421-85BF-2AA195E8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72AD62-7A21-44AB-954F-CC221162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0C3D71-46D2-41C9-8A3E-AD788EF0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0C2682-C0AA-428A-A315-72F17401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786DE5-FB11-4DB4-A5D5-1BBFAE70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7188A7-0126-45DA-9CED-556F1383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099839-89FD-42C8-BD76-73F52479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155067-DABF-4181-82F5-AC652A8F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4B46C0-2023-4258-B25F-EF97DD60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FAFAB9-25F4-441A-BFC5-C1FFEB1C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1D5179-A6D2-4230-9D50-EA5DA9B7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FB93-D15A-418C-8CAF-8E288F54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355CDC-7FB4-4781-87CD-AEAC0062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E617A-47E4-4BCB-9D63-06715685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9E3474-3DDA-4FA3-AB64-DD03AF13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93F00-AE12-436B-B2FC-FFD8CD57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57FECC-CC93-499D-B45D-B7382957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128509-BFF8-4112-BB3F-7D3831AA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720C9-ADCF-45CC-9D60-D8117EC7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4C575-2BA4-4A9D-B7B6-911C247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041C6A-6640-4869-8012-768AEC55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E8AF60-360F-446B-BDF6-3F8926B4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8F60-FA41-40AD-959E-547A7E8D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A87F70-309F-4AD1-985E-5FCF84EB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8318D4-A14B-4BAF-9430-5F71D6AC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E166BB-73AF-4D2D-A985-B14F22FA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07E5C66-962E-449F-88F1-B418DBB0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524F02-9365-4CC1-8487-1B088128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3DD7CAF-C046-4E43-9879-298DBD45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35CCAAF-BEE6-4FE2-BAB4-D9C39060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8CE08C-405B-4D3C-B767-9944E343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7A38B9-DA7C-4821-A43D-67A1DC7F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9F1BA18-BA12-4C4E-BF9D-203D19F1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6B91D-E242-4E4A-9229-4512BA3B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95AAC9E-E8CE-4D27-866F-EA3462E9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54843B4-5BB9-4E34-A1DF-3DFE5D25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935029-7F16-47FA-9F1C-FE6C5538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B626EF4-9B43-474B-8865-84DFA224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177E45F-2C8B-4ECB-9646-47F04D75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18EB24-0E59-4DA1-8ED2-415140C9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3BA04-B45F-4CD1-9DF0-9A8A5162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E74371-3405-4A66-81D6-BEA6C35F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DBBD3E-3EFB-42E2-82AE-FC8C1E35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9248E0-2192-40BE-B0FD-DCDF8464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FD22-5709-4137-AE07-5EC7ED77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F3A3CE-B7EF-465B-BE75-1CF229E9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CD833C-B18D-4BE2-B1AA-EE7D8283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19F6F1-4590-4861-BE12-E7FF8799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48C6C-BA24-41D3-9C52-3F4665B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A0371A-8B5F-46CC-9C96-EE1F77B3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20386F-F39B-44D0-8E57-11AAB0EB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60D9E5-035F-4EAE-B9EC-27D94B13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ED0E-B3C7-4965-9F21-7971EF8A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CD6B-66AB-4547-BAE1-620968F7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BF9-A8F2-4769-804A-C324225D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E531-9B3F-4EDD-A76E-659791EE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627A-D871-4176-874C-D4785B78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80EB9-029C-4D40-8CE0-19523F72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2FB8-0471-4B4C-9A2A-4A8E2E7E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01B5-59E1-48CB-BF2E-6D12C39D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512AA-D84F-45A0-809A-05446F55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0C75A-24D1-4483-AA0C-37E9953B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C76-3862-4717-8E02-A0911B22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960-4068-41A0-9E1E-22600493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92D-C6C7-47FE-B1E8-DB0A3DBB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ADB0C-63A8-43D5-82A2-E6D08AE2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C23AD-D8B4-4809-A3CF-F30322AC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97A2B-3837-48D9-BA82-4A9B259F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DD1C7-4716-4C28-8750-C0A0C42B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B4442-3C2F-4698-98B4-A271C5EF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E4812-3E5B-4D6B-9EFC-37608F89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1B606-3351-4397-9437-294C14F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0FF9D-7909-42DD-BCD7-8837E893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775C8-7401-4B30-BFAE-D533BD2F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647-8CB9-4367-AA87-CA72526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74E3C-9497-4AD9-9ABC-A9669CE5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7D762-6A01-4608-B416-A0DC7C16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E7CB6-EF77-42A9-AC2D-7F615F65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BFD53C-F8AA-4F33-901C-9DAB72F2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7C646C-B7A7-4398-BCCA-4B1FC026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349C3A-6C63-40B9-8DBF-24FD61CC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B434A5-5A87-4E66-BD49-E8DB3F57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C39B31-38A7-4D77-AB30-056B3117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00A232-ED5E-40EB-B5BB-0F83DDAF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67AE5B-3924-4AE9-97A7-E6C70BD2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3E5-E863-4E7B-ABB6-48136E70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3CBE3F-E3D1-41C7-A83A-0864DCC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6D7806-1CE9-4D41-8CB3-19D432C2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1EC7BF-3599-4DA9-BBAC-30D3FADF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A5208C-42CD-427F-B71A-93B6A8CF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34A8A4-DFDE-407A-BB41-B0F65B8E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81FB9-05C9-4702-ABF2-A78A5CF9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F210C5-EC6F-492C-8028-A2DEF7AD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72833D-3625-45B7-A34C-8C1CC8F0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5FE7B7-78FB-4E5B-9BDE-6A78C330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0F7EDF-DED1-479E-94FA-8E29F223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78C-BAD8-4EEC-A72D-5477D8A1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328AED-0435-479A-AA8E-992BB2B8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0080E6-D32E-4DA0-BE85-BC2678F4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F08E7A-4BE4-47A8-B790-EF69836E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FD0396-3AEC-41A0-AAE0-0A09046C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135D1A-A328-4A8B-B11E-147093E5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1EAEC4-6F29-4B00-8B41-1B2DE7E2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23A005-64BB-4425-B5ED-B9DE351F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A6671E-243C-48AD-ACD9-F7750B42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8B5392-947A-4799-B609-CE27BE21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0A400C-5AB1-4415-AF34-69C7DE2B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3DB67-9761-4739-A4F0-B5EDDEA62E4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039B1-EFA1-49E4-9894-3D619395C9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42D7E-A906-4A40-AB4E-2C637E4D2E9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155F5-4F78-4D8D-BF17-DB66F86F84F7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3FACA-1983-4776-93A9-6F8CD599932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3D831-9C5A-48A9-90F5-633999ADC5B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A57F6-135A-463B-AF11-64A4FBF5D30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9934B-6C9C-4A15-BCB5-B11E63D1A7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B53FB-4705-4B73-97BA-1E9F36343E2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E7B9A-BD55-4DA1-978C-073A8CFC2A2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C7D53-B26B-4EBE-8A7E-294900DA9FB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C1286-E97E-4C40-B9AB-4CAB3D7DE1C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A348E-81AD-4F3A-A671-31CB5060EB74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D6368-C167-4865-A405-FC860E935413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498C3-34F0-4FB1-A947-2C453233C4F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7AE2E-8027-4753-B076-C311A638D46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12E39-F8AF-41E5-BFA2-20597056BBB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BDABD-A6C1-4887-A02C-93DDDFF040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1E163-C3D7-4980-9506-CF5BF4AADCE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17435-F894-4398-92AE-C717226269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1910A-8BAC-419D-B0B4-22251B91BAD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AC43C-F077-405D-94B1-42D4EB77FF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D23FD-D58D-4DF7-8164-959558DF907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39E63-CBB6-41A6-A77A-A12598B3F282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8E3EC-556C-4FEE-8190-F7C4C4CFE35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B5D9B-C3B0-4199-9EB7-C2093FB5817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912D4-B235-4795-B422-CF99BCF2567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8FAE8-0D18-49BF-8D1A-70F3DF999D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F3A09-B4DD-4DDF-9080-1C5BEE96140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5B564-F5E9-4445-94CA-BF689792916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919DC-4D36-483F-945E-030B0FEAB78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6BCD9-CD05-44FB-AF63-C9939EF25CB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AC14C-C354-4687-B34D-7FAC4D68617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4BDBC-FE68-4150-B4C9-531B9331FF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9C468-E8F8-4E67-A50F-A47BBBECA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567A3-7B60-4997-ACBB-D5F2682D5C57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8288E-9D29-4ADC-88B0-81DF0105894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D49C5-7DD2-43E5-8B6B-2AC7B00546E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A478F-8846-40E1-BB0F-3EDA162A12D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04D02-EB60-41F1-846E-83CE71FDBE9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BDB36-2A90-432F-AD21-2AEC857251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6A673-CCCC-48C4-AECF-87381B5A949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3FB27-F7E4-4395-B6F7-727C120760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627640"/>
            <a:chOff x="787320" y="2804760"/>
            <a:chExt cx="7543800" cy="262764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3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an B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46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Meeting 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92420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ober 8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ext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vember 5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cember 3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46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leadership recommendations for approv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Chairman:  Alan Ber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Vice-Chairman: Mark Soutter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vised ROS 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OS recommended approval to relinquish control of the CIPWG, NRWG and EMSTF groups, move them from ROS to the ERCOT “Other” category and update the ROS Procedures accordingly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 Continued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09120" y="167328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rovides Consistency for References to the End Date of the Generation Interconnection Proces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05 – ROS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endorsed as amended by the 7/6/15 Luminant comments and revised by R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OGRR145 – ROS recommended approv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RGRR008 – ROS recommended approv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w Cen MT"/>
              </a:rPr>
              <a:t>PGRR045 –ROS reviewing for vote during November meeting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larifying ERCOT Actions During Energy Emergency Aler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OGRR146 – ROS recommended approv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08 –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ROS endorsed NPRR708 via the 9/3/15 OWG comments which endorsed NPRR708 as amended by the 7/15/15 ERCOT Comments      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 Continued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12720" y="16178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active Power Testing Require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13 –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ROS endorsed NPRR713 via the 10/8/15 OWG comments which endorsed NPRR713 as amended by the 9/14/15 NRG comment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OCITF Report: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OS originally endorsed four options to provide initial direction for ERCOT and OCITF on revision request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w Cen MT"/>
              </a:rPr>
              <a:t>Option 1: Develop process to create and maintain High Impact Outage (HIO) lis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Option 3A:  Identify and post HIO list in new MIS repo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Option 4A:  Protection of HIOs submitted with more than 90 days notice from all planned resource outages submitted with less notic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w Cen MT"/>
              </a:rPr>
              <a:t>Option 5: Introduction of “rescheduled” outage typ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After further discussion at ROS, the endorsement changed to just provide initial direction on Option 1 and 5.  The others will be further discussed in future OCITF meeting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2"/>
          <p:cNvSpPr/>
          <p:nvPr/>
        </p:nvSpPr>
        <p:spPr>
          <a:xfrm>
            <a:off x="609480" y="6524640"/>
            <a:ext cx="4840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ern, Alan</cp:lastModifiedBy>
  <cp:lastPrinted>2013-01-30T23:16:36Z</cp:lastPrinted>
  <dcterms:modified xsi:type="dcterms:W3CDTF">2015-10-27T20:25:45Z</dcterms:modified>
  <cp:revision>849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