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EA86-4928-445E-8291-8CC42B8E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C711-2CB3-4370-9A3E-6E45C31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7E4-0FFA-4A45-8D9B-0BD3469D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DBC2-F844-491B-AAF6-F2CD8CF2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5AB7-A2F6-43E0-A851-5C56580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3D10-A32F-4B21-8CF9-50E7FA1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979F-0C29-4183-9EE9-B71DA55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03D0-4849-42D1-BF93-F363762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C17B-7313-4A12-A67E-FC946D7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2DAC-8318-46A1-A5A4-11554B9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5A48-FDF0-4A4E-AF63-1C6B6C19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EEC8-9171-43CB-914E-EC05DDD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25A-A585-4D49-915D-AC1FF92B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9C5-E7D2-47AB-80A8-D1E6B6FF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9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outter, Invenergy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25360" y="1522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ROS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10-22T19:12:10Z</dcterms:modified>
  <cp:revision>77</cp:revision>
  <dc:subject/>
  <dc:title>Instructions</dc:title>
</cp:coreProperties>
</file>