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5A4A8-9332-4867-9798-1D08C9739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627F4-C34E-48F8-B86A-4231ECEFF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E71-6E57-4E6D-8482-A1247E28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2ED-7898-4B5F-8400-1A4E8D4A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CA9C10-1C74-4405-9165-4F7CA171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006B99-9D22-4178-B846-84474FF6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5AA500-C329-4688-A1F4-0F72B4E7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558F29-8FAC-4FDA-9338-9FCAF3D5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829AA7-65D4-4267-9640-3737070B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79E9CC-F394-4935-BEB8-A0F1889F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FFF7A1-611E-4ACB-937A-FB253D86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71F032-91DC-4E24-B3A1-4B7D2F7F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D50C55-FE24-48C3-AF5C-4DCDF2E4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551B3C-114B-4082-AB48-E8E79078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E40-59B4-48BD-B8BD-ECD59516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E7010-2201-4C4C-A8CA-2E98FBB6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E00B6-BE12-4CED-A577-DA2E8F79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771259-03AC-473D-B478-4452A11E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A2C4CC-A96F-4B0C-B76D-33FEDB9A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812C4E-543C-4D49-9F1A-CBBDAF5F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CA6AC9-0B56-410D-A9ED-0E4F0581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0C2183-9736-4AB6-A69E-B8BC83A1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3A4F84-392E-49B7-A51B-402AFE15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B3D3CC-BE06-42D1-8902-22C495CC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0FBD63-7116-4786-B546-367093D0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059-80F0-4162-ADFB-D1EAE278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AEBC0B-30FC-4666-9B8C-17A47D68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A734E-2658-4144-9336-31E805BB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CBBA6-D347-4F08-9423-A3F8B7B2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7EF64-A6B3-4F2F-8CE4-A10222A1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B8830-A511-42B5-94E3-770ECC0E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2F4F3-6A87-4E01-AA40-736A22A4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A8F8A-253D-4079-B9B5-D830F3A8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36F4E-A517-485A-90E0-E3981442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BB952-A072-4224-BF60-6985176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BED08-7232-44AD-900E-722CB58E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2D67-A8AA-4E0E-8052-97D95E73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3A68F-5029-43FD-AFB9-F68AA553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F1C75-5DBC-4F6E-80D0-A5700E15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B7574-779B-4841-B606-DF372756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B3C4B0-01DE-4CD6-A028-C6EFA0CE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706101-7F88-45EF-BD76-92E872D0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8B6D98-6891-4F1D-BC0F-35FB14CD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AF7E7E-9E87-4E61-9AFE-1ADDC9B6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179DD4-CEA7-4A6A-92B0-42484B01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9C1DFE-EE8D-4172-B5EA-B22F82F8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F559EA-B37A-470D-9837-43F8AA8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C2E7-A188-4A76-ABDE-7FF59F86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9E77BE-6FAE-49BF-AF96-D42290CA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96120D-B6B0-47E0-9865-C112F95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1FC894-1BEA-4B30-A4B7-B27E41B6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D32055-BD43-4597-B507-71FCB830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C84827-10C7-48C6-ADF6-278613CB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136B-E95C-4C4B-AEE4-E8FF9C70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623E-D657-438E-B116-C6864F6E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4588-4071-48E2-B3F6-958DC6EE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1E38-9B96-4DFC-92E7-9FFA66FE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9567-844A-472F-BD3A-A5D01959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E44EC-1825-43E2-B99E-4CE94B0F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94DD1-E8F8-4CF7-B0A4-978CF012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9398E-7E54-47C8-9706-5B54C259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48941-F4DC-463E-A18E-847EB00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FD090-E940-4B81-97D2-6EA64CEE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287C6-AEBB-4294-A89E-44A3B25B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9B4DB-4C01-4E01-9F02-3AEEB06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D51-454C-4E8A-980F-A7E1B411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F9FE-453D-485D-AE42-5AB5125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448C3-EE81-4972-83A3-01094A74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B1033-2B67-463A-90EB-7C5678C9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B3F65-33BA-489C-982B-82C8E0D1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BE2DF-D54A-4008-ADCF-35C8060A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D10B0-DB27-477B-A9D8-AF9617D0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9AA982-D6F7-4366-A570-68EA87E1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04E9A7-1A23-42EF-B9A1-9F54A7E7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99BA35-FE50-4619-91C0-8B1A90C0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45BCC7-CF23-4CCF-90CD-8931A0DE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574595-A675-4DF5-BD02-F5774D50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5C5E-18F4-403E-B6B4-70717A4D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216872-944F-43DD-BEE9-D0F7D05B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70279C-4E26-48DB-89E0-BAD0917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3F7CE0-7420-41BD-A73D-29A6AA2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C83898-540F-4190-A531-629EBD68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CE799F-A78A-4956-9524-D66F88A9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18E4CF-1AAD-4172-B4C6-726FFF86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62B60F-9ECB-40AC-8908-E6232345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964439-91E6-4123-9E29-FE7B9C43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D670EF-0AFB-4D14-A623-AB93C419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4EFBE6-3165-4EED-9C06-632F4D0C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037A-ACF0-4A0F-9D7C-602702A2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E370F6-45B3-4C7C-A42A-7D247DF2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D8B4EC-2A93-461F-A149-A0FFC30A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BB804D-4BA0-41D0-862D-089A97D6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79DF29-4573-4043-8F9F-8CBCC43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9EB878-8AA7-4F4E-8A53-BAC318B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F3954D-06E9-4E46-A7BC-B15A301D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1608D2-546A-4CA8-B764-5E1DEFEF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AE9D54-0334-4412-8971-BA362B2E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E9A980-8C3C-43EB-B3EF-004E0538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00B5C7-B609-4D77-BD01-BA17C411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7AB9-3FCE-43AB-9907-60AF96EF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C90E47-0361-4F4A-BBC7-D4FCBE61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E73152-F47A-4E9A-B003-DBF54A7A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97FAB0-5420-44A4-B343-8D14E552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20393D-3139-4CCB-B955-114FF05A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5C27E9-B28E-40B2-AF90-2619EDA0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4446ED-D4C0-4FE7-9352-D76844A6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1797A1-EE16-4648-8305-593F942A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B185EE-2ECB-4047-80B2-73EB58E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364468-62F1-4BE3-8AD8-35857F27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A94E20-3304-4547-BD05-2AFA7499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AEC4-B24D-419A-B842-EBCCDB83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E79805-C966-4700-B668-551DF7EA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8458F-7EDF-4D05-8D0E-8B9A329F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DC3AD-74E6-4242-92C8-4A9A03EE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08C5B-04AE-4B8C-99AD-D1E9347C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D5542-9AC0-4B9D-BD14-F8778563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369AD-C358-4D5E-8BEA-8FEDF0B1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A903C-0650-4321-8546-C5791979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D84E1-5269-40ED-B319-1BC4890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907433-6DF4-47B2-B40E-FE55697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5D807-DD62-4095-A52D-A74E7DBD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7598-E7BC-4C27-A30A-05080BF4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A372F-3EA8-473A-B1D4-8BD92429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8DF00-083A-4F16-87AB-0B0632D9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4F348-9FFD-4776-AE1F-1860CC5E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EC73FC-ACE6-43D4-B767-784EC897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CDFDEF-ADD4-4D16-B2AB-FC523F0A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B8E54AA-518A-4E4C-B98F-A47382B3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6557FCC-F206-4323-9426-982D124E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22EA06-2919-458A-AD43-0ECE320C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16EDBD-406A-402A-A72E-4C02AA3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4DA08D-0548-4C9E-B8C1-8D428B93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1DDE4-CBDD-48FC-80FC-6A8DBF13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0F64B1-C549-43A5-95A2-F9C0AE1D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ABABE3-63BC-4724-B0D2-8047204B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FA5D8B-6A2F-4F3A-B5F0-44FDF926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53247D-1C60-4A19-970E-0708A407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0D5E59-AFE6-4206-80A2-BAE2AFDE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112D24-CAB5-4C14-8350-58798A37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10EFD-09EF-4C18-B048-F01BF1C1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4F5B0-4794-4195-B97C-C0C9DFB9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7FCF8-92D2-490B-86C4-91432C16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A8D50-43CE-4BC1-B2D4-F0B2C90A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9EFE-4FD1-49D0-B771-BB5446E1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7D4EF6-64B1-4011-AF38-4A30F6F0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F509C-8BF1-4F1F-B4D5-6A912604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6D325-23A3-448A-B65F-B5D0EDF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83978E-A631-4BBE-A51E-9F3D9B17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8EA35-8C1A-41A1-B81C-DAEF3D97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C0A829-BE25-44CC-890A-AC08C71B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72218B-0BB1-4A19-9A6D-90CCD888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9F64-4E06-4A49-AAD5-45A322E1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B842-2C77-415A-9416-89564BB5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315-36B2-42C2-ACA3-BECE5EBE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A3136-EFF6-4CAF-B4A3-FAC1F1AD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AF2D4-4092-43EC-A89B-039220AE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8AC6-EF0F-444E-8199-844925CD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2E9A-EC31-4E53-83F4-35D8B7C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9809-BFDF-44BA-B290-6BA0FBB6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576F-931D-4121-95B8-ABD470DE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F4FC-98E0-44E1-A922-A85486B8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80D-7219-4BDC-B4E7-AA318D7E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AAC-04F6-4F8C-BF89-3028EB0A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873-2EA5-4DA8-9B54-EE01D836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FADF1-C86E-4B38-BD92-65E9D30F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6E77F-92B8-4964-B28D-1E56D94F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101BB-E8AD-4BC0-A93A-A66C2A3A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70CF2-3BEF-4C40-B8D6-B557067B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07C25-5808-45C1-A707-7584B39B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CD00B-91E4-4EB2-B683-71763DD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ED351-E449-4369-B366-A5CCE71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D5E4E-36D3-45C4-B76F-CC20714B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3D3A9-00AD-4575-98CD-31CE2FB0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A71-B59F-459F-99CB-BA1313CD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148EF-CA54-4B70-A9D5-2635D97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8A3B8-91D5-4AD2-A0B5-1D73A357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4AC69-D041-4A77-80AA-C60C0E86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D5159-FACA-4FEF-A8EF-53EEB7D8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E3B95-8FEF-4960-A8B7-C62DF7B6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4B2029-8EDA-4BD8-89F6-FC3EB9E8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691891-E3AC-4722-8B90-020241E8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E20B21-0843-4BED-8DA2-9BC2D390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741CD9-64C4-4F8E-A391-F35B118D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9BB589-754E-4387-8294-0179AC77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123-3697-4763-98E8-B8654DB1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CE42F-3440-46E5-96F0-46C2AC0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6B9613-1C05-4F31-91BF-786EA563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4DB753-FAB6-49BB-90C2-B4BAB221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6EAF30-B15B-4C2A-AAE1-495A3BA2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6C1C8B-19D5-40C3-ACF8-0732047F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08D223-365C-496B-A6E8-A7810411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53AB8D-01C9-43FC-BDAC-4D956716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9D809A-DDA9-478A-877A-C5F6CAB2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B7DA6E-4828-4CFA-BC1B-3CED2A7E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4EF704-7A08-4701-9179-8C914272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915-9B90-406B-81F1-F1C625E1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F131B6-959F-4C6D-8229-B8A456E0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08E4E9-C2D0-45DA-8384-FAEEF6B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5E72B2-CE63-4832-B78E-9AEF834E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E7EB14-B83E-4480-AE0B-662B397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96AE13-B8FE-449D-B750-A7EB07D1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EAC80-1DF1-44A7-ACA6-382E941A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D073A3-ABBF-4C0D-91FB-ABEB0755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FAC20E-8D95-4521-8CCA-436C11EC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4CFAB4-1EE9-4AD2-BCBE-85E96709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54A0B7-C07B-4DF8-AA26-3BFECAC5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77399-A33E-4617-80BB-321EB50281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555CC-89B7-431B-BA1B-D1DDC9209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18961-F5F6-45D6-A168-6435A16BBFB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71960-F2D7-4B6A-80E3-D4E6EAAC7188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C514D-52B8-44DB-AC06-41D94D3242D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7A6E2-4E9E-4D7A-B6DB-E41D7048BE2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556AD-7BC1-4117-BF03-80E91067F8F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A992C-0E08-4B45-B67F-7DD894C751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D7007-3764-41A5-9D10-174AB25486C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D7B7C-8BE6-4D71-83A3-C88F9F17B06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E9E60-2357-4FB4-B452-330087341DD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B29B7-C535-4AE7-BF20-E238EEE58FF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1CED8-1171-406E-9B6A-FB8B17F3C4BB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948AF-F4EC-42DB-AA5E-DA3614A89F35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A62D7-7305-438A-A67D-FBA7DDE2A32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A5C52-3D26-4A8B-B85F-CD3BDC0F830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E685E-CBC1-4B86-9654-40062E765F8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CA066-E8C7-4384-A222-E6517D5952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C9E93-9772-4AF1-94A2-DFEBD4E2F7C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B6349-4843-48F5-8CBA-624BF2E207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D74CE-2B36-4FFC-BCC0-900EB60FFD7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482E3-18ED-47D3-949E-D4D11C7254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522E2-5E7F-48BE-83F1-A86A4F1D41B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DB153-BB3A-4B73-84A7-13A5FDFBC18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945B3-12C8-4CD9-86BA-AD4B7AA19A1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ACF5B-CFA5-4FA2-AF5D-EFAD6D79F8E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F6BD3-D70B-45A1-AF2C-8FBC0E0D19B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A6449-85B5-4BA6-BC93-33B243CFE5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285DB-3B58-4F68-8A99-F6806565BCA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50E3A-A00A-436F-82FB-55D04268DF6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C1A91-D4B1-42CC-879A-C559C16750F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0BA0C-E6AC-49B5-A1ED-25866E24F2B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A28C3-42B1-4A57-B2EE-90A0F6FBB4B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B6F02-061F-4FF9-B09E-5DD3B8C823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D4AC5-E881-409C-82D6-A600B6C05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73FA0-8993-4324-B06C-D06C2B365648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47BA2-4A44-407F-910B-0CD5BCD2FC08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2EDFF-3725-4740-BDF5-0F21D8A3F83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A14BD-F777-48FB-AAC7-43087DA4450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8A015-BEA6-4C81-BDBD-D8446E4E2F2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0DDD0-11E7-4CCB-BBAE-79B19EB656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032AA-5948-4D3D-99D8-E41FE3E13D6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DE251-225A-4EFD-A231-330952141B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627640"/>
            <a:chOff x="787320" y="2804760"/>
            <a:chExt cx="7543800" cy="262764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Meeting 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ober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ext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vember 5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ember 3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46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leadership recommendations for approv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Chairman:  Alan Ber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Vice-Chairman: Mark Soutter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vised ROS 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OS recommended approval to relinquish control of the CIPWG, NRWG and EMSTF groups, move them from ROS to the ERCOT “Other” category and update the ROS Procedures accordingly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 Continued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09120" y="1673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ovides Consistency for References to the End Date of the Generation Interconnection Proces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05 – ROS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endorsed as amended by the 7/6/15 Luminant comments and revised by R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OGRR145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RGRR008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w Cen MT"/>
              </a:rPr>
              <a:t>PGRR045 –ROS reviewing for vote during November meetin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larifying ERCOT Actions During Energy Emergency Ale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OGRR146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08 –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OS endorsed NPRR708 via the 9/3/15 OWG comments which endorsed NPRR708 as amended by the 7/15/15 ERCOT Comments      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 Continued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6178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active Power Testing Require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13 –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OS endorsed NPRR713 via the 10/8/15 OWG comments which endorsed NPRR713 as amended by the 9/14/15 NRG comment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OCITF Report: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OS originally endorsed four options to provide initial direction for ERCOT and OCITF on revision request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w Cen MT"/>
              </a:rPr>
              <a:t>Option 1: Develop process to create and maintain High Impact Outage (HIO) lis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Option 3A:  Identify and post HIO list in new MIS repo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Option 4A:  Protection of HIOs submitted with more than 90 days notice from all planned resource outages submitted with less notic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w Cen MT"/>
              </a:rPr>
              <a:t>Option 5: Introduction of “rescheduled” outage typ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After further discussion at ROS, the endorsement changed to just provide initial direction on Option 1 and 5.  The others will be further discussed in future OCITF meeting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524640"/>
            <a:ext cx="4840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5-10-27T20:25:45Z</dcterms:modified>
  <cp:revision>849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