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79107-6F2C-47BB-ACA2-274716A90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B000F-7A32-4F0A-9F99-A5CA46165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68B62-F9E0-460C-9376-B7FB3D42D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FFD65-01B4-4E6A-8E3D-C04DCD987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789A6-BFB2-4493-97C8-9CCF451CE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0CD-2683-4630-9AEA-96076F25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0B0-812D-44E5-AF5C-2FC886DC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94D-43EE-4F30-BF97-93B0BFDD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802-427F-43C3-947C-A62B7D53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C68-EA19-4FC1-9A71-B94D617F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8A0-6968-47AA-A023-41A79828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329-38DD-49FB-8355-F768B217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966-EA65-4B45-8FF4-EEB1A224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799-A3AF-472B-8F1D-640B657A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6C9-B91D-4A37-91AA-DB9182C8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DB4-0265-4FF7-9E0B-FA3BE0F9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6F6-18F0-4B5C-B450-8F6B240A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03A76-635F-4035-9FFA-F5E8D6DFAE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51E01-085D-4FB6-8743-DD867CC7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1B382-8476-486E-A63F-9D2665CBC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4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ober 29, 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02, Flexible Accounts, Payment of Invoices, and Disposition of Interest on Cash 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15, Clarification of Generator Modeling in the Market Syste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16, Corrections to Aggregated Load and Participant Specific Generation Data Requirement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26, Daily Network Operations Model PSS/E File Posting Modificatio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28, Removal of Language Related to NPRR484, Revisions to Congestion Revenue Rights Credit Calculations and Payments, and NPRR554, Clarification of Future Credit Exposur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29, Clarification of Metering Requirements for Resourc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31, Changes to Annual Reporting Requirements for RUC Decommitment Payment Amount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32, Alignment of Verifiable Cost Language within Protocol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733, Delete Expiration of Customer Load Data Protected Information Statu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03200" y="738360"/>
            <a:ext cx="84931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Requests Recommended for Approval by PRS – With Opposing Votes (Vo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08, Clarifying ERCOT Actions During Energy Emergency Alert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8"/>
          <p:cNvGrpSpPr/>
          <p:nvPr/>
        </p:nvGrpSpPr>
        <p:grpSpPr>
          <a:xfrm>
            <a:off x="1295280" y="2735280"/>
            <a:ext cx="6553440" cy="1387440"/>
            <a:chOff x="1295280" y="2735280"/>
            <a:chExt cx="6553440" cy="1387440"/>
          </a:xfrm>
        </p:grpSpPr>
        <p:sp>
          <p:nvSpPr>
            <p:cNvPr id="178" name="TextBox 1"/>
            <p:cNvSpPr/>
            <p:nvPr/>
          </p:nvSpPr>
          <p:spPr>
            <a:xfrm>
              <a:off x="1295280" y="2756160"/>
              <a:ext cx="655344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vision Requests Recommende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Approval by P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with Opposing Vo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3"/>
            <p:cNvSpPr/>
            <p:nvPr/>
          </p:nvSpPr>
          <p:spPr>
            <a:xfrm>
              <a:off x="1428480" y="273528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5"/>
            <p:cNvSpPr/>
            <p:nvPr/>
          </p:nvSpPr>
          <p:spPr>
            <a:xfrm>
              <a:off x="1437840" y="412272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403200" y="714240"/>
            <a:ext cx="849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9440" y="9828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PRR708, Clarifying ERCOT Actions During Energy Emergency Al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7120" y="655560"/>
          <a:ext cx="8456760" cy="5578560"/>
        </p:xfrm>
        <a:graphic>
          <a:graphicData uri="http://schemas.openxmlformats.org/drawingml/2006/table">
            <a:tbl>
              <a:tblPr/>
              <a:tblGrid>
                <a:gridCol w="1246320"/>
                <a:gridCol w="721044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CO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adds the ability for operators to consider whether sufficient Resources are available to recover reserves within an acceptable timeframe following a disturbance before declaring an Energy Emergency Alert (EEA); separates and clarifies the triggers for entering each step of the EEA plan from the operational goals while operating within each level of EEA; formalizes an amount of Physical Responsive Capacity (PRC) for operators to target when determining Load shed amounts in EEA Level 3; and removes the requirement to notify the Southwest Power Pool Reliability Coordinator when an EEA is declared as this is  a North American Electric Reliability Corporation (NERC) requirement and is covered in the Operating Procedur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9/10/15, PRS voted to recommend approval of NPRR708 as amended by the 7/15/15 ERCOT comments.  There was one opposing vote from the Consumer Market Segment and one abstention from the Independent Power Marketer (IPM) Market Segment.  On 10/15/15, PRS voted to endorse and forward to TAC the 9/10/15 PRS Report and Impact Analysis for NPRR708.  There were two abstentions from the Independent Generator and Consumer Market Segm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system implementation of NPRR706, Restore the ability to use Physical Responsive Reserve Capability as an Indicator of Available Frequency-Responsive Capac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provides clarity to the Market Participant about actions that ERCOT may take during the EEAs; addresses comments and issues raised related to the EEA steps during the three EEA workshops; and provides clarity to all Market Participants regarding ERCOT actions during EE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403200" y="738360"/>
            <a:ext cx="84931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 result of discussion from the 10/15/15 PRS meeting, workshops are being arranged for the following NPR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09, Revisions to Alternative Dispute Resolutio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11, Increase the Interval Data Recorder Meter Mandatory Install Requirement from 700 kW/kVA to 1.5 MW/M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34, Digital Attestation Signature Authority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PRS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ERCOT</cp:lastModifiedBy>
  <cp:lastPrinted>2013-01-30T23:16:36Z</cp:lastPrinted>
  <dcterms:modified xsi:type="dcterms:W3CDTF">2015-10-19T19:42:44Z</dcterms:modified>
  <cp:revision>27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