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FD51A-1EED-4EB2-AFC2-45633D46B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BA084-C75B-4356-BBD9-900F80AE2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48517-8A85-4910-8CA0-6229ACB23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0F9BB-7CC3-44CE-8D7A-B04959C53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70C6B-D41B-41C3-B517-1240A3A7A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21C-2A1A-4A4E-BB9D-91A088BA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B02-C4FE-4D51-B71A-5728C777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279-4ADD-4B07-80F5-E7C6A62D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600-53DA-4E31-AF8D-A53FB431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6AD-BD9D-402E-83B1-FF661AB4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345-FFEC-4740-86B4-CF12348E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662-B6F6-43FB-BDDE-F0B863A1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148-0A8E-4CEE-8BB9-9CC125C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632-51CA-42FC-812E-7D5E7B8A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1A7-ECE0-4568-BAE0-3B844D40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6CC-5DA9-4013-AD22-8B6D459C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4EC-91D0-4373-B2DE-B63EB37C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F6B4C-3874-47ED-BDC9-A1720E221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5BAB3-3DC9-4E48-88BF-D858E4AD8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4C6BF-392B-48E1-9774-432BC2CC8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4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ober 29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02, Flexible Accounts, Payment of Invoices, and Disposition of Interest on Cash 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15, Clarification of Generator Modeling in the Market Syste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16, Corrections to Aggregated Load and Participant Specific Generation Data Requiremen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26, Daily Network Operations Model PSS/E File Posting Modificatio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28, Removal of Language Related to NPRR484, Revisions to Congestion Revenue Rights Credit Calculations and Payments, and NPRR554, Clarification of Future Credit Exposur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29, Clarification of Metering Requirements for Resourc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31, Changes to Annual Reporting Requirements for RUC Decommitment Payment Amoun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32, Alignment of Verifiable Cost Language within Protocol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33, Delete Expiration of Customer Load Data Protected Information Statu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73836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Requests Recommended for Approval by PRS – With Opposing Votes (Vo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08, Clarifying ERCOT Actions During Energy Emergency Alert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8"/>
          <p:cNvGrpSpPr/>
          <p:nvPr/>
        </p:nvGrpSpPr>
        <p:grpSpPr>
          <a:xfrm>
            <a:off x="1295280" y="2735280"/>
            <a:ext cx="6553440" cy="1387440"/>
            <a:chOff x="1295280" y="2735280"/>
            <a:chExt cx="6553440" cy="1387440"/>
          </a:xfrm>
        </p:grpSpPr>
        <p:sp>
          <p:nvSpPr>
            <p:cNvPr id="178" name="TextBox 1"/>
            <p:cNvSpPr/>
            <p:nvPr/>
          </p:nvSpPr>
          <p:spPr>
            <a:xfrm>
              <a:off x="1295280" y="2756160"/>
              <a:ext cx="655344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vision Requests Recommende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Approval by P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ith Opposing Vo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3"/>
            <p:cNvSpPr/>
            <p:nvPr/>
          </p:nvSpPr>
          <p:spPr>
            <a:xfrm>
              <a:off x="1428480" y="27352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5"/>
            <p:cNvSpPr/>
            <p:nvPr/>
          </p:nvSpPr>
          <p:spPr>
            <a:xfrm>
              <a:off x="1437840" y="412272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403200" y="714240"/>
            <a:ext cx="849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9440" y="98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PRR708, Clarifying ERCOT Actions During Energy Emergency Al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7120" y="655560"/>
          <a:ext cx="8456760" cy="5578560"/>
        </p:xfrm>
        <a:graphic>
          <a:graphicData uri="http://schemas.openxmlformats.org/drawingml/2006/table">
            <a:tbl>
              <a:tblPr/>
              <a:tblGrid>
                <a:gridCol w="1246320"/>
                <a:gridCol w="721044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adds the ability for operators to consider whether sufficient Resources are available to recover reserves within an acceptable timeframe following a disturbance before declaring an Energy Emergency Alert (EEA); separates and clarifies the triggers for entering each step of the EEA plan from the operational goals while operating within each level of EEA; formalizes an amount of Physical Responsive Capacity (PRC) for operators to target when determining Load shed amounts in EEA Level 3; and removes the requirement to notify the Southwest Power Pool Reliability Coordinator when an EEA is declared as this is  a North American Electric Reliability Corporation (NERC) requirement and is covered in the Operating Procedur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9/10/15, PRS voted to recommend approval of NPRR708 as amended by the 7/15/15 ERCOT comments.  There was one opposing vote from the Consumer Market Segment and one abstention from the Independent Power Marketer (IPM) Market Segment.  On 10/15/15, PRS voted to endorse and forward to TAC the 9/10/15 PRS Report and Impact Analysis for NPRR708.  There were two abstentions from the Independent Generator and Consumer Market Segm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system implementation of NPRR706, Restore the ability to use Physical Responsive Reserve Capability as an Indicator of Available Frequency-Responsive Capac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provides clarity to the Market Participant about actions that ERCOT may take during the EEAs; addresses comments and issues raised related to the EEA steps during the three EEA workshops; and provides clarity to all Market Participants regarding ERCOT actions during EE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403200" y="73836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esult of discussion from the 10/15/15 PRS meeting, workshops are being arranged for the following NPR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09, Revisions to Alternative Dispute Resolutio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11, Increase the Interval Data Recorder Meter Mandatory Install Requirement from 700 kW/kVA to 1.5 MW/M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34, Digital Attestation Signature Authority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PRS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ERCOT</cp:lastModifiedBy>
  <cp:lastPrinted>2013-01-30T23:16:36Z</cp:lastPrinted>
  <dcterms:modified xsi:type="dcterms:W3CDTF">2015-10-19T19:42:44Z</dcterms:modified>
  <cp:revision>27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