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dt" idx="6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ftr" idx="6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 type="sldNum" idx="6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7B7FDC-92CA-48A7-A8F3-7A09268C3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33C810-974F-422A-A2C0-1E0A0CCBE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95B-7E9B-489F-84FD-045E6953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9792-46D9-4DFF-A151-E70DA085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9830C8-45C4-40D8-9DE4-ABBF9388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E79156-5903-4A0C-BF03-2DCC1934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6375DB-49E7-4593-96CE-D5308C5B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D64B18-DB7E-41D0-9611-14265EF8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F21037-BCF5-43EB-8A15-72B360D5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55063C-B70B-46DC-9375-2AF22381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E3BED1-EC39-480B-A9D4-57F13BEA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419023-59A1-45F5-85B9-12670868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1A7C15-1603-4265-8E32-C4A7E403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BA23C6-49B3-4B27-AA36-198283CD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FABF-8383-4C84-ADC6-A488C691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4ED3B3-D8B3-4EA2-AB71-5F5DC10A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83834C-FCA1-48E6-8AA6-B610B09D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FD1896-D870-4DD8-B8CD-1BA76639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5BCA6B-0F0D-4AEB-AD23-92E9C83A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392A49-7C1E-43BE-9D44-08E21423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3950F7-B9B2-4D7C-B83D-1E45C25D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7FCB7F-D90B-415E-9EAB-8C2D4307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508BD1-19E8-44A6-ADAF-521A6E45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9DFA61-DDF5-43F5-982B-00A99985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0DF058-8FAB-404E-8CEE-96AFD146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2613-891A-4040-BA5D-880FA975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399572-0CE1-4CF5-A74F-64D84903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A96309-EECF-4CAD-8109-E83B3290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6113A0-0560-4CD3-9FB3-CBF15CAB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E6996B-9BF3-4DEB-A227-AB54BF4F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F33E46-DAF1-4CA9-945D-78F81891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4561B5-126A-4958-B5BD-F26C02D9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79850F-A063-496D-80D5-38782C0B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5AD42D-1340-4E21-B565-1102C68F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1D067C-A2FE-4E94-8956-CD3DF7D3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E76A2D-30C2-4A68-8274-D7D26FA0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FE5B-0C9A-417C-818C-137B5154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681A99-20FB-45D7-87D8-4F4D9D3D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76D07A-5311-48AA-B6FE-1A175995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A17A39-0AEF-4CA0-A662-E805E407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85A96A-8F20-483E-8C93-2475CC9D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E88927-5480-4522-A614-71834CD4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7B000B-B795-4415-85FB-94121F6B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FBF06F-8C71-46EF-82AA-4439A316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6B8AAC-47A8-4DAC-A7D4-9F2D21E3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5C9FCC-653D-46C9-A741-7A796910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5B72C4-14EA-446D-AEDF-E42ABB11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C2E9-40C5-4867-8958-20438C6B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6661A1-1A52-4818-8A8C-E42237DC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41C7CB-EACC-4E26-816F-F24344AA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936673-D0FE-49A4-AD63-2BF17C83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05152D-0F46-4DDD-AA18-A015D48D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9CE457-6B0D-49B8-9985-56DE8AB0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A633-EA68-4F02-85BD-1F5CDA27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A32C-D89F-4252-B9F0-C93AF9F1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9A8D-D202-4131-9000-DC66D6E9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E08D-EC90-4A4E-9649-30385B51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6BB7-889D-4B29-B502-3B8DA003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C9ED8-3860-4E7C-9412-B2FA1369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4DE3B-5EFF-4601-9764-EE9637ED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C0200D-0D0A-4605-92F9-E67EBA96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DD63B7-6C03-4B1E-B2A0-314BE85B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7DCAF-6528-4DEB-AA86-5C905DFE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611D8-5790-407D-85D0-105D6F43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67193C-EFAB-41DA-878C-8D56417E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910D-CE07-4F9B-BA96-92CF9F11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A742-C0D8-4A31-B656-874D79B7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4A7D7D-D22A-4413-B2ED-1E5C1C97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0D9B5-0431-4FFE-91EB-4D0FAC1D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F5D04C-139F-433D-B579-646DB852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CC2AF9-8361-4450-A832-3CB2D731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3ED56A-C693-4900-9945-7A8C6F2C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27FB96-79AF-42FA-B0C7-9420358B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F6CAAE-F584-4861-B9BF-84DB1A9C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CA0C9FA-280A-405A-88A3-96F37787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208E74-762B-4513-AF61-323F81D8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77D23F-D433-4DBF-9168-D53E373A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85B0-1AB1-44B1-9CDF-AA2470C4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81A60EA-605F-4157-89F3-C4C63CEB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766969-5A61-4583-9C0E-15FDB378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FF8974-E669-4108-9B45-B98909A1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82DE21F-8D71-432B-93A5-685F8C8E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7D73BB0-A1B4-4E89-96FD-C482A269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9E181C-6866-4010-9C4B-D4ECD09E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778B74-E648-48CA-88A5-A8A16D39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54CB3E-EF62-4C08-8C01-B237A499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7FD7BBA-D3DB-465B-AEA6-FC7ED1BD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8C7DAC-BB2D-46E2-B494-7321C1C5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D86C-7306-4FEF-8D44-DA4F877E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B617736-44A9-44C6-B514-FEB9B8AA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0E1DC72-5876-4C27-BEF3-72295554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DB954ED-C602-4042-8360-F4DF714A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21B182-D7E0-4576-AF0D-970F83B4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917E54B-C506-490E-9B0B-F582503D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B2428A0-6A4A-4478-8902-A34FA211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FD37EE5-DC8B-41E3-A922-A0184322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FD48037-0DC7-4A71-AA6D-2346D2F8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ADD4D02-40CD-432C-A60B-C705D6CD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4007757-43F2-46FD-A6DD-3DBE4184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6E83-E8DF-4B7F-AF22-12A82769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A3F7772-AAD4-47A5-BADC-7E46574C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5C30390-048A-47CB-8414-85D807E7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1C8F5E4-E65F-45B2-9CC7-A4124C32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F658047-AC67-4651-BCB9-4560DEDA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FE654C8-A20E-4D9E-8054-27EDE65E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1169738-5419-4B33-BEEB-338557F8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81524B1-F85E-4E90-B7A0-83017AA8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9D3FD97-7698-4697-8A26-322D6C3D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D1271B1-C2F9-4C67-B45D-95DF176C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77B838-47AE-458F-AB63-1357AC3A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62C8-31BD-464C-B3EA-52802BCC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DB19E0A-C3C0-49B0-BCBF-8A7E073F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C59DF7-76BF-4FE4-ADB2-2DF75B90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D6991F-E4E3-46D3-A143-8491FD65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3202B8-B27E-4EF5-8B1C-A296BB6B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C9C242-7C5C-4BDC-8328-835FF092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A358B3-474F-41C6-A385-41D005C6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2D32D4-6462-46DC-AF6E-F4509232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4452A5-3A93-4F9D-AEA3-073888D1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F4AF72-15CC-4322-9EA6-18631968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5B3D2F-768D-419C-A4C1-E00CECE7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65E4F-6D8F-4DBE-AC35-A915C3ED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8ACE9F-D84B-401F-9ECE-7F9F440C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9C7CBB-74B5-4079-85BD-35B17DFB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65FBB2-248A-4CAF-90CC-6D7764F2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A8B602E-42A3-48BB-B194-2848ECA2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9D18D31-CA3A-4BA5-8DBA-6CD34FCD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4250328-87F4-4D1E-A5CF-CBFC9F1F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F01C7F4-11D4-4737-8EB6-25ABA349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D15FE3D-140A-4E39-A759-C4BB91EA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AFB30DC-4166-46D8-A90D-D20B7FD6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36DCFE7-9CC3-42FA-A3F5-B77F8C6C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A193D-3155-4BA9-82C4-7AD22408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7A51BE1-F4DB-4B3E-8AB4-BF4BBF14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2168939-D3CC-4866-8061-A47CE882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E7E54FD-2891-4831-8995-D46BA384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140CA55-BF6A-4726-B898-109ACC6D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8832226-D608-4551-A7FF-658F85CC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9DC87A-49B3-4906-81CE-F071BE8D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CF0C68-5F35-4997-822D-27F05FD6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1A3330-E126-4B19-B0E5-841AA5DE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5FE409-10F5-44C2-92D4-2D560E49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A0D190-6CAE-47D7-81A6-343B25D9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4BB42-7A5D-4D35-9342-9BA25B9B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21EB34-414C-4FDE-8DE2-1D916196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5DC3FD-F034-43A5-9B2A-C6F92490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D5DE96-4F69-4AA1-AC39-85ED5F76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1559FB-1827-4C1F-A726-0889F1A2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3DD9E7-C139-4B19-B924-309CA6D4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33DB01-EA54-4EF9-A378-6B3C9026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763862-5FCA-4C21-9FE1-1286BEB0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B9233-9676-49ED-82C5-9D941500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50BAB-9976-4B60-85A6-B7C1546C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7F4E-7078-43F3-8693-694047A8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46A80-6166-443D-8C6A-A6020B4A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24822-FB22-4037-B626-DD6A0DD7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91BAB-E019-47D2-B595-08A2F9C2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343C3-B709-4884-B694-D79833AC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BC5B3-7E1B-4B71-9E9C-207ED427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30DDF-42AB-401F-BFBB-3FFF4D90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892DE-59F4-402D-A353-85BA339E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3EBD-293B-4F72-9A15-C6BF0653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F309-E6CF-4E46-9016-87C1DD2A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9E64-C2D8-455C-97EA-CD618B06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C90B60-911F-4880-B3DD-B090DAFE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5175FB-7300-4E56-82C5-E6B4A2B2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E36FF-D5FF-4926-BC88-247E1394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CA47CB-6F9C-4BAA-95A1-CC584275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3634F-0992-4AE9-A58A-9F786F7C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A9AFEE-8049-4541-9963-246BF9C2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BD442C-E82E-405F-B4BC-1FDF23EE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BE5648-E7EA-434D-82AE-78C4E365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284E77-9B9F-45D6-A8CA-E9B134F7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F10D-88ED-4151-8B66-F2F620F6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44CBD7-CAB9-47A3-9DDD-36D092AC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D7E276-503F-4D7F-9E5C-DC4A0E93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0DAE7A-DB2B-4E34-8355-3032F5F1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DBAC22-C57F-4069-BBCA-72C88FEF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A5AACC-3194-4BC6-8635-0432B2D4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95CC46-556B-475E-A7AE-8C7AE203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977A2C-C216-4AE0-A584-F3E3E608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54B5A7-A7A9-4020-9A78-F17C6D1B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D1D7F3-74C1-4736-A118-C56AF850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B69E06-848F-4C4E-98B3-9408873F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4459-51A3-4609-82CF-2A1B966C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DC8702-AA38-40AE-9767-1764C54E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48CFA5-3081-4CCF-BEE0-624D370C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37547D-AC7F-4F37-A1B0-A897B643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90867B-4976-4B83-94FB-FB67BC84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666A61-4BD5-4384-941B-96B7A70C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DEE215-3291-4C23-BBF4-163CA7C4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51AD13-7B9D-4164-81B6-8D80F9A5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A89E37-E045-4261-BE36-2F4B7BE4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D34727-67F9-4061-A5E7-4C5B88C8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F25C68-B480-47B3-BCE6-5B569D43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D66-6418-44FC-8AEF-45458187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1DE328-22A0-47FE-8BEF-BF15386C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AC51F5-F3C1-4F72-8353-80610414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E3E69A-A378-4E19-A31A-3B961FBE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5E847E-23EE-41D2-8311-A0555B0C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C7B176-D7E1-4BA0-9DDD-A26C910B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67F5A1-9A01-403F-9594-C80AC9D1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BB4377-C34C-47A0-829B-646DB688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EDBC38-52E0-47B0-9766-29F2150A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0ABE90-1DFC-4E75-81E2-008F9DDB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F840CB-FEFB-4335-B89C-106D300A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BFC5A-AD90-4F7C-BEDD-3BA2A2480DD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66F269-634C-4E08-8D07-12DE47234A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A13850-CA66-439F-BFC6-246AC2FD5155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6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6BCFCB-3672-4965-951B-AFFB9D7361BD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F2B440-C627-41D0-A775-E86B0E5DBFF6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EE02FF-3F36-4847-B4B7-7545D6E39DB1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0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41024-B0F0-4C28-9157-27730CBA8297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1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2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0B54C-7B7B-471E-ADE0-1E6E55F3434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C28AA-FB04-425C-8482-6A95029B45C2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85E7D-EE1E-420B-A6F1-7E1AB9DA232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104B9-7B0F-4CA2-ADB9-BC5625E65E22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3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FC93F4-7056-4B38-9760-0104FB1F53E6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ftr" idx="3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660AC-9117-49B3-B692-828CEF7DE808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7856A-5475-4D62-8A5E-D57B3345A3FE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834EA-09C4-4D31-B258-F0F5270122DE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4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02E6C6-071E-4FFE-BEE9-8701BB123C09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ftr" idx="4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9E96B-2299-45DA-8F42-7BA2F4E951D2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sldNum" idx="4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8DD05-3D0F-4939-99FB-5AAC1AC37B7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ftr" idx="4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0D6898-31BF-4BCB-9086-BDD748076827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788F3F-7544-4F98-A5D6-D4F4FB10569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4A39B-10A2-4972-A98D-21963714EED3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sldNum" idx="4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D521D-3E27-409C-8F9B-9061616DAE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A61D1-2CE6-4F7C-A268-1F925855059D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A4FAC-B079-4AF2-96E4-C427B603E591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53997-9F11-44C1-A1AA-DC1B2D7D8C99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sldNum" idx="5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87355-0FCF-4274-A1B1-D6CF9E6BDF51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ftr" idx="5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5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31B86F-83C0-4D90-BACB-56F7EBFD1FF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5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5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5868A-5B68-43CD-8041-B267D5E4D5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EB434-5F32-4422-BD0D-A2FA73FDB51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ftr" idx="5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01225-068F-4282-A13A-4738835F063C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ftr" idx="5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2E5573-DB72-4A5E-B2A8-F1E37EAC667E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ftr" idx="6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FCE8C-2D9A-4FEE-B223-D871AB28E7EE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ftr" idx="6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FF44B2-AFBA-4C71-BC72-885037CBDD59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ADB1E-B14D-4FD0-A82C-C966F48639C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7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10188E-2F14-486D-843F-8EC5C7D77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A18592-7CF2-4B1F-9EFC-5E898EAB421D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349890-A3D8-4EFA-96B3-7050DA3769F5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C5086-67E6-468A-A0E8-9372088F3B02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6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FB7F6-57F7-4F76-A5B7-E4705F77F7AD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CA7CF-24D5-4757-B9C3-F3F7D8DF00C8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EF5A8F-6E20-4DF7-A73B-88448DC087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52EB3-4ABC-4A42-8E8C-BA6EAD213891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2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3DE519-4972-4FC3-A73F-32413884CD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Group 13"/>
          <p:cNvGrpSpPr/>
          <p:nvPr/>
        </p:nvGrpSpPr>
        <p:grpSpPr>
          <a:xfrm>
            <a:off x="787320" y="2804760"/>
            <a:ext cx="7543800" cy="2627640"/>
            <a:chOff x="787320" y="2804760"/>
            <a:chExt cx="7543800" cy="2627640"/>
          </a:xfrm>
        </p:grpSpPr>
        <p:sp>
          <p:nvSpPr>
            <p:cNvPr id="1180" name="TextBox 9"/>
            <p:cNvSpPr/>
            <p:nvPr/>
          </p:nvSpPr>
          <p:spPr>
            <a:xfrm>
              <a:off x="787320" y="3082680"/>
              <a:ext cx="7543800" cy="23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an Be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908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Footer Placeholder 4"/>
          <p:cNvSpPr/>
          <p:nvPr/>
        </p:nvSpPr>
        <p:spPr>
          <a:xfrm>
            <a:off x="609480" y="6248520"/>
            <a:ext cx="465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 29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Meeting Schedul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612720" y="1924200"/>
            <a:ext cx="81532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ast ROS mee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ctober 8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ext ROS meet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vember 5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cember 3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5" name="Footer Placeholder 4"/>
          <p:cNvSpPr/>
          <p:nvPr/>
        </p:nvSpPr>
        <p:spPr>
          <a:xfrm>
            <a:off x="609480" y="6248520"/>
            <a:ext cx="46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 29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Recommendation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612720" y="1817640"/>
            <a:ext cx="815328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OS leadership recommendations for approva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Chairman:  Alan Bern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Vice-Chairman: Mark Soutter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evised ROS Procedur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ROS recommended approval to relinquish control of the CIPWG, NRWG and EMSTF groups, move them from ROS to the ERCOT “Other” category and update the ROS Procedures accordingly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8" name="Footer Placeholder 2"/>
          <p:cNvSpPr/>
          <p:nvPr/>
        </p:nvSpPr>
        <p:spPr>
          <a:xfrm>
            <a:off x="609480" y="6248520"/>
            <a:ext cx="464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 29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Recommendations Continued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609120" y="1673280"/>
            <a:ext cx="815364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Provides Consistency for References to the End Date of the Generation Interconnection Proces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NPRR705 – ROS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endorsed as amended by the 7/6/15 Luminant comments and revised by RO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NOGRR145 – ROS recommended approval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RRGRR008 – ROS recommended approval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Tw Cen MT"/>
              </a:rPr>
              <a:t>PGRR045 –ROS reviewing for vote during November meeting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larifying ERCOT Actions During Energy Emergency Aler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NOGRR146 – ROS recommended approval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NPRR708 –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ROS endorsed NPRR708 via the 9/3/15 OWG comments which endorsed NPRR708 as amended by the 7/15/15 ERCOT Comments      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1" name="Footer Placeholder 2"/>
          <p:cNvSpPr/>
          <p:nvPr/>
        </p:nvSpPr>
        <p:spPr>
          <a:xfrm>
            <a:off x="609480" y="6248520"/>
            <a:ext cx="464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 29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Recommendations Continued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612720" y="1617840"/>
            <a:ext cx="815328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eactive Power Testing Requirem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NPRR713 –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ROS endorsed NPRR713 via the 10/8/15 OWG comments which endorsed NPRR713 as amended by the 9/14/15 NRG comment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OCITF Report: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ROS originally endorsed four options to provide initial direction for ERCOT and OCITF on revision request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786240" indent="-196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w Cen MT"/>
              </a:rPr>
              <a:t>Option 1: Develop process to create and maintain High Impact Outage (HIO) lis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786240" indent="-196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Option 3A:  Identify and post HIO list in new MIS repor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786240" indent="-196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Option 4A:  Protection of HIOs submitted with more than 90 days notice from all planned resource outages submitted with less notice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786240" indent="-196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w Cen MT"/>
              </a:rPr>
              <a:t>Option 5: Introduction of “rescheduled” outage type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After further discussion at ROS, the endorsement changed to just provide initial direction on Option 1 and 5.  The others will be further discussed in future OCITF meeting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4" name="Footer Placeholder 2"/>
          <p:cNvSpPr/>
          <p:nvPr/>
        </p:nvSpPr>
        <p:spPr>
          <a:xfrm>
            <a:off x="609480" y="6524640"/>
            <a:ext cx="4840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 29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Bern, Alan</cp:lastModifiedBy>
  <cp:lastPrinted>2013-01-30T23:16:36Z</cp:lastPrinted>
  <dcterms:modified xsi:type="dcterms:W3CDTF">2015-10-27T20:25:45Z</dcterms:modified>
  <cp:revision>849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