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  <p:sldId id="258" r:id="rId32"/>
    <p:sldId id="259" r:id="rId33"/>
    <p:sldId id="260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dt" idx="6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 type="ftr" idx="6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 type="sldNum" idx="6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561A93-846B-4894-9784-B1B9F7575D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763096-D93B-40DD-90DA-4EBA9D3719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8E1E-EECE-426D-AF7D-6C5D49A0C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A349-0345-45FE-BE08-9BD73F0D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0BCA5A-E5E2-43F4-8BE5-A47617D5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81708A-275B-4F30-B45A-E653142E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07E790-6958-453F-901C-FAB40182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A42716-8EAB-45FA-AB3E-A282B90E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2DCF27-755A-4E32-B0FE-E892CFA2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0D2114-ECAB-4FAD-843C-F95B0BBD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6456E9-6BFB-444A-B31C-C31C890E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29B16E-ADAD-40D8-8749-91C65AC16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E4F1BA-4DEB-41B0-A4F2-362522EE6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0270AB-FB07-4DF3-BD13-9B92B1048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5455-74F4-4F2B-B2B1-C2866CEA0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4A3A95-C6D6-4B16-99EC-3480AE02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01F276-4DBF-4FBE-93F1-4E8F061C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7453E6-484D-4496-B16B-A506E228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BEFB7D-2A26-47DD-9F3A-20A011BC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0104E0-4D76-4205-8A1F-FD77C725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7CB6DF-BE63-4A17-9EE5-446F165B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3F75A3-0D97-4635-9459-78F048F7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104EF6-6B5B-4561-B013-96AE97DD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D6C832-3928-436F-9660-F7EAB3F3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270354-C229-48AE-9542-875000470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87E5-F51C-442A-B504-C12B04161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5A7BFC-5B0B-4BC8-B82B-1D8D7413F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3859D2-B63E-4761-A43E-C88FF93CE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2A13FD-331C-4E86-9609-15EFAF57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6C6FCB-FD9A-4892-A5AB-6179E0D8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D387A4-1083-42BD-BA14-9220C463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57D82F-C848-436D-904D-F7C2C0E6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4EE13D-5454-48BB-8248-84707BD2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CC9B50-5A55-4C90-9435-05CD715B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BFC900-E262-4746-A751-8E96551F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1B7CCE-7F44-4D71-A062-FD7F13E8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D326A-D5C2-400F-88C1-3CF34068E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B0FECE-CF94-4991-A232-4BD46D72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443553-A40A-498D-8865-5AA7957F9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80D24D-161B-4347-A2D8-6294C7568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CB9FFB2-70D4-450F-9985-C7BD1A910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D515804-62F3-42B8-994D-AFF3B1D4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6ECC2B-066E-464A-9424-208E7673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E7E4C8C-4E31-48E1-A1E1-01DA3E4C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BE66A1E-E7E9-4DDC-B532-78F5B742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62F4F2A-1ABB-401B-9F7E-B8FBB25A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1B1FE58-6EB3-4C49-9B37-1BFB3EEA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E270-3968-4667-955D-1A96B490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CAD1B13-E5BE-4F94-B174-B96D0178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49FB5A7-CCAD-4336-B1CD-F40AD97A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DE4000C-0475-4462-9EB0-EECA45E7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EC9C69F-56BB-4EF8-A428-6C1E2B158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653979F-8333-4451-8A5F-C51C2FEB4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AAC6-E55E-48F3-8792-605CE6AF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EFBA6-C98B-4886-9044-5BD88F6D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223D-E6CD-4D0D-A67E-4FBD3CE3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C54A-D252-4C4E-BC94-1A9580BC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D269-E9FB-4501-8C81-6734823B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FF0BF4-0EEC-4224-80FA-E3DE0C640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E07EB0-981E-404E-BD64-F91C72CB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0E5975-0470-40A9-9FB7-0D17D514A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788CFA-0DF5-4B73-BE20-60993374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71AB55-8637-494D-838E-AC43B6E5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6642DE-25C5-4A7F-8D3D-02D95EE8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813290-435C-4617-B69F-7FD6E8A6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8318-3BC6-428A-8F92-28B6DA42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B256D-7CFC-49D9-AA1A-E23BF214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6FB14D-8C0C-477E-B5D5-788CD8D2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97464D-5DCC-4FB0-BB66-3640C380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DBAA5E-F293-4EE1-BD41-F9D1ADEC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978429-25A5-4E95-BB3B-166FB7286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532D88-1C04-4035-BA43-0C3BC3234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65BEC61-5E01-4B65-B090-04E3413E5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6287BF4-32D3-426E-9B58-C588446A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C22A649-977D-4EC4-B502-21131B54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1814F93-08F7-4F19-B20F-920F2AD5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C233825-2C64-4BFA-A838-28D4B3CE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C968-81B0-467A-A71A-B114C7FE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6121149-7C95-4045-9DD8-2ADA04C5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AE07F65-F8AB-4ACF-A82C-427B60B5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A32E6B2-388D-4713-BCF7-2C1997AE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0AC9F5C-21EC-4A27-8D10-70BB7459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AE1CE79-391A-4137-9D08-300F8BE4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0C3EEAA-3990-4524-9C7E-F81BC1E5F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122337B-FBDB-4460-9A88-5CA6F1860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2E828EF-CA48-49B8-BB6F-23412F5AF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C5160D8-2A83-4F61-AF5D-EE045D31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6F572CC-93EA-429B-866C-40299463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A6772-9112-4590-9776-1ADCA283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79EE456-10D3-413A-A90F-7C686792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B1C240E-F796-4172-AE21-18F67E98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D049CEE-D15D-46DF-AF7F-AB9B30C0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B1A32BD-29BB-4580-8CB0-35C0EEF4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1F5FE9C-876F-461F-9FB7-54AAB52A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37EBA1C-FBE2-4922-AEDA-D7F6A1FD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F8EE734-6C36-4D94-90B1-DA5F1688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99A4E30-FBF8-4251-948D-6CEE79CC3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C24CD58-0B79-4E04-9B66-64F96D7B5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88D7437-0999-4E1A-95E7-70C051A6C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98D2E-942F-4249-9768-6078E5080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3A0C01D-78B8-4F60-A55C-E8735845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738CC0E-12EA-4580-A862-6EBED48B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6992375-A3D4-4FF4-8D56-11479DF0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6C5CBB5-9F6F-4D67-BC22-4998F1C1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8AF405C-774E-43EA-98E7-D96F3906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74F6338-C55B-41B1-B446-590FA56E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B83000C-CD14-4EBA-B573-5E0A5605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6163176-DDF9-4E10-8C9F-83BC32EF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9234F94-01BF-46E0-9269-570FC330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42DB3CD-2C41-4EC1-BD6D-03E7CD80C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F82CD-E9CC-42B9-8108-A77470AC6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4BFA543-3A66-4450-ACCC-8FEED244A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3D6154-B11D-4168-9ADA-978033FC2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99FD5F-47EC-413A-9DDB-AA081EF8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CF1AB1-B7D6-441A-8330-97CDE465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E93CD2-5FC1-4622-ACA9-9454499E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E2F030-054C-48B3-9E92-F6BCC30C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832E43-93E2-44F9-84D3-66962ECB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307188-15AF-4133-B9AD-55FC08F4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4A78FD-52AD-4782-92C7-ED930BA7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F62E41-460F-4E26-B081-A8A979D8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D4782-E824-44C8-A39E-D5901464C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E4D684-FB82-49FC-9C3D-769B1408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C558C3-C4FE-4D69-9FBE-B95A853E8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E2F22C-80BD-4069-902D-15702A95C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DB7F053-176D-44A0-B845-DD3C3ED9D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6A35338-5C64-4B4F-B2BA-0F8C174F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E56D715-A181-4764-836B-D72360C5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9DE63E0-1514-4646-A091-0AA9648F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7B7DBA9-E1FC-4F97-A9DB-8FB0511F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98A703C-171E-4844-B46A-B61F8AA0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C303BE1-CDE2-41E3-861B-A75D4AF5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E9FBA-93FF-44F1-ADF7-3C83ADB1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24BD0D2-4559-4E53-A4CE-4C3A4A6C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9AA554A-CCAA-4F42-952B-B6CCA619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BB25C96-9B81-483D-94A3-56304A26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026BABA-6E57-4664-B622-78252BD39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6F4BD66-2869-4E47-B087-ACAE9EA0A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BF8240-3CA1-4908-93D5-F68C33EF9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0B1D43-C102-4F31-90D0-E8890FB8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013E73-FFAD-4BDD-BA59-F716DEFD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680DB8-DE11-4428-A0F6-F381257F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78C308-7E3B-47B8-A5A6-37F14FF9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64F94-5FC0-4FB3-88C1-36CB0D26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7F4CB9-49EF-4799-98FA-D2234D8D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055275-B27B-4126-8D2A-833FC7F1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3061DA-8140-46EB-BF79-6E391E26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CB098F-7D88-4752-B9CE-36C4102E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326E1F-CF88-46C6-8574-9FF30619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D1EC7E-D160-4A64-8357-5961F7324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A77337-95AA-404E-9901-3409066FA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B9E54-12A1-432A-92D9-EFA786B3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1A59A-2034-4098-A9FC-7E09E588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6415-B465-46BF-9EDD-DEFFF7A12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25777-705B-4C76-AFAE-FB46CF39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ABF1B-8E5A-416C-8B50-C7DE010F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EB425-6D2F-4FCA-AC74-E9150925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3FE79-DAA4-454A-A134-A15CE106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B71CC-1891-4154-BD0A-12A31F78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92153-2243-4269-826E-DD85EF9B2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077FB-ACED-4894-AC92-E09EE7A5B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CBBE-F343-4D2C-8FBB-24CB24B1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28FB-CC01-4943-9D6A-F69C70AB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8DC1-9464-49C3-AE8E-6AE70028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F4B358-0A66-423B-A5CB-7B02858C8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84BC97-15F8-4EB2-B428-4B861F20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E57F4D-99B3-437A-9534-997BFB79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19A3BA-BD1B-4177-9878-FA00850F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7166BC-F607-42AC-9B53-6951E1E0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7ED181-9308-41EC-81E6-EF6E8DDD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A64A23-0AEB-4D68-8B52-A503EBF6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7AF3D7-B9FA-4BBD-8390-DA26DA2D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07A71C-A072-4168-8212-48F07CDD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4FBC-31EA-4975-9B80-E6618982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9CC0B4-2F5D-4701-AEE5-EFE8E5DF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AD36F1-CBFE-44BF-8493-EC16461B7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32F4B4-6BAA-4A2B-885E-973AB5364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DB84D7-12A9-4FD2-9A7E-6275DD9C9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5360D0-4BB8-4969-A400-3D5DED05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661742-158B-4321-BCE1-94A21A9F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8010BB-7561-42F3-84CD-754BAEC0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1EF494-BAAE-4E72-92AB-E0BAEE69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8EA2A6-6F38-4066-8ED4-6170B892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1574C5-78D6-4346-A16A-1D97605F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06FA-81EB-4951-8D61-1E684720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54F47B-6F20-495A-AD8A-C4522E09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8B7A09-7837-48D7-9BEE-FECF184E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80394F-9190-4CCE-8D6B-81F8DE4D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485776-E8CA-4B98-8EA3-3CDDD44D5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DA3A2E-E133-4659-8E07-AE12D2D36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6A09E7-3E2E-4716-804A-E95896F0D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15C48D4-D9EE-4DB0-9610-3268831E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E6204F-2191-4FDF-A3A8-1ED8E7D7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388D5F-5A75-4898-BFD8-C10846D4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4939E3-5BA5-498F-B93D-4B71D5EE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FAAE-7C7B-43BD-A567-F3526513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8B4034-14F8-485A-8D42-A0A2A889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425357-C6F6-4BB0-9A98-A8A6ECFF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2066CA-4329-4199-8355-B5E41BC5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AE787A-2B4C-4825-91A0-BBCBD98D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4B883A-99D4-4D7B-9D21-A32F8345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32AD06-1438-4DCF-98FA-C8EE1701F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078FFF-B0C4-4776-BE68-FDAFEAA5C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6901EE-01FA-4D29-B8D1-0BAE37FE3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DB4320-C4CE-413E-BA4F-F54A67F9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338830-2FA2-45E5-B065-C8FFC717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399E63-CC58-43BD-A557-E3982202CF1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EC1C7F-2AB7-4417-9C0E-87A9D43FC1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82ACEE-B83B-4979-B393-8D8890821532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26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939908-BD53-483B-9F4A-43B831ED9860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7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35516D-B059-425F-AB93-0523CDB5F0F2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28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91E55E-5504-4157-BF2A-C5477A6A9BAF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ftr" idx="29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0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A98921-DA5C-46F1-AA1D-DD86B33070AD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1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2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964720-80B9-4B17-BEF6-18518E306ED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1ED27C-5EE7-4018-8826-63A2AB613AB0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ftr" idx="33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5ADAF0-6D8B-4444-9E9B-D193338D14FB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ftr" idx="3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84607E-117C-4058-8B05-15AFB4B34D9A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ftr" idx="35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B24DD3-1CB3-4674-8358-560358D3BA8A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ftr" idx="36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37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147F9E-DCE5-46F7-91C1-2754AF014021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38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39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E86459-75BD-435B-A36A-CCDD611E6352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4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5FADDC-DAF3-424D-B39E-8E5E9CE77DC8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sldNum" idx="4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C4D341-5D3D-4331-A8F1-81BA9E772543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ftr" idx="4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02C3B7-3793-415C-8F88-D0D8BC25DD5B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sldNum" idx="4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71827F-FE5E-456A-80CF-B099B83ACE2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ftr" idx="4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9B32E5-0C07-46C3-B8E2-94ECC5CD58B9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C8E06F-ACD3-4ED4-9A42-A273815A237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dt" idx="4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9DBDA2-0863-4525-9044-0627FAF667F7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sldNum" idx="4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A3D2C2-7361-471A-AD64-009F561C762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 type="ftr" idx="4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4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6AAEA1-50B2-4BC3-A6D9-4538656BFE83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5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51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0BB7E7-AF40-4C92-9BB5-DADF413A8BA1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52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FA7459-F349-43F6-BDDF-64392D372232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sldNum" idx="53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DA872D-88E2-4153-8876-CF064A9AE974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ftr" idx="54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dt" idx="55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6F7C5D-5A3C-4789-B595-6D3441104A85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ftr" idx="56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 type="sldNum" idx="57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A3DDA3-67E8-4130-A3A7-CE770F441CF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05BAFC-79E8-4FBA-9811-8530BF83E31E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 type="ftr" idx="5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0F5690-5BF2-4952-A01C-3F3AEED7F31E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ftr" idx="5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F88D90-50D6-4FA6-9989-34A8F9EABB78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 type="ftr" idx="6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43FC02-05A4-4B73-B229-97F05BE22269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 type="ftr" idx="6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297939-C88F-415D-96A2-2C3FEFAE3B64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551A51-2ED6-42D3-8C1B-A22998BCAB2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1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ftr" idx="1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1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170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B7DE11-5C29-44D5-951B-44A4F70D9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ftr" idx="1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2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31783F-0FFD-4097-A10E-E7BA0B723A23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3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4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EE9BBB-D669-4EBC-BB82-658842F0D7CB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CED445-6355-4C88-A260-1F45687C7F39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6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9003FA-C784-4179-A12F-4584FFA54CB7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7908FC-33C8-4287-8CE0-75EA2F7C320B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sldNum" idx="1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87D2A5-A38A-4AB8-8662-D99B8A843F7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498DD1-67D7-4287-829A-0649C5B73437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22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AF2910-CB1D-43A6-A01D-8F5A08BB81B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9" name="Group 13"/>
          <p:cNvGrpSpPr/>
          <p:nvPr/>
        </p:nvGrpSpPr>
        <p:grpSpPr>
          <a:xfrm>
            <a:off x="787320" y="2804760"/>
            <a:ext cx="7543800" cy="2627640"/>
            <a:chOff x="787320" y="2804760"/>
            <a:chExt cx="7543800" cy="2627640"/>
          </a:xfrm>
        </p:grpSpPr>
        <p:sp>
          <p:nvSpPr>
            <p:cNvPr id="1180" name="TextBox 9"/>
            <p:cNvSpPr/>
            <p:nvPr/>
          </p:nvSpPr>
          <p:spPr>
            <a:xfrm>
              <a:off x="787320" y="3082680"/>
              <a:ext cx="7543800" cy="23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OS Repor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lan Ber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hnical Advisory Committee (TAC) Mee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RCOT Publ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1908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2" name="Footer Placeholder 4"/>
          <p:cNvSpPr/>
          <p:nvPr/>
        </p:nvSpPr>
        <p:spPr>
          <a:xfrm>
            <a:off x="609480" y="6248520"/>
            <a:ext cx="465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t 29, 2015 TAC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ROS Meeting Schedule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612720" y="1924200"/>
            <a:ext cx="815328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Last ROS meet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October 8, 2015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Next ROS meeting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November 5, 2015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December 3, 2015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5" name="Footer Placeholder 4"/>
          <p:cNvSpPr/>
          <p:nvPr/>
        </p:nvSpPr>
        <p:spPr>
          <a:xfrm>
            <a:off x="609480" y="6248520"/>
            <a:ext cx="46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t 29, 2015 TAC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ROS Recommendation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612720" y="1817640"/>
            <a:ext cx="815328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ROS leadership recommendations for approva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w Cen MT"/>
              </a:rPr>
              <a:t>Chairman:  Alan Bern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w Cen MT"/>
              </a:rPr>
              <a:t>Vice-Chairman: Mark Soutter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Revised ROS Procedur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w Cen MT"/>
              </a:rPr>
              <a:t>ROS recommended approval to relinquish control of the CIPWG, NRWG and EMSTF groups, move them from ROS to the ERCOT “Other” category and update the ROS Procedures accordingly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8" name="Footer Placeholder 2"/>
          <p:cNvSpPr/>
          <p:nvPr/>
        </p:nvSpPr>
        <p:spPr>
          <a:xfrm>
            <a:off x="609480" y="6248520"/>
            <a:ext cx="4645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t 29, 2015 TAC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ROS Recommendations Continued 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609120" y="1673280"/>
            <a:ext cx="815364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Provides Consistency for References to the End Date of the Generation Interconnection Proces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w Cen MT"/>
              </a:rPr>
              <a:t>NPRR705 – ROS 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endorsed as amended by the 7/6/15 Luminant comments and revised by RO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w Cen MT"/>
              </a:rPr>
              <a:t>NOGRR145 – ROS recommended approval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w Cen MT"/>
              </a:rPr>
              <a:t>RRGRR008 – ROS recommended approval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Tw Cen MT"/>
              </a:rPr>
              <a:t>PGRR045 –ROS reviewing for vote during November meeting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Clarifying ERCOT Actions During Energy Emergency Alert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w Cen MT"/>
              </a:rPr>
              <a:t>NOGRR146 – ROS recommended approval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w Cen MT"/>
              </a:rPr>
              <a:t>NPRR708 – 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ROS endorsed NPRR708 via the 9/3/15 OWG comments which endorsed NPRR708 as amended by the 7/15/15 ERCOT Comments      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1" name="Footer Placeholder 2"/>
          <p:cNvSpPr/>
          <p:nvPr/>
        </p:nvSpPr>
        <p:spPr>
          <a:xfrm>
            <a:off x="609480" y="6248520"/>
            <a:ext cx="4645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t 29, 2015 TAC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ROS Recommendations Continued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612720" y="1617840"/>
            <a:ext cx="815328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Reactive Power Testing Requirement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50080" indent="-23436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w Cen MT"/>
              </a:rPr>
              <a:t>NPRR713 – 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ROS endorsed NPRR713 via the 10/8/15 OWG comments which endorsed NPRR713 as amended by the 9/14/15 NRG comments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OCITF Report: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50080" indent="-23436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w Cen MT"/>
              </a:rPr>
              <a:t>ROS originally endorsed four options to provide initial direction for ERCOT and OCITF on revision requests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2" marL="786240" indent="-1965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w Cen MT"/>
              </a:rPr>
              <a:t>Option 1: Develop process to create and maintain High Impact Outage (HIO) list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786240" indent="-1965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Option 3A:  Identify and post HIO list in new MIS report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786240" indent="-1965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Option 4A:  Protection of HIOs submitted with more than 90 days notice from all planned resource outages submitted with less notice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786240" indent="-1965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w Cen MT"/>
              </a:rPr>
              <a:t>Option 5: Introduction of “rescheduled” outage type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1" marL="550080" indent="-234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After further discussion at ROS, the endorsement changed to just provide initial direction on Option 1 and 5.  The others will be further discussed in future OCITF meetings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4" name="Footer Placeholder 2"/>
          <p:cNvSpPr/>
          <p:nvPr/>
        </p:nvSpPr>
        <p:spPr>
          <a:xfrm>
            <a:off x="609480" y="6524640"/>
            <a:ext cx="48405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t 29, 2015 TAC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Bern, Alan</cp:lastModifiedBy>
  <cp:lastPrinted>2013-01-30T23:16:36Z</cp:lastPrinted>
  <dcterms:modified xsi:type="dcterms:W3CDTF">2015-10-27T20:25:45Z</dcterms:modified>
  <cp:revision>849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4C4FFC4A894504CB30DBFB7150C9A36</vt:lpwstr>
  </property>
  <property fmtid="{D5CDD505-2E9C-101B-9397-08002B2CF9AE}" pid="3" name="Information Classification">
    <vt:lpwstr/>
  </property>
  <property fmtid="{D5CDD505-2E9C-101B-9397-08002B2CF9AE}" pid="4" name="Vault">
    <vt:lpwstr>0</vt:lpwstr>
  </property>
</Properties>
</file>