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AE76-44F0-4BF5-83D7-B906FF7C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FFBD-0030-4C54-9139-CAD40F39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FC7D-A099-4206-99BE-ACA744BF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7772-F76F-477B-89D2-E292013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C090-70D4-4E66-AAA0-CC13B32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2A5C-8A90-492C-9B11-39F4AC9A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32E7-35AE-4771-ADB0-2900199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3703-7043-44AD-B9C5-451BA7D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DC7F-323C-495B-8944-5E0AA9D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A3F4-68DB-4E1E-A493-D6C693A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7671-3FD5-47F2-8B70-2A63388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DE43-7630-4FE3-8E83-9AB8594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2F56-75FB-485A-872E-FC139CB7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EC9-4BD4-4D2E-9BC7-E71644C06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9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outter, Invenergy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25360" y="1522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ROS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10-22T19:12:10Z</dcterms:modified>
  <cp:revision>77</cp:revision>
  <dc:subject/>
  <dc:title>Instructions</dc:title>
</cp:coreProperties>
</file>