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7BCB-6BC2-447C-B829-5567A85B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AB62-A517-4082-9460-30A0761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27E-2679-4A44-9B77-B4BEB021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D20C-1A91-4998-A1E4-EC2F3062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EBDC-96D5-489D-94DE-87054D9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91FE-0671-426C-AF20-464D46A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00A8-FC9D-46FE-BFA3-0582FFE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8C36-CA15-4F54-852D-48FBF6B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BE9A-8626-4B32-B1CE-C19909A8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27FD-4A88-405E-B034-2EF9CA7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4D7D-3D6E-42C2-8FC4-2700FB2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DB13-9AF4-4A8B-9D69-75D5BEC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8A2-782D-49D5-8CD1-F0E014CF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765-E23F-4370-B696-8F746ABB5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9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Bern, Oncor Electric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Soutter, Invenergy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25360" y="1522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ROS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10-22T19:12:10Z</dcterms:modified>
  <cp:revision>77</cp:revision>
  <dc:subject/>
  <dc:title>Instructions</dc:title>
</cp:coreProperties>
</file>