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73152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ED69-B664-4A60-86D8-0871FCA8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7B6F-3032-4501-9A9A-4A402BD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BF4A-9B36-49D6-A2BA-66F4FC85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37FB-86EF-476A-9363-8FAAB50A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317D1-C8AF-4BA6-A5C5-8921B87E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09BAE-3DF9-453A-B482-B6C09E0E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5F0345-203D-43D1-AE16-BB9AD03F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647FB-1240-4369-83C8-80BC4CE3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98F4F-7FD2-4416-894A-8C8F1365E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07792-24B7-45CD-B346-31F9F2BB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80C1A-38F6-4C30-A462-EFB338CE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F8C51-0A5C-4BFF-886E-535C598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3DCB0-26F7-4BAD-B4AE-1A5B6FA6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6CA28-F617-4A1C-9A51-489F76A2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3725D-BE9E-4804-9F1F-1276458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45724-FCDB-4612-9A51-6472F5FD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64CB54-3DF3-4293-963F-2945EA89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A9E9E-1250-49A7-AA53-D5A68A12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D0D05B-42D0-449B-B499-EFFA020A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12A00-3AB6-4BB6-B157-65FACD34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15D42-6F09-4B48-BCE7-C963E66A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8B7E4-7C28-4D74-B9CE-FB4F4157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0C65D-1A85-4890-A4AB-D51D0952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870087-6259-4895-BC08-EA80D6C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5AF6BD-DD27-45F5-97DF-B4B8EAB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312818-D409-42DC-9CE6-03334369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267178-E962-464E-88CA-51125C43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F5610-5D19-4E15-BF0D-DBFFC7C6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9E723C-697B-40D4-B666-EB5FA7AC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69135-F5E4-474D-8911-201C3D55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8D71FD-2987-4A11-BE44-530CF940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36AE-D410-4444-A09F-5BB4DAFD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E2BD-C87F-4390-8FD5-1EB737FA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568C-185E-4EBC-A772-00E85C2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4CDCD-38CF-4794-A9C9-C392529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F0E4-81F0-4F16-BA0E-D8E8823D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58FF-38F2-400E-8CB1-2B47F48F0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F38-2956-47DD-B3FF-49E8DBCA8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2A16-6777-4847-9671-2448092903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6B78-72B9-4DE1-9885-5FF0DC91A8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DC09-C751-46FB-BDB4-F0C7A00B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ptember 24, 2015</a:t>
            </a:r>
            <a:br>
              <a:rPr sz="2800"/>
            </a:br>
            <a:r>
              <a:rPr b="0" lang="en-US" sz="4400" spc="-1" strike="noStrike">
                <a:solidFill>
                  <a:srgbClr val="c00000"/>
                </a:solidFill>
                <a:latin typeface="Arial Black"/>
              </a:rPr>
              <a:t>TAC Meet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Update to CO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ctober 14,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977D-072D-4F63-B249-28969676DE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21896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66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Ancillary Service Insufficiency Actions, Effective Date: Upon system implementation of NPRR689, Settlement of Ancillary Service Assignment in Real-Time Operation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689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Settlement of Ancillary Service Assignment in Real-Time Operations, Effective Date: Upon system implementation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1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Real-Time Make-Whole Payment for Exceptional Fuel Cost, Effective Date: November 1, 2015 (Manual implementation), Priority 2015, Rank 1370 (Partial automation)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1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larification of ERCOT-Polled Settlement (EPS) Metering Exception for Emergency Response Service (ERS) Generation, Effective Date: November 1, 2015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18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orrect Requirement for Posting Adjusted Metered Load (AML) Data, Effective Date: Upon System Implementation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2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Removal of Language Related to NPRR455, Congestion Revenue Rights (CRR) Shift Factors Report, Effective Date: November 1, 2015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S Report Cont.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6CA5-6546-4C03-BA85-F2D1492C5F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2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Removal of Language Related to NPRR181, Fuel Index Price (FIP) Definition, Effective Date: November 1,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2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Removal of grey-boxes from NPRR256, Add Non-Compliance Language to QSE Performance Standards, Effective Date: November 1, 2015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24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Removal of Language Related to NPRR493, Half-Hour Reliability Unit Commitment (RUC) Clawback, Effective Date: November 1, 2015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19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Clarification of Resource Definitions and Resource Registration of Self-Serve Generators for Reliability Purpos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Withdraw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PRR707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Provision of Transmission System Voltage Telemetry to QSEs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Withdraw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PGRR05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Extend Load Profile Model Calendar Inputs to 2030, Effective Date: To be determined 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mains tabled at T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45A4-064A-46AB-958A-E8CD02D33E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0880" y="1294920"/>
            <a:ext cx="8382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er-Frequency Load Shedding (UFLS)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COT staff conducted their annual survey to ensure the required automatic UFLS circuits were configured to provide load relief during an ev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articipants met the 25% minimum frequency response requirement total and had the proper load in the following Block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1 response at 59.3 HZ, 5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2 response at 58.9 HZ,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ck 3 response at 58.5 HZ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OPS Report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A927-6202-4BB1-9E16-91D328A0DC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0880" y="1294920"/>
            <a:ext cx="83822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PGRR056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Initial Profile Assignment for Temporary Services, Effective Date: October 1, 2015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PMGRR03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Commercial Operations Market Guide Clean-up of Old Invoices, Effective Date: October 1, 2015 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ERCOT Reports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5193-5ACA-4D2A-BB1C-E0DD488B1F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cillary Services Redesign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od feedback received at the FAS/SIRS meeting held on September 2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attle CBA Report will be posted by the end of October; Brattle presentation scheduled for November 9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NPRR667 comments are expected to be posted in time for comments during October and Nov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EPSC Live Oak Regional Planning Group Project </a:t>
            </a:r>
            <a:r>
              <a:rPr b="1" lang="en-US" sz="2800" spc="-1" strike="noStrike">
                <a:solidFill>
                  <a:srgbClr val="ff3300"/>
                </a:solidFill>
                <a:latin typeface="Calibri"/>
              </a:rPr>
              <a:t>Endor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staff will seek Board endorsement in October of Option 4.  The estimated project cost is $74.5 mill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Other TAC Business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49D0-9C75-466C-8E6E-53170E78B4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0880" y="1219320"/>
            <a:ext cx="8382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AC Send-off for Brad J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ad Jones to become the new CEO of the New York I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Vice-President of Commercial Operations – Kenan Ögel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COT Vice-President of Grid Operations – Woody Ricker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ng Chief Operating Officer – Jayant Tam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xt TAC Meeting – October 29,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Michelle Trenary</cp:lastModifiedBy>
  <cp:lastPrinted>2014-12-29T17:14:54Z</cp:lastPrinted>
  <dcterms:modified xsi:type="dcterms:W3CDTF">2015-10-05T15:16:13Z</dcterms:modified>
  <cp:revision>899</cp:revision>
  <dc:subject/>
  <dc:title>Instructions</dc:title>
</cp:coreProperties>
</file>