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2E16-DFCF-4C85-8510-691DCCFFC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CD18-9B34-4C40-B772-39CBC9037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07A9-A8CE-455F-A1A9-59CAB5DE8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FB8A-63F4-4713-868E-C8268822F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7345-4F46-45DC-B5A4-DEE175824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1069B-042A-417B-BF3A-85644DA95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A3ECA-7220-4435-96FE-F7C8FA916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81F1D-8BEF-41EF-9F08-436BB4806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DB315-E356-440C-A026-6343D58B7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C37F7-27F5-4664-828C-289AED2D5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932EB-BF86-4848-9C9C-491782942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9596C-6D61-44B0-AF1F-D8AF902A9C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BE7291-4AD3-46BA-A151-D95D6F9A2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A709F-6DEB-487B-A663-CDEEFE19F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0A02A-50E1-47EB-92B6-3968D937D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D5EEA-A65F-4425-B796-409CD8347F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F7AFF2-F0BC-41D7-92B7-6C51B677B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F8676-5350-4C67-AECB-D5216412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92E44-C752-4BA7-A5E4-181B15E72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80CF0-7B1A-4704-8BC3-8BB1BDCFA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A8E80-67D6-4C98-A2D8-2EB159DB9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917BF6-A5B2-421B-BA0E-8D8D7E882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FE4BB-11AF-40A5-A807-0788650CB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D3DE8C-0C21-4060-9C91-DA87CCD0AE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155A8F-DAD9-4CD3-BDF6-917636BEFC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3C7C0E-B0FD-4DB0-B242-E937B73A6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0B24D6-7887-43D1-9364-A4CDAAF29E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628189-3DFB-4690-BE84-826AB6916F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03A68-F24B-4131-A968-D30B1DEF0C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66C69-EC13-4368-908B-3DDF4012A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9A8AE-9902-49E5-ACF4-A50351E74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D703E-9147-4E38-A6A7-3D9A05D093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FA39D-0919-425D-BE40-434008F96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288B6-9E51-4CCE-8708-52F87A1BD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B0B0EC-E187-49C6-8CC4-632E3E88CA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EFACD5-ED69-42EC-B057-CC2BB67B8C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DA1563-FC67-4B93-A182-F75F9D5B26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8D2AE-99C9-4240-8514-333AC984E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FB33C7-96EF-46BA-A165-74C85DC5B5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A67F00-4E62-4CEF-A45A-43F2432A23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4015-696D-48A8-827D-D42AD5623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823DC4-0DB7-4232-8B17-8BAE99F283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DB8F4-8B24-434D-820F-E821E55484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E6D199-93F3-472F-9C7F-6B15E9B2A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605007-E40C-4527-B2DB-D87FF8E01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51EBB-6960-410C-9581-9C36FA65AA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144EB1-7ACB-47B8-85BC-364CE2E4AD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358B3A-8E9E-4709-B0F3-2439392C39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83D6E6-D833-45B0-9A82-C950DDC1D8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305043-D1BE-4B07-8794-C122F2F7D4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1CCA0F-763B-417F-9256-D7FFBF1FF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2EB1D-1F45-456B-B4DB-5D182E1FB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1F2FA-BBF4-45E1-BCFA-560CCBA8C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D5D13A-D542-4D5D-A63B-354135C238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649E09-A236-4EDA-A06B-64F62158D3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30D678-F979-4C2A-8540-4A423F17F1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366CB-A39B-48E9-AFF7-5BD425D47A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81B7DA-C70E-4C91-8CEF-BDF05640D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4E40D-49F3-4DF8-8DE2-9B03F34CD8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2DD88F-EBF6-4A42-836D-37152C18CB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73A572-75E2-461D-9ABA-0F21EB804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090512-E2E6-4AC6-A840-3E9E9A3F50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6E322-BD93-46B8-93BA-0DF1821C5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4816A1-8996-43A5-A4F4-BCC00C5A2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240D41-49E1-49DD-8E5D-EEA0DF8024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99F36-4BF2-46A7-8DA4-C749FE365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2A1621-DD47-414B-9EED-D0D9E11926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D68B0E-4321-475E-9C0D-82D8FD2B4A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78EC99-896F-4A3B-B1C8-78CE26D5B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26FE27-7792-4319-9557-BC6BEFD1C5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417F09-C9E7-44C7-AE47-20DC5AF94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0E68F-7287-4EEB-80C2-750688C90C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B59E66-E817-487D-AA2C-225E238D2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FA3C-5B14-4B57-850D-689A69C1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461495-C537-4254-9A0B-258135BBE8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1E45EF-8575-4E28-912A-C1F746E2CA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6BEFA5-52F7-408B-AD2B-082161FB38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E16AC0-BFDF-40BE-93EC-44202FBEC4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75002-655F-4DB6-923C-87CD76EBA6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39137-E77F-4091-8E4C-2D7B6AB91E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E5F8C1-4EE1-45A5-A4E5-FCAFEBEE42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8CBB0-0FDF-4D79-8AFE-9626B2C3D1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FD106B-5C15-43BD-B423-A449FDB293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88514-0D43-40ED-BB47-7302C9A9F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49E65-7646-4A1E-A025-266F4EE8A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53150-CCAA-4270-9313-C16C1D29A3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2ECA6-7F7E-4F8C-BE0E-435C687F98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926B05-1DA1-4837-999A-FBD92F80B2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8B09D1-2788-4889-B23D-E65B960012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7BD799-9BDC-417F-9B64-C9899CA070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D447A-9176-4940-AE8C-8405F0A6D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A5B7-1D1B-40AF-BA9A-4EADDB49BAF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342D6-68B5-42A8-90FA-676D0F742F5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736C0-8C7E-46AD-AA80-E9B0E174628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E1A5-0332-43C7-88E2-956EB129355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87A41-5A24-4945-B91D-71709BC3D6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3B45-A645-48DF-8BF4-8FAA8CE9BE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F594-7247-4B70-AE1F-AE04E3D827D6}"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ercottraining.com/" TargetMode="External"/><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rcot.com/services/trainin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ercot.com/content/wcm/key_documents_lists/54223/11.__RMS_2Q_2015_PM_Comparison.pptx" TargetMode="External"/><Relationship Id="rId2" Type="http://schemas.openxmlformats.org/officeDocument/2006/relationships/hyperlink" Target="http://www.ercot.com/content/wcm/key_documents_lists/54223/11.__RMS_2Q_2015_PM_Comparison.pptx"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ercot.com/content/wcm/key_documents_lists/54223/11.__RMS_PriceResponsiveLoadERCOT_100615.pptx" TargetMode="External"/><Relationship Id="rId2" Type="http://schemas.openxmlformats.org/officeDocument/2006/relationships/hyperlink" Target="http://ercot.com/content/wcm/key_documents_lists/54223/11.__AMS_Metered_Registered_Generator_ver2.ppt"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rcot.com/content/wcm/key_documents_lists/54223/10.__Proposed_2016_Test_Flights.doc" TargetMode="External"/><Relationship Id="rId2" Type="http://schemas.openxmlformats.org/officeDocument/2006/relationships/hyperlink" Target="http://ercot.com/content/wcm/key_documents_lists/54223/10.__Proposed_2016_Test_Flights.doc" TargetMode="External"/><Relationship Id="rId3" Type="http://schemas.openxmlformats.org/officeDocument/2006/relationships/package" Target="../embeddings/oleObject1.doc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October 14, 2015 </a:t>
            </a: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14, 2015 </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8C059-D5AA-41F7-9157-A7BD78BC221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1142640" y="914040"/>
            <a:ext cx="7986600" cy="53341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ergy Data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337  (+88)</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EPN = 1; CNP = 79; Oncor = 257</a:t>
            </a:r>
            <a:endParaRPr b="0" lang="en-US" sz="24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 Agreemen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389  (NC)</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N Device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9,651</a:t>
            </a:r>
            <a:r>
              <a:rPr b="1" lang="en-US" sz="2800" spc="-1" strike="noStrike">
                <a:solidFill>
                  <a:srgbClr val="c00000"/>
                </a:solidFill>
                <a:latin typeface="Gill Sans MT"/>
              </a:rPr>
              <a:t>(+183)</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3</a:t>
            </a:r>
            <a:r>
              <a:rPr b="0" lang="en-US" sz="2800" spc="-1" strike="noStrike" baseline="30000">
                <a:solidFill>
                  <a:srgbClr val="000000"/>
                </a:solidFill>
                <a:latin typeface="Gill Sans MT"/>
              </a:rPr>
              <a:t>rd</a:t>
            </a:r>
            <a:r>
              <a:rPr b="0" lang="en-US" sz="2800" spc="-1" strike="noStrike">
                <a:solidFill>
                  <a:srgbClr val="000000"/>
                </a:solidFill>
                <a:latin typeface="Gill Sans MT"/>
              </a:rPr>
              <a:t> Partie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9  (-7)</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Ps Registered @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98  (NC)</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 Demand Reads</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ustomer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4,803</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P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1</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3</a:t>
            </a:r>
            <a:r>
              <a:rPr b="0" lang="en-US" sz="2400" spc="-1" strike="noStrike" baseline="30000">
                <a:solidFill>
                  <a:srgbClr val="000000"/>
                </a:solidFill>
                <a:latin typeface="Gill Sans MT"/>
              </a:rPr>
              <a:t>rd</a:t>
            </a:r>
            <a:r>
              <a:rPr b="0" lang="en-US" sz="2400" spc="-1" strike="noStrike">
                <a:solidFill>
                  <a:srgbClr val="000000"/>
                </a:solidFill>
                <a:latin typeface="Gill Sans MT"/>
              </a:rPr>
              <a:t> Party</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2</a:t>
            </a:r>
            <a:endParaRPr b="0" lang="en-US" sz="2400" spc="-1" strike="noStrike">
              <a:solidFill>
                <a:srgbClr val="000000"/>
              </a:solidFill>
              <a:latin typeface="Gill Sans MT"/>
            </a:endParaRPr>
          </a:p>
        </p:txBody>
      </p:sp>
      <p:sp>
        <p:nvSpPr>
          <p:cNvPr id="388"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T Statistics for September 2015</a:t>
            </a:r>
            <a:endParaRPr b="0" lang="en-US" sz="2800" spc="-1" strike="noStrike">
              <a:solidFill>
                <a:srgbClr val="572314"/>
              </a:solidFill>
              <a:latin typeface="Gill Sans MT"/>
            </a:endParaRPr>
          </a:p>
        </p:txBody>
      </p:sp>
      <p:sp>
        <p:nvSpPr>
          <p:cNvPr id="38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40B6-5159-45D3-9E75-CA9702782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393" name="Date Placeholder 3"/>
          <p:cNvSpPr/>
          <p:nvPr/>
        </p:nvSpPr>
        <p:spPr>
          <a:xfrm>
            <a:off x="3581280" y="63547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94" name=""/>
          <p:cNvSpPr txBox="1"/>
          <p:nvPr/>
        </p:nvSpPr>
        <p:spPr>
          <a:xfrm>
            <a:off x="1218960" y="456840"/>
            <a:ext cx="7924680" cy="533412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WG Change Requests Updates:  </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R 2015-033</a:t>
            </a:r>
            <a:r>
              <a:rPr b="0" lang="en-US" sz="2400" spc="-1" strike="noStrike">
                <a:solidFill>
                  <a:srgbClr val="000000"/>
                </a:solidFill>
                <a:latin typeface="Gill Sans MT"/>
              </a:rPr>
              <a:t>:  Revised cost estimate in progress</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R 2015-041</a:t>
            </a:r>
            <a:r>
              <a:rPr b="0" lang="en-US" sz="2400" spc="-1" strike="noStrike">
                <a:solidFill>
                  <a:srgbClr val="000000"/>
                </a:solidFill>
                <a:latin typeface="Gill Sans MT"/>
              </a:rPr>
              <a:t>:  Delayed at AMWG, needs scope and cost estimate revisions</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R2013-017</a:t>
            </a:r>
            <a:r>
              <a:rPr b="0" lang="en-US" sz="2400" spc="-1" strike="noStrike">
                <a:solidFill>
                  <a:srgbClr val="000000"/>
                </a:solidFill>
                <a:latin typeface="Gill Sans MT"/>
              </a:rPr>
              <a:t>:  Deemed complete, however, previous status was an interim solution.  </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eetings , alternate between in-person and WebEx</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Ex Only next meeting is Oct. 21, 9:00 – 3:30</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maining meetings for 2015:</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ovember 17</a:t>
            </a:r>
            <a:r>
              <a:rPr b="0" lang="en-US" sz="2000" spc="-1" strike="noStrike" baseline="30000">
                <a:solidFill>
                  <a:srgbClr val="000000"/>
                </a:solidFill>
                <a:latin typeface="Gill Sans MT"/>
              </a:rPr>
              <a:t>th</a:t>
            </a:r>
            <a:r>
              <a:rPr b="0" lang="en-US" sz="2000" spc="-1" strike="noStrike">
                <a:solidFill>
                  <a:srgbClr val="000000"/>
                </a:solidFill>
                <a:latin typeface="Gill Sans MT"/>
              </a:rPr>
              <a:t> – Room 209 at ERCOT</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cember 15</a:t>
            </a:r>
            <a:r>
              <a:rPr b="0" lang="en-US" sz="2000" spc="-1" strike="noStrike" baseline="30000">
                <a:solidFill>
                  <a:srgbClr val="000000"/>
                </a:solidFill>
                <a:latin typeface="Gill Sans MT"/>
              </a:rPr>
              <a:t>th</a:t>
            </a:r>
            <a:r>
              <a:rPr b="0" lang="en-US" sz="2000" spc="-1" strike="noStrike">
                <a:solidFill>
                  <a:srgbClr val="000000"/>
                </a:solidFill>
                <a:latin typeface="Gill Sans MT"/>
              </a:rPr>
              <a:t> – WebEx only</a:t>
            </a: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9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565C-781C-4FAF-9850-6D6BB30B90A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9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TF)</a:t>
            </a:r>
            <a:endParaRPr b="0" lang="en-US" sz="3000" spc="-1" strike="noStrike">
              <a:solidFill>
                <a:srgbClr val="572314"/>
              </a:solidFill>
              <a:latin typeface="Gill Sans MT"/>
            </a:endParaRPr>
          </a:p>
        </p:txBody>
      </p:sp>
      <p:sp>
        <p:nvSpPr>
          <p:cNvPr id="400" name=""/>
          <p:cNvSpPr txBox="1"/>
          <p:nvPr/>
        </p:nvSpPr>
        <p:spPr>
          <a:xfrm>
            <a:off x="938160" y="762120"/>
            <a:ext cx="8229600" cy="5410080"/>
          </a:xfrm>
          <a:prstGeom prst="rect">
            <a:avLst/>
          </a:prstGeom>
          <a:noFill/>
          <a:ln w="0">
            <a:noFill/>
          </a:ln>
        </p:spPr>
        <p:txBody>
          <a:bodyPr anchor="t">
            <a:normAutofit fontScale="99000"/>
          </a:bodyPr>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101 Training  Progress Report</a:t>
            </a:r>
            <a:endParaRPr b="0" lang="en-US" sz="2400" spc="-1" strike="noStrike">
              <a:solidFill>
                <a:srgbClr val="000000"/>
              </a:solidFill>
              <a:latin typeface="Gill Sans MT"/>
            </a:endParaRPr>
          </a:p>
          <a:p>
            <a:pPr lvl="3" marL="72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training in sections (not necessarily in the order of presentation)</a:t>
            </a:r>
            <a:endParaRPr b="0" lang="en-US" sz="2000" spc="-1" strike="noStrike">
              <a:solidFill>
                <a:srgbClr val="000000"/>
              </a:solidFill>
              <a:latin typeface="Gill Sans MT"/>
            </a:endParaRPr>
          </a:p>
          <a:p>
            <a:pPr lvl="3" marL="72432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 , Roles &amp; Responsibilities</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ail Transactions- </a:t>
            </a:r>
            <a:r>
              <a:rPr b="0" i="1" lang="en-US" sz="1800" spc="-1" strike="noStrike">
                <a:solidFill>
                  <a:srgbClr val="ff0000"/>
                </a:solidFill>
                <a:latin typeface="Calibri"/>
              </a:rPr>
              <a:t>reviewed</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art Meter Technology</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story</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Rules</a:t>
            </a:r>
            <a:endParaRPr b="0" lang="en-US" sz="1800" spc="-1" strike="noStrike">
              <a:solidFill>
                <a:srgbClr val="000000"/>
              </a:solidFill>
              <a:latin typeface="Gill Sans MT"/>
            </a:endParaRPr>
          </a:p>
          <a:p>
            <a:pPr lvl="3" marL="724320">
              <a:lnSpc>
                <a:spcPct val="100000"/>
              </a:lnSpc>
              <a:spcBef>
                <a:spcPts val="451"/>
              </a:spcBef>
              <a:buClr>
                <a:srgbClr val="c32d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Transparency</a:t>
            </a:r>
            <a:endParaRPr b="0" lang="en-US" sz="1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rak Web-based Training  and Available “Now”</a:t>
            </a:r>
            <a:endParaRPr b="0" lang="en-US" sz="24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Overview ----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witch Hold Removal ---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ancels- with &amp; without  Approval----Complete!</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ERCOT Learning Management System (LMS)</a:t>
            </a:r>
            <a:endParaRPr b="0" lang="en-US" sz="2000" spc="-1" strike="noStrike">
              <a:solidFill>
                <a:srgbClr val="000000"/>
              </a:solidFill>
              <a:latin typeface="Gill Sans MT"/>
            </a:endParaRPr>
          </a:p>
          <a:p>
            <a:pPr lvl="3" marL="724320">
              <a:spcBef>
                <a:spcPts val="4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724320">
              <a:spcBef>
                <a:spcPts val="400"/>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01" name="Date Placeholder 3"/>
          <p:cNvSpPr/>
          <p:nvPr/>
        </p:nvSpPr>
        <p:spPr>
          <a:xfrm>
            <a:off x="3200400" y="6305400"/>
            <a:ext cx="25146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	</a:t>
            </a: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0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E6BBC-C787-4E9E-8BE2-475647FC6EA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pic>
        <p:nvPicPr>
          <p:cNvPr id="404" name="Picture 2" descr="C:\Users\xrnr\AppData\Local\Microsoft\Windows\Temporary Internet Files\Content.IE5\7RD6UX5L\600px-Red_check.svg[1].png"/>
          <p:cNvPicPr/>
          <p:nvPr/>
        </p:nvPicPr>
        <p:blipFill>
          <a:blip r:embed="rId3"/>
          <a:stretch/>
        </p:blipFill>
        <p:spPr>
          <a:xfrm>
            <a:off x="1943280" y="2154240"/>
            <a:ext cx="266400" cy="266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304920"/>
            <a:ext cx="7562880" cy="990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alibri"/>
              </a:rPr>
              <a:t>RMTTF: MarkeTrak On-line Training Series</a:t>
            </a:r>
            <a:endParaRPr b="0" lang="en-US" sz="3200" spc="-1" strike="noStrike">
              <a:solidFill>
                <a:srgbClr val="572314"/>
              </a:solidFill>
              <a:latin typeface="Gill Sans MT"/>
            </a:endParaRPr>
          </a:p>
        </p:txBody>
      </p:sp>
      <p:sp>
        <p:nvSpPr>
          <p:cNvPr id="406" name=""/>
          <p:cNvSpPr txBox="1"/>
          <p:nvPr/>
        </p:nvSpPr>
        <p:spPr>
          <a:xfrm>
            <a:off x="456840" y="914400"/>
            <a:ext cx="8534520" cy="5105520"/>
          </a:xfrm>
          <a:prstGeom prst="rect">
            <a:avLst/>
          </a:prstGeom>
          <a:noFill/>
          <a:ln w="0">
            <a:noFill/>
          </a:ln>
        </p:spPr>
        <p:txBody>
          <a:bodyPr anchor="t">
            <a:normAutofit fontScale="64000"/>
          </a:bodyPr>
          <a:p>
            <a:pPr lvl="2" marL="333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rak on-line training – 3 modules complete!  </a:t>
            </a:r>
            <a:endParaRPr b="0" lang="en-US" sz="2800" spc="-1" strike="noStrike">
              <a:solidFill>
                <a:srgbClr val="000000"/>
              </a:solidFill>
              <a:latin typeface="Gill Sans MT"/>
            </a:endParaRPr>
          </a:p>
          <a:p>
            <a:pPr lvl="2" marL="333000">
              <a:lnSpc>
                <a:spcPct val="100000"/>
              </a:lnSpc>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Notice sent out on 9/2/2015 announcing …</a:t>
            </a:r>
            <a:endParaRPr b="0" lang="en-US" sz="28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neral Overview</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witch Hold Removal</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cel With/Without Approvals</a:t>
            </a:r>
            <a:endParaRPr b="0" lang="en-US" sz="2000" spc="-1" strike="noStrike">
              <a:solidFill>
                <a:srgbClr val="000000"/>
              </a:solidFill>
              <a:latin typeface="Gill Sans MT"/>
            </a:endParaRPr>
          </a:p>
          <a:p>
            <a:pPr lvl="3" marL="702000" indent="-110520">
              <a:lnSpc>
                <a:spcPct val="100000"/>
              </a:lnSpc>
              <a:spcBef>
                <a:spcPts val="499"/>
              </a:spcBef>
              <a:buSzPct val="102792"/>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advertent Gains/Losses &amp; Rescissions- </a:t>
            </a:r>
            <a:r>
              <a:rPr b="0" i="1" lang="en-US" sz="2000" spc="-1" strike="noStrike">
                <a:solidFill>
                  <a:srgbClr val="4b2203"/>
                </a:solidFill>
                <a:latin typeface="Calibri"/>
              </a:rPr>
              <a:t>October launch</a:t>
            </a:r>
            <a:r>
              <a:rPr b="0" lang="en-US" sz="2000" spc="-1" strike="noStrike">
                <a:solidFill>
                  <a:srgbClr val="4b2203"/>
                </a:solidFill>
                <a:latin typeface="Calibri"/>
              </a:rPr>
              <a:t> </a:t>
            </a:r>
            <a:endParaRPr b="0" lang="en-US" sz="2000" spc="-1" strike="noStrike">
              <a:solidFill>
                <a:srgbClr val="000000"/>
              </a:solidFill>
              <a:latin typeface="Gill Sans MT"/>
            </a:endParaRPr>
          </a:p>
          <a:p>
            <a:pPr lvl="3" marL="702000" indent="-110520">
              <a:lnSpc>
                <a:spcPct val="100000"/>
              </a:lnSpc>
              <a:spcBef>
                <a:spcPts val="499"/>
              </a:spcBef>
              <a:buSzPct val="10279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Usage &amp; Billing – </a:t>
            </a:r>
            <a:r>
              <a:rPr b="0" i="1" lang="en-US" sz="2000" spc="-1" strike="noStrike">
                <a:solidFill>
                  <a:srgbClr val="4b2203"/>
                </a:solidFill>
                <a:latin typeface="Calibri"/>
              </a:rPr>
              <a:t>Targeting November launch</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Other D2D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a Extract Variances (DEV) LSE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ata Extract Variances (DEV) Non-LSE Subtype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Bulk Insert and Background Reporting</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GUI Reporting</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mails and Notifications</a:t>
            </a:r>
            <a:endParaRPr b="0" lang="en-US" sz="2000" spc="-1" strike="noStrike">
              <a:solidFill>
                <a:srgbClr val="000000"/>
              </a:solidFill>
              <a:latin typeface="Gill Sans MT"/>
            </a:endParaRPr>
          </a:p>
          <a:p>
            <a:pPr lvl="3" marL="702000" indent="-110520">
              <a:lnSpc>
                <a:spcPct val="10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arkeTrak Admin Functionality</a:t>
            </a:r>
            <a:endParaRPr b="0" lang="en-US" sz="2000" spc="-1" strike="noStrike">
              <a:solidFill>
                <a:srgbClr val="000000"/>
              </a:solidFill>
              <a:latin typeface="Gill Sans MT"/>
            </a:endParaRPr>
          </a:p>
          <a:p>
            <a:pPr lvl="1" marL="409320" indent="-15120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09320" indent="-15120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333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09320" indent="-151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Gill Sans MT"/>
            </a:endParaRPr>
          </a:p>
        </p:txBody>
      </p:sp>
      <p:sp>
        <p:nvSpPr>
          <p:cNvPr id="407" name="Date Placeholder 3"/>
          <p:cNvSpPr/>
          <p:nvPr/>
        </p:nvSpPr>
        <p:spPr>
          <a:xfrm>
            <a:off x="3581280" y="63547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08"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434960" y="-228960"/>
            <a:ext cx="7499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Calibri"/>
              </a:rPr>
              <a:t>MarkeTrak On-line Training Series Successes via</a:t>
            </a:r>
            <a:br>
              <a:rPr sz="2400"/>
            </a:br>
            <a:r>
              <a:rPr b="1" lang="en-US" sz="2400" spc="-1" strike="noStrike">
                <a:solidFill>
                  <a:srgbClr val="572314"/>
                </a:solidFill>
                <a:latin typeface="Calibri"/>
              </a:rPr>
              <a:t> ERCOT Learning Management System (LMS) </a:t>
            </a:r>
            <a:endParaRPr b="0" lang="en-US" sz="2400" spc="-1" strike="noStrike">
              <a:solidFill>
                <a:srgbClr val="572314"/>
              </a:solidFill>
              <a:latin typeface="Gill Sans MT"/>
            </a:endParaRPr>
          </a:p>
        </p:txBody>
      </p:sp>
      <p:sp>
        <p:nvSpPr>
          <p:cNvPr id="410" name=""/>
          <p:cNvSpPr txBox="1"/>
          <p:nvPr/>
        </p:nvSpPr>
        <p:spPr>
          <a:xfrm>
            <a:off x="1218960" y="761760"/>
            <a:ext cx="38862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thre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 name=""/>
          <p:cNvSpPr txBox="1"/>
          <p:nvPr/>
        </p:nvSpPr>
        <p:spPr>
          <a:xfrm>
            <a:off x="5486400" y="761760"/>
            <a:ext cx="3657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412" name=""/>
          <p:cNvGraphicFramePr/>
          <p:nvPr/>
        </p:nvGraphicFramePr>
        <p:xfrm>
          <a:off x="1295280" y="2230560"/>
          <a:ext cx="2895840" cy="3179520"/>
        </p:xfrm>
        <a:graphic>
          <a:graphicData uri="http://schemas.openxmlformats.org/drawingml/2006/table">
            <a:tbl>
              <a:tblPr/>
              <a:tblGrid>
                <a:gridCol w="1419480"/>
                <a:gridCol w="1476360"/>
              </a:tblGrid>
              <a:tr h="741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T Module</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of Viewers</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view</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witch Hold</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cels</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graphicFrame>
        <p:nvGraphicFramePr>
          <p:cNvPr id="413" name=""/>
          <p:cNvGraphicFramePr/>
          <p:nvPr/>
        </p:nvGraphicFramePr>
        <p:xfrm>
          <a:off x="5867280" y="2209680"/>
          <a:ext cx="2819520" cy="3200400"/>
        </p:xfrm>
        <a:graphic>
          <a:graphicData uri="http://schemas.openxmlformats.org/drawingml/2006/table">
            <a:tbl>
              <a:tblPr/>
              <a:tblGrid>
                <a:gridCol w="1371600"/>
                <a:gridCol w="1447920"/>
              </a:tblGrid>
              <a:tr h="7779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Segment</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of Viewers</a:t>
                      </a:r>
                      <a:endParaRPr b="0" lang="en-US" sz="2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593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SE/RE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8</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DSP</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609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7</a:t>
                      </a:r>
                      <a:endParaRPr b="0" lang="en-US" sz="20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414" name="Date Placeholder 3"/>
          <p:cNvSpPr/>
          <p:nvPr/>
        </p:nvSpPr>
        <p:spPr>
          <a:xfrm>
            <a:off x="3581280" y="63547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15" name="TextBox 11"/>
          <p:cNvSpPr/>
          <p:nvPr/>
        </p:nvSpPr>
        <p:spPr>
          <a:xfrm>
            <a:off x="1219320" y="5754600"/>
            <a:ext cx="7924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Calibri"/>
              </a:rPr>
              <a:t>Go to the ERCOT Training Website at </a:t>
            </a:r>
            <a:r>
              <a:rPr b="0" lang="en-US" sz="1800" spc="-1" strike="noStrike" u="sng">
                <a:solidFill>
                  <a:srgbClr val="8dc765"/>
                </a:solidFill>
                <a:uFillTx/>
                <a:latin typeface="Calibri"/>
                <a:hlinkClick r:id="rId1"/>
              </a:rPr>
              <a:t>http://www.ercot.com/services/trainin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17" name=""/>
          <p:cNvSpPr txBox="1"/>
          <p:nvPr/>
        </p:nvSpPr>
        <p:spPr>
          <a:xfrm>
            <a:off x="914400" y="761760"/>
            <a:ext cx="8229600" cy="472428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Q2 2015 Performance Measures Report </a:t>
            </a:r>
            <a:endParaRPr b="0" lang="en-US" sz="24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 transactional measurements reflect 100% performance for 2Q 2015 </a:t>
            </a:r>
            <a:endParaRPr b="0" lang="en-US" sz="2000" spc="-1" strike="noStrike">
              <a:solidFill>
                <a:srgbClr val="000000"/>
              </a:solidFill>
              <a:latin typeface="Gill Sans MT"/>
            </a:endParaRPr>
          </a:p>
          <a:p>
            <a:pPr lvl="2" marL="770760" indent="-198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wcm/key_documents_lists/54223/11.__</a:t>
            </a:r>
            <a:r>
              <a:rPr b="0" lang="en-US" sz="1800" spc="-1" strike="noStrike" u="sng">
                <a:solidFill>
                  <a:srgbClr val="8dc765"/>
                </a:solidFill>
                <a:uFillTx/>
                <a:latin typeface="Gill Sans MT"/>
                <a:hlinkClick r:id="rId2"/>
              </a:rPr>
              <a:t>RMS_2Q_2015_PM_Comparison.pptx</a:t>
            </a:r>
            <a:endParaRPr b="0" lang="en-US" sz="1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egacy Tool Retirement Update</a:t>
            </a:r>
            <a:endParaRPr b="0" lang="en-US" sz="24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cent Incidents: Improvements in response to 2/17/15 duplicate retail transactions incident</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770760" indent="-198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Goal: Migrate functionality to new platforms and retire legacy toolset</a:t>
            </a:r>
            <a:endParaRPr b="0" lang="en-US" sz="1800" spc="-1" strike="noStrike">
              <a:solidFill>
                <a:srgbClr val="000000"/>
              </a:solidFill>
              <a:latin typeface="Gill Sans MT"/>
            </a:endParaRPr>
          </a:p>
          <a:p>
            <a:pPr lvl="3" marL="954000" indent="-1504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 progress </a:t>
            </a:r>
            <a:r>
              <a:rPr b="0" lang="en-US" sz="2000" spc="-1" strike="noStrike">
                <a:solidFill>
                  <a:srgbClr val="000000"/>
                </a:solidFill>
                <a:latin typeface="Gill Sans MT"/>
              </a:rPr>
              <a:t>–</a:t>
            </a:r>
            <a:r>
              <a:rPr b="1" lang="en-US" sz="2000" spc="-1" strike="noStrike">
                <a:solidFill>
                  <a:srgbClr val="000000"/>
                </a:solidFill>
                <a:latin typeface="Gill Sans MT"/>
              </a:rPr>
              <a:t> </a:t>
            </a:r>
            <a:r>
              <a:rPr b="0" lang="en-US" sz="2000" spc="-1" strike="noStrike">
                <a:solidFill>
                  <a:srgbClr val="000000"/>
                </a:solidFill>
                <a:latin typeface="Gill Sans MT"/>
              </a:rPr>
              <a:t>Migrate monitoring functionality to support toolset – December 2015 target:</a:t>
            </a:r>
            <a:endParaRPr b="0" lang="en-US" sz="20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51 of 84 monitors complete</a:t>
            </a:r>
            <a:endParaRPr b="0" lang="en-US" sz="14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17 of 19 directory monitors complete</a:t>
            </a:r>
            <a:endParaRPr b="0" lang="en-US" sz="14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1 of 11 reports complete</a:t>
            </a:r>
            <a:endParaRPr b="0" lang="en-US" sz="14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112 of 112 dashboards complete</a:t>
            </a:r>
            <a:endParaRPr b="0" lang="en-US" sz="14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2 of 3 business functions complete</a:t>
            </a:r>
            <a:endParaRPr b="0" lang="en-US" sz="1400" spc="-1" strike="noStrike">
              <a:solidFill>
                <a:srgbClr val="000000"/>
              </a:solidFill>
              <a:latin typeface="Gill Sans MT"/>
            </a:endParaRPr>
          </a:p>
          <a:p>
            <a:pPr lvl="4" marL="1128240" indent="-158760">
              <a:spcBef>
                <a:spcPts val="34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On target for completion by the end of 2015</a:t>
            </a:r>
            <a:endParaRPr b="0" lang="en-US" sz="14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770760" indent="-198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70760" indent="-19872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92A9D-D40D-4DAC-9802-FAC3C7C409D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22" name=""/>
          <p:cNvSpPr txBox="1"/>
          <p:nvPr/>
        </p:nvSpPr>
        <p:spPr>
          <a:xfrm>
            <a:off x="914400" y="609480"/>
            <a:ext cx="8229600" cy="472464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Flight 1015 Summary</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Flight Testing:</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 New CRs are testing (Including 1 additional DUNS and 1 PUCT Option 2)</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xisting CRs: 5 CRs are adding a new territory</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436 tasks are scheduled including connectivity</a:t>
            </a:r>
            <a:endParaRPr b="0" lang="en-US" sz="18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dhoc Period Testing:</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CR is testing for Change of Service Provider</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CR is adding a DUNS+4</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 CRs are testing connectivity with all partners due to system changes</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hoc Period has 510 total tasks scheduled including connectivity</a:t>
            </a:r>
            <a:endParaRPr b="0" lang="en-US" sz="18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hedule</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5 signup began 09/02/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light 1015 concludes on 10/16/15 (Contingency/Adhoc Period until 11/25/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dhoc Testing begins 10/19/2015</a:t>
            </a:r>
            <a:endParaRPr b="0" lang="en-US" sz="1800" spc="-1" strike="noStrike">
              <a:solidFill>
                <a:srgbClr val="000000"/>
              </a:solidFill>
              <a:latin typeface="Gill Sans MT"/>
            </a:endParaRPr>
          </a:p>
          <a:p>
            <a:pPr lvl="3" marL="943200" indent="-1486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ll scripts are expected to be completed by 11/13/2015</a:t>
            </a:r>
            <a:endParaRPr b="0" lang="en-US" sz="1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2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9520-D99C-4F6F-A120-3717449A11C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27" name=""/>
          <p:cNvSpPr txBox="1"/>
          <p:nvPr/>
        </p:nvSpPr>
        <p:spPr>
          <a:xfrm>
            <a:off x="914400" y="609480"/>
            <a:ext cx="8229600" cy="4724640"/>
          </a:xfrm>
          <a:prstGeom prst="rect">
            <a:avLst/>
          </a:prstGeom>
          <a:noFill/>
          <a:ln w="0">
            <a:noFill/>
          </a:ln>
        </p:spPr>
        <p:txBody>
          <a:bodyPr anchor="t">
            <a:normAutofit fontScale="82000"/>
          </a:bodyPr>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Retail Price Responsive/Demand Response Update  </a:t>
            </a:r>
            <a:endParaRPr b="0" lang="en-US" sz="2200" spc="-1" strike="noStrike">
              <a:solidFill>
                <a:srgbClr val="000000"/>
              </a:solidFill>
              <a:latin typeface="Gill Sans MT"/>
            </a:endParaRPr>
          </a:p>
          <a:p>
            <a:pPr lvl="1" marL="524520" indent="-1936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mand Response (DR) initiatives and reports</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2" marL="726480" indent="-1872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54223/11.__RMS_PriceResponsiveLoadERCOT_100615.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Concept</a:t>
            </a:r>
            <a:r>
              <a:rPr b="0" lang="en-US" sz="2200" spc="-1" strike="noStrike">
                <a:solidFill>
                  <a:srgbClr val="000000"/>
                </a:solidFill>
                <a:latin typeface="Gill Sans MT"/>
              </a:rPr>
              <a:t>:  Allow AMS data submittals to be utilized for Settlement of Non-Modeled Generators (Distributed Generators registered with ERCOT for Settlements)- R. Roberts </a:t>
            </a:r>
            <a:endParaRPr b="0" lang="en-US" sz="2200" spc="-1" strike="noStrike">
              <a:solidFill>
                <a:srgbClr val="000000"/>
              </a:solidFill>
              <a:latin typeface="Gill Sans MT"/>
            </a:endParaRPr>
          </a:p>
          <a:p>
            <a:pPr lvl="2" marL="726480" indent="-1872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ercot.com/content/wcm/key_documents_lists/54223/11.__</a:t>
            </a:r>
            <a:r>
              <a:rPr b="0" lang="en-US" sz="1800" spc="-1" strike="noStrike" u="sng">
                <a:solidFill>
                  <a:srgbClr val="000000"/>
                </a:solidFill>
                <a:uFillTx/>
                <a:latin typeface="Gill Sans MT"/>
              </a:rPr>
              <a:t>AMS_Metered_Registered_Generator_ver2.ppt</a:t>
            </a:r>
            <a:endParaRPr b="0"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Inadvertent Gain Statistics Reporting</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2" marL="726480" indent="-1872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www.ercot.com/content/wcm/key_documents_lists/54223/11.__October_RMS_2015_IAG_Numbers.pptx</a:t>
            </a:r>
            <a:r>
              <a:rPr b="0" lang="en-US" sz="1800" spc="-1" strike="noStrike">
                <a:solidFill>
                  <a:srgbClr val="000000"/>
                </a:solidFill>
                <a:latin typeface="Gill Sans MT"/>
              </a:rPr>
              <a:t>  </a:t>
            </a:r>
            <a:r>
              <a:rPr b="0" lang="en-US" sz="1800" spc="-1" strike="noStrike" u="sng">
                <a:solidFill>
                  <a:srgbClr val="000000"/>
                </a:solidFill>
                <a:uFillTx/>
                <a:latin typeface="Gill Sans MT"/>
              </a:rPr>
              <a:t>http://www.ercot.com/content/wcm/key_documents_lists/54223/11.__Inadvertent_Stats___July_2015.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726480" indent="-1872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er ERCOT, CR’s REP # in the above report is by DUNS #.  CRs will always have the same REP # and that information will not be disclosed over time.  </a:t>
            </a:r>
            <a:endParaRPr b="0" lang="en-US" sz="1800" spc="-1" strike="noStrike">
              <a:solidFill>
                <a:srgbClr val="000000"/>
              </a:solidFill>
              <a:latin typeface="Gill Sans MT"/>
            </a:endParaRPr>
          </a:p>
          <a:p>
            <a:pPr lvl="2" marL="726480" indent="-1872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99160" indent="-2314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2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82C2-BE30-4AC3-85A4-355FDC43305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s Updates! </a:t>
            </a:r>
            <a:endParaRPr b="0" lang="en-US" sz="4300" spc="-1" strike="noStrike">
              <a:solidFill>
                <a:srgbClr val="572314"/>
              </a:solidFill>
              <a:latin typeface="Gill Sans MT"/>
            </a:endParaRPr>
          </a:p>
        </p:txBody>
      </p:sp>
      <p:sp>
        <p:nvSpPr>
          <p:cNvPr id="432" name=""/>
          <p:cNvSpPr txBox="1"/>
          <p:nvPr/>
        </p:nvSpPr>
        <p:spPr>
          <a:xfrm>
            <a:off x="914400" y="761760"/>
            <a:ext cx="8229600" cy="47242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utreach and Posting of REP Postcard Name and their (800) number to ERCOT website</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is a reminder to all CRs that the market notice has gone out and the posting of the 800# and registered Load Serving Entities/REPs information are now available.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T Incident Report Updates– D. Pagliai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23/11.__ERCOT_IT_Report_October_2015___RMS.pptx</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69160" indent="-210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nplanned Outage on 9/20/15, Rollover to Alternate and Release 5 Updates – D. Pagliai </a:t>
            </a:r>
            <a:endParaRPr b="0" lang="en-US" sz="2400" spc="-1" strike="noStrike">
              <a:solidFill>
                <a:srgbClr val="000000"/>
              </a:solidFill>
              <a:latin typeface="Gill Sans MT"/>
            </a:endParaRPr>
          </a:p>
          <a:p>
            <a:pPr lvl="2" marL="542160" indent="-251280">
              <a:spcBef>
                <a:spcPts val="601"/>
              </a:spcBef>
              <a:buClr>
                <a:srgbClr val="feb80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23/11.__ERCOT_IT_Outage_Report_October_2015___RMS.pptx </a:t>
            </a:r>
            <a:endParaRPr b="0" lang="en-US" sz="2000" spc="-1" strike="noStrike">
              <a:solidFill>
                <a:srgbClr val="000000"/>
              </a:solidFill>
              <a:latin typeface="Gill Sans MT"/>
            </a:endParaRPr>
          </a:p>
          <a:p>
            <a:pPr lvl="2" marL="542160" indent="-2512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3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13E8-D20A-4811-AA60-546951E0EC3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1434960" y="-1526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DSPs Planned Outage Updates:</a:t>
            </a:r>
            <a:endParaRPr b="0" lang="en-US" sz="4300" spc="-1" strike="noStrike">
              <a:solidFill>
                <a:srgbClr val="572314"/>
              </a:solidFill>
              <a:latin typeface="Gill Sans MT"/>
            </a:endParaRPr>
          </a:p>
        </p:txBody>
      </p:sp>
      <p:sp>
        <p:nvSpPr>
          <p:cNvPr id="437" name=""/>
          <p:cNvSpPr txBox="1"/>
          <p:nvPr/>
        </p:nvSpPr>
        <p:spPr>
          <a:xfrm>
            <a:off x="1142640" y="838080"/>
            <a:ext cx="8001000" cy="518184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TNMP Planned Maintenance Outage: </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During the outage, the supporting databases will be upgraded to a newer version of Oracle.   </a:t>
            </a: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1" lang="en-US" sz="1800" spc="-1" strike="noStrike">
                <a:solidFill>
                  <a:srgbClr val="c00000"/>
                </a:solidFill>
                <a:latin typeface="Gill Sans MT"/>
              </a:rPr>
              <a:t>Days Affected:</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aturday, 09/26/2015, 08:00 AM to Monday, 09/28/2015, 06:00 AM</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ll Systems and Operations back to Normal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Sharyland’s (SU’s) CIS System Upgrade Planned Outage</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yland will be implementing a CIS system upgrade beginning Wednesday September 30, 2015.  The upgrade required a complete system outage including EDI functionality.</a:t>
            </a: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Days Affected: </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September 30 - October 4,  2015</a:t>
            </a: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haryland was informed of an issue involving the 810_02 Invoice and 867-03 Usage transactions issued between October 5 – 7, 2015.  SU processed cancel/rebills for all invoices in Cycles 1 – 8.   This issue involves both Sharyland and Sharyland-McAllen</a:t>
            </a:r>
            <a:r>
              <a:rPr b="0" lang="en-US" sz="2200" spc="-1" strike="noStrike">
                <a:solidFill>
                  <a:srgbClr val="000000"/>
                </a:solidFill>
                <a:latin typeface="Gill Sans MT"/>
              </a:rPr>
              <a:t>. </a:t>
            </a:r>
            <a:endParaRPr b="0" lang="en-US" sz="2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ffective 10/9/15 at 4:45 PM usage and invoicing issues were resolved and corrected transactions were communicated to the market.  </a:t>
            </a: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1" marL="575640" indent="-2127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797040" indent="-205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43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3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4BFC-D3E4-44E1-9E72-0FEDA0CE786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ame Date:  COPS and RMS Meetings:</a:t>
            </a:r>
            <a:endParaRPr b="0" lang="en-US" sz="3600" spc="-1" strike="noStrike">
              <a:solidFill>
                <a:srgbClr val="572314"/>
              </a:solidFill>
              <a:latin typeface="Gill Sans MT"/>
            </a:endParaRPr>
          </a:p>
        </p:txBody>
      </p:sp>
      <p:sp>
        <p:nvSpPr>
          <p:cNvPr id="338"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Discussion At RMS 10/6/15: </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ince some ERCOT resources are the same that are shared between COPS and RMS, also members and/or attendees maybe the same for both subcommittee meetings; does it make sense to have these two subcommittees meeting on the same date of each month?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or COPS could meet the first half of the meeting date with COPS or RMS meeting the second half of the meeting date.   To allow for even more flexibility each could flip/flop which subcommittee would meet in the morning or evening.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 drawback is RMS or COPS couldn’t or wouldn’t be able to use second half of subcommittee meetings available timeslots for workshops/working groups or taskforce meetings as their currently utilized.  </a:t>
            </a:r>
            <a:endParaRPr b="0" lang="en-US" sz="1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S Membership Consensus</a:t>
            </a:r>
            <a:r>
              <a:rPr b="0" lang="en-US" sz="1800" spc="-1" strike="noStrike">
                <a:solidFill>
                  <a:srgbClr val="000000"/>
                </a:solidFill>
                <a:latin typeface="Gill Sans MT"/>
              </a:rPr>
              <a:t>:  With the amount of work currently experienced by both RMS and COPS there is no way RMS could comfortably complete all their agenda topics within a 2 ½ - 3 hours each scheduled meeting. Already there has been meetings held by RMS this year that easily went to a 1:30 PM or even 2:00 PM adjournment,  RMS should re-evaluate this suggestion during the first half of 2016  after evaluating the retail market’s potential meeting workload.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96BF-6174-4C6C-A5CB-7A158FBC1FD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2314"/>
                </a:solidFill>
                <a:latin typeface="Gill Sans MT"/>
              </a:rPr>
              <a:t>Save the Dates:   </a:t>
            </a:r>
            <a:endParaRPr b="0" lang="en-US" sz="4400" spc="-1" strike="noStrike">
              <a:solidFill>
                <a:srgbClr val="572314"/>
              </a:solidFill>
              <a:latin typeface="Gill Sans MT"/>
            </a:endParaRPr>
          </a:p>
        </p:txBody>
      </p:sp>
      <p:sp>
        <p:nvSpPr>
          <p:cNvPr id="442" name=""/>
          <p:cNvSpPr txBox="1"/>
          <p:nvPr/>
        </p:nvSpPr>
        <p:spPr>
          <a:xfrm>
            <a:off x="609480" y="609480"/>
            <a:ext cx="8229600" cy="548640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S-WMS Workshop II:  Improving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o Smart Meter Texas (SMT)</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Friday,  October 16, 2015 Workshop II – 9:30 AM – 1:00 PM </a:t>
            </a:r>
            <a:endParaRPr b="0" lang="en-US" sz="20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alendar/2015/10/16/73666-RMS-WMS-WORKSHOPS </a:t>
            </a:r>
            <a:endParaRPr b="0" lang="en-US" sz="16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minder: October 20, 2015 at1:30pm</a:t>
            </a:r>
            <a:r>
              <a:rPr b="0" lang="en-US" sz="2400" spc="-1" strike="noStrike">
                <a:solidFill>
                  <a:srgbClr val="000000"/>
                </a:solidFill>
                <a:latin typeface="Gill Sans MT"/>
              </a:rPr>
              <a:t> – </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Leadership Meeting: 2015 RMS Goals and Structural Review</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minder: October 21-22, 2015- Oncor REP Appreciation Event and Workshop</a:t>
            </a:r>
            <a:endParaRPr b="0" lang="en-US" sz="24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ocation:  Fort Worth, TX – Texas Motor Speedway </a:t>
            </a: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4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A82CA-70EA-4707-B814-E419AB40266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46" name=""/>
          <p:cNvGraphicFramePr/>
          <p:nvPr/>
        </p:nvGraphicFramePr>
        <p:xfrm>
          <a:off x="2025720" y="2558880"/>
          <a:ext cx="6813360" cy="1098720"/>
        </p:xfrm>
        <a:graphic>
          <a:graphicData uri="http://schemas.openxmlformats.org/drawingml/2006/table">
            <a:tbl>
              <a:tblPr/>
              <a:tblGrid>
                <a:gridCol w="3406680"/>
                <a:gridCol w="3406680"/>
              </a:tblGrid>
              <a:tr h="1098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Aust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om 20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620 Metro Center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ustin, TX 78744</a:t>
                      </a:r>
                      <a:endParaRPr b="0" lang="en-US" sz="18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ebEx Confer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eleconference: 877-668-449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eting number: 624 257 8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eting password: SMT</a:t>
                      </a:r>
                      <a:endParaRPr b="0" lang="en-US" sz="1800" spc="-1" strike="noStrike">
                        <a:solidFill>
                          <a:srgbClr val="000000"/>
                        </a:solidFill>
                        <a:latin typeface="Arial"/>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48"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69DCF-18D4-4171-9BD5-E66770098B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51" name="Picture 7" descr="C:\Users\00015621\AppData\Local\Microsoft\Windows\Temporary Internet Files\Content.IE5\BO9MEPUZ\questions-2[1].jpg"/>
          <p:cNvPicPr/>
          <p:nvPr/>
        </p:nvPicPr>
        <p:blipFill>
          <a:blip r:embed="rId1"/>
          <a:stretch/>
        </p:blipFill>
        <p:spPr>
          <a:xfrm>
            <a:off x="1905120" y="990720"/>
            <a:ext cx="594360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Voting Recommendation:</a:t>
            </a:r>
            <a:endParaRPr b="0" lang="en-US" sz="3600" spc="-1" strike="noStrike">
              <a:solidFill>
                <a:srgbClr val="572314"/>
              </a:solidFill>
              <a:latin typeface="Gill Sans MT"/>
            </a:endParaRPr>
          </a:p>
        </p:txBody>
      </p:sp>
      <p:sp>
        <p:nvSpPr>
          <p:cNvPr id="343" name=""/>
          <p:cNvSpPr txBox="1"/>
          <p:nvPr/>
        </p:nvSpPr>
        <p:spPr>
          <a:xfrm>
            <a:off x="939960" y="685800"/>
            <a:ext cx="822960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CR786 </a:t>
            </a:r>
            <a:r>
              <a:rPr b="1" lang="en-US" sz="2400" spc="-1" strike="noStrike">
                <a:solidFill>
                  <a:srgbClr val="000000"/>
                </a:solidFill>
                <a:latin typeface="Gill Sans MT"/>
              </a:rPr>
              <a:t>Impact Analysis (Full Functionality):</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Between $1.5M and $2.5M</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nual Recurring Operations and Maintenance (O&amp;M) Budget Cost:  </a:t>
            </a:r>
            <a:r>
              <a:rPr b="1" lang="en-US" sz="2400" spc="-1" strike="noStrike">
                <a:solidFill>
                  <a:srgbClr val="000000"/>
                </a:solidFill>
                <a:latin typeface="Gill Sans MT"/>
              </a:rPr>
              <a:t>$375k – $405k</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65% of the project cost will cover hardware &amp; yearly license fees.  </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stimated project duration:  </a:t>
            </a:r>
            <a:r>
              <a:rPr b="1" lang="en-US" sz="2400" spc="-1" strike="noStrike">
                <a:solidFill>
                  <a:srgbClr val="000000"/>
                </a:solidFill>
                <a:latin typeface="Gill Sans MT"/>
              </a:rPr>
              <a:t>1.5 to 3  years</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re will be ongoing operational impacts across the following ERCOT departments totaling 3 Full-Time Employees (FTEs) to support this SCR:</a:t>
            </a:r>
            <a:endParaRPr b="0" lang="en-US" sz="24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2000" spc="-1" strike="noStrike">
                <a:solidFill>
                  <a:srgbClr val="000000"/>
                </a:solidFill>
                <a:latin typeface="Gill Sans MT"/>
              </a:rPr>
              <a:t>1 FTE in Retail Operations </a:t>
            </a:r>
            <a:endParaRPr b="0" lang="en-US" sz="20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r>
              <a:rPr b="1" lang="en-US" sz="2000" spc="-1" strike="noStrike">
                <a:solidFill>
                  <a:srgbClr val="000000"/>
                </a:solidFill>
                <a:latin typeface="Gill Sans MT"/>
              </a:rPr>
              <a:t>2 FTE in IT Commercial Operations</a:t>
            </a:r>
            <a:endParaRPr b="0" lang="en-US" sz="20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is not able to absorb the ongoing efforts of this SCR with current staff.</a:t>
            </a:r>
            <a:endParaRPr b="0" lang="en-US" sz="2400" spc="-1" strike="noStrike">
              <a:solidFill>
                <a:srgbClr val="000000"/>
              </a:solidFill>
              <a:latin typeface="Gill Sans MT"/>
            </a:endParaRPr>
          </a:p>
          <a:p>
            <a:pPr lvl="2" marL="850320" indent="-219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F977F-E2F2-40BC-B302-F06EF7CF732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SCR786  Voting Recommendation:</a:t>
            </a:r>
            <a:endParaRPr b="0" lang="en-US" sz="3600" spc="-1" strike="noStrike">
              <a:solidFill>
                <a:srgbClr val="572314"/>
              </a:solidFill>
              <a:latin typeface="Gill Sans MT"/>
            </a:endParaRPr>
          </a:p>
        </p:txBody>
      </p:sp>
      <p:sp>
        <p:nvSpPr>
          <p:cNvPr id="348" name=""/>
          <p:cNvSpPr txBox="1"/>
          <p:nvPr/>
        </p:nvSpPr>
        <p:spPr>
          <a:xfrm>
            <a:off x="939960" y="68580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6 Alternative Proposal:</a:t>
            </a:r>
            <a:endParaRPr b="0" lang="en-US" sz="24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Preliminary Estimate  Between $100-$150K </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Annual Recurring Operations and Maintenance (O&amp;M) Budget Cost</a:t>
            </a:r>
            <a:r>
              <a:rPr b="0" lang="en-US" sz="1800" spc="-1" strike="noStrike">
                <a:solidFill>
                  <a:srgbClr val="000000"/>
                </a:solidFill>
                <a:latin typeface="Gill Sans MT"/>
              </a:rPr>
              <a:t>:  </a:t>
            </a:r>
            <a:r>
              <a:rPr b="1" lang="en-US" sz="1800" spc="-1" strike="noStrike">
                <a:solidFill>
                  <a:srgbClr val="c00000"/>
                </a:solidFill>
                <a:latin typeface="Gill Sans MT"/>
              </a:rPr>
              <a:t>1/3 price of full functionality due to 1 FTE needed for on-going system support   </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stimated project duration</a:t>
            </a:r>
            <a:r>
              <a:rPr b="0" lang="en-US" sz="1800" spc="-1" strike="noStrike">
                <a:solidFill>
                  <a:srgbClr val="000000"/>
                </a:solidFill>
                <a:latin typeface="Gill Sans MT"/>
              </a:rPr>
              <a:t>:  </a:t>
            </a:r>
            <a:r>
              <a:rPr b="1" lang="en-US" sz="1800" spc="-1" strike="noStrike">
                <a:solidFill>
                  <a:srgbClr val="c00000"/>
                </a:solidFill>
                <a:latin typeface="Gill Sans MT"/>
              </a:rPr>
              <a:t>4-6 Months</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duce scope of the SCR and leverage an existing test environment (already configured for external testing) to achieve the majority of the requirements of this SCR.  This alternative would also help achieve a standard architecture for the retail test environment consistent with the upcoming data center refresh efforts.</a:t>
            </a:r>
            <a:endParaRPr b="0" lang="en-US" sz="1800" spc="-1" strike="noStrike">
              <a:solidFill>
                <a:srgbClr val="000000"/>
              </a:solidFill>
              <a:latin typeface="Gill Sans MT"/>
            </a:endParaRPr>
          </a:p>
          <a:p>
            <a:pPr lvl="2" marL="859320" indent="-221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fter gaining Retail Market’s consensus - ERCOT’s Comments: </a:t>
            </a:r>
            <a:endParaRPr b="0" lang="en-US" sz="18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the original requirement where ERCOT would simulate a TDSP and/or CR, significantly reduced the initial IA cost estimates.  </a:t>
            </a: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SIM Date(s) </a:t>
            </a:r>
            <a:endParaRPr b="0" lang="en-US" sz="1600" spc="-1" strike="noStrike">
              <a:solidFill>
                <a:srgbClr val="000000"/>
              </a:solidFill>
              <a:latin typeface="Gill Sans MT"/>
            </a:endParaRPr>
          </a:p>
          <a:p>
            <a:pPr lvl="3" marL="1063800" indent="-1677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moves Blackout Period(s).  </a:t>
            </a:r>
            <a:endParaRPr b="0" lang="en-US" sz="16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endorse SCR786 with ERCOT’s Comments dated October 1, 2015 was unanimously approved as submitted.</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B788-AC0C-4DC9-A224-52B0EAF01D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Texas SET </a:t>
            </a:r>
            <a:endParaRPr b="0" lang="en-US" sz="3600" spc="-1" strike="noStrike">
              <a:solidFill>
                <a:srgbClr val="572314"/>
              </a:solidFill>
              <a:latin typeface="Gill Sans MT"/>
            </a:endParaRPr>
          </a:p>
        </p:txBody>
      </p:sp>
      <p:sp>
        <p:nvSpPr>
          <p:cNvPr id="353" name=""/>
          <p:cNvSpPr txBox="1"/>
          <p:nvPr/>
        </p:nvSpPr>
        <p:spPr>
          <a:xfrm>
            <a:off x="1143000" y="914400"/>
            <a:ext cx="7772400" cy="419112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roposed 2016 Test Flight Schedule (Vote)</a:t>
            </a:r>
            <a:endParaRPr b="0" lang="en-US" sz="24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ercot.com/content/wcm/key_documents_lists/54223/10.__</a:t>
            </a:r>
            <a:r>
              <a:rPr b="0" lang="en-US" sz="2000" spc="-1" strike="noStrike" u="sng">
                <a:solidFill>
                  <a:srgbClr val="8dc765"/>
                </a:solidFill>
                <a:uFillTx/>
                <a:latin typeface="Gill Sans MT"/>
                <a:hlinkClick r:id="rId2"/>
              </a:rPr>
              <a:t>Proposed_2016_Test_Flights.doc</a:t>
            </a:r>
            <a:endParaRPr b="0" lang="en-US" sz="2000" spc="-1" strike="noStrike">
              <a:solidFill>
                <a:srgbClr val="000000"/>
              </a:solidFill>
              <a:latin typeface="Gill Sans MT"/>
            </a:endParaRPr>
          </a:p>
          <a:p>
            <a:pPr lvl="2" marL="761760" indent="-196560">
              <a:spcBef>
                <a:spcPts val="10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Approve the Proposed 2016 Test Flight Schedule as recommended by TX SET was unanimously approved by RMS.</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2" marL="761760" indent="-196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ction Item for TX SET</a:t>
            </a:r>
            <a:r>
              <a:rPr b="0" lang="en-US" sz="1800" spc="-1" strike="noStrike">
                <a:solidFill>
                  <a:srgbClr val="000000"/>
                </a:solidFill>
                <a:latin typeface="Gill Sans MT"/>
              </a:rPr>
              <a:t>:  With PWG’s review of Protocol’s Section 18 (Load Profiling) PWG identified areas where the RMG Section 7.13.2  is referenced and may require review.  This section includes IDR Meter Installation Process and/or Optional Removal process.  This is an opportunity to verify if section 7.13.2 is up to date.  RMS Leadership requested that TX SET take on this review with the assistance of Jim Lee as subteam lead in this effort. </a:t>
            </a:r>
            <a:endParaRPr b="0" lang="en-US" sz="1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E7D2-9F89-43B6-B61E-399DF0CF30D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5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9" name="Object 2"/>
          <p:cNvGraphicFramePr/>
          <p:nvPr/>
        </p:nvGraphicFramePr>
        <p:xfrm>
          <a:off x="4549680" y="2133720"/>
          <a:ext cx="914400" cy="771480"/>
        </p:xfrm>
        <a:graphic>
          <a:graphicData uri="http://schemas.openxmlformats.org/presentationml/2006/ole">
            <p:oleObj progId="Word.Document.12" r:id="rId3" spid="">
              <p:embed/>
              <p:pic>
                <p:nvPicPr>
                  <p:cNvPr id="360" name="Object 2" descr=""/>
                  <p:cNvPicPr/>
                  <p:nvPr/>
                </p:nvPicPr>
                <p:blipFill>
                  <a:blip r:embed="rId4"/>
                  <a:stretch/>
                </p:blipFill>
                <p:spPr>
                  <a:xfrm>
                    <a:off x="4549680" y="21337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MarkeTrak Taskforce (MTTF)</a:t>
            </a:r>
            <a:endParaRPr b="0" lang="en-US" sz="2800" spc="-1" strike="noStrike">
              <a:solidFill>
                <a:srgbClr val="572314"/>
              </a:solidFill>
              <a:latin typeface="Gill Sans MT"/>
            </a:endParaRPr>
          </a:p>
        </p:txBody>
      </p:sp>
      <p:sp>
        <p:nvSpPr>
          <p:cNvPr id="362" name=""/>
          <p:cNvSpPr txBox="1"/>
          <p:nvPr/>
        </p:nvSpPr>
        <p:spPr>
          <a:xfrm>
            <a:off x="1143000" y="304560"/>
            <a:ext cx="7772400" cy="4800600"/>
          </a:xfrm>
          <a:prstGeom prst="rect">
            <a:avLst/>
          </a:prstGeom>
          <a:noFill/>
          <a:ln w="0">
            <a:noFill/>
          </a:ln>
        </p:spPr>
        <p:txBody>
          <a:bodyPr anchor="t">
            <a:normAutofit fontScale="84000"/>
          </a:bodyPr>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MGRR133, Inadvertent Gain Valid Reject Reasons (Vote)</a:t>
            </a:r>
            <a:endParaRPr b="0" lang="en-US" sz="24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0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MGRR provides clarification to the inadvertent gain process for losing and gaining Competitive Retailers (CRs) when evaluating valid reject reasons.  It also minimizes the confusion of valid reject reasons, which will improve the processing of inadvertent gain MarkeTrak issues and facilitate timely resolution.  </a:t>
            </a:r>
            <a:endParaRPr b="0" lang="en-US" sz="2000" spc="-1" strike="noStrike">
              <a:solidFill>
                <a:srgbClr val="000000"/>
              </a:solidFill>
              <a:latin typeface="Gill Sans MT"/>
            </a:endParaRPr>
          </a:p>
          <a:p>
            <a:pPr lvl="2" marL="744120" indent="-191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previous language stated: </a:t>
            </a:r>
            <a:endParaRPr b="0" lang="en-US" sz="2000" spc="-1" strike="noStrike">
              <a:solidFill>
                <a:srgbClr val="000000"/>
              </a:solidFill>
              <a:latin typeface="Gill Sans MT"/>
            </a:endParaRPr>
          </a:p>
          <a:p>
            <a:pPr lvl="3" marL="921240" indent="-14544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customer has entered into multiple valid contracts regarding the same ESI ID(s).</a:t>
            </a:r>
            <a:endParaRPr b="0" lang="en-US" sz="1800" spc="-1" strike="noStrike">
              <a:solidFill>
                <a:srgbClr val="000000"/>
              </a:solidFill>
              <a:latin typeface="Gill Sans MT"/>
            </a:endParaRPr>
          </a:p>
          <a:p>
            <a:pPr lvl="1" marL="537120" indent="-1983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Motion to Approve RMGRR133 as revised at the 10/6/15 RMS was unanimously approved</a:t>
            </a:r>
            <a:r>
              <a:rPr b="1" lang="en-US" sz="2400" spc="-1" strike="noStrike">
                <a:solidFill>
                  <a:srgbClr val="000000"/>
                </a:solidFill>
                <a:latin typeface="Gill Sans MT"/>
              </a:rPr>
              <a:t>.  </a:t>
            </a:r>
            <a:r>
              <a:rPr b="0" lang="en-US" sz="2400" spc="-1" strike="noStrike">
                <a:solidFill>
                  <a:srgbClr val="000000"/>
                </a:solidFill>
                <a:latin typeface="Gill Sans MT"/>
              </a:rPr>
              <a:t>Impact Analysis review and approval scheduled for Nov’s RMS  </a:t>
            </a:r>
            <a:endParaRPr b="0" lang="en-US" sz="2400" spc="-1" strike="noStrike">
              <a:solidFill>
                <a:srgbClr val="000000"/>
              </a:solidFill>
              <a:latin typeface="Gill Sans MT"/>
            </a:endParaRPr>
          </a:p>
        </p:txBody>
      </p:sp>
      <p:sp>
        <p:nvSpPr>
          <p:cNvPr id="3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90895-85BE-4C78-A0B1-10F22A24C8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2314"/>
                </a:solidFill>
                <a:latin typeface="Gill Sans MT"/>
              </a:rPr>
              <a:t>Texas Data Transport MarkeTrak Systems (TDTMS)</a:t>
            </a:r>
            <a:endParaRPr b="0" lang="en-US" sz="2400" spc="-1" strike="noStrike">
              <a:solidFill>
                <a:srgbClr val="572314"/>
              </a:solidFill>
              <a:latin typeface="Gill Sans MT"/>
            </a:endParaRPr>
          </a:p>
        </p:txBody>
      </p:sp>
      <p:sp>
        <p:nvSpPr>
          <p:cNvPr id="369" name=""/>
          <p:cNvSpPr txBox="1"/>
          <p:nvPr/>
        </p:nvSpPr>
        <p:spPr>
          <a:xfrm>
            <a:off x="761760" y="609480"/>
            <a:ext cx="8381880" cy="5486400"/>
          </a:xfrm>
          <a:prstGeom prst="rect">
            <a:avLst/>
          </a:prstGeom>
          <a:noFill/>
          <a:ln w="0">
            <a:noFill/>
          </a:ln>
        </p:spPr>
        <p:txBody>
          <a:bodyPr anchor="t">
            <a:normAutofit fontScale="95000"/>
          </a:bodyPr>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DTMS Transition Activities</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s part of the preparation effort to transition from “TDTWG” to “TDTMS”, the following items are underway with the completion goal of December 2015:</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reated new Scope Statement and circulated to the TDTWG listserv. Scope is to receive additional review during October meeting.</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gan work on new TDTMS Procedures document.</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ll begin work in October to update RMS Procedures to include new TDTMS working group name.</a:t>
            </a:r>
            <a:endParaRPr b="0" lang="en-US" sz="18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CR786 – Reviewed the Alternative Proposal presented by ERCOT.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DTMS’s next monthly meeting</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ace-to-Face Meeting @ Met Center and Web Conference</a:t>
            </a:r>
            <a:endParaRPr b="0" lang="en-US" sz="2000" spc="-1" strike="noStrike">
              <a:solidFill>
                <a:srgbClr val="000000"/>
              </a:solidFill>
              <a:latin typeface="Gill Sans MT"/>
            </a:endParaRPr>
          </a:p>
          <a:p>
            <a:pPr lvl="3" marL="1041840" indent="-164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13, 2015  9:30 a.m. to 4:00 p.m.</a:t>
            </a:r>
            <a:endParaRPr b="0" lang="en-US" sz="1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7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8C01-A6CE-4755-AF63-2BB3A6F3F70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61640" y="304920"/>
            <a:ext cx="7929720" cy="4572000"/>
          </a:xfrm>
          <a:prstGeom prst="rect">
            <a:avLst/>
          </a:prstGeom>
          <a:noFill/>
          <a:ln w="0">
            <a:noFill/>
          </a:ln>
        </p:spPr>
        <p:txBody>
          <a:bodyPr anchor="t">
            <a:normAutofit fontScale="85000"/>
          </a:bodyPr>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AMWG September Meeting Highlights:  </a:t>
            </a:r>
            <a:endParaRPr b="0" lang="en-US" sz="28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performing maintenance on the 1</a:t>
            </a:r>
            <a:r>
              <a:rPr b="0" lang="en-US" sz="2800" spc="-1" strike="noStrike" baseline="30000">
                <a:solidFill>
                  <a:srgbClr val="000000"/>
                </a:solidFill>
                <a:latin typeface="Gill Sans MT"/>
              </a:rPr>
              <a:t>st</a:t>
            </a:r>
            <a:r>
              <a:rPr b="0" lang="en-US" sz="2800" spc="-1" strike="noStrike">
                <a:solidFill>
                  <a:srgbClr val="000000"/>
                </a:solidFill>
                <a:latin typeface="Gill Sans MT"/>
              </a:rPr>
              <a:t> and 3</a:t>
            </a:r>
            <a:r>
              <a:rPr b="0" lang="en-US" sz="2800" spc="-1" strike="noStrike" baseline="30000">
                <a:solidFill>
                  <a:srgbClr val="000000"/>
                </a:solidFill>
                <a:latin typeface="Gill Sans MT"/>
              </a:rPr>
              <a:t>rd</a:t>
            </a:r>
            <a:r>
              <a:rPr b="0" lang="en-US" sz="2800" spc="-1" strike="noStrike">
                <a:solidFill>
                  <a:srgbClr val="000000"/>
                </a:solidFill>
                <a:latin typeface="Gill Sans MT"/>
              </a:rPr>
              <a:t> Sunday monthly schedules (includes patching)</a:t>
            </a:r>
            <a:endParaRPr b="0" lang="en-US" sz="28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viewed initial revisions to the AMWG CR processes</a:t>
            </a:r>
            <a:endParaRPr b="0" lang="en-US" sz="2800" spc="-1" strike="noStrike">
              <a:solidFill>
                <a:srgbClr val="000000"/>
              </a:solidFill>
              <a:latin typeface="Gill Sans MT"/>
            </a:endParaRPr>
          </a:p>
          <a:p>
            <a:pPr lvl="2" marL="752760" indent="-1940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ditional revisions/comments to be reviewed at October AMWG</a:t>
            </a:r>
            <a:endParaRPr b="0" lang="en-US" sz="24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aster Recovery (DR) exercise occurred 8/21-8/22 and 8/28-8/29…no issues, but some challenges were identified </a:t>
            </a:r>
            <a:endParaRPr b="0" lang="en-US" sz="2800" spc="-1" strike="noStrike">
              <a:solidFill>
                <a:srgbClr val="000000"/>
              </a:solidFill>
              <a:latin typeface="Gill Sans MT"/>
            </a:endParaRPr>
          </a:p>
          <a:p>
            <a:pPr lvl="2" marL="752760" indent="-1940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DR exercise is Oct. 23 &amp; 24, Oct. 30 &amp; 31</a:t>
            </a:r>
            <a:endParaRPr b="0" lang="en-US" sz="24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752760" indent="-1940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S</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465D-A434-4A3F-BC53-1E063DBAD28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7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itle 1"/>
          <p:cNvSpPr/>
          <p:nvPr/>
        </p:nvSpPr>
        <p:spPr>
          <a:xfrm>
            <a:off x="1046160" y="-152280"/>
            <a:ext cx="800100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37720" y="914040"/>
            <a:ext cx="8458200" cy="533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714</a:t>
            </a:r>
            <a:r>
              <a:rPr b="0" lang="en-US" sz="2800" spc="-1" strike="noStrike">
                <a:solidFill>
                  <a:srgbClr val="000000"/>
                </a:solidFill>
                <a:latin typeface="Gill Sans MT"/>
              </a:rPr>
              <a:t>	</a:t>
            </a:r>
            <a:r>
              <a:rPr b="0" lang="en-US" sz="2800" spc="-1" strike="noStrike">
                <a:solidFill>
                  <a:srgbClr val="000000"/>
                </a:solidFill>
                <a:latin typeface="Gill Sans MT"/>
              </a:rPr>
              <a:t> (- 257)</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695</a:t>
            </a:r>
            <a:r>
              <a:rPr b="0" lang="en-US" sz="2800" spc="-1" strike="noStrike">
                <a:solidFill>
                  <a:srgbClr val="000000"/>
                </a:solidFill>
                <a:latin typeface="Gill Sans MT"/>
              </a:rPr>
              <a:t>	</a:t>
            </a:r>
            <a:r>
              <a:rPr b="0" lang="en-US" sz="2800" spc="-1" strike="noStrike">
                <a:solidFill>
                  <a:srgbClr val="000000"/>
                </a:solidFill>
                <a:latin typeface="Gill Sans MT"/>
              </a:rPr>
              <a:t> (-170)</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623 (-145)</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221 (- 71)</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244  (-24)</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1,176</a:t>
            </a:r>
            <a:r>
              <a:rPr b="0" lang="en-US" sz="2800" spc="-1" strike="noStrike">
                <a:solidFill>
                  <a:srgbClr val="000000"/>
                </a:solidFill>
                <a:latin typeface="Gill Sans MT"/>
              </a:rPr>
              <a:t> </a:t>
            </a:r>
            <a:r>
              <a:rPr b="1" lang="en-US" sz="2800" spc="-1" strike="noStrike">
                <a:solidFill>
                  <a:srgbClr val="000000"/>
                </a:solidFill>
                <a:latin typeface="Gill Sans MT"/>
              </a:rPr>
              <a:t>(+  1,111)</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060,198</a:t>
            </a:r>
            <a:r>
              <a:rPr b="1" lang="en-US" sz="2800" spc="-1" strike="noStrike">
                <a:solidFill>
                  <a:srgbClr val="000000"/>
                </a:solidFill>
                <a:latin typeface="Gill Sans MT"/>
              </a:rPr>
              <a:t> (+11,216)</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6,990,921</a:t>
            </a:r>
            <a:r>
              <a:rPr b="0" lang="en-US" sz="2800" spc="-1" strike="noStrike">
                <a:solidFill>
                  <a:srgbClr val="c00000"/>
                </a:solidFill>
                <a:latin typeface="Gill Sans MT"/>
              </a:rPr>
              <a:t> </a:t>
            </a:r>
            <a:r>
              <a:rPr b="1" lang="en-US" sz="2800" spc="-1" strike="noStrike">
                <a:solidFill>
                  <a:srgbClr val="000000"/>
                </a:solidFill>
                <a:latin typeface="Gill Sans MT"/>
              </a:rPr>
              <a:t>(+12,957</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3"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T Statistics for September 2015</a:t>
            </a:r>
            <a:endParaRPr b="0" lang="en-US" sz="2800" spc="-1" strike="noStrike">
              <a:solidFill>
                <a:srgbClr val="572314"/>
              </a:solidFill>
              <a:latin typeface="Gill Sans MT"/>
            </a:endParaRPr>
          </a:p>
        </p:txBody>
      </p:sp>
      <p:sp>
        <p:nvSpPr>
          <p:cNvPr id="38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8E646-D66B-4DED-BD77-8909392A7C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October 14, 2015</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5-10-09T22:58:15Z</dcterms:modified>
  <cp:revision>1074</cp:revision>
  <dc:subject/>
  <dc:title>Instructions</dc:title>
</cp:coreProperties>
</file>