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15F8-0702-4DBD-822D-AC1700188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148C-953C-443F-86F6-963F1777C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BB61-1C75-42ED-B034-F97B9128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364D-D97D-4E1A-9813-323D01A7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FBEF2-EA9F-4168-8C3A-67993098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4DFC-EDFF-4CAB-8018-445258AB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AADA-BD5D-4D7B-8473-7D391A32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2919-CEDB-4B39-B2E2-8621729E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9345-13BB-4414-BDFF-BD80F9FA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5E6B-C271-4A3D-B5FD-5BA08961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61E4-7871-47F3-AB71-D4DF3D1E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D31D-BCC9-4801-9C28-D41BF98B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CAEA-FA40-4A2C-BB08-655019C7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CEC2A-7C2B-4897-A661-04191B7B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10FDC-D8F6-4D74-B011-ED6952AA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87D6-5373-4D8E-8A9D-E24C896A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A637-AB02-4D2E-BA46-31F1F741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B4D9-AD6C-4638-9265-24F30EC7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89127-B1BB-4A52-B93B-EAD437C70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8D600-8571-476B-A8D7-357FBA81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84730-25C3-4B31-B9BE-B32D7A56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1A053-8EFE-46B7-97E0-B6AE9082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5CE3B-7EEC-4AEF-A3E2-7EB76D98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6C87-B021-4D0D-845B-26CF3E1C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0979-D564-4FEA-9EBF-1725C8FD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70336-F377-4F75-AA36-59C124B8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02A7C-C580-426B-9F70-68F6FA0B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003EA-5656-4D27-BA56-81154261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9175B-636E-4B53-86CD-2CE2FFF0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50FDA-6E44-492A-A531-6B36214C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3481D-2F68-47D6-8681-CA96B5B3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B91A-2F61-4132-B46F-52C00845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0921-2829-4648-A018-9740AD56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2580A-229D-4709-8FF3-79E6F00F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30681-218B-42C2-86AC-4E2ED3AB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AC6C-7FED-40CE-ACD7-BE06D7E8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65B9-9647-4C56-809F-18443396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13BE-223D-40F9-BE3B-A01257AD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2875-B1F8-4C51-8860-D275F6E6C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4AA8-7F8D-4176-B264-D2B3B5FCE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88B5-42B7-4718-96A6-D7B5D6E66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B74C-680A-47AE-A301-A8C4A577F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content/wcm/key_documents_lists/74998/DRAFTXXXNPRR_01_Edits_from_the_082815_PWG_Meeting_doc_LB.doc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5303-FFE6-4765-A33B-1BB801696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October 14,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Jim Lee (AEP) – Chair</a:t>
            </a: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369720" y="1085760"/>
            <a:ext cx="79884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CTIONS TO REMO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5 – Guidelines for Load Profil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 – Load Profiling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.1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8.7 – Load Profile Methodology &amp; Evaluation using Loa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5 – Load Research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6 – Supplemental Load Prof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** Information contained in these sections are currently being evaluated to determine whether the content can be replaced by referencing the AIEC industry standards.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406440" y="282600"/>
            <a:ext cx="67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Load Profiling Guide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0AD3-EE3E-4FC1-ACF5-FB02BD589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5D0D-4368-4FA7-A764-7FE6A354B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571680" y="1889280"/>
            <a:ext cx="8001000" cy="383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PWG meeting date: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, October 28th, 9:30am start time  (In-person METCe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da i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Action Items for Section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work on Load Profiling Gu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61"/>
          <p:cNvSpPr/>
          <p:nvPr/>
        </p:nvSpPr>
        <p:spPr>
          <a:xfrm>
            <a:off x="596880" y="28224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rcot.com/committees/board/tac/cops/pwg/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86AD-BCCF-4E4E-9511-F85C48A2C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69720" y="297000"/>
            <a:ext cx="70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Annual Validation Update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4A40-5421-477B-9094-87125F4C5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961920" y="1143000"/>
            <a:ext cx="72201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69720" y="1085760"/>
            <a:ext cx="7988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presented the UFE weighting factors associated with NIDR, IDR-Distribution, and IDR-Transmission and the background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market open, a survey taken by TDSPs indicated that </a:t>
            </a:r>
            <a:r>
              <a:rPr b="1" i="1" lang="en-US" sz="2400" spc="-1" strike="noStrike">
                <a:solidFill>
                  <a:srgbClr val="00b050"/>
                </a:solidFill>
                <a:latin typeface="Arial"/>
              </a:rPr>
              <a:t>“high voltage customers and interval data recorders contribute less to UFE on an interval by interval basis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the market decided on the following allocation fact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D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R-Distribu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R-Transmission: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406440" y="282600"/>
            <a:ext cx="67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UFE Allocation Factor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A429-3392-4554-A3D5-3454715E6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69720" y="1085760"/>
            <a:ext cx="7988400" cy="51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evaluating whether the market is due for a change in allocation factors, the following questions were asked at PW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If designing methodology today, would we come up with the same solution/weighting factors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Should the weighting factors remain as-is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Should UFE be allocated based upon straight (non-weighted) load ratio sh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s to each question was the sa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b050"/>
                </a:solidFill>
                <a:latin typeface="Arial"/>
              </a:rPr>
              <a:t>Allocation factors should remain status quo because the overarching principle remains the same – high voltage customers and interval data recorders contribute less to UFE on an interval by interval basis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WG consensus: No changes to any of the UFE allocation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406440" y="282600"/>
            <a:ext cx="67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UFE Allocation Factor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EFD4-4FD8-4228-80A4-A1EC2BA32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6440" y="282600"/>
            <a:ext cx="67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New Valley Weather Zone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1FA98-F24D-4779-9B44-EF0F55C6D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685800" y="129528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proposes to create a ‘virtual’ weather zone on ERCOT’s system because the need for a new Valley WZ is mainly for ERCOT forecasting purposes. Therefore, a new market-facing weather zone will not be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is still evaluating how to distribute the Valley weather zone data, whether it is through reports &amp; extracts or another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agreed that ERCOT’s proposed solution is the best option. It has the least amount of system changes and impacts to Market Particip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69720" y="1085760"/>
            <a:ext cx="798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otocol Section 18 Edi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yperlink to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406440" y="282600"/>
            <a:ext cx="67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tocol Section 18 – Load Pro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B057-6C84-4B9C-91D0-878FFF81A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able 2" descr=""/>
          <p:cNvPicPr/>
          <p:nvPr/>
        </p:nvPicPr>
        <p:blipFill>
          <a:blip r:embed="rId2"/>
          <a:stretch/>
        </p:blipFill>
        <p:spPr>
          <a:xfrm>
            <a:off x="682560" y="1822320"/>
            <a:ext cx="7931160" cy="41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369720" y="1085760"/>
            <a:ext cx="7988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completed the task of reviewing and updating Protocol Section 18, Load Profil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k that Market Participants review the edits and provide any feedback at the October 2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November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WG meet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Section 18 Edi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yperlink to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next step, PWG has begun a full review of the Load Profiling Gu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406440" y="282600"/>
            <a:ext cx="67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tocol Section 18 – Load Pro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CD49-F3BB-4C02-9B7D-EDBF44684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69720" y="1085760"/>
            <a:ext cx="79884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initial review of the Load Profiling Guide, PWG identified several sections which are outdated or no longer nee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ly, it was brought to light that ERCOT utilizes the published Association of Edison Illuminating Companies (AEIC) Load Research standard for creating and maintaining Load Pro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PWG proposes to remove the outdated/not needed sections in the LPG by making the following chan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"/>
              </a:rPr>
              <a:t>Keep sections: 1-4; 7; 8.8-8.9; 9-14; Appendix D &amp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move sections: 5; 6; 8.1-8.7; 15 &amp;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406440" y="282600"/>
            <a:ext cx="67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Load Profiling Guide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4DB4-BAFA-4964-A79E-CE53C8311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6"/>
          <p:cNvSpPr/>
          <p:nvPr/>
        </p:nvSpPr>
        <p:spPr>
          <a:xfrm>
            <a:off x="369720" y="1085760"/>
            <a:ext cx="7988400" cy="51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SECTIONS TO RET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 – In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2 – Load Profiling Guide Revision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3 – [Reserve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4 – The Profiling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8.8 - Procedures for Requesting a Change to Load Profil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8.9 - Approval Process for Load Profile Model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9 – Load Profile 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0 – kVa to kW co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1 – Validation of Load Profile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2 – Request for Load Profile Segment Changes, Additions, or Remo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3 – Changes to Weather Zone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14 – Load Profile ID Dispute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ppendix D &amp;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06440" y="282600"/>
            <a:ext cx="67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Load Profiling Guide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F65B-CA84-4856-A6A8-DADA0AB8B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Jim Lee</cp:lastModifiedBy>
  <dcterms:modified xsi:type="dcterms:W3CDTF">2015-10-07T02:09:15Z</dcterms:modified>
  <cp:revision>1126</cp:revision>
  <dc:subject/>
  <dc:title>Instructions</dc:title>
</cp:coreProperties>
</file>