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6954-640D-4673-8118-86080A21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05E53-A609-48A4-82EE-9CD7F5CF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C32E-0238-4CF9-8CDF-D771346A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06BF3-A390-45C4-BBDB-6C378113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BD80-8F73-4015-861F-AAB9F5B0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9937-80C0-4D5B-98ED-63A1670F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283E-F7BB-4D8E-9C34-4A96BD73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9DA4B-FA39-4712-B2A1-A5B7D124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70333-0073-488B-A546-A1405204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4B91-4DF3-467A-94BC-172EC71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B9F84-80E2-47D4-AA59-50D635C3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FC0DF-2209-4DE0-8E71-E22AE5F8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5DBE-0D17-4D38-8984-07919377F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tember 24, 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6605-0145-4D1C-AC67-EFD7B8E532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1DCD-51E9-4EB3-86A1-32259271B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5D3A-FFEE-4E70-8421-7A32801968E7}" type="datetime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ptember 24, 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1960" y="1904760"/>
            <a:ext cx="601956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MS Metered Registered Generato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1280"/>
            <a:ext cx="63435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Concept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etitive Are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P Read Gen Form identifies the meter as A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COT establishes a Resource ID (RID) record (RID=ESI ID) with a METERTYPECODE of A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P sets ESI ID profile code to an existing “DG” profile type and submits both channels of AMS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COT generation aggregation process pulls the generation data from the AMSINTERVAL ta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COT load aggregation process excludes the generation when performing the unregistered generation load reduction proc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24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IE Area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P Read Gen Form identifies the meter as A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COT establishes a Resource ID (RID) record with a METERTYPECODE of A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DSP submits generation data (channel 1) via the AMS ERCOT specified file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RCOT generation aggregation process pulls the generation data from the AMSINTERVAL ta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24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Roberts, Randy</dc:creator>
  <dc:description/>
  <dc:language>en-US</dc:language>
  <cp:lastModifiedBy>Roberts, Randy</cp:lastModifiedBy>
  <dcterms:modified xsi:type="dcterms:W3CDTF">2015-09-24T20:34:35Z</dcterms:modified>
  <cp:revision>98</cp:revision>
  <dc:subject/>
  <dc:title>Instru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nformation Classification">
    <vt:lpwstr>ERCOT Limited</vt:lpwstr>
  </property>
</Properties>
</file>