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06C-B2D1-4FB5-BD18-69E3BC48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102-0D67-461B-8881-4A209D07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05D87-47A6-464D-829B-543D58BF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6952A-6B35-41C1-914B-4CB04422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8DD6E-E19C-4212-8284-09217FBC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73837-E01D-4FDB-B810-AAEF7D0F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AC99C-43CA-4215-817D-86CD5F18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F7481-B825-4703-9A56-1116FD99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BD962-4EF1-4BB4-A46B-1C640F2D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9FE57-CB2E-4752-9ED9-76EF1B41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E1A89-BAFE-4671-BC8D-B019C286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4ACA6-27B2-47B3-981B-81215084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D53-9F36-48DD-B83D-2E5B9CEE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E3EB7-6861-4DFB-99AB-9C461224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4179C-0A0C-45EC-A7C3-6289DACD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AE371-76B2-4D28-8BBA-4B9F3D0E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03B80-C28C-4F95-8E74-6FA8F725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67B65-39D4-48E5-B5FD-D5150D0C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F89F2-0190-4D0D-8DD5-D561556E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C8C83-08AC-45EB-B03A-566FF7B7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C474B-C282-4FAB-8D27-623B340E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3E3F1-4E7C-4D4A-997E-1275C4D2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57FE2-45BB-4E86-979B-31734F2E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9C7-F8D0-4F14-ABCD-9511875F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299A4-0A3D-4655-9787-8E1B0E4D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637BA-B7EC-4F62-9A77-C4FAB9CF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92985-E13A-4304-9B7B-A9C68DAA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0D51A-17FD-4FCC-BC5C-B2C1645F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5DE8F-F169-4060-8569-4C3A96DF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6D275-BBD4-4435-8834-19134324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D3D61-DF59-45A5-8282-284C0B4A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D0FEA-3130-4FE1-B41A-8A65705A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AD89B-5E71-46CC-8AB8-CC9737A7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5C856-FEDA-4E88-B152-773AC0A9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9D6F-5832-46FB-84BA-64CA9B9D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AC6D8-B720-4F51-AB35-7D8EBF24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74DC0-886C-4CF3-AAE0-4DC3071E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1C8BC-92B5-44FD-BBBA-058302DD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39376-9758-4FB6-A99A-AD6A730D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8F12A-B377-4756-8F3A-2B015D47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70AB7-169F-4DF6-89B7-62F9AD61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1A81C-5606-4F8E-BEFF-6AA03ADF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A67F5-F017-49E7-BEC2-1BABFA33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2D0EF-0B4C-402F-8C3C-E07E2637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11C47-A24E-4CF6-9738-A081F51F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1A44-94F9-4642-A4DA-CF88C1AB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F20DA-9A42-405C-B489-4DB3690A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736DE-3B3C-40A8-8C2D-ACF5DB8A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0772E-0BE0-408C-9B3F-73C0B2AA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062E0-2C99-4B04-90C1-961E1812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0BFAA-2878-4B82-87DB-58B664D1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B949-8981-42D4-BA3E-7127A279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6B43-BAB3-4AC6-AEDE-9AD8E309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B720-F656-4CEA-99A1-1B013379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CDDC-789D-4835-8801-9E968A71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0B31-0078-43AB-9287-19AC47BE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1D7-5AB6-4189-9021-3229A42C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AF42-5686-40B4-BE4B-66C0D424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9C3A-F9BB-4293-901E-F3674CF5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ACEF-584A-4FD2-A002-DDCA622E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98BC-7D0C-4C21-8702-6CF43C73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80C0-CD49-4376-B4CB-DAAD5FD6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1F3F-E6E1-47FB-80D1-ED4574EC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9F72-26A8-4F92-ACAE-67E11272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679D-2C0B-45E9-A8CF-A7199045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9D25-792C-476F-9220-F1181486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DDE8-CAEA-40E7-B206-92C4A536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1CF-8E49-4A7B-ABE3-5791A39F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F765-2445-4357-A923-33AA4D14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B63B-E7AB-4049-8F99-CEC5B6F2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A997-1908-4D68-994C-F5E95AF6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63BE-D12F-4E39-AD9D-B078754D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9711-D555-4535-B1B9-E548A150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F0D7-09DA-4369-BCD0-CEA05B9F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A43D-7055-4113-B636-86D90863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1A4EC-49F5-4263-8D44-551118BC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EC382-00D5-460C-8B22-7B1C8F7E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11059-C907-4A32-A9C7-144516B9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413-18B3-447E-B468-A0AA09A1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FACA6-FC8C-4CBD-B798-5285BA6D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A28DB-89C4-4D52-A3EB-49C35176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5468D-CD59-4E67-ADCE-5425BC92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A38E-7900-43C6-9A5C-B00B0671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3BD2-0A4F-41CC-A2F1-D381EEDB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AFCFA-1303-4178-B02C-6917A37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A8FFD-AF6C-46F1-ABFE-5E49D078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2E516-6514-4EE7-8952-00DFB2CD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F69C-C880-43AC-A657-3FB1F822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578E5-4A42-406B-BB70-BBC44A7E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D10-E9A2-41B4-ACD9-E463CB8E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AF91-9501-4ED3-B575-6BF415B0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85B0C-2F4B-479B-9FFF-6F05B2FA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C0411-4852-4AF5-8E44-83778B3C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0228-78E7-4D1D-BC41-5C97276C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1C221-67D4-47DB-BE51-DBBDE2FD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B2FCE-34FE-46FA-84DC-38EA9CC4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E7AE6-35AF-4FF2-9234-32FB9E5F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CD7E3-F923-45C8-AA8F-6EE779FD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C24C7-5AD7-4D22-90AD-2528F6D9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CABE8-8A6F-44AD-8A7D-48C7B916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84E-3104-4D07-87A5-4770EEAA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13B2A-F0B1-4165-BF6C-350EE4EB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09031-1BEF-4DCA-9B33-1CC9DB96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D88A6-5FD8-4D40-8FF7-E12CF60E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445E3-4D05-433D-ADBA-B71D3C6E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8FD50-A138-4231-9258-7CC42C12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53A13-25C0-4AFD-8EBB-708E6732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316D5-BA43-4835-9CD5-92179D38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0D669-69A7-4197-ACEA-022767B0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2D7A7-932A-49D2-B2A9-74E4A86B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B9A66-1CB5-40F5-8390-3CB65373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636-B8DB-4AC4-8ACC-41451171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6DF77-4B00-4B98-9C86-51E57761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C9A05-D6D2-4F2D-A97A-A273B47E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8BE6B-A434-4C33-9BBF-6A491030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E42C1-33C3-426D-A2AF-DA9E9DF9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EE658-7682-470D-97DF-E51CD13E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CD6EB-F649-4706-8852-5C0CB5C2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3DE04-21F4-44A6-A159-6EB5ACB2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977D5-8D5B-4A6C-8B77-8F83575C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0F2BC-7C0D-411F-B38B-3CCC1162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4B4E3-1B51-4DDE-930F-7452C26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14A-9F70-4341-9D9B-B42CBF63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8F53B-BD26-4DBF-9CFA-DF39DBF0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8D0BC-8745-4C7C-AF05-0844AD53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AAE37-FD09-49CF-A03B-0C698F97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7E801-06C5-4E58-8DD9-3C1BA7BB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6FEDD-DC8F-4CCA-B945-5695D412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C8662-3626-4CC9-95C7-CD21A0AD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94541-797E-4538-B654-D548ADE5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97CBE-193E-46D9-8C71-1771F01C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D6163-0990-41C4-8958-9D8717EF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10710-16B8-4DDF-AC58-46C836AC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6C4-1E92-4400-BFC1-413CEB73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0DD41-3D75-40E7-B0DC-35DCD566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B63AE-FCEF-4D73-A12D-CA44D4BA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86142-EBB4-41FD-8719-A9F8D7DA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F88EB-A7AF-48BA-A0CE-BBD663E3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BA2B7-0F9A-459C-A562-488A7582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06DB7-92B2-4FCC-B0D2-E1590AD3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01972-50E4-423D-82E3-99B838BE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29DB3-22F1-458A-A186-F9540EFE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98AA9-AE19-4496-A0F8-F61E2B79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D0660-0440-441E-8B0A-7173119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7937-3622-480D-AC82-49353A4889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46FB3303-776A-4BA8-99C6-120614E49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E417-0E21-422B-8722-E537A14C4B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DA11-97F2-4E24-AEEE-0C70DC8CF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C2D1-F21D-4BE7-9C8E-04CC1622B9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DDD1-BA67-4E5B-AD17-89EB30135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362A-3618-4F58-B75C-94578E04BE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A391-4AD4-403F-83B9-FE8009FEF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9997-DA70-4C7C-BEDE-14D3E37C99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BEEC-9E89-40A1-9C57-24FC9F1B7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6B55-0B8A-4A4E-BFED-5D150469A9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DF18-C8CD-4DEC-AC63-55776F683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A407-D550-49E6-B9E8-24742D7D62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BD6C-1C16-4BEA-9E98-EE9BF4D52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AB8F-867C-489E-BF81-BCAE103B4F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372C-BFD8-4A2C-8881-B236F68E3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A3A2-D8D1-4C67-A3BC-A18F754672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4360-3C18-47A5-A751-FD1B2612E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6E08-507B-4239-8416-6A2A12B5B2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CBA2-3A5C-45F3-A875-64F695A42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340B-05BB-48EB-9CBF-E396AFE58B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5C06-6136-41F4-9156-165C4AFCE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8002-B03C-4A4D-A031-FBF7A71E30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68D1-A705-4F2D-A4BB-0AAB9320F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GDTF Update to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ctober 8,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chael Juric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95F7-0FCB-45A8-BDAA-E5A6E4519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8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ory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January 21, 2015, NERC filed a Petition for Approval of TPL-007-1 with FER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February 26, 2015, Foundation for Resilient Societies, Inc. Initiated a Level 2 Appeal which NERC is Proces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May 14, 2015, FERC Issued NOPR Proposing to Approve NERC TPL-007-1 and Directing NERC as Follow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the Benchmark GMD Event Definition and Transformer Thermal Impact Study Requirem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 Installation of Monitoring Equip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Specific Deadlines for the Development of Corrective Action Plans and the Completion of  Plan Activ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GMD Topics and Make Informational Filings to FER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10/8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AF0E-54D7-420E-BA62-B3F77F70D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ory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s on FERC NOPR Due Before July 27,201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merous Comments Fil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ents Ranged from Adopt as Filed to Start Ov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August 17, 2015, NERC Notified the Foundation for Resilient Societies, Inc. the Level 2 Appeal Panel Had Decided the Foundation Was Afforded Fair and Equitable Treatment During the Development of the Proposed Stand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RC Extended Deadline for Comments Until September 10, 201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re Comments Were Fil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 Published Deadline For Completion of FERC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10/8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3759-2476-4E4E-98DD-1286660AF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ent PGDTF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ining on Model Development Held on October 1, 2015 in Taylor – Seven ERCOT TSPs, ERCOT Staff and Five Other Entities Attend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cedure Manual Development is Progress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10/8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960A-6706-4F74-8479-B7F911782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Activities for PGDT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inue Development of Procedure Man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 Plan for Documenting GMD Planning Activiti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Model for GMD Vulnerability Assess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xt Meeting Scheduled for October 23, 2015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10/8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EAF1-01B1-458A-8BCC-E0D511B96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question-mark3a.jpg"/>
          <p:cNvPicPr/>
          <p:nvPr/>
        </p:nvPicPr>
        <p:blipFill>
          <a:blip r:embed="rId1"/>
          <a:stretch/>
        </p:blipFill>
        <p:spPr>
          <a:xfrm>
            <a:off x="3230640" y="2200320"/>
            <a:ext cx="2682720" cy="3328920"/>
          </a:xfrm>
          <a:prstGeom prst="rect">
            <a:avLst/>
          </a:prstGeom>
          <a:ln w="0">
            <a:noFill/>
          </a:ln>
        </p:spPr>
      </p:pic>
      <p:sp>
        <p:nvSpPr>
          <p:cNvPr id="5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FABF-DA0C-4B26-82B4-757E78E6B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10/8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Adrian Williams</cp:lastModifiedBy>
  <dcterms:modified xsi:type="dcterms:W3CDTF">2015-10-02T21:20:01Z</dcterms:modified>
  <cp:revision>115</cp:revision>
  <dc:subject/>
  <dc:title>PGDTF Update to ROS</dc:title>
</cp:coreProperties>
</file>