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E543B-5327-4CE0-B956-AEBDAE4B8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2D187-60F8-40ED-AB8B-E8D7C366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F7DD6-0AF7-412B-9A5C-6F1F47330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EE181-0335-458A-8281-57E22E66C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A0D98-5BA5-4249-87A3-6A41D5B2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42475-242E-4FA2-8D9F-B5EAD1F0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2D266-EAB6-4D04-81D5-67CF32B2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385AA-4C44-4FAD-8AAC-C3AACC0A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FAE0D-50ED-4644-8018-EB02BAA5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E242E-9843-46A9-9215-2DCB90BD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34ADD-C137-4648-B269-D4719561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1E7D8-F1B7-4B75-BABF-BC2FE0E4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35C2-3811-4D60-AD49-86D42C849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tember 24,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1799-CC01-4029-B66C-E85D24C2F5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5AB7-3D72-4C74-BA16-ABC25000B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F411-1A77-4B64-8839-E5A0B17C96C3}" type="datetime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ptember 24, 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1960" y="1904760"/>
            <a:ext cx="601956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MS Metered Registered Generato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1280"/>
            <a:ext cx="63435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Concept Discu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mpetitive Are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DSP Read Gen Form identifies the meter as A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COT establishes a Resource ID (RID) record (RID=ESI ID) with a METERTYPECODE of A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DSP sets ESI ID profile code to an existing “DG” profile type and submits both channels of AMS dat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COT generation aggregation process pulls the generation data from the AMSINTERVAL tab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COT load aggregation process excludes the generation when performing the unregistered generation load reduction proce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ember 24,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OIE Are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DSP Read Gen Form identifies the meter as A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COT establishes a Resource ID (RID) record with a METERTYPECODE of A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DSP submits generation data (channel 1) via the AMS ERCOT specified file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COT generation aggregation process pulls the generation data from the AMSINTERVAL tab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ember 24,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Roberts, Randy</dc:creator>
  <dc:description/>
  <dc:language>en-US</dc:language>
  <cp:lastModifiedBy>Roberts, Randy</cp:lastModifiedBy>
  <dcterms:modified xsi:type="dcterms:W3CDTF">2015-09-24T20:34:35Z</dcterms:modified>
  <cp:revision>98</cp:revision>
  <dc:subject/>
  <dc:title>Instruc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rmation Classification">
    <vt:lpwstr>ERCOT Limited</vt:lpwstr>
  </property>
</Properties>
</file>