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gency FB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cy FB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A560-9D75-40ED-9B80-8FFB0FFFC4B5}" type="slidenum">
              <a:rPr b="0" lang="en-US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E350-B830-4CDB-80CF-F864F3936570}" type="slidenum">
              <a:rPr b="0" lang="en-US" sz="12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085F-C0D8-4A84-A236-7E9F8E8D708B}" type="slidenum">
              <a:rPr b="0" lang="en-US" sz="12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D9E6-CC5D-45D4-BEAA-8F393B146899}" type="slidenum">
              <a:rPr b="0" lang="en-US" sz="12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579B-B2B6-4484-8526-D5A8F625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88E5-C3C0-4180-9694-4EB18C82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C67A-8C69-4B31-9FF6-54E28F9C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93C-8836-4E8A-B000-B1683C73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4FC-7B5F-4E18-8915-A708BA3E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01A7-D924-4AB5-BC65-F9E1F947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925E-303B-4359-B8D5-202C8090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B37-DCA5-4386-ABEA-2E0C5138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1FA-2DCF-4A69-94B8-B28B03E2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114F-C0A7-4236-BCEF-5FB072A7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38C-6CCE-4526-89FB-74375E4A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FBF8-002C-4E2C-8983-D069F5B6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gency FB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742D-F9BB-4046-A423-089D4C2CB01F}" type="slidenum">
              <a:rPr b="0" lang="en-US" sz="14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6828-E413-40B3-83ED-A3AECBD0475B}" type="slidenum">
              <a:rPr b="0" lang="en-US" sz="14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6668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a4"/>
                </a:solidFill>
                <a:latin typeface="Agency FB"/>
              </a:rPr>
              <a:t>Update to RMS </a:t>
            </a:r>
            <a:br>
              <a:rPr sz="5400"/>
            </a:br>
            <a:br>
              <a:rPr sz="2800"/>
            </a:br>
            <a:r>
              <a:rPr b="1" lang="en-US" sz="5400" spc="-1" strike="noStrike">
                <a:solidFill>
                  <a:srgbClr val="0000a4"/>
                </a:solidFill>
                <a:latin typeface="Agency FB"/>
              </a:rPr>
              <a:t>October 6, 2015</a:t>
            </a:r>
            <a:endParaRPr b="0" lang="en-US" sz="5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50" name="AutoShape 26"/>
          <p:cNvSpPr/>
          <p:nvPr/>
        </p:nvSpPr>
        <p:spPr>
          <a:xfrm>
            <a:off x="2819520" y="685800"/>
            <a:ext cx="3581280" cy="24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1" name="Oval 27"/>
          <p:cNvSpPr/>
          <p:nvPr/>
        </p:nvSpPr>
        <p:spPr>
          <a:xfrm>
            <a:off x="3048120" y="457200"/>
            <a:ext cx="3149640" cy="289548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2" name="AutoShape 28"/>
          <p:cNvSpPr/>
          <p:nvPr/>
        </p:nvSpPr>
        <p:spPr>
          <a:xfrm>
            <a:off x="3424320" y="785880"/>
            <a:ext cx="2371680" cy="1942920"/>
          </a:xfrm>
          <a:custGeom>
            <a:avLst/>
            <a:gdLst/>
            <a:ahLst/>
            <a:rect l="l" t="t" r="r" b="b"/>
            <a:pathLst>
              <a:path w="2371725" h="1943100">
                <a:moveTo>
                  <a:pt x="3" y="742196"/>
                </a:moveTo>
                <a:lnTo>
                  <a:pt x="905923" y="742201"/>
                </a:lnTo>
                <a:lnTo>
                  <a:pt x="1185863" y="0"/>
                </a:lnTo>
                <a:lnTo>
                  <a:pt x="1465802" y="742201"/>
                </a:lnTo>
                <a:lnTo>
                  <a:pt x="2371722" y="742196"/>
                </a:lnTo>
                <a:lnTo>
                  <a:pt x="1638814" y="1200897"/>
                </a:lnTo>
                <a:lnTo>
                  <a:pt x="1918764" y="1943095"/>
                </a:lnTo>
                <a:lnTo>
                  <a:pt x="1185863" y="1484386"/>
                </a:lnTo>
                <a:lnTo>
                  <a:pt x="452961" y="1943095"/>
                </a:lnTo>
                <a:lnTo>
                  <a:pt x="732911" y="1200897"/>
                </a:lnTo>
                <a:lnTo>
                  <a:pt x="3" y="742196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3" name="WordArt 30"/>
          <p:cNvSpPr txBox="1"/>
          <p:nvPr/>
        </p:nvSpPr>
        <p:spPr>
          <a:xfrm>
            <a:off x="2209680" y="685800"/>
            <a:ext cx="47246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c00000"/>
                </a:solidFill>
                <a:latin typeface="Niagara Solid"/>
              </a:rPr>
              <a:t>TX SET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c00000"/>
              </a:solidFill>
              <a:latin typeface="Niagara Solid"/>
              <a:ea typeface="Niagara Soli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9F48-F074-485D-ACCC-E57E75DBB2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10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a4"/>
                </a:solidFill>
                <a:latin typeface="Agency FB"/>
              </a:rPr>
              <a:t>September 2015 Meeting Up</a:t>
            </a:r>
            <a:r>
              <a:rPr b="1" lang="en-US" sz="4800" spc="-1" strike="noStrike">
                <a:solidFill>
                  <a:srgbClr val="0000a4"/>
                </a:solidFill>
                <a:latin typeface="Agency FB"/>
              </a:rPr>
              <a:t>dates</a:t>
            </a:r>
            <a:endParaRPr b="0" lang="en-US" sz="48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6160" y="991800"/>
            <a:ext cx="854064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-343080">
              <a:spcBef>
                <a:spcPts val="700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gency FB"/>
              </a:rPr>
              <a:t>2016 Flight Schedule Review (Vote)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-343080">
              <a:spcBef>
                <a:spcPts val="700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gency FB"/>
              </a:rPr>
              <a:t>Texas Market Test Plan Review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3" marL="800280" indent="-343080">
              <a:spcBef>
                <a:spcPts val="499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gency FB"/>
              </a:rPr>
              <a:t>Draft Complete</a:t>
            </a:r>
            <a:endParaRPr b="0" lang="en-US" sz="20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-343080">
              <a:spcBef>
                <a:spcPts val="700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gency FB"/>
              </a:rPr>
              <a:t>2015 Test Flight Statistics Reviewed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-343080">
              <a:spcBef>
                <a:spcPts val="700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gency FB"/>
              </a:rPr>
              <a:t>Retail Market Guide (RMG) Safety Net Language Review to Begin at October Meeting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-343080">
              <a:spcBef>
                <a:spcPts val="700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gency FB"/>
              </a:rPr>
              <a:t>Other Items Discussed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3" marL="800280" indent="-343080">
              <a:spcBef>
                <a:spcPts val="499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gency FB"/>
              </a:rPr>
              <a:t>TDSP Tampering Processes</a:t>
            </a:r>
            <a:endParaRPr b="0" lang="en-US" sz="2000" spc="-1" strike="noStrike">
              <a:solidFill>
                <a:srgbClr val="ffffff"/>
              </a:solidFill>
              <a:latin typeface="Agency FB"/>
            </a:endParaRPr>
          </a:p>
          <a:p>
            <a:pPr lvl="3" marL="800280" indent="-343080">
              <a:spcBef>
                <a:spcPts val="499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gency FB"/>
              </a:rPr>
              <a:t>Scheduled Outage Notification </a:t>
            </a:r>
            <a:endParaRPr b="0" lang="en-US" sz="2000" spc="-1" strike="noStrike">
              <a:solidFill>
                <a:srgbClr val="ffffff"/>
              </a:solidFill>
              <a:latin typeface="Agency FB"/>
            </a:endParaRPr>
          </a:p>
          <a:p>
            <a:pPr lvl="3" marL="800280" indent="-343080">
              <a:spcBef>
                <a:spcPts val="499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gency FB"/>
              </a:rPr>
              <a:t>TDSP Retire ESI ID Process</a:t>
            </a:r>
            <a:endParaRPr b="0" lang="en-US" sz="2000" spc="-1" strike="noStrike">
              <a:solidFill>
                <a:srgbClr val="ffffff"/>
              </a:solidFill>
              <a:latin typeface="Agency FB"/>
            </a:endParaRPr>
          </a:p>
          <a:p>
            <a:pPr lvl="3" marL="800280" indent="-343080">
              <a:spcBef>
                <a:spcPts val="499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gency FB"/>
              </a:rPr>
              <a:t>Date Change / Cancellation One-Day Window</a:t>
            </a:r>
            <a:endParaRPr b="0" lang="en-US" sz="20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603D-7C34-4019-BF47-ECAB3D5EFF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10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a4"/>
                </a:solidFill>
                <a:latin typeface="Agency FB"/>
              </a:rPr>
              <a:t>September 2015 Meeting Updates</a:t>
            </a:r>
            <a:endParaRPr b="0" lang="en-US" sz="40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6160" y="991800"/>
            <a:ext cx="854064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-343080">
              <a:spcBef>
                <a:spcPts val="700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gency FB"/>
              </a:rPr>
              <a:t>Next Meeting– ERCOT MET Center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3" marL="800280" indent="-343080">
              <a:spcBef>
                <a:spcPts val="499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gency FB"/>
              </a:rPr>
              <a:t>October 19</a:t>
            </a:r>
            <a:r>
              <a:rPr b="0" lang="en-US" sz="2000" spc="-1" strike="noStrike" baseline="30000">
                <a:solidFill>
                  <a:srgbClr val="0000a4"/>
                </a:solidFill>
                <a:latin typeface="Agency FB"/>
              </a:rPr>
              <a:t>th</a:t>
            </a:r>
            <a:r>
              <a:rPr b="0" lang="en-US" sz="2000" spc="-1" strike="noStrike">
                <a:solidFill>
                  <a:srgbClr val="0000a4"/>
                </a:solidFill>
                <a:latin typeface="Agency FB"/>
              </a:rPr>
              <a:t> RM 168</a:t>
            </a:r>
            <a:r>
              <a:rPr b="0" lang="en-US" sz="2000" spc="-1" strike="noStrike">
                <a:solidFill>
                  <a:srgbClr val="0000a4"/>
                </a:solidFill>
                <a:latin typeface="Agency FB"/>
              </a:rPr>
              <a:t>	</a:t>
            </a:r>
            <a:r>
              <a:rPr b="0" lang="en-US" sz="2000" spc="-1" strike="noStrike">
                <a:solidFill>
                  <a:srgbClr val="0000a4"/>
                </a:solidFill>
                <a:latin typeface="Agency FB"/>
              </a:rPr>
              <a:t> 11:00 AM – 4:00 PM </a:t>
            </a:r>
            <a:endParaRPr b="0" lang="en-US" sz="2000" spc="-1" strike="noStrike">
              <a:solidFill>
                <a:srgbClr val="ffffff"/>
              </a:solidFill>
              <a:latin typeface="Agency FB"/>
            </a:endParaRPr>
          </a:p>
          <a:p>
            <a:pPr lvl="3" marL="800280" indent="-343080">
              <a:spcBef>
                <a:spcPts val="499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gency FB"/>
              </a:rPr>
              <a:t>October 20</a:t>
            </a:r>
            <a:r>
              <a:rPr b="0" lang="en-US" sz="2000" spc="-1" strike="noStrike" baseline="30000">
                <a:solidFill>
                  <a:srgbClr val="0000a4"/>
                </a:solidFill>
                <a:latin typeface="Agency FB"/>
              </a:rPr>
              <a:t>th</a:t>
            </a:r>
            <a:r>
              <a:rPr b="0" lang="en-US" sz="2000" spc="-1" strike="noStrike">
                <a:solidFill>
                  <a:srgbClr val="0000a4"/>
                </a:solidFill>
                <a:latin typeface="Agency FB"/>
              </a:rPr>
              <a:t> RM 102  </a:t>
            </a:r>
            <a:r>
              <a:rPr b="0" lang="en-US" sz="2000" spc="-1" strike="noStrike">
                <a:solidFill>
                  <a:srgbClr val="0000a4"/>
                </a:solidFill>
                <a:latin typeface="Agency FB"/>
              </a:rPr>
              <a:t>	</a:t>
            </a:r>
            <a:r>
              <a:rPr b="0" lang="en-US" sz="2000" spc="-1" strike="noStrike">
                <a:solidFill>
                  <a:srgbClr val="0000a4"/>
                </a:solidFill>
                <a:latin typeface="Agency FB"/>
              </a:rPr>
              <a:t>09:30 AM – 4:00 PM</a:t>
            </a:r>
            <a:endParaRPr b="0" lang="en-US" sz="20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gency FB"/>
              </a:rPr>
              <a:t>Any questions?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20:37:34Z</dcterms:created>
  <dc:creator>kpatrick</dc:creator>
  <dc:description/>
  <dc:language>en-US</dc:language>
  <cp:lastModifiedBy>TNMP09172015</cp:lastModifiedBy>
  <dcterms:modified xsi:type="dcterms:W3CDTF">2015-09-18T16:54:26Z</dcterms:modified>
  <cp:revision>291</cp:revision>
  <dc:subject/>
  <dc:title>PowerPoint Presentation</dc:title>
</cp:coreProperties>
</file>