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86EE-98E9-4BEA-A669-8DBDDDBFB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9B29-1927-4F43-B7AC-BBD3088E1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7F7D-0651-4751-B7D6-B79FDD521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91F6-56D5-41C2-A0A1-FAFEACAEA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283E-F1A7-4E18-B584-5A6870F17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741E0D2-999C-4725-B4E4-2528F230D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17BB42F-3702-4CAD-A3FF-F680A66F1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BB697CF-F70D-497C-A569-5F4E6EE786D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18A969-6B58-4F77-A45E-61B4C6FC481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B7E458C-7A5F-46CA-B19A-A00BAC73C34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FDC4F9-8DC8-4AA2-8C29-2F11C443D6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1CFD027-700B-45E5-9BBF-B417A528E98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D45C0E-842B-4A59-863A-4DFD664A8AC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C957414-5EBC-4184-8409-499223086CC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9E5D03E-7AD7-4A4A-A713-6C2319E2B4F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F9DD884-5E2E-4FB6-914B-04BBAA8483D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3ADE171-4672-4D1B-8BA0-4EA95D5B0D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C197525-68BD-4616-843D-05AAF6B546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EDE48-8C38-4354-9B9C-BBAA6E86F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D8564-F524-4F6D-9197-9B8773C61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EA0D1-3FAB-447A-8037-06EA1A2C7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14E8E-6D08-40D4-A660-A3FD3A4F7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27180-2D67-40EF-9AB4-64A2C9FBD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CA89B-4AFF-40DE-8457-B70D8ABC9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BB6C9-7510-4168-8822-D78A09518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57CBBE-F723-4383-B2C4-74FDE0D28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23DB6-6845-4E80-9077-F9FB9E9C8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E2FFA-A090-4BE3-9D48-467ABB5C5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B8C77-BD20-4317-869F-70204AF94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5BB51-7BE3-43AB-BBA1-67AC6C913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E6046-318C-4040-837E-14020515F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BB4F8C2-D267-43A5-B4A6-07FA07FCE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EDFF512-A32F-4D17-9F67-06149F54D5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722190-0E1D-4057-9E15-4FC44A6A1B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88ABF6-FA7C-4A49-934D-9948968F3E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0035705-F38C-483B-AC51-AF1AE50FE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203C5D-56B0-4D0D-B9EC-9498F0385A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47A084-4E3A-4EC1-B013-06D0EFE8DE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A3D677-9764-486E-ACF4-EA7C61F517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E2FE0F-93CD-4551-BB40-EFB4DA8C03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4B8759-03EF-446C-A2CE-670E312DC9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5D38B4-894C-4F73-BCAB-2B379D65E4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A29853-B391-46C5-91D0-789F18A84A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515E6B-35B5-4223-ACBD-AA30973B62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1CF6DF-5921-47F1-9F36-EA21B47BAB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3354D0E-5EA3-4D88-94DE-01CD73CADD2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5337530-ECA1-4924-BA08-F76F6900A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4BE8AB-7F02-4D03-9E50-BF9AAE50B3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021694-D1E8-4C85-952B-E2E60DB6FD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D53A7B-56BC-4B8D-816B-E1CA525A2A0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0BF1F1-F62C-4045-8257-DC98B025E8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57CD05-AE2E-4CB6-B399-8A525F2789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81753B-DA24-4468-93AF-F73F1C94D6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2D6346-8312-411F-BD54-28C03EF223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610443-5389-4F80-BA6C-F6802331AE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D9B0AA-E435-4BDE-BF87-C4EA4D76CF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ED62CB6-14FD-47B8-8DDB-CC68675A700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018FBB9-4CA3-4118-81FF-F8175906F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3D94E4C-A1DD-4841-9DCF-8A129E6AC9C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70A97A5-2805-4FA3-9F02-7C9105C280D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F914FD0-432C-4774-AC5B-D036C1873D1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CBA70CB-9762-4A43-8E22-FF418F6D20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44CFDF9-7E07-4BFC-998E-607A9AC821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5DF679-D79C-4727-B28D-CA75856560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E906EA-FB18-4163-B028-771D1A874E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4C4F39-23A2-4699-89AC-662E8FCA27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E94824-1AD6-49EB-BF0F-4B6F1E6F91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BA20E7-99E8-46FB-B24C-8EF2D409B77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75D535-611D-43C2-BF97-FF71CA08A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1C57F1-A29F-4C9B-966F-0133E9ACC5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64450BE-CAD7-45C9-BC23-61C04E765EB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69F645F-B081-4D9B-A87C-8BD9CC14027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D8012F7-63A1-4C9E-810C-B2B7EB62CEC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00ED751-1723-4DC4-8C99-5132AC1F260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7E897B8-7633-41F4-A79A-09A3DAB64AB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6D98AC3-6DC2-430A-99B2-B1BA10F6130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38C4550-EFDE-4EB5-9F4D-67BC72AD759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7E8A99B-D5A1-4CBD-A1A7-F6C0428238C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6E0B03A-F59F-484A-8F85-8AEA13BAC5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C54A3C-BBC7-4027-978D-49C97C4B4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7D04194-A35C-44A7-A612-125AD12D60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5D7981-B16F-47A8-93C6-4F844067CF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6C12AD-AD15-4AB5-A4E0-AAB3557CB93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8140980-703F-453A-9572-B81ACDF7AC9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F5BFF1B-1B8C-4623-9826-056550C0696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3499D57-86BB-4FAC-9FC0-9ADEAA511E1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3DD2FFC-E8F5-4FBA-91FA-5D974489571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AD144CD-476B-42FD-BFCF-B6BB3376D94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1DE0DD-5624-41DE-B0CD-431EB76CC2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0E77DAE-0D6E-43E2-A62D-9F7C0B6C4C1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2E621ED-2F29-4AF2-830F-54B29D07A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400D008-B4D5-4302-AE8C-EFB4FBB23B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6E31BA-F4CB-498F-8532-F5AC8F6604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FC25BF-D742-4712-8698-1515D26EFB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3828CA6-1C60-4513-AC95-CCC59A35B39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B122876-C457-4701-A214-8D47744C44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E4FD326-7B4C-42D9-B7E0-362A5C9BDA3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28A8A9C-523D-41D3-90D3-1C63350F602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12FCD99-C4C4-4600-8084-7CCEDE4DFF0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4C56B03-8933-4027-B86C-73A713C1C27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30D6737-B6E1-4A1E-9688-5EED5AD9E91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6966-EA55-4153-BD89-430E613D6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3BA9-F58B-4FF5-83AB-B6BD2F654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6DE2-2688-431B-AAF9-2580B0A6A03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D178-39ED-4D40-9433-2AD7F2EFD4E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D354-8D98-40CA-BA2C-3CD4C7708A8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D8DF-656E-4229-9FC8-F29655C9C13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C4C1-6BD4-424C-B779-F7D346CA7F0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0399-FE31-4F64-8EC1-D2A07FBD2FC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E360-1236-4B73-9D23-886AFF20D0F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rcot.com/content/wcm/key_documents_lists/75789/03._TAC_Structural_Procedural_Update.zip"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cot.com/content/wcm/key_documents_lists/75789/06._ROS_Report.zip"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rcot.com/content/wcm/key_documents_lists/75789/07._WMS_update_2015_09_24.ppt.pdf"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rcot.com/content/wcm/key_documents_lists/75789/08._RMS_Update_to_TAC_09_24_15.ppt" TargetMode="External"/><Relationship Id="rId2" Type="http://schemas.openxmlformats.org/officeDocument/2006/relationships/hyperlink" Target="http://www.ercot.com/content/wcm/key_documents_lists/75789/08._RMS_Update_to_TAC_09_24_15.ppt" TargetMode="External"/><Relationship Id="rId3" Type="http://schemas.openxmlformats.org/officeDocument/2006/relationships/hyperlink" Target="http://www.ercot.com/content/wcm/key_documents_lists/75789/09._COPS_Report.zip" TargetMode="External"/><Relationship Id="rId4" Type="http://schemas.openxmlformats.org/officeDocument/2006/relationships/hyperlink" Target="http://www.ercot.com/content/wcm/key_documents_lists/75789/09._COPS_Report.zip" TargetMode="Externa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September 24, 2015 </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6, 2015</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F877-B159-4E6B-A9C4-4D1AD70A692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DREAM Taskforce Update </a:t>
            </a:r>
            <a:endParaRPr b="0" lang="en-US" sz="3600" spc="-1" strike="noStrike">
              <a:solidFill>
                <a:srgbClr val="572314"/>
              </a:solidFill>
              <a:latin typeface="Gill Sans MT"/>
            </a:endParaRPr>
          </a:p>
        </p:txBody>
      </p:sp>
      <p:sp>
        <p:nvSpPr>
          <p:cNvPr id="464" name=""/>
          <p:cNvSpPr txBox="1"/>
          <p:nvPr/>
        </p:nvSpPr>
        <p:spPr>
          <a:xfrm>
            <a:off x="952560" y="685440"/>
            <a:ext cx="815328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istributed Resource Energy and Ancillaries Market Taskforce (DREAM)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REAM Taskforce Update: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EAM September meeting date and planned focus: </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ember 28, 2015</a:t>
            </a:r>
            <a:r>
              <a:rPr b="0" lang="en-US" sz="2000" spc="-1" strike="noStrike">
                <a:solidFill>
                  <a:srgbClr val="000000"/>
                </a:solidFill>
                <a:latin typeface="Gill Sans MT"/>
              </a:rPr>
              <a:t>:  Definitions, Reporting, Distribution Awareness, and DR Aggregation Rules</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alendar/2015/9/28/73836-DREAMTF </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September 1, 2015</a:t>
            </a:r>
            <a:endParaRPr b="0" lang="en-US" sz="1200" spc="-1" strike="noStrike">
              <a:solidFill>
                <a:srgbClr val="000000"/>
              </a:solidFill>
              <a:latin typeface="Arial"/>
            </a:endParaRPr>
          </a:p>
        </p:txBody>
      </p:sp>
      <p:sp>
        <p:nvSpPr>
          <p:cNvPr id="4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776D-C373-4E0D-B942-DBFB3BB8372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Ancillary Services Re-design Update </a:t>
            </a:r>
            <a:endParaRPr b="0" lang="en-US" sz="3600" spc="-1" strike="noStrike">
              <a:solidFill>
                <a:srgbClr val="572314"/>
              </a:solidFill>
              <a:latin typeface="Gill Sans MT"/>
            </a:endParaRPr>
          </a:p>
        </p:txBody>
      </p:sp>
      <p:sp>
        <p:nvSpPr>
          <p:cNvPr id="469" name=""/>
          <p:cNvSpPr txBox="1"/>
          <p:nvPr/>
        </p:nvSpPr>
        <p:spPr>
          <a:xfrm>
            <a:off x="990720" y="685440"/>
            <a:ext cx="815328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AS (NPRR 667)</a:t>
            </a: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FAS/SIRS workshop was held on Monday, September 21, 2015 where a lot good market feedback was received and ERCOT will be discussing that feedback internally.  </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rattle is planning to provide an update and presentations to the market on November 9, 2015.   </a:t>
            </a:r>
            <a:r>
              <a:rPr b="0" lang="en-US" sz="2400" spc="-1" strike="noStrike" baseline="30000">
                <a:solidFill>
                  <a:srgbClr val="000000"/>
                </a:solidFill>
                <a:latin typeface="Gill Sans MT"/>
              </a:rPr>
              <a:t> </a:t>
            </a:r>
            <a:r>
              <a:rPr b="0" lang="en-US" sz="2400" spc="-1" strike="noStrike">
                <a:solidFill>
                  <a:srgbClr val="000000"/>
                </a:solidFill>
                <a:latin typeface="Gill Sans MT"/>
              </a:rPr>
              <a:t>This meeting is already posted to ERCOT.com</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alendar/2015/11/9/73769-FAST  </a:t>
            </a: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COT will provide comments to NPRR667 so that market participants can start reviewing and submitting their comments through the appropriate channels.   </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7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2A99-06D6-45E3-B845-0F4CB9F823C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Operations, Planning and IT Report </a:t>
            </a:r>
            <a:endParaRPr b="0" lang="en-US" sz="3600" spc="-1" strike="noStrike">
              <a:solidFill>
                <a:srgbClr val="572314"/>
              </a:solidFill>
              <a:latin typeface="Gill Sans MT"/>
            </a:endParaRPr>
          </a:p>
        </p:txBody>
      </p:sp>
      <p:sp>
        <p:nvSpPr>
          <p:cNvPr id="474" name=""/>
          <p:cNvSpPr txBox="1"/>
          <p:nvPr/>
        </p:nvSpPr>
        <p:spPr>
          <a:xfrm>
            <a:off x="1066320" y="456840"/>
            <a:ext cx="807732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EPSC Live Oak Regional Planning Group Project (Possible Vo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5789/11._AEPSC_Live_Oak_RPG_Project_TAC.pptx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5789/11._ERCOT_Review_of_AEP_Live_Oak_County_Transmission_Project_09_14_2015.pdf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recommend the AEPSC Live Oak Regional Planning Group Project as recommended by ERCOT was unanimously Approved</a:t>
            </a:r>
            <a:r>
              <a:rPr b="0" lang="en-US" sz="2000" spc="-1" strike="noStrike">
                <a:solidFill>
                  <a:srgbClr val="000000"/>
                </a:solidFill>
                <a:latin typeface="Gill Sans MT"/>
              </a:rPr>
              <a:t>.  This recommendation will require Board Approval during their October 13</a:t>
            </a:r>
            <a:r>
              <a:rPr b="0" lang="en-US" sz="2000" spc="-1" strike="noStrike" baseline="30000">
                <a:solidFill>
                  <a:srgbClr val="000000"/>
                </a:solidFill>
                <a:latin typeface="Gill Sans MT"/>
              </a:rPr>
              <a:t>th</a:t>
            </a:r>
            <a:r>
              <a:rPr b="0" lang="en-US" sz="2000" spc="-1" strike="noStrike">
                <a:solidFill>
                  <a:srgbClr val="000000"/>
                </a:solidFill>
                <a:latin typeface="Gill Sans MT"/>
              </a:rPr>
              <a:t> Board meeting.  </a:t>
            </a: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4BE0-4CA7-40F3-9053-D6284713CCB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Other Business</a:t>
            </a:r>
            <a:endParaRPr b="0" lang="en-US" sz="3600" spc="-1" strike="noStrike">
              <a:solidFill>
                <a:srgbClr val="572314"/>
              </a:solidFill>
              <a:latin typeface="Gill Sans MT"/>
            </a:endParaRPr>
          </a:p>
        </p:txBody>
      </p:sp>
      <p:sp>
        <p:nvSpPr>
          <p:cNvPr id="479" name=""/>
          <p:cNvSpPr txBox="1"/>
          <p:nvPr/>
        </p:nvSpPr>
        <p:spPr>
          <a:xfrm>
            <a:off x="1066320" y="762120"/>
            <a:ext cx="8077320" cy="541008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visions to TAC Procedures (Vote)</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changes were administrative changes that are needed</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s submitted to TAC</a:t>
            </a:r>
            <a:r>
              <a:rPr b="0" lang="en-US" sz="1800" spc="-1" strike="noStrike">
                <a:solidFill>
                  <a:srgbClr val="000000"/>
                </a:solidFill>
                <a:latin typeface="Gill Sans MT"/>
              </a:rPr>
              <a:t>.  Board will need to confirm these changes during their October meeting.</a:t>
            </a:r>
            <a:endParaRPr b="0" lang="en-US" sz="18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ontent/wcm/key_documents_lists/75789/12._Other_Business.zip</a:t>
            </a: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ditional Discussion: </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requested/recommended that in the event that comments are submitted on behalf of Working Groups or Taskforces to a Subcommittee(s) and/or Committee, there will need to be an individual assigned to champion those comments throughout the governance and implementation process to address any questions and/or concerns from the voting body.   </a:t>
            </a: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Leadership and members agreed that sponsorship throughout the process is especially helpful for those not familiar with that market process or need for the recommended redlined changes.   </a:t>
            </a:r>
            <a:endParaRPr b="0" lang="en-US" sz="20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8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8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8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2005-8002-4A39-A0F1-2B03646EC21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hanges In ERCOT’s Executive Management!</a:t>
            </a:r>
            <a:endParaRPr b="0" lang="en-US" sz="3200" spc="-1" strike="noStrike">
              <a:solidFill>
                <a:srgbClr val="572314"/>
              </a:solidFill>
              <a:latin typeface="Gill Sans MT"/>
            </a:endParaRPr>
          </a:p>
        </p:txBody>
      </p:sp>
      <p:sp>
        <p:nvSpPr>
          <p:cNvPr id="484" name=""/>
          <p:cNvSpPr txBox="1"/>
          <p:nvPr/>
        </p:nvSpPr>
        <p:spPr>
          <a:xfrm>
            <a:off x="1066320" y="762120"/>
            <a:ext cx="8077320" cy="54100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If you haven’t heard effective in October Brad Jones, ERCOT’s Chief Operating Officer (COO), has been tapped as Chief Executive Officer (CEO) of New York’s ISO… </a:t>
            </a:r>
            <a:r>
              <a:rPr b="1" i="1" lang="en-US" sz="2800" spc="-1" strike="noStrike">
                <a:solidFill>
                  <a:srgbClr val="000000"/>
                </a:solidFill>
                <a:latin typeface="Gill Sans MT"/>
              </a:rPr>
              <a:t>Brad will be truly missed in the Texas Market!!!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i="1" lang="en-US" sz="2800" spc="-1" strike="noStrike">
                <a:solidFill>
                  <a:srgbClr val="000000"/>
                </a:solidFill>
                <a:latin typeface="Gill Sans MT"/>
              </a:rPr>
              <a:t>Additional announcement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Woody Rickerson</a:t>
            </a:r>
            <a:r>
              <a:rPr b="0" lang="en-US" sz="2400" spc="-1" strike="noStrike">
                <a:solidFill>
                  <a:srgbClr val="000000"/>
                </a:solidFill>
                <a:latin typeface="Gill Sans MT"/>
              </a:rPr>
              <a:t>, currently ERCOT’s Director of Grid Coordination, will be Vice President of ERCOT’s Grid Planning and Operation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Kenan Ögelman</a:t>
            </a:r>
            <a:r>
              <a:rPr b="0" lang="en-US" sz="2400" spc="-1" strike="noStrike">
                <a:solidFill>
                  <a:srgbClr val="000000"/>
                </a:solidFill>
                <a:latin typeface="Gill Sans MT"/>
              </a:rPr>
              <a:t>, currently Director of Energy Market Policy for CPS Energy, will be Vice President of ERCOT’s Commercial Operations.</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4AB9-8D66-4038-8D88-96C7DF58364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8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6BF3-9008-4038-BDD0-B39C420F468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9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9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92" name="Content Placeholder 4" descr=""/>
          <p:cNvPicPr/>
          <p:nvPr/>
        </p:nvPicPr>
        <p:blipFill>
          <a:blip r:embed="rId1"/>
          <a:stretch/>
        </p:blipFill>
        <p:spPr>
          <a:xfrm>
            <a:off x="1676520" y="838080"/>
            <a:ext cx="6705360" cy="50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90160" y="0"/>
            <a:ext cx="7953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TAC Structural &amp; Procedural Reviews </a:t>
            </a:r>
            <a:endParaRPr b="0" lang="en-US" sz="3900" spc="-1" strike="noStrike">
              <a:solidFill>
                <a:srgbClr val="572314"/>
              </a:solidFill>
              <a:latin typeface="Gill Sans MT"/>
            </a:endParaRPr>
          </a:p>
        </p:txBody>
      </p:sp>
      <p:sp>
        <p:nvSpPr>
          <p:cNvPr id="424" name=""/>
          <p:cNvSpPr txBox="1"/>
          <p:nvPr/>
        </p:nvSpPr>
        <p:spPr>
          <a:xfrm>
            <a:off x="1218960" y="761760"/>
            <a:ext cx="792468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lignment of 2015 Goals to TAC Approved Revision Requests, </a:t>
            </a:r>
            <a:r>
              <a:rPr b="0" lang="en-US" sz="3200" spc="-1" strike="noStrike">
                <a:solidFill>
                  <a:srgbClr val="000000"/>
                </a:solidFill>
                <a:latin typeface="Gill Sans MT"/>
              </a:rPr>
              <a:t>this</a:t>
            </a:r>
            <a:r>
              <a:rPr b="1" lang="en-US" sz="3200" spc="-1" strike="noStrike">
                <a:solidFill>
                  <a:srgbClr val="000000"/>
                </a:solidFill>
                <a:latin typeface="Gill Sans MT"/>
              </a:rPr>
              <a:t> </a:t>
            </a:r>
            <a:r>
              <a:rPr b="0" lang="en-US" sz="3200" spc="-1" strike="noStrike">
                <a:solidFill>
                  <a:srgbClr val="000000"/>
                </a:solidFill>
                <a:latin typeface="Gill Sans MT"/>
              </a:rPr>
              <a:t>spreadsheet was </a:t>
            </a:r>
            <a:r>
              <a:rPr b="1" lang="en-US" sz="3200" spc="-1" strike="noStrike">
                <a:solidFill>
                  <a:srgbClr val="000000"/>
                </a:solidFill>
                <a:latin typeface="Gill Sans MT"/>
              </a:rPr>
              <a:t>unanimously Approved</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vote will be included in the TAC update to the Board for the October 13</a:t>
            </a:r>
            <a:r>
              <a:rPr b="0" lang="en-US" sz="2800" spc="-1" strike="noStrike" baseline="30000">
                <a:solidFill>
                  <a:srgbClr val="000000"/>
                </a:solidFill>
                <a:latin typeface="Gill Sans MT"/>
              </a:rPr>
              <a:t>th</a:t>
            </a:r>
            <a:r>
              <a:rPr b="0" lang="en-US" sz="2800" spc="-1" strike="noStrike">
                <a:solidFill>
                  <a:srgbClr val="000000"/>
                </a:solidFill>
                <a:latin typeface="Gill Sans MT"/>
              </a:rPr>
              <a:t> Board meeting.  </a:t>
            </a:r>
            <a:endParaRPr b="0" lang="en-US" sz="28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http://www.ercot.com/content/wcm/key_documents_lists/75789/03._TAC_Structural_Procedural_Update.zip</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requency/Efficiency of Meetings:</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r TAC Leadership a determination will be made later in October if the October 29</a:t>
            </a:r>
            <a:r>
              <a:rPr b="0" lang="en-US" sz="2800" spc="-1" strike="noStrike" baseline="30000">
                <a:solidFill>
                  <a:srgbClr val="000000"/>
                </a:solidFill>
                <a:latin typeface="Gill Sans MT"/>
              </a:rPr>
              <a:t>th</a:t>
            </a:r>
            <a:r>
              <a:rPr b="0" lang="en-US" sz="2800" spc="-1" strike="noStrike">
                <a:solidFill>
                  <a:srgbClr val="000000"/>
                </a:solidFill>
                <a:latin typeface="Gill Sans MT"/>
              </a:rPr>
              <a:t> TAC meeting will be necessary</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21B4-6EFF-47D3-8FDB-FB6AAD7A41C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90160" y="0"/>
            <a:ext cx="7953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TAC Structural &amp; Procedural Reviews </a:t>
            </a:r>
            <a:endParaRPr b="0" lang="en-US" sz="3900" spc="-1" strike="noStrike">
              <a:solidFill>
                <a:srgbClr val="572314"/>
              </a:solidFill>
              <a:latin typeface="Gill Sans MT"/>
            </a:endParaRPr>
          </a:p>
        </p:txBody>
      </p:sp>
      <p:sp>
        <p:nvSpPr>
          <p:cNvPr id="429" name=""/>
          <p:cNvSpPr txBox="1"/>
          <p:nvPr/>
        </p:nvSpPr>
        <p:spPr>
          <a:xfrm>
            <a:off x="1066320" y="761760"/>
            <a:ext cx="807732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en-US" sz="2800" spc="-1" strike="noStrike">
                <a:solidFill>
                  <a:srgbClr val="000000"/>
                </a:solidFill>
                <a:latin typeface="Gill Sans MT"/>
              </a:rPr>
              <a:t>Working Groups/Task Forces Review: </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RC Reliability Working Group (</a:t>
            </a:r>
            <a:r>
              <a:rPr b="1" lang="en-US" sz="2400" spc="-1" strike="noStrike">
                <a:solidFill>
                  <a:srgbClr val="000000"/>
                </a:solidFill>
                <a:latin typeface="Gill Sans MT"/>
              </a:rPr>
              <a:t>NERC</a:t>
            </a:r>
            <a:r>
              <a:rPr b="0" lang="en-US" sz="2400" spc="-1" strike="noStrike">
                <a:solidFill>
                  <a:srgbClr val="000000"/>
                </a:solidFill>
                <a:latin typeface="Gill Sans MT"/>
              </a:rPr>
              <a:t>) and Critical Infrastructure Protection Working Group (</a:t>
            </a:r>
            <a:r>
              <a:rPr b="1" lang="en-US" sz="2400" spc="-1" strike="noStrike">
                <a:solidFill>
                  <a:srgbClr val="000000"/>
                </a:solidFill>
                <a:latin typeface="Gill Sans MT"/>
              </a:rPr>
              <a:t>CIPWG</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membership suggested to recreate their charters and allow these two WGs to continue to have meetings/discussions under ERCOT.     Reorganize them similar to the Regional Planning Group’s structure and their market meeting responsibilities.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ltage Reduction Taskforce (</a:t>
            </a:r>
            <a:r>
              <a:rPr b="1" lang="en-US" sz="2400" spc="-1" strike="noStrike">
                <a:solidFill>
                  <a:srgbClr val="000000"/>
                </a:solidFill>
                <a:latin typeface="Gill Sans MT"/>
              </a:rPr>
              <a:t>VRTF</a:t>
            </a:r>
            <a:r>
              <a:rPr b="0" lang="en-US" sz="2400" spc="-1" strike="noStrike">
                <a:solidFill>
                  <a:srgbClr val="000000"/>
                </a:solidFill>
                <a:latin typeface="Gill Sans MT"/>
              </a:rPr>
              <a:t>) will be disbanded.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utage Coordination Improvement Taskforce (</a:t>
            </a:r>
            <a:r>
              <a:rPr b="1" lang="en-US" sz="2400" spc="-1" strike="noStrike">
                <a:solidFill>
                  <a:srgbClr val="000000"/>
                </a:solidFill>
                <a:latin typeface="Gill Sans MT"/>
              </a:rPr>
              <a:t>OCITF</a:t>
            </a:r>
            <a:r>
              <a:rPr b="0" lang="en-US" sz="2400" spc="-1" strike="noStrike">
                <a:solidFill>
                  <a:srgbClr val="000000"/>
                </a:solidFill>
                <a:latin typeface="Gill Sans MT"/>
              </a:rPr>
              <a:t>),  ROS will be looking at ways to reduce their scope.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xas Data Transport and MarkeTrak Taskforce responsibilities will be combined and renamed as Texas Data Transport and MarkeTrak Systems (</a:t>
            </a:r>
            <a:r>
              <a:rPr b="1" lang="en-US" sz="2400" spc="-1" strike="noStrike">
                <a:solidFill>
                  <a:srgbClr val="000000"/>
                </a:solidFill>
                <a:latin typeface="Gill Sans MT"/>
              </a:rPr>
              <a:t>TDTMS</a:t>
            </a:r>
            <a:r>
              <a:rPr b="0" lang="en-US" sz="2400" spc="-1" strike="noStrike">
                <a:solidFill>
                  <a:srgbClr val="000000"/>
                </a:solidFill>
                <a:latin typeface="Gill Sans MT"/>
              </a:rPr>
              <a:t>) Working Group.</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3FFE-84DC-422B-A8E8-9D1F3AE034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a:t>
            </a:r>
            <a:endParaRPr b="0" lang="en-US" sz="4300" spc="-1" strike="noStrike">
              <a:solidFill>
                <a:srgbClr val="572314"/>
              </a:solidFill>
              <a:latin typeface="Gill Sans MT"/>
            </a:endParaRPr>
          </a:p>
        </p:txBody>
      </p:sp>
      <p:sp>
        <p:nvSpPr>
          <p:cNvPr id="434" name=""/>
          <p:cNvSpPr txBox="1"/>
          <p:nvPr/>
        </p:nvSpPr>
        <p:spPr>
          <a:xfrm>
            <a:off x="990720" y="685800"/>
            <a:ext cx="822960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63</a:t>
            </a:r>
            <a:r>
              <a:rPr b="0" lang="en-US" sz="2400" spc="-1" strike="noStrike">
                <a:solidFill>
                  <a:srgbClr val="000000"/>
                </a:solidFill>
                <a:latin typeface="Gill Sans MT"/>
              </a:rPr>
              <a:t>, Ancillary Service Insufficiency Actions</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pproved with 2 Abstentions</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89</a:t>
            </a:r>
            <a:r>
              <a:rPr b="0" lang="en-US" sz="2400" spc="-1" strike="noStrike">
                <a:solidFill>
                  <a:srgbClr val="000000"/>
                </a:solidFill>
                <a:latin typeface="Gill Sans MT"/>
              </a:rPr>
              <a:t>, Settlement of Ancillary Service Assignment in Real-Time Operations</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oll Call Vote:  23 Yes /6No /0Abstentions- Motion carried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14</a:t>
            </a:r>
            <a:r>
              <a:rPr b="0" lang="en-US" sz="2400" spc="-1" strike="noStrike">
                <a:solidFill>
                  <a:srgbClr val="000000"/>
                </a:solidFill>
                <a:latin typeface="Gill Sans MT"/>
              </a:rPr>
              <a:t>, Real-Time Make-Whole Payment for Exceptional Fuel Cost</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otion included a Sunset Date: June 1, 2017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oll Call Vote: 22 Yes /1No /6Abstentions- Motion carried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tion Item:  </a:t>
            </a:r>
            <a:r>
              <a:rPr b="0" lang="en-US" sz="2000" spc="-1" strike="noStrike">
                <a:solidFill>
                  <a:srgbClr val="000000"/>
                </a:solidFill>
                <a:latin typeface="Gill Sans MT"/>
              </a:rPr>
              <a:t>WMS was asked to investigate and determine if there are long term solutions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17</a:t>
            </a:r>
            <a:r>
              <a:rPr b="0" lang="en-US" sz="2400" spc="-1" strike="noStrike">
                <a:solidFill>
                  <a:srgbClr val="000000"/>
                </a:solidFill>
                <a:latin typeface="Gill Sans MT"/>
              </a:rPr>
              <a:t>, Clarification of EPS Metering Exception for ERS Generation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3983-1110-4FFF-B58A-27FAEDD2EC7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a:t>
            </a:r>
            <a:endParaRPr b="0" lang="en-US" sz="4300" spc="-1" strike="noStrike">
              <a:solidFill>
                <a:srgbClr val="572314"/>
              </a:solidFill>
              <a:latin typeface="Gill Sans MT"/>
            </a:endParaRPr>
          </a:p>
        </p:txBody>
      </p:sp>
      <p:sp>
        <p:nvSpPr>
          <p:cNvPr id="439" name=""/>
          <p:cNvSpPr txBox="1"/>
          <p:nvPr/>
        </p:nvSpPr>
        <p:spPr>
          <a:xfrm>
            <a:off x="914400" y="685800"/>
            <a:ext cx="8305920" cy="556272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18</a:t>
            </a:r>
            <a:r>
              <a:rPr b="0" lang="en-US" sz="2400" spc="-1" strike="noStrike">
                <a:solidFill>
                  <a:srgbClr val="000000"/>
                </a:solidFill>
                <a:latin typeface="Gill Sans MT"/>
              </a:rPr>
              <a:t>, Correct Requirement for Posting AML Data</a:t>
            </a:r>
            <a:endParaRPr b="0" lang="en-US" sz="24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21</a:t>
            </a:r>
            <a:r>
              <a:rPr b="0" lang="en-US" sz="2400" spc="-1" strike="noStrike">
                <a:solidFill>
                  <a:srgbClr val="000000"/>
                </a:solidFill>
                <a:latin typeface="Gill Sans MT"/>
              </a:rPr>
              <a:t>, Removal of Language Related to NPRR455, CRR Shift Factors Report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22</a:t>
            </a:r>
            <a:r>
              <a:rPr b="0" lang="en-US" sz="2400" spc="-1" strike="noStrike">
                <a:solidFill>
                  <a:srgbClr val="000000"/>
                </a:solidFill>
                <a:latin typeface="Gill Sans MT"/>
              </a:rPr>
              <a:t>, Removal of Language Related to NPRR181, FIP Definition Revision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23</a:t>
            </a:r>
            <a:r>
              <a:rPr b="0" lang="en-US" sz="2400" spc="-1" strike="noStrike">
                <a:solidFill>
                  <a:srgbClr val="000000"/>
                </a:solidFill>
                <a:latin typeface="Gill Sans MT"/>
              </a:rPr>
              <a:t>, Removal of grey-boxes from NPRR256, Adding Non-Compliance Language to QSE Performance Standards</a:t>
            </a:r>
            <a:endParaRPr b="0" lang="en-US" sz="24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24</a:t>
            </a:r>
            <a:r>
              <a:rPr b="0" lang="en-US" sz="2400" spc="-1" strike="noStrike">
                <a:solidFill>
                  <a:srgbClr val="000000"/>
                </a:solidFill>
                <a:latin typeface="Gill Sans MT"/>
              </a:rPr>
              <a:t>, Removal of Language Related to NPRR493, Half-Hour RUC Clawback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72AE-9FD9-464D-B64F-F2E9E680761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Tabled and/or Withdrawn Revisions</a:t>
            </a:r>
            <a:endParaRPr b="0" lang="en-US" sz="3200" spc="-1" strike="noStrike">
              <a:solidFill>
                <a:srgbClr val="572314"/>
              </a:solidFill>
              <a:latin typeface="Gill Sans MT"/>
            </a:endParaRPr>
          </a:p>
        </p:txBody>
      </p:sp>
      <p:sp>
        <p:nvSpPr>
          <p:cNvPr id="444" name=""/>
          <p:cNvSpPr txBox="1"/>
          <p:nvPr/>
        </p:nvSpPr>
        <p:spPr>
          <a:xfrm>
            <a:off x="838080" y="685800"/>
            <a:ext cx="83059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quest Previously Tabled at  TAC (Possible Vo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PGRR055</a:t>
            </a:r>
            <a:r>
              <a:rPr b="0" lang="en-US" sz="2800" spc="-1" strike="noStrike">
                <a:solidFill>
                  <a:srgbClr val="000000"/>
                </a:solidFill>
                <a:latin typeface="Gill Sans MT"/>
              </a:rPr>
              <a:t>, Extend Load Profile Model Calendar Inputs to 2030</a:t>
            </a:r>
            <a:endParaRPr b="0" lang="en-US" sz="2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ichele Trenary (COPS Chair) received a request from ERCOT to continue to Table LGPRR055 for another month since ERCOT was having implementation issues.</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continue Tabling LPGRR055 was unanimously Approved</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tion Item:  </a:t>
            </a:r>
            <a:r>
              <a:rPr b="0" lang="en-US" sz="2000" spc="-1" strike="noStrike">
                <a:solidFill>
                  <a:srgbClr val="000000"/>
                </a:solidFill>
                <a:latin typeface="Gill Sans MT"/>
              </a:rPr>
              <a:t>TAC Leadership requested that COPS Leadership find out why the additional delays are being requested by ERCOT?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6143-2672-4384-8199-0F2FEFD7202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914400" y="685800"/>
            <a:ext cx="8153280" cy="55627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75789/06._ROS_Report.zip</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CITF Report</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OS endorsed four options to create revision request: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ption 1</a:t>
            </a:r>
            <a:r>
              <a:rPr b="0" lang="en-US" sz="2000" spc="-1" strike="noStrike">
                <a:solidFill>
                  <a:srgbClr val="000000"/>
                </a:solidFill>
                <a:latin typeface="Gill Sans MT"/>
              </a:rPr>
              <a:t>: Develop process to create and maintain High Impact Outage (HIO) list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ption 3A</a:t>
            </a:r>
            <a:r>
              <a:rPr b="0" lang="en-US" sz="2000" spc="-1" strike="noStrike">
                <a:solidFill>
                  <a:srgbClr val="000000"/>
                </a:solidFill>
                <a:latin typeface="Gill Sans MT"/>
              </a:rPr>
              <a:t>:  Identify and post HIO list in new MIS report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ption 4A</a:t>
            </a:r>
            <a:r>
              <a:rPr b="0" lang="en-US" sz="2000" spc="-1" strike="noStrike">
                <a:solidFill>
                  <a:srgbClr val="000000"/>
                </a:solidFill>
                <a:latin typeface="Gill Sans MT"/>
              </a:rPr>
              <a:t>:  Protection of HIOs submitted with more than 90 day notice from all planned resource outages submitted with less notice. </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ption 5</a:t>
            </a:r>
            <a:r>
              <a:rPr b="0" lang="en-US" sz="2000" spc="-1" strike="noStrike">
                <a:solidFill>
                  <a:srgbClr val="000000"/>
                </a:solidFill>
                <a:latin typeface="Gill Sans MT"/>
              </a:rPr>
              <a:t>: Introduction of “rescheduled” outage types</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ction Item</a:t>
            </a:r>
            <a:r>
              <a:rPr b="0" lang="en-US" sz="2400" spc="-1" strike="noStrike">
                <a:solidFill>
                  <a:srgbClr val="000000"/>
                </a:solidFill>
                <a:latin typeface="Gill Sans MT"/>
              </a:rPr>
              <a:t>:  ROS to readdress Option 4A due to possible misunderstanding by generators of the impacts.  </a:t>
            </a:r>
            <a:endParaRPr b="0" lang="en-US" sz="2400" spc="-1" strike="noStrike">
              <a:solidFill>
                <a:srgbClr val="000000"/>
              </a:solidFill>
              <a:latin typeface="Gill Sans MT"/>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7F81-9219-4F26-81B8-C68F9556A06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O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914400" y="685800"/>
            <a:ext cx="8153280" cy="55627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al-Time Co-optimization</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ions were held last month concerning the need to quantify the potential costs and benefits of the Real Time Co-Optimization proposal </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accepted an assignment to firm up the RTCO Cost Analysis </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the September 2</a:t>
            </a:r>
            <a:r>
              <a:rPr b="0" lang="en-US" sz="2000" spc="-1" strike="noStrike" baseline="30000">
                <a:solidFill>
                  <a:srgbClr val="000000"/>
                </a:solidFill>
                <a:latin typeface="Gill Sans MT"/>
              </a:rPr>
              <a:t>nd</a:t>
            </a:r>
            <a:r>
              <a:rPr b="0" lang="en-US" sz="2000" spc="-1" strike="noStrike">
                <a:solidFill>
                  <a:srgbClr val="000000"/>
                </a:solidFill>
                <a:latin typeface="Gill Sans MT"/>
              </a:rPr>
              <a:t> WMS meeting there were discussions on whether the potential ERCOT and Market benefits should be quantified as well.  </a:t>
            </a:r>
            <a:endParaRPr b="0" lang="en-US" sz="20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ction item</a:t>
            </a:r>
            <a:r>
              <a:rPr b="0" lang="en-US" sz="2400" spc="-1" strike="noStrike">
                <a:solidFill>
                  <a:srgbClr val="000000"/>
                </a:solidFill>
                <a:latin typeface="Gill Sans MT"/>
              </a:rPr>
              <a:t>:  TAC Leadership’s direction, WMS should figure out the actual cost first and we can take that information to the Commission for their direction on how or if the market should proceed.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content/wcm/key_documents_lists/75789/07._WMS_update_2015_09_24.ppt.pdf</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EC04-5978-432D-9828-CEA4754861A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M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914400" y="685800"/>
            <a:ext cx="8153280" cy="556272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Subcommittee (RMS)</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dc765"/>
                </a:solidFill>
                <a:uFillTx/>
                <a:latin typeface="Gill Sans MT"/>
                <a:hlinkClick r:id="rId1"/>
              </a:rPr>
              <a:t>http</a:t>
            </a:r>
            <a:r>
              <a:rPr b="0" lang="en-US" sz="2200" spc="-1" strike="noStrike" u="sng">
                <a:solidFill>
                  <a:srgbClr val="8dc765"/>
                </a:solidFill>
                <a:uFillTx/>
                <a:latin typeface="Gill Sans MT"/>
                <a:hlinkClick r:id="rId2"/>
              </a:rPr>
              <a:t>://www.ercot.com/content/wcm/key_documents_lists/75789/08._RMS_Update_to_TAC_09_24_15.ppt</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ction item:</a:t>
            </a:r>
            <a:r>
              <a:rPr b="0" lang="en-US" sz="2200" spc="-1" strike="noStrike">
                <a:solidFill>
                  <a:srgbClr val="000000"/>
                </a:solidFill>
                <a:latin typeface="Gill Sans MT"/>
              </a:rPr>
              <a:t>  TAC Leadership requests that ERCOT (Paul Wattles/Carl Raish) provide the Retail Price Responsive/Demand Response Update to TAC in the upcoming months.  </a:t>
            </a:r>
            <a:endParaRPr b="0" lang="en-US" sz="2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mmercial Operations Subcommittee (COPS)</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LPGRR056</a:t>
            </a:r>
            <a:r>
              <a:rPr b="0" lang="en-US" sz="2200" spc="-1" strike="noStrike">
                <a:solidFill>
                  <a:srgbClr val="000000"/>
                </a:solidFill>
                <a:latin typeface="Gill Sans MT"/>
              </a:rPr>
              <a:t>, Initial Profile Assignment for Temporary Services - </a:t>
            </a:r>
            <a:r>
              <a:rPr b="1" lang="en-US" sz="2200" spc="-1" strike="noStrike">
                <a:solidFill>
                  <a:srgbClr val="c00000"/>
                </a:solidFill>
                <a:latin typeface="Gill Sans MT"/>
              </a:rPr>
              <a:t>Motion to Approve LPGRR056 was unanimous</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OPMGRR039</a:t>
            </a:r>
            <a:r>
              <a:rPr b="0" lang="en-US" sz="2200" spc="-1" strike="noStrike">
                <a:solidFill>
                  <a:srgbClr val="000000"/>
                </a:solidFill>
                <a:latin typeface="Gill Sans MT"/>
              </a:rPr>
              <a:t>, Commercial Operations Market Guide Clean-up of Old Invoices- </a:t>
            </a:r>
            <a:r>
              <a:rPr b="1" lang="en-US" sz="2200" spc="-1" strike="noStrike">
                <a:solidFill>
                  <a:srgbClr val="c00000"/>
                </a:solidFill>
                <a:latin typeface="Gill Sans MT"/>
              </a:rPr>
              <a:t>Motion to Approve COPMGRR039 was unanimous</a:t>
            </a:r>
            <a:endParaRPr b="0" lang="en-US" sz="2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3"/>
              </a:rPr>
              <a:t>http</a:t>
            </a:r>
            <a:r>
              <a:rPr b="0" lang="en-US" sz="2000" spc="-1" strike="noStrike" u="sng">
                <a:solidFill>
                  <a:srgbClr val="8dc765"/>
                </a:solidFill>
                <a:uFillTx/>
                <a:latin typeface="Gill Sans MT"/>
                <a:hlinkClick r:id="rId4"/>
              </a:rPr>
              <a:t>://www.ercot.com/content/wcm/key_documents_lists/75789/09._COPS_Report.zip</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0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6044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6044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6044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6, 2015</a:t>
            </a:r>
            <a:endParaRPr b="0" lang="en-US" sz="1200" spc="-1" strike="noStrike">
              <a:solidFill>
                <a:srgbClr val="000000"/>
              </a:solidFill>
              <a:latin typeface="Arial"/>
            </a:endParaRPr>
          </a:p>
        </p:txBody>
      </p:sp>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0F4D-A053-49A5-95FD-6270C56C4C9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2" name="Title 1"/>
          <p:cNvSpPr/>
          <p:nvPr/>
        </p:nvSpPr>
        <p:spPr>
          <a:xfrm>
            <a:off x="1130400" y="-228600"/>
            <a:ext cx="8001000" cy="114300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COP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10-02T16:52:53Z</dcterms:modified>
  <cp:revision>854</cp:revision>
  <dc:subject/>
  <dc:title>Instructions</dc:title>
</cp:coreProperties>
</file>