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95166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0AE6B-BE36-4703-AA3F-8170E164E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E90DE-0681-4FFE-89D3-7B172CADD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55B6E-4768-4322-81AE-293BFAA2A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BAD8A-F24A-45BD-AC35-A364FBA2A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E6512-66CF-4A65-ADDE-414395ED8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56BE9-8AB3-4E58-93E5-E2F25FEB2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572CE-B505-4B54-907A-9E5604EF3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F9499-352B-4883-80A6-1877DB8C0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DD5CA-F4EE-475C-96F5-C404FA8B9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63CB3-6331-4462-B418-2871664B1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11F40-0157-4638-AEBA-318836C32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EB50D-D452-45A4-8903-AA6779FC4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3463B-62F8-49DF-8329-B637050E4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B94CA-2B53-4584-B86C-C504A6800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73D5E-659A-404F-9E50-A9E0C8D11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43185-5B29-49F0-BCF0-714C63D3F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6EC77-2AC1-4EC9-999F-25710BF69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1C9B9-51F8-4962-A0F7-964E17768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237C0-E368-4045-BF97-7D17B2FB6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14E1C-EB61-4927-B935-629B08875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2F7BD-4056-4026-A3E4-5AEEA23C8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577DC-D782-4E74-B15C-D2DA8AE1C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CA14D-DEF2-4663-B785-038B8DFA1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EC0EE-98EF-45A5-B1ED-7071CE6B3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E5BC9-2B7B-40A8-B939-180E1359C6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8FCF5-BAD7-44BF-BE94-E15912DA31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1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dt" idx="4"/>
          </p:nvPr>
        </p:nvSpPr>
        <p:spPr>
          <a:xfrm>
            <a:off x="456840" y="59752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8B9E0B-7AD4-4E55-B560-EABC92A7039A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5"/>
          </p:nvPr>
        </p:nvSpPr>
        <p:spPr>
          <a:xfrm>
            <a:off x="3124080" y="597528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6"/>
          </p:nvPr>
        </p:nvSpPr>
        <p:spPr>
          <a:xfrm>
            <a:off x="6552720" y="59752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AE68F5-3317-47EA-9A94-317F8D25CB3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11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ftr" idx="9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11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167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6654C2-F69D-4443-AA10-82FE133522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ftr" idx="10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rcot.com/content/wcm/key_documents_lists/72980/Disclosure_Reports_draft_082615.xlsx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1219320"/>
            <a:ext cx="8305920" cy="39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mmercial Operations Subcommittee </a:t>
            </a:r>
            <a:r>
              <a:rPr b="0" lang="en-US" sz="2800" spc="-1" strike="noStrike">
                <a:solidFill>
                  <a:srgbClr val="c00000"/>
                </a:solidFill>
                <a:latin typeface="Arial Black"/>
              </a:rPr>
              <a:t>(COPS)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Update to RM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10/6/20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OPS VOTING Items for TAC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380520" y="609480"/>
            <a:ext cx="815364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65920" indent="-452520"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PGRR056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Initial Profile Assignment for Temporary Servic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509040"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gns the Load Profiling Guide with the current process Transmission and/or Distribution Service Providers invoke when assigning initial Load Profiles for temporary servic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040"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0000"/>
                </a:solidFill>
                <a:latin typeface="Arial"/>
              </a:rPr>
              <a:t>COPS voted to recommend approval of LPGRR056 as recommended by the PWG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65920" indent="-452520"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PMGRR03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Commercial Operations Market Guide Clean-up of Old Invoic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509040"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oves old invoices in the COPMG to align with the previously approved and implemented NPRR347, Single Daily Settlement Invoice and Updates to Credit Calculations, including addition of a Minimum Collateral Exposure Component, and NPRR610, Eliminate Late Fees and Late Fee Invo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09040"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0000"/>
                </a:solidFill>
                <a:latin typeface="Arial"/>
              </a:rPr>
              <a:t>COPS voted to recommend approval of COPMGRR030 as recommended by the CSWG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509040">
              <a:spcBef>
                <a:spcPts val="400"/>
              </a:spcBef>
              <a:spcAft>
                <a:spcPts val="400"/>
              </a:spcAft>
              <a:buClr>
                <a:srgbClr val="ff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OPS VOTING Item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80520" y="685800"/>
            <a:ext cx="815364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457200"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PRR71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Corrections to Aggregated Load and Participant Specific Generation Data Requiremen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514440"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oves duplicative Protocol language and aligns Load and Generation data posting requirements with current operating pract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514440"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eferred by PRS:  COPS voted to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ndorse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NPRR716 as submit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457200"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PRR72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Update to Settlement Stability Reporting Requiremen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571680"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OPS voted to request PRS to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able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to allow for continued review by the CSW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457200"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14440"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ommunications and Settlements Working Group </a:t>
            </a:r>
            <a:r>
              <a:rPr b="0" lang="en-US" sz="2400" spc="-1" strike="noStrike">
                <a:solidFill>
                  <a:srgbClr val="c00000"/>
                </a:solidFill>
                <a:latin typeface="Arial Black"/>
              </a:rPr>
              <a:t>(CSWG)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457200"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PRR72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Update to Settlement Stability Reporting Requiremen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d comments requesting Load Allocated charges to be reported on a $/MWh ba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43080"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457200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-45720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rofiling Working Group </a:t>
            </a:r>
            <a:r>
              <a:rPr b="0" lang="en-US" sz="2400" spc="-1" strike="noStrike">
                <a:solidFill>
                  <a:srgbClr val="c00000"/>
                </a:solidFill>
                <a:latin typeface="Arial Black"/>
              </a:rPr>
              <a:t>(PWG)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0520" y="685800"/>
            <a:ext cx="84582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nual Load Profiling Validation process is progressing on schedu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ffort to review and update Protocol Section 18, Load Profiling, is progressing on schedu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Market Information System User Group </a:t>
            </a:r>
            <a:r>
              <a:rPr b="0" lang="en-US" sz="2400" spc="-1" strike="noStrike">
                <a:solidFill>
                  <a:srgbClr val="c00000"/>
                </a:solidFill>
                <a:latin typeface="Arial Black"/>
              </a:rPr>
              <a:t>(MISUG)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80520" y="685800"/>
            <a:ext cx="84582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ternal Web Services (EWS) Modifications  Workshop II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ptember 29, 20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:30 pm to 4:00 PM (Following the MISUG meet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COT Met Center, Room 168, and Web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rvey Results (Discussion of “high value” solutions and potential system chang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onstration of data strea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Market Information System User Group </a:t>
            </a:r>
            <a:r>
              <a:rPr b="0" lang="en-US" sz="2400" spc="-1" strike="noStrike">
                <a:solidFill>
                  <a:srgbClr val="c00000"/>
                </a:solidFill>
                <a:latin typeface="Arial Black"/>
              </a:rPr>
              <a:t>(MISUG)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orts to be Automated (16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RCOT staff will establish/verify impacted syste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SUG will draft the necessary NPRRs/SC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leases will be grouped by system(s) impact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closure Data User Gu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oal – To produce an updated User Guide for the disclosure data reports (48-Hr and 60-Da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raft is available for review: </a:t>
            </a:r>
            <a:r>
              <a:rPr b="0" lang="en-US" sz="2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rcot.com/content/wcm/key_documents_lists/72980/Disclosure_Reports_draft_082615.xls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tains: Report names and numbers, Files contained in reports, Column definitions, and Brief description of da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ents welc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Market Information System User Group </a:t>
            </a:r>
            <a:r>
              <a:rPr b="0" lang="en-US" sz="2400" spc="-1" strike="noStrike">
                <a:solidFill>
                  <a:srgbClr val="c00000"/>
                </a:solidFill>
                <a:latin typeface="Arial Black"/>
              </a:rPr>
              <a:t>(MISUG)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lar Generation Dashboards and Repor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COT staff plans to publish solar generation data similar to wind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ing with R6 2015 or R1 20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gregate Solar Forec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SE-Specific Solar Forec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 Solar Gen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play on Real-Time System Conditions Dash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6" descr="C:\Documents and Settings\basaranh\Local Settings\Temporary Internet Files\Content.IE5\JIWL6VC7\MC900156053[1].wmf"/>
          <p:cNvPicPr/>
          <p:nvPr/>
        </p:nvPicPr>
        <p:blipFill>
          <a:blip r:embed="rId1"/>
          <a:stretch/>
        </p:blipFill>
        <p:spPr>
          <a:xfrm>
            <a:off x="3048120" y="2971800"/>
            <a:ext cx="2895480" cy="268776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 txBox="1"/>
          <p:nvPr/>
        </p:nvSpPr>
        <p:spPr>
          <a:xfrm>
            <a:off x="533520" y="914040"/>
            <a:ext cx="807696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next COPS meeting is scheduled fo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October 14, 2015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Basaran, Harika</dc:creator>
  <dc:description/>
  <dc:language>en-US</dc:language>
  <cp:lastModifiedBy>Schatz, John</cp:lastModifiedBy>
  <cp:lastPrinted>2015-08-20T15:26:19Z</cp:lastPrinted>
  <dcterms:modified xsi:type="dcterms:W3CDTF">2015-10-02T15:07:44Z</dcterms:modified>
  <cp:revision>1330</cp:revision>
  <dc:subject/>
  <dc:title>Instructions</dc:title>
</cp:coreProperties>
</file>