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CCB0C-68AF-45D0-9138-B9AA7D66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041F-7716-44FF-BD0A-3CDD46BE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B1CB-2E55-4890-BBC3-2ACA75BA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0171-5A5D-43B3-8C5E-12EF9B94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EB92-C1BA-4057-A96A-0CF3F3A8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2069-92F0-425F-BE78-E1D3B48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6D77-0DA7-44CE-980F-3F647E94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1334-E9FE-40BE-AA57-47887EC4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1C37-4DB6-4691-8455-945BA520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2AAA-0F39-432C-AF64-8C19150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12D0-B935-4D53-8EE6-9F74D86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07C65-53AA-451A-AB01-CD55A62B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EF30-B225-4D02-A359-3F273693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A3D7-8C0C-4717-8517-AD0160AB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9D72-0E79-46E0-B885-044AEC10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9703-9461-426F-9039-46668984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F9C92-F489-493E-BAFB-FFA7D6C7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438C-E28A-44B8-BA0C-222CDF48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3512-511B-4263-8776-05CD9ED5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0CF08-272D-495E-88D7-E4FD890E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D3948-B0E7-489E-BF6D-FCB2343E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68E3-930D-4E9D-A81F-9F70BA84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31E1-A5E1-4DF9-94DF-1B13CC0B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8B77-165B-4B91-8559-7B37DEAE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1896-91C2-4827-AF7B-8CDED2F3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4243-E9A4-4D26-8C87-F6D1E5D90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800FA-EF5B-45D6-8CA5-9E4C3FFC346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22D0F-1F65-4EBE-BA0F-88216EBDF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4D90B-F55D-467E-B57D-751EBE550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2980/Disclosure_Reports_draft_082615.xlsx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/24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 for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520" y="6094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PGRR056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nitial Profile Assignment for Temporary Serv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gns the Load Profiling Guide with the current process Transmission and/or Distribution Service Providers invoke when assigning initial Load Profiles for temporary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OPS voted to recommend approval of LPGRR056 as recommended by the PWG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920" indent="-45252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PMGRR03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ommercial Operations Market Guide Clean-up of Old Invoi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s old invoices in the COPMG to align with the previously approved and implemented NPRR347, Single Daily Settlement Invoice and Updates to Credit Calculations, including addition of a Minimum Collateral Exposure Component, and NPRR610, Eliminate Late Fees and Late Fee Inv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COPS voted to recommend approval of COPMGRR030 as recommended by the CSW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509040">
              <a:spcBef>
                <a:spcPts val="400"/>
              </a:spcBef>
              <a:spcAft>
                <a:spcPts val="400"/>
              </a:spcAft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PS VOTING Item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80520" y="685800"/>
            <a:ext cx="81536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7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rrections to Aggregated Load and Participant Specific Generation Data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duplicative Protocol language and aligns Load and Generation data posting requirements with current operating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ferred by PRS:  COPS vo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ors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NPRR716 as sub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pdate to Settlement Stability Reporting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7168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PS voted to request PRS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to allow for continued review by the CS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4440"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munications and Settlements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CS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45720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PRR72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pdate to Settlement Stability Reporting Require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comments requesting Load Allocated charges to be reported on a $/MWh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rofiling Working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Load Profiling Validation process is progressing on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ort to review and update Protocol Section 18, Load Profiling, is progressing on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Web Services (EWS) Modifications  Workshop I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29,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30 pm to 4:00 PM (Following the MISUG mee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et Center, Room 168, and Web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Results (Discussion of “high value” solutions and potential system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data stre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s to be Automated (16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establish/verify impacted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SUG will draft the necessary NPRRs/SC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s will be grouped by system(s) impac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 Data User Gu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 – To produce an updated User Guide for the disclosure data reports (48-Hr and 60-D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aft is available for review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wcm/key_documents_lists/72980/Disclosure_Reports_draft_082615.xls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ains: Report names and numbers, Files contained in reports, Column definitions, and Brief description of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s welc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rket Information System User Group </a:t>
            </a: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ar Generation Dashboards and Repor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plans to publish solar generation data similar to wi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with R6 2015 or R1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Solar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SE-Specific Solar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 Solar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34308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 on Real-Time System Conditions Dash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ctober 14, 20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cp:lastPrinted>2015-08-20T15:26:19Z</cp:lastPrinted>
  <dcterms:modified xsi:type="dcterms:W3CDTF">2015-09-23T20:24:03Z</dcterms:modified>
  <cp:revision>1329</cp:revision>
  <dc:subject/>
  <dc:title>Instructions</dc:title>
</cp:coreProperties>
</file>