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C7E2B-6BD5-44BA-836E-8946CBDE941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1160" y="696960"/>
            <a:ext cx="4648320" cy="3486240"/>
          </a:xfrm>
          <a:prstGeom prst="rect">
            <a:avLst/>
          </a:prstGeom>
          <a:ln w="0">
            <a:noFill/>
          </a:ln>
        </p:spPr>
      </p:sp>
      <p:sp>
        <p:nvSpPr>
          <p:cNvPr id="1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09A21-DC72-44E8-A6ED-F73102FEB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14ED3F-05ED-45C2-B7D2-5BC57B56DF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C09417-EC65-43D6-A587-E35318BDDC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232BE9-EA0D-4B96-AD57-10FD8D2BA0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01FD09-1AA2-487F-AE99-30B57B9E8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50E07-D4F5-48BB-8DD0-3571AF7C0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1BE7D-3B21-4BA7-9A9A-585017580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F436C-6B42-46AD-9C43-1AF4CF4F2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A06C9-0EB8-4132-8C68-D48BA8964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11D01-AC85-4A1A-9616-92F9D875C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44A8B-D5DD-4705-99C6-4DEADC07A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16BC8-C785-4149-AECA-478387E8A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C8E57-CD03-40F0-AD67-4B0DCFB55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A2647-BE57-4336-84E4-1BDD98421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5ADB-3EAF-4DFB-944D-CD2EEEA2B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6DD23-D6EE-4920-AC0F-0AEB29087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5C4C55-F718-491A-9563-E284E9AF14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99048-9FDC-4B56-B2B2-B3278939A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529BDE-5935-4D77-824D-8B574D868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John Varnell</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5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ptember 24, 2015</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403200" y="714240"/>
            <a:ext cx="849312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Requests Recommended for Approval by PRS – Unopposed (Vote):</a:t>
            </a:r>
            <a:endParaRPr b="0" lang="en-US" sz="18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63, Ancillary Service Insufficiency Action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9, Settlement of Ancillary Service Assignment in Real-Time Operation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17, Clarification of EPS Metering Exception for ERS Genera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18, Correct Requirement for Posting AML Data</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21, Removal of Language Related to NPRR455, CRR Shift Factors Repor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22, Removal of Language Related to NPRR181, FIP Definition Revis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23, Removal of grey-boxes from NPRR256, Adding Non-Compliance Language to QSE Performance Standard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24, Removal of Language Related to NPRR493, Half-Hour RUC Clawback*</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403200" y="738360"/>
            <a:ext cx="8493120" cy="55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14, Real-Time Make-Whole Payment for Exceptional Fuel Cost </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190, Clarification of Resource Definitions and Resource Registration of Self-Serve Generators for Reliability Purpos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707, Provision of Transmission System Voltage Telemetry to QSEs</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8"/>
          <p:cNvGrpSpPr/>
          <p:nvPr/>
        </p:nvGrpSpPr>
        <p:grpSpPr>
          <a:xfrm>
            <a:off x="1295280" y="2735280"/>
            <a:ext cx="6553440" cy="1387440"/>
            <a:chOff x="1295280" y="2735280"/>
            <a:chExt cx="6553440" cy="1387440"/>
          </a:xfrm>
        </p:grpSpPr>
        <p:sp>
          <p:nvSpPr>
            <p:cNvPr id="178" name="TextBox 1"/>
            <p:cNvSpPr/>
            <p:nvPr/>
          </p:nvSpPr>
          <p:spPr>
            <a:xfrm>
              <a:off x="1295280" y="2756160"/>
              <a:ext cx="6553440" cy="12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vision Requests Recommended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r Approval by PRS</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th Opposing Votes)</a:t>
              </a:r>
              <a:endParaRPr b="0" lang="en-US" sz="1800" spc="-1" strike="noStrike">
                <a:solidFill>
                  <a:srgbClr val="000000"/>
                </a:solidFill>
                <a:latin typeface="Arial"/>
              </a:endParaRPr>
            </a:p>
          </p:txBody>
        </p:sp>
        <p:sp>
          <p:nvSpPr>
            <p:cNvPr id="179" name="Straight Connector 3"/>
            <p:cNvSpPr/>
            <p:nvPr/>
          </p:nvSpPr>
          <p:spPr>
            <a:xfrm>
              <a:off x="1428480" y="2735280"/>
              <a:ext cx="6287040" cy="0"/>
            </a:xfrm>
            <a:prstGeom prst="line">
              <a:avLst/>
            </a:prstGeom>
            <a:ln w="2556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5"/>
            <p:cNvSpPr/>
            <p:nvPr/>
          </p:nvSpPr>
          <p:spPr>
            <a:xfrm>
              <a:off x="1437840" y="4122720"/>
              <a:ext cx="6287040" cy="0"/>
            </a:xfrm>
            <a:prstGeom prst="line">
              <a:avLst/>
            </a:prstGeom>
            <a:ln w="2556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714, Real-Time Make-Whole Payment for Exceptional Fuel Cost </a:t>
            </a:r>
            <a:endParaRPr b="0" lang="en-US" sz="2000" spc="-1" strike="noStrike">
              <a:solidFill>
                <a:srgbClr val="000000"/>
              </a:solidFill>
              <a:latin typeface="Arial"/>
            </a:endParaRPr>
          </a:p>
        </p:txBody>
      </p:sp>
      <p:graphicFrame>
        <p:nvGraphicFramePr>
          <p:cNvPr id="183" name=""/>
          <p:cNvGraphicFramePr/>
          <p:nvPr/>
        </p:nvGraphicFramePr>
        <p:xfrm>
          <a:off x="357120" y="905040"/>
          <a:ext cx="8456760" cy="5364000"/>
        </p:xfrm>
        <a:graphic>
          <a:graphicData uri="http://schemas.openxmlformats.org/drawingml/2006/table">
            <a:tbl>
              <a:tblPr/>
              <a:tblGrid>
                <a:gridCol w="1246320"/>
                <a:gridCol w="7210440"/>
              </a:tblGrid>
              <a:tr h="20109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GDF Suez)</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PRR664, Fuel Index Price for Resource Definition and Real-Time Make-Whole Payments for Exceptional Fuel Cost Events, included a Real-Time Make-Whole Payment provision to address exceptional fuel cost events that are not resolved by a change to the Fuel Index Price for Resource (FIPRr).  ERCOT implemented a manual process to satisfy the requirements of these sections until May 1, 2015, at which time Sections 6.6.3.7 and 6.6.3.8 were grey boxed pending an automated solution.  This NPRR restores the manual process for Real-Time Make-Whole Payments and Charges to address exceptional fuel cost events; and includes revisions that clarify and improve the Settlement calculations for the manual process consistent with the intent of NPRR664.</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54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7/16/15, PRS voted to recommend approval of NPRR714 as submitted.  There was one abstention from the Municipal Market Segment. On 9/10/15, PRS voted to endorse and forward to TAC the 8/13/15 PRS Report and Impact Analysis (Option 2) for NPRR714 with an effective date of November 1, 2015 (manual) and a recommended priority of 2015 and a rank of 1370 (partial automation).   There was one opposing vote from the Independent Power Marketer (IPM) Market Segment and one abstention from the Independent Retail Electric Provider (IREP) Market Segment.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vember 1, 2015 (manual); Priority 2015; Rank 1370 (partial autom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180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60k and $70k; Settlements and Billing (S&amp;B)</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7315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e change will allow Resources to file for a Real-Time Make-Whole Payment when mitigated to below its actual cost due to spikes in gas pric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403200" y="714240"/>
            <a:ext cx="849312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NPRR727, Removal of Language Related to NPRR327, State Estimator Data Redaction Methodology</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uring the September PRS meeting, participants discussed several issues related to this NPRR, including:</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Should ERCOT proceed with project work on NPRR327 while NPRR727 is in proces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ow do proponents and opponents of NPRR327 present their respective cases to the PUC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Possible meetings following the conclusion of P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S meetings are generally finishing by noon, so utilizing the remainder of the day (and Room 206 at the MET) for market meetings may be an efficient use of resources.</a:t>
            </a:r>
            <a:endParaRPr b="0" lang="en-US" sz="20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5-09-11T20:49:02Z</dcterms:modified>
  <cp:revision>269</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