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49735-0AD6-40FE-951E-EDA39FE3D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7D6F8-FF2B-483A-9885-A8EFCD0D2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6BA-6B8C-420A-AAEF-6ACE92C8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0BE-7894-444D-99D1-60E27F8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D8E702-AC1E-4C5B-B0FF-19DB303A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3A21B7-5915-4216-AC79-2060BF0C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AA37A2-F947-4184-8854-CCE8A018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BD1994-886F-413D-82A2-6E6FF2F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95C2F-79FA-4D25-9000-7685139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84D59-A863-4C2F-A2C3-A4B09969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BEFD5-ACBC-4840-806F-152B2150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79C3F-63C4-479F-B5B3-12981528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96FCC5-5BFA-4B9E-823C-D61A138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BC18F-FE78-498C-9DB7-D5F49A66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7BF-050B-4D4F-BA10-53BDBE2A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538B8-E372-4E61-8464-15553920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B1EB8-61EC-42B3-980F-D8A1AB66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7F43B6-C03B-47EE-B594-8834F037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8F8EEA-0E4D-4D01-8615-83521F36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F4C1B-9398-44B0-98B2-974DD29C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0030F3-48A6-42AC-BE15-3CF7AC7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04C9C9-FAA7-4964-B7A5-163C32AB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164A6E-E706-4509-A61D-35471F8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033917-4636-4DCD-BFF1-5C704055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27F7E-359A-4A9A-9CE0-0F2BF4FF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CBF-2F08-423C-A49C-36609BA6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667B5-7921-4010-9E81-92545E3A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376B8-5693-4AF0-B4A6-DAB4689D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CF9B1-D823-4403-A659-20293040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59D4B-47CF-4AAB-A33E-10A750AC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44B92-FD9B-4823-A5C2-BCD13DC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E8D81-DD18-434E-AA32-036513C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2CAD9-522E-404E-B7EF-2B1A25F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98448-0DC4-4A32-9B58-8FC5878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D8313-9708-4304-A48F-3A51592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D65B1-CECF-43BA-A3C6-CBF0F003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16F-2A48-462B-952C-76BF3550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7EB61-DB36-439D-AD3D-E7C7BCE1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CAFF1-52EB-4D9E-8E8B-76288C7D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6DB96-2934-4AD9-BC62-76D7FF18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DD0FD5-51BC-41ED-B28D-30199554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6A7E19-BAE6-4FEA-9C28-F88C279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8EC9BA-A137-4162-BA11-75FF7E17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76A1CF-5863-4893-BBA4-89B2FF55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C0B485-B8EA-45D3-8EC2-23B409EB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DA347E-588E-4ADA-9EF5-E86174EC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378D38-FCC8-4954-9594-D784DB9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749B-3949-4B2F-A1EF-55ED9E18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B1A4AC-D218-4448-935A-62CDBED7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E29DF6-A390-489D-8A91-2A21845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F97FEF-9BB1-493F-8B26-594F981E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326CB2-44CE-4011-8543-DB6489A4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444D5D-4E79-43BD-9BE6-342C81BB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D972-53F0-4E15-BD27-F7060DBD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E9C-423F-492C-9F00-4A2CC767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8029-C876-492C-B7B8-59C6C1F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E86E-480C-4F62-8D20-8742A1C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BAA5-561E-4CD4-A85F-DF6EDC2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B7619-3F57-435B-AB06-C4628CEE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D7520-A46A-4B43-A7CB-16D6851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AB5A6-6250-43A9-B90E-A3850626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1A519-F29C-4430-977B-F1306292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26443-DAEC-42F2-B2D6-E60B68AD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1E026-985B-4DF5-BDEC-B1E68D65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0D2A7-9E15-4FB5-890B-35B1AD26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06F-6B7B-45EC-9599-2470EA9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1243-7377-401A-8CD4-95834567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3DFA-A7FB-458D-BF4B-126C4727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F6BD0-AE3F-4EFA-9F19-EA7D4862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717AE-03FD-48CC-9BC6-3304177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A753A-5ABF-420D-9482-ED1BC29D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31F74-C5FF-4051-B8E8-C599C5E0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E00541-277F-4037-8AF1-B9C5E444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E7ADD7-199F-4C59-8CC3-644847F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9E4674-9775-4936-8D3A-89C4FF46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E430AC-2D48-43D2-85C9-161EE34D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F215B5-5D4A-4679-ACC2-B0478FF3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4E4D-1A54-4A50-B59D-BBAF040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C5B664-DBB2-4DA5-8EA4-5FB48E6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CED9E4-B177-4429-A1E8-4F4DCFEF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E72660-F04A-4DD6-A416-CB8FE791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B0893D-DA12-480B-A8CC-091E74A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9BB4C0-D69E-4968-933E-B7FC8A2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6A2E97-13F2-4744-BEF5-FF12C217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A597EA-700B-4928-95DB-8D1E49FA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2376AB-62FA-482A-8946-1E0ABBAB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259AB7-7938-4B00-AA6C-A9CE3F8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93297B-CAD5-4F8E-8FF9-D42E09C1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6A2D-8376-4AE4-94C5-F373165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AF312A-504B-40A9-87DD-F3CF687D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B129E7-8C60-48BA-8FAD-B70C0D66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C767B1-D5E5-4C27-9284-96638C75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AF1E0B-AFE8-4570-AA0D-15034C9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DB88EB-6C48-4D02-BF01-150E841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737AF7-A8A4-47CE-8E15-53ED1D9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DA3496-8371-4945-B801-D189795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02CC1B-6A93-4DE6-BA7B-8F4CD97F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CEB801-36F1-4337-88CE-28C1FF5F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125018-C785-4231-8586-5A446AE9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D486-33F2-41D4-9708-7AD1E77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CC2947-8FA0-4E5E-83C8-9041F4F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6AEB8D-E92B-4DCB-8AB4-392381D7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25B1F8-5544-4847-8725-5398F1FE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23AD23-E8FD-4585-93C1-27CBEA0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6C0A10-6D15-4077-9BDB-436278E0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A29E97-A1E4-41BC-B5AB-8271F08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551671-24DF-4142-8ECB-B664FD1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EE4E43-BE7D-4A39-A448-574AC8E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14E6EF-6789-4259-81B9-E3C720A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7049F8-AD84-473E-A773-233851F9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01BF-279A-4BC7-9DD2-88BE3AF2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FD7E6E-FDF9-4F32-9B53-56CC3DD5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8713C-7031-474E-88E5-EF73E739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74042-FC05-423A-A221-202614F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82CCD-3001-428B-A9EF-BD08E4A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468EC-264C-4429-BDD9-0CAFC002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421E2-A6E4-4D55-9E7D-01EDF7A0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0915B-F45F-4C20-B9CE-B8284456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A4CF2-9935-4BC1-B881-AC76123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892A0-75ED-4777-A962-2FBB55E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38F02-89E0-4B8C-8A2F-AE67FA0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AC38-44A3-4E93-843E-173B085A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6B834-A760-4DA1-9E58-2760EAB0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7F8CF-C62B-4358-B772-9D3C6D7B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3B715-0056-410B-A4CE-80AC7202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3D737D-7B92-4546-815B-9171A5B7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514503-6F23-4B02-A7BE-CE9DE33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21E5C5-7D7F-4642-9BA5-6D56CEDD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4598D0-6274-4D97-B279-7BAE0F82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BEDE9E-901B-4DE7-8ED0-E343EB7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63607E-B835-4C7C-B45F-FDBCD979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B6C292-24C1-4A4B-AE3F-6A8F6F1A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CB99-524F-4520-ACB1-E4F7582B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3F0B20-20C1-4B9A-BF7E-B8CD3619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1121DF-856D-4243-BDF2-F4B8AC1E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646F64-4D20-4BB8-85D2-135B8E0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B74968-7C9F-41ED-82B0-146F117F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01BEAB-9320-4D82-BE1D-D5075DF7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35C76-CB14-49A8-A8E5-533F754F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1FAA3-4BBB-432C-AD31-36344E11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4F7B8-2A4B-48DC-8607-A6C7959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FB4E71-245E-4211-A9A0-D8114DC1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9DD81E-35C2-4484-86A1-C22EDECB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854B-F353-4DF4-93BA-C180894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DD89F-F057-4CE9-994C-628E6485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A76A7-D9C2-4710-A035-DB7596B9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A0D8D-9C3A-4F57-915E-E75BD9E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A9DAB-A3BB-4419-A2B2-F4E0AE4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3094E-C796-4B45-8E9B-6EF55A00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11429-C328-45EE-A235-87D47269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89E14-AE2C-4A76-9CC0-6F7E025D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1EFA-102F-41ED-A17D-171D50B3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4DCC-D391-4B93-BF61-24D7F5F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82C-24D2-4464-AD0E-DAE3057F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CD7E-9195-419A-888E-BB5F6B2E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1C35-EAB1-4CC4-ABE3-1A98365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F04A-E24B-49E3-899A-54046EF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A444-D344-412B-B09C-24C62E62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892D-ABED-4692-8CFD-27C86A12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745D-E78B-498D-BFCA-59AD9231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A3ED-24F3-48F3-89FD-B1CEE120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4A8-827B-4712-839B-9A51EB9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FFB-18A7-46C0-8FDD-A9EB4993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9AE-816A-4A15-BEDB-025C8230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A858C-6E7F-44F1-8E8D-0AFC54C6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3055A-6933-4B6A-A2EE-62E069E1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342AC-3ABE-4AA6-AB5E-194C8BC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F5D28-4CF2-4682-AEBF-D31DFCD4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CFF96-BEE3-4E89-B828-4814C9CC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3291A-5AC2-4F98-80CC-E1A0CCF3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D58CC-95F8-4747-AE5B-E1F5B0A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2AFE4-942D-4275-A662-5E66039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47A08-05C5-41D4-8FF3-AFB9AEC9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453-1A1B-48F8-8896-8039DAA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7B8C9-D3CC-4388-8FF4-747B3D36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D3287-076D-4D46-BDFF-27B3DADE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8AA69-C343-4A3A-916F-59BAD1BC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25A368-E7C1-4956-9406-9C90E4BB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B213E-2087-43F7-A8E3-A459D03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9C1E9-7367-48F3-B41F-0BABF58C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4222C2-A501-4593-9D59-4252D28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683F60-291F-46A5-A835-8AB7D25D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3BA9A6-4AB1-4D23-AD9D-F0AB2FDA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EAD26D-BE06-4C5E-8764-FF9803D0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B7E-CAA0-432D-B5FC-88A82BC4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F89FD-ABB2-4690-966F-AA0829A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330BF-4E18-4060-8433-7F08C4D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17D2D-3728-4EC6-9324-CE7A498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C0B5F2-5D16-40EA-B04F-3FF5BB9A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6865FD-04B5-4E05-820A-DA8D6A54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EEFCB5-D6C5-4700-861A-F7372A56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BDE6C-40AA-445A-8674-547E5CC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71631-4A97-4696-843B-0ECE532B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25CAAE-A179-411A-B63B-D7F89C6E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BEB11-68EB-45EE-A0F5-5600B882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F9D-0355-477C-A129-2D81EFA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CE712B-A15C-4BD3-8CF1-CB177DC5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19055E-B884-43EB-BBE6-478F476B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AE364B-7193-4EB3-99A2-EBFA9F0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5A8F83-2BE3-47CC-952F-7A08517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C17A51-CEF0-4948-8A0B-CCBFD66A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F31568-EE14-4B3C-9693-BD63731A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8EEA1E-3860-47D1-8A21-904F955E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0C636B-F1E2-4F6D-A738-DC53C9EF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E2ECE6-D7DF-40F5-8E9D-99865145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DE38B0-1ADD-41C2-9CCB-5AA729AF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73DD5-A333-4F2D-BAD7-92A5F75730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73ECE-6029-4528-AC58-DD4029552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91891-5DE6-4DEB-9F6F-58490B3885B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14FCE-C0E1-4942-A2D2-5D09B3578AB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6A4D2-037D-41DC-A716-C2DFEB14693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92EE9-BDB3-4E38-99ED-AD96880000F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9DDED-80BC-43F6-B39E-D85EAC7CA3B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F8E47-3AE7-4392-9E20-6D5C06B197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739E7-BA0F-4869-ABD9-2BB7B80B784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6F635-634D-4090-AD7D-864DA5CBF2C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CA8F5-A2AD-4ED4-968E-55492C2C141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B605C-736D-4922-B4F1-7C29440C882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70E1F-B622-4520-881F-B3D5702CEEC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18BCD-8D1C-4A65-A056-52D93BB2653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E9AA7-DE3A-486E-94E6-65214A26992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DC1C4-D1FA-43D5-9EA9-7A2BA77DF05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6B50F-5607-403B-A537-D21269FB478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C3267-E2B4-405B-8C06-8792A5ADAA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3F126-80AA-41CB-8B2B-CACC972ADBD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227F2-224B-40DF-918B-C6E5CBF650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88398-5F22-429D-AA6A-86E9A274974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19A4C-DA7F-44CD-9953-0B84BCAD0C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B5633-CCAD-48E9-BCAB-32B94A23968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16122-5A50-4654-BEE6-460FAB7EB53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BAA7E-A360-4C2C-8154-72DFAAD8594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F3200-7060-4C47-9920-A09DF43A60F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70C48-9E7A-41A3-A207-50FE4D275B8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B9C28-2A09-4BB8-8490-DCCFB5F41F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56086-BFD2-44DE-BE56-38CD91423B9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1DECC-9C70-4ACC-AE18-8227C5517EF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70359-993B-4FCD-BFE3-D85857A7B83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469D1-6187-400A-BBE2-97AB8D06BCC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65023-4BC0-426C-B016-A93DA74184B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89B38-D65F-4B7E-80BF-2939C62151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51288-2BCC-4CC7-82D0-4C7E7FE1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8BFE1-D09D-4544-AF37-C13ED738B414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295D4-4084-40CA-A772-E85F56D54F6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598B0-C69F-421D-A526-A51365677BA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0D82F-19A2-43EF-B1E8-844DC244CA9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F1A10-0F9D-4796-A851-C3F6FB1CA11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A7172-BDF5-4A91-9F4D-4B7EC314A8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7E50E-5E1C-4149-90B6-7F6BEF99958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4A5EE-944A-480C-A42A-41F2993CCE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k Sout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4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email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pt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ober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vember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27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Vote Update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approved the NDSWG State Estimator Standards/Telemetry Standards/20 Most Important Buses recommend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approved the Voltage Profile Working Group (VPWG) scope as amended by R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approved disbanding the Voltage Reduction Task Force (VRTF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approved changes to the SSWG Procedure Manu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4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Vote Update Continued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tabled RRGRR008, Alignment with NPRR705, Provides Consistency for References to the End Date of the Generation Interconnectio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endorsed the posting of comments on NOGRR146, Alignment with NRPP708, 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endorsed NRPP708 as amended with ERCOT 7/15 comments, 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4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Vote Update Continued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09120" y="161784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OCITF Report: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endorsed four options to create revision reques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Option 1: Develop process to create and maintain High Impact Outage (HIO) list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Option 3A:  Identify and post HIO list in new MIS report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Option 4A:  Protection of HIOs submitted with more than 90 days notice from all planned resource outages submitted with less noti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Option 5: Introduction of “rescheduled” outage typ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otes: 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Group discussed this would be an iterative process starting with small step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As always, anyone can submit other revision requests or participate in writing the four options endorsed by RO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4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S Other Upd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ponsible parties are still working on the seven open action items.  No update on them for this mont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S approved creation of EMS task force for one year with scope approved as amended by R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24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09-11T16:18:17Z</dcterms:modified>
  <cp:revision>835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