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DCD-2D09-431A-83FB-65DD64685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99A3-D43D-4B5C-BCFF-B529704D9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B9C-107E-4F6E-9B77-78E11AA8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D31-899B-4116-8D4A-5994BDF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72497-7F93-4228-A64D-968447D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E8325-015F-456A-9905-65CBF20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DA87-C22E-4B9D-8611-89D894A1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D1C5-0514-45E5-9925-105CA60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5CFF4-C23D-432F-BD2A-5ED2C5D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DCFF2-D1E7-4B82-8C05-A0D3BEF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625D0-69B7-44CB-ACF4-F6BD9D1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837E7-C9B0-4057-B3C2-1BEFA788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73983-3384-4890-9A13-0CC0FE7E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81331-32D1-45A8-8D5D-1EB90302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1A7-80D5-4B30-BC83-B1791A3B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E5C22-99CD-4563-9D12-039C334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E6D03-1C65-4A7C-A40A-458379E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4A2A9-D0ED-4624-842D-797D362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BB0F1-E461-4C8A-9A31-2237E7C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4E43-AEDA-4D23-B8DE-61D87C3B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82B18-C388-44F6-B597-35654E7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89D9F-A2F7-48BB-A595-DEB9897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B387D-A27F-48C1-977A-BCF394F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3E707-961A-4D26-96A0-6E54D57F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C6AA2-36FD-4E6D-9807-34FA6A73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549-CE50-4DA4-88BA-8C2E9C4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0EFF0-0612-44D6-BCBA-4E59E5BD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6E08-0FED-4FE9-B2D2-227B1ABA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30FC2-9823-4C5F-A702-42BFE120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B8C7C-80CB-436E-ABAF-4BC46B34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84E4-CE37-4CA3-8D5A-26B290B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8E9C-92AE-4895-9CC5-2CD6D41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BF92F-42A1-47F8-8D71-4D2ABD6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052B-852A-4846-8AF3-C3A558F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AA556-C9EA-4CD6-BE88-3A9CC19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9E52-6E4E-4B04-9EA1-3EB8891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6267-5164-49EB-B8F9-33D348B5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FB9ED-5BB0-417C-A1F4-91DB644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79504-B288-439F-B768-FE2268BF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06FE9-0E3C-413A-AE6C-75EAE0F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F4B9B-E5C3-46BD-B560-D940A463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AD690-F419-45CE-9D37-EFA3A24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9A141-0FF3-41A5-9713-9853F9C5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82F64-CCC3-4E28-A3D3-AA1A5BAC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867C-E0E5-4805-B89A-19C1FA1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898D-21FA-4852-91E0-4DEB199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E933F-1236-4579-AD83-0387E78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CE59-FE9D-4D12-871C-1FA49EA3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F0B4B-1BB6-4B50-A1EC-1C85CA2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51E4F-2A3E-400F-B162-0AB77DB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CB842-EF50-4DEE-A35C-8B08849F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4AE7D-D195-41C1-BA61-D78F0596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BA77-2B2E-4879-AF21-1C96152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A98D-DD80-4E31-9B9F-D81194D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5D1-A2C0-4285-95E9-60C46C06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8171-0F3C-4320-A7DF-77D7F2CE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C54-11EC-43B0-8587-C50166E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2372-2A70-4427-AF97-7AC979FA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E57-7098-434D-B866-02CF6D4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C56-D5BA-485F-9E1C-E1FE64E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283-0AD4-49C6-AF64-BF82B90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BB76-AD39-425D-A97D-4043215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3C3F-6FE2-440D-B044-26B23899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55B-19B3-424E-87B6-BF27ACCF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2E1F-117C-4F4B-BF35-94265C63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4657-2997-4123-A188-91750AB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2665-715F-4F45-8E5A-644874F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ABFC-A817-43B7-B581-41A1B79A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E96F-FB18-4E34-A0C2-2B8EB82D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28A-F58A-4A3C-BF32-0EEB055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347A-2D8C-4800-A611-342C81B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F763-F4BA-402D-8377-3056AF9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8883-A415-4556-BAF5-7CE3959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659B-B5E7-46E5-84DB-6E3B94DB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ECCA-A121-40B4-9410-9B720CB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5F95-9192-44D2-9F0F-944C5692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8899-5A6F-4FCA-BB8F-636A75BA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9539-0845-4A0A-B2A9-77C3558A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E659-A989-4639-ACC6-768C193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EB56-9EC0-4950-8472-059D83AD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996-355B-4D3C-A73D-00DFFA1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DB0E-CE16-4116-9D3A-38C4F23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9E9F9-90DD-4B79-A212-60DEE5A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981A-F945-448D-8613-6BF0E125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1202-F015-4116-8EFF-8EC93B4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32CD-641D-49FE-9B4F-EBD4236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52E2-D1C8-4F95-9ADC-2E4E6AB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4628-1C4E-418E-96EC-6452203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326F-5FE2-47BE-9B05-30F13269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2084-1648-4D6E-BC13-FFED2EE9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A02D-5BF9-43F1-BBA8-686DC7E8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365-3B02-4CCA-937A-BF186F9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C22C-4B91-4A2F-9D96-B57A66F4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7BD3-4358-4AFB-A8F3-59734F92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B3D1-72AB-4257-A396-7FD8E1BB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730FD-5795-4EFF-8885-2A3FE429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F2F8-AB37-47B9-823C-25805C3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186D-E530-4566-A9BE-B4AFFC6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75A3-651A-490C-AE77-863F737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4C04-31AB-4830-8D95-60D5B38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1AC3-6E74-4C83-8C37-333EFE3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CB1F-9D38-4170-B650-8C9F1187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8A3-B2A4-4920-8273-F8EF174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F878-340E-4817-BEE6-D5775C6A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C3C5-4DAA-4E97-9281-515EC616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6190A-B31A-41AB-B2F7-2F62F11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BC3E-5CD5-4573-80F0-F496B39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D66A-AFE1-45D3-835E-7E25F312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08B8D-9A2C-42FB-A663-C6C5BFA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0EF0-FE21-43E4-B276-418383B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6D361-1706-4CEC-9FB3-ABC84B5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19F63-0998-4B41-9A1E-1798230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AC6E-6BBB-41DE-A9E5-64A7048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260-1E8D-46AD-916F-CDE35F8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0A32-96F4-4A84-8B0B-1AC4C1E6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C88B-D936-485A-8048-3CF200FB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D0E8-3561-415C-B37C-A3B12E4D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EE4F-3413-4D0D-B882-2BDC70E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9F83-3A3C-49C5-B8FA-CB987615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EDAA-26CD-45F8-AD9E-47093D4A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718D-9787-4781-ADBD-A988A5E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9B95-EBA4-4023-9D43-DDD02E0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57DF-C87E-4C3C-AC32-F647CDE3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AD8DF-645A-4688-A6A2-DC8C79F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DC8-C71B-4AA4-A3FA-662F793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2B178-1628-425D-A8FC-00E67AF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844F-92E7-4A99-B071-E166DAF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F552-8461-4F9C-AD6D-ED25A53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6D5F-F985-46CF-AC1B-7573E374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A861-1DE9-4036-B287-85A855B9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206CE-9F0F-4DAD-ADD9-331058FA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CD60D-8866-4AA4-88A6-1A2143C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6805-C4FB-445E-B7C3-09914E1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055A-FEF6-4F26-BA91-B4E7A56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230A1-43C0-4F25-908A-321E1332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6E7-27C8-4F4E-B004-3B5FF15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863A-5286-4A4C-A486-5D50060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C0EE-0413-471B-B300-050AD76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008B-E19B-465A-854F-F22BD74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C63A-87F7-48D4-9E13-7B3E500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65425-0293-409A-8736-6AA1673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55E2-8014-4718-B3B9-2696C9F3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5DB0-98A2-4F55-A7B7-073C2ABA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B735E-DC27-4973-9B64-EB8371A9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EF0C0-ABB9-4F94-93DA-7ACD816F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47F5C-D08D-482B-93C2-9F05686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6FC7-0476-4524-9C6A-5F9DCCF80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A62FB8D9-521F-4166-BBE0-5C818C277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EC63-3A15-422F-89D9-0A5875043D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41FF-B5F9-4728-89CD-8D2857A49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FFC-F54F-4475-8F90-D5D6693EE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7FE-171E-45CE-9FFE-394FA2BAE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23B9-EFC5-4383-A505-67D0F37DA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DC9-7AF2-4252-9271-93F07E32C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A30-96A4-43F9-9E58-8A2C64ED8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828-2BCA-4788-A9E8-D4F2B9CD4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151-5220-40B2-BFF7-715BD0384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A7C-AA81-481E-B056-9764AFD3F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C4A-F6E0-45A2-A385-9C7258F40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8B6-A654-42CE-A753-ED3B8A104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E8A-9184-40D1-B5F9-8591994AE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9F1-0F9C-4459-A21C-AC0DAE5DB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651-F8B3-4F41-928A-C9CB110FF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550C-AD7A-417F-82AF-5E07E03AD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3E03-01D4-482B-8B32-77DFD263B1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8C7B-4A15-49D2-BC2E-F509A0C5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132-3A31-4514-A6EA-38A889E41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6AE-1475-4D45-9BCC-F619B03AA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CB58-90C8-4E65-8254-63AF57AF8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CBEB-BC45-4F13-9BC1-80980E3FE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GDTF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ptember 3,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118-E8CD-4F96-8415-66D965878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January 21, 2015, NERC filed a Petition for Approval of TPL-007-1 with FER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February 26, 2015, Foundation for Resilient Societies, Inc. Initiated a Level 2 Appeal which NERC is Proces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May 14, 2015, FERC Issued NOPR Proposing to Approve NERC TPL-007-1 and Directing NERC as Follo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the Benchmark GMD Event Definition and Transformer Thermal Impact Study Requir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 Installation of Monitoring Equip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Specific Deadlines for the Development of Corrective Action Plans and the Completion of  Plan Activ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GMD Topics and Make Informational Filings to FER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7019-9C77-4059-A9A8-568F79A25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on FERC NOPR Due Before July 27,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erous Comments Fil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ents Ranged from Adopt as Filed to Start Ov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ugust 17, 2015, NERC Notified the Foundation for Resilient Societies, Inc. the Level 2 Appeal Panel Had Decided the Foundation Was Afforded Fair and Equitable Treatment During the Development of the Proposed Stand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793C-A871-41E7-A4DD-D0573F4AB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Diagram 8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077320" cy="46339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roposed Timeline from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C7EC-0B88-43E3-A2D6-5E9E230B1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Activities for PGD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Procedure Man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Plan for Documenting GMD Planning Activiti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Training on GMD Model Development on October 1, 2015 in Tayl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odel for GMD Vulnerability Assess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1DA-9AB7-4DEB-90A8-535C0E762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question-mark3a.jpg"/>
          <p:cNvPicPr/>
          <p:nvPr/>
        </p:nvPicPr>
        <p:blipFill>
          <a:blip r:embed="rId1"/>
          <a:stretch/>
        </p:blipFill>
        <p:spPr>
          <a:xfrm>
            <a:off x="3230640" y="2200320"/>
            <a:ext cx="2682720" cy="332892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782-27AF-40B6-A986-AFFD68EF4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9/3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Adrian Williams</cp:lastModifiedBy>
  <dcterms:modified xsi:type="dcterms:W3CDTF">2015-08-26T13:54:16Z</dcterms:modified>
  <cp:revision>114</cp:revision>
  <dc:subject/>
  <dc:title>PGDTF Update to ROS</dc:title>
</cp:coreProperties>
</file>