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dt" idx="6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 type="ftr" idx="6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 type="sldNum" idx="6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41B736-2D6A-4031-9D60-DA2921CD79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737661-68B3-4708-898E-C6293890AF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1865-8890-4494-911D-E55F3C21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4240-46F7-424A-ACDD-2EFF0354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9FB748-C715-44CB-8B6D-5D8F54DF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97B7A8-626E-4420-A7C2-BBE08115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E5BB43-4773-4C87-81A3-DA1BE8BD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18073D-5346-4CC5-9CE6-DCF95CF3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92E023-34D7-42A9-A4B6-E4011A45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E732C2-6E9A-4C36-BF77-DD7EC541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168194-4ACC-43DB-9B2B-446DFFA3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4E8FF5-E987-42D5-957B-E5F4F258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265981-8ADE-4549-85CF-A726C4195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09D63C-3A34-45BD-9825-80A01B00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0BA8-4B8F-4039-8FBB-3D76B100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81A5C6-0488-4A4E-8BD9-24ECC618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A6E210-919D-4090-A931-38766E4F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74F1E7-30C3-46D0-BD31-BE508A4E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18F00F-F5A9-45D7-A793-933B704A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774AF7-D976-4196-BA28-472CF6A6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F9203B-C71D-496D-9483-28E4FB5E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93CCC4-18D2-41A8-AFAA-720A61D5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EEC7CB-A318-470D-B4BF-C86457CC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22370F-D298-45C9-9461-87213FA7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21D0DE-93F7-4A4D-8960-C1FA41DF1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0537-6CB9-41C4-8D57-881257C95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E38CC2-C3C3-4AE5-BFA1-AF5ECBEB0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BBB099-EF8A-4B38-A0B6-0ADA2BA8D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E43348-5D66-419C-AC15-DEB61869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D33081-F188-48CA-BB17-2882F484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511E78-41DE-4FD9-A6B2-2A5175C2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403198-AD84-4BDA-9AA7-F3EB0CBF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8AF570-E9BF-49BE-A698-E17745D0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C6ECCF-AB8D-4498-AB2E-92EFBE18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637648-F29A-4605-855E-06E27A42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0DAE8E-79AA-489B-BF54-ED6AF464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5421-6E53-44C4-85D0-E254B8848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660344-04BC-4CBE-A2BC-E17196AF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DF026C-7FDD-4FA3-A16C-F92A6D4F3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058D4E-8F45-400A-8EA0-C9530460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C4D786-5F8A-4B1E-97F6-869605BC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6E5B39-116D-4180-92EB-9C8D2534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2AD55B1-8F21-4B1A-9759-4A83994C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437AF6-E5CB-4695-BDE5-61A6E62E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DA463C-9B94-4633-A7D1-8DB374DC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7467F5-03C5-4DB5-8F14-7A34D79F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E0FC7A-5E31-4DD0-B73C-48963B80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7BA81-ED17-44DB-8C85-E072C7CB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734D96-0409-4FF1-A91E-24A362A4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1A950B-8B53-4CCF-82F8-BEF4B6DF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A9562A-942C-46B8-91B3-3B43D2ED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D19462E-313E-4F80-9799-83A999334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6D0177-2B12-4D06-BD55-B6C0AF553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8D64-0743-4E51-B1F9-39EE5383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18D9-FD93-4FB5-9FA2-7F9DDCBE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3185-DEE9-4A86-BB20-B146531B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E487-B7E9-439C-9D53-7C0184FA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6A7B-DD28-4697-A3A2-7DBC2287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B8854F-5C12-4DD7-89E0-E9A4BA0C1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4C448C-544F-493F-B38B-5A05D20F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564C49-09DD-4CB9-AA21-5CE22BC8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A80B1C-4A24-4ADB-87B8-66AA8AB7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62F013-888F-45F5-9677-95191F2D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A7DA3A-1034-43FC-9B96-3F36E282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634038-DC24-4B01-A0CD-AEEA387E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9586-DEE3-4230-A1DB-0F80998E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5C63-2537-479B-AEC7-ABB03259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82AB7B-C585-4AC1-960A-8F224C0C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2F063B-A58B-40A5-ABAB-66FE09E1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31F258-7FF5-4982-934A-B972EF35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C2AA35-366C-4604-84F0-8F9B27844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87CE7A-9C25-4B1C-978A-E4DA3CC7E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BBC7C80-0FEE-4C28-8044-727DF7B5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E53E18B-9E89-458B-B404-70FEEA4C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4F98602-995E-427E-A272-F536AF2D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B78FE43-1473-4C71-926F-F097DF06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AA13CDF-4D86-4501-B317-1D65EE36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5FF8-6BCD-4FFB-AEEF-DCB8FA95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39781E6-4361-4DE2-8DAD-5A8B3EA7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554E5C6-2F75-47C1-9E43-8D4B85BE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7C5A918-DB6B-473A-B422-F100693B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BA3BDAF-4EB6-4D8C-A14D-1F63C6DC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FCB78CC-2272-4F54-9FD6-D28F884F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BECD28A-26CF-4951-B8A3-6D1E7B1DF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4323A02-A3E0-4C1C-930D-6AA516FB1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1028346-1EF6-43C7-A6AC-15A11555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F3D2C57-93D6-4F3A-BC04-08C1DCA2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9ADA81A-3CA8-4C34-B619-ABB706AF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1BB8-77D6-428E-A6C9-D0803010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9199281-FCA5-46F0-AD06-3A08EE5F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18BC43A-28EC-47ED-BF70-157862B4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D8C8630-FC25-4F2D-BB82-63582436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D82F850-A956-4842-858B-4CFA0500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5FD12CF-EC76-4051-B914-1365EBF4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F1D9CA0-65C6-456B-BEE1-CE84F393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D4C7EF2-CDBE-40F5-890C-E61C7613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6193846-68DB-463A-8FB3-FCF6E574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63E9953-642B-48DD-8A59-803C905ED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B260DCD-6094-4276-9A05-35C32048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E45DE-B8DD-4C9B-B862-03CB148A1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A5AAA01-0906-4B38-8F96-7F495164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58F76A1-9DA2-41AB-AC0E-7608870C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50FDB28-747D-4E16-A5D1-3FAEE56B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6694239-1FB2-4A74-93D1-0D10F671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BDAC55A-2CB2-4658-98BC-60F21254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5EBB33F-AE0E-496E-99C2-71186700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AF9E0C4-0AE4-43EE-A803-716796FB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92373B9-D04F-4559-8F89-259C7CF0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4B7C1CD-5302-4DA4-BA18-71A4B3A8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56EB435-C2BA-4307-9A58-6ED80B66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17CC-E356-4C31-B618-DD7E8100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DFF3B22-A5DD-4678-9147-CDA896AEC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A8B7F3-B3F3-4160-AF4D-0D3BA3C2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1C87EE-50C6-47E7-B5A1-F8493256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C5F222-5322-47F1-90F7-DE6BFF68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45917B-C684-49B0-8036-BBFC8CFC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7BB99A-9A1E-44D8-8610-12A20F1B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AD723F-F251-40EE-8C5B-A6A23CD8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4F2BB6-4D9E-417D-BD47-46264816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4C63EB-C8CC-4D69-9EBE-43A462F4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F392C9-C0DC-44AD-BBA5-66E80BD5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0BB5C-4406-4318-8654-AB045B90E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91CB16-51C6-407F-898D-16B66839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A79222-924F-4D2F-911A-5BA3D32F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586098-D180-470A-AF99-E917334D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D664E18-C76F-4A7F-AC30-151728B6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0298FB3-683E-4411-B835-42599DF8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A48A521-7F6D-4A03-B994-376CEAB5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B34BCBD-1994-4DED-BA30-B079E844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8002C5F-5D46-4267-B926-7912D74F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201F2EE-2F9D-4833-9865-5448FB4F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6265A04-8546-40B8-9EC5-859A2F19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404DC-6A63-425C-9F7F-60BA8A62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736123C-093A-474E-BEEC-D0B81AED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F28F1B1-1985-44F3-8CD0-CD4FBEA2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7661A53-1613-407E-B18B-6657C5AE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B757DC5-43DD-4B77-894A-0DFF58770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1E76055-B235-4029-A121-ACC4F87A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F9A2A7-D172-4F25-9AE1-EE20223A5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5ABCAF-9738-4DBF-B409-A7AD1E28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BB8811-B3E1-4960-BB3B-5473592E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7F7FEE-6D47-4423-B811-72E1C3D0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A902C6-B458-48DF-87DE-1D26CFB1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C2F30-9BD2-4594-B341-48366FB6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D9B682-D966-4910-ABEC-DC54F3BA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AFBF24-2D7D-4158-82EB-C4D630E2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8E833B-504F-418E-ACFE-EC57481E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CCD734-156B-4167-80C9-2FF10C7B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1D3EF0-CFBB-4B18-8D33-3967C2D8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66658E-317D-4CAD-A7A3-6EBA9183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21C969-8CCB-4996-B9D8-D91369A24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85453-DA72-43A4-8F0F-430EBC1C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0E43A-08AA-426B-8C9E-D0D1E13D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41A2-F7DD-459B-B81A-1301F49B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1FD60-8965-49FE-8503-42BB7931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9078C-42CC-4D67-8375-CF451053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79C42-A39F-4EC9-87B9-B4CF005C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75D99-628E-46C9-91A5-C606DD21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71E3B-D2F1-4622-9D08-24EB66C8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E7CAE-93FB-4184-B276-0E05DE87F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C9D28-5B25-45C1-B4F4-03FBB4D1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20D2-4565-46A4-8E40-FF2AC5B9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45CB-A357-4F96-9F92-15A62D12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D28E-1FC3-40A9-AE8C-3DA98CBC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265E90-D26D-4250-A153-2CAB8BB5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E5D033-D919-4FE1-A5FD-56B3DD0F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807E05-5B01-4345-9C2B-3CCC20C1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2C424C-D2E9-4D49-9AD2-47628343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D73A7A-2B6D-4EAF-A990-83A787C9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A67E77-5F42-4BA6-9D40-8C37D458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30A589-3DC5-4FC0-9348-96B12A0F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0BD3D8-26FC-4E12-AE82-0C99CDA8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EE9EDF-FC8D-419C-953C-F77F8934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0F66-7D89-4EAE-B9E7-366B8236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CC7F4A-5F3C-4C50-8134-F1DED3AF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A20E1A-680E-4972-846B-CF207ECF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78D99C-4AE9-44A4-930D-FC56C4F2A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49697B-E7D9-4988-810B-88CCB03D5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60D947-8A00-4431-9AE7-B522E01C5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2F0CD9-ED3F-42A5-A520-1F0A390E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DF546E-FCF6-4557-BC10-936CA14A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24B16C-0438-4044-968D-6314BFBDA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9321D9-F1BD-4D48-82E8-6D677B10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F01323-7923-42ED-B97D-4DE807B0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0B7A-6B7E-437E-97BA-344CE38C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081398-F0EB-44E8-9ECF-0B320F9A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03A7E7-5AE1-4F2F-BEFC-C9FB13B9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086A5FC-CB10-439A-B012-B96CC2D8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CC5F49-D589-40F8-AFEE-B80318400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A61B27-130A-4391-A06C-B0B8B938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90D022-432A-484A-B32A-47A2ABDA8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2691456-77E8-4425-9EB1-55181575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64EA04-E1EE-406D-9658-EAF65D4E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3D59EC-0E04-40B7-B518-6EC3FACC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91F2ED-2605-41CB-830C-CB006FC9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EC19-31C3-4049-8391-F1000FE6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8A2599-7E60-4789-AA43-C260E678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A17B9F-BD94-49E4-BDB0-380FE203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A885E2-ABF2-4750-AC87-1545B800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00D6FD-1B7D-49D1-8480-88637A8A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7D6ABF-990C-431A-8FA1-E164A075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D22599-0228-4326-A6CA-2F9373BD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2D3750-509D-4BF5-8EC4-2D5F1591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FDE97E-C786-4C43-BDBA-582FF7D4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600757-D64B-4812-B67B-76230333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4672FA-58CB-4BDB-87F3-8964D7AA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321FF8-4841-4A0D-B4AF-ED4E46A4956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E905DE-0C23-41A3-91CD-8AB79D4AC9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9DD325-64CB-4EAF-A72C-13B70612303B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26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C590D1-2FEA-45C7-BAFD-F66FD6F6724C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7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0A2B65-4EAD-4263-BA98-24E1BEE4B4D0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8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874310-CC32-4F30-94C6-EE624A832451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ftr" idx="29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0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CB3AA9-8AA1-426E-8721-9E753F77777D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1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2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965A3D-33CD-428B-8685-DEC09FF22C6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8B6C6C-C1B4-4FCB-83FE-39776E57A53A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980AA3-7C5A-4533-96A4-77CDB83FF33F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ftr" idx="3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C15985-00D4-4655-BF6F-39887F039C1A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ftr" idx="3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939AE0-61A8-4222-92F0-4C1E3192BF83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ftr" idx="3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37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6142C7-3EEA-449F-88B3-46072BE7DEDA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38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39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6CFC1B-C76E-4D96-86FF-FD4AAA59F01D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9B7E9D-B5EB-42A0-AC3B-0A9EC86052C4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4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1A68F2-D132-41CA-9EF1-FBD6613183F4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ftr" idx="4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C900A3-FBB0-4E42-B531-22E281F4C6E0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sldNum" idx="4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637B64-1D41-41BE-BA60-0DA885967A8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ftr" idx="4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9200C3-0154-4BC3-972B-EEFB3403EADD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CCA953-0192-4D62-A62E-62D680ACA4D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4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46F4C6-DE2C-4959-BA7A-2697D2FB72F4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sldNum" idx="4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507627-03E0-41ED-BC1C-92D9654516E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ftr" idx="4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C04766-624F-4DEF-BA37-E18175FD19BA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117981-05F1-4C9E-98DE-2B87E4143F58}" type="slidenum">
              <a:rPr b="1" lang="en-US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3C33ED-FDBD-42CE-B288-FF11A740CD4F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sldNum" idx="5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BC31E1-26EC-4C7C-AD7A-9B62D943371F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ftr" idx="5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55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9EBBCC-39B1-4714-92F5-72178D5B91F8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56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57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8356C1-E19C-40B4-9754-26D8646D7E8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1FCA6D-CD95-4BAE-A379-7CEAC56D13AB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ftr" idx="5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B0DA6A-95C9-4103-A4EE-D9B9297EE9EF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 type="ftr" idx="5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17DFD5-559D-44B1-A6ED-A32E69AC0826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ftr" idx="6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Straight Connector 9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775f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682D13-DD78-4FF7-8B95-93F70DE0A7B7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ftr" idx="6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w Cen MT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7948E5-E5AF-4266-96A1-E08D74259D40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EDE3E4-16A9-437F-96DF-9B6AEAFB8E2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70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2EB96B-971C-49EE-8F8D-79D337B87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ftr" idx="1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une 26, 2014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1B8BCF-2E7A-4A5C-B7AB-5A93962F4FC7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3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4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C48C11-3F6D-4F5B-8619-C6374D9D18E6}" type="slidenum">
              <a:rPr b="1" lang="en-US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F58DFC-FBCB-4B4A-9196-A6EF3332E355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6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B4EB66-8C7E-473C-BC11-C38914C08955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7AC3BA-C238-4CC8-B4C6-E12759A65227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sldNum" idx="1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F37949-F7D2-4085-9082-44BBA88F97D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1CB7CB-BE9E-49B6-9703-29481BA7D24E}" type="datetime"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22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B607F6-7C4C-450D-8590-657BD20CE6B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9" name="Group 13"/>
          <p:cNvGrpSpPr/>
          <p:nvPr/>
        </p:nvGrpSpPr>
        <p:grpSpPr>
          <a:xfrm>
            <a:off x="787320" y="2804760"/>
            <a:ext cx="7543800" cy="2932560"/>
            <a:chOff x="787320" y="2804760"/>
            <a:chExt cx="7543800" cy="2932560"/>
          </a:xfrm>
        </p:grpSpPr>
        <p:sp>
          <p:nvSpPr>
            <p:cNvPr id="1180" name="TextBox 9"/>
            <p:cNvSpPr/>
            <p:nvPr/>
          </p:nvSpPr>
          <p:spPr>
            <a:xfrm>
              <a:off x="787320" y="3082680"/>
              <a:ext cx="7543800" cy="26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OS Repor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lan Ber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5 ROS Vice-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ical Advisory Committee (TAC) Me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908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2" name="Footer Placeholder 4"/>
          <p:cNvSpPr/>
          <p:nvPr/>
        </p:nvSpPr>
        <p:spPr>
          <a:xfrm>
            <a:off x="609480" y="6248520"/>
            <a:ext cx="465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gust 27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Schedule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612720" y="1924200"/>
            <a:ext cx="815328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Last ROS email meeting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ugust 6, 201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Next ROS meeting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ptember 3, 201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October 8, 201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5" name="Footer Placeholder 4"/>
          <p:cNvSpPr/>
          <p:nvPr/>
        </p:nvSpPr>
        <p:spPr>
          <a:xfrm>
            <a:off x="609480" y="6248520"/>
            <a:ext cx="46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gust 27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Email Vote – Affirmed Unanimously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609120" y="1457280"/>
            <a:ext cx="815364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NOGRR146:  ROS tabled Nodal Operating Guide Revision Request, Clarifying ERCOT Actions During Energy Emergency Alerts, to allow for related NPRR708 to be reviewed by the Protocol Revision Subcommittee (PRS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NPRR713:  ROS recommended PRS continue tabling, Reactive Power Testing Requirements, to allow for further review by the Operations Working Group (OWG) along with related NOGRR147, Reactive Power Testing Requirements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524520" indent="-2235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NPRR713/NOGRR147 Workshop on Monday August 31. 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524520" indent="-22356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w Cen MT"/>
              </a:rPr>
              <a:t>ROS will review recommendations from OWG/workshop at September ROS meeting.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261360" indent="-2613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RRGRR006:  ROS recommended approval of Resource Registration Glossary Revision Request, Clarification of Descriptions and Alignment with Resource Asset Registration Forms, as recommended by the Resource Data Working Group (RDWG) in the 7/14/15 RDWG Report with a recommended priority of 2015 and rank of 1230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8" name="Footer Placeholder 2"/>
          <p:cNvSpPr/>
          <p:nvPr/>
        </p:nvSpPr>
        <p:spPr>
          <a:xfrm>
            <a:off x="609480" y="6248520"/>
            <a:ext cx="4645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gust 27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Email Vote - Objected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609120" y="1617840"/>
            <a:ext cx="815364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NPRR708:  ROS recommendation to endorse Nodal Protocol Revision Request (NPRR)708, Clarifying ERCOT Actions During Energy Emergency Alerts, as amended by the 7/15/15 ERCOT comments FAILED.  The NPRR is scheduled for consideration at the August 13, 2015 Protocol Revision Subcommittee (PRS) meeting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ERCOT plans to address language concerns at the September ROS meeting.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1" name="Footer Placeholder 2"/>
          <p:cNvSpPr/>
          <p:nvPr/>
        </p:nvSpPr>
        <p:spPr>
          <a:xfrm>
            <a:off x="609480" y="6524640"/>
            <a:ext cx="48405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gust 27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5f55"/>
                </a:solidFill>
                <a:latin typeface="Tw Cen MT"/>
              </a:rPr>
              <a:t>ROS Action Items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609120" y="1617840"/>
            <a:ext cx="815364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NPRR691 – Alignment of Protocols with NERC Reliability Standard, BAL-001-TRE-1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RE, PUC, ERCOT all attended open PDCWG meeting August 2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w Cen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to present their concerns with the previous filed PDCWG comments.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50320" indent="-2124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No resolution found.  ERCOT/PUC staff plan to evaluate information presented at meeting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NPRR705 – Provides Consistency of References to the End Date of the Generation Interconnec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DWG has created RGRR008 to align with NPRR705 language. 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NPRR707 – Provision of Transmission System Voltage Telemetry to QS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94720" indent="-2534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OS reviewing for PR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4" name="Footer Placeholder 2"/>
          <p:cNvSpPr/>
          <p:nvPr/>
        </p:nvSpPr>
        <p:spPr>
          <a:xfrm>
            <a:off x="609480" y="6524640"/>
            <a:ext cx="48405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uly 30, 2015 TAC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LWG CDR Whitepape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PLWG completed the task of developing the whitepaper describing the differences between the CDR and the Planning Models. 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A market participant (NRG) is working to develop NPRR/PGRR to address suggestion related to listing future generating capacity in the CDR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w Cen MT"/>
              </a:rPr>
              <a:t>SSWG will be addressing the dispatch of hydro-electric, DC tie, wind and solar during their procedure manual review/update later this year</a:t>
            </a: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7" name="Footer Placeholder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Arial"/>
              </a:rPr>
              <a:t>June 26, 2014 TAC 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Joel Firestone</cp:lastModifiedBy>
  <cp:lastPrinted>2013-01-30T23:16:36Z</cp:lastPrinted>
  <dcterms:modified xsi:type="dcterms:W3CDTF">2015-08-25T20:48:45Z</dcterms:modified>
  <cp:revision>838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  <property fmtid="{D5CDD505-2E9C-101B-9397-08002B2CF9AE}" pid="4" name="Vault">
    <vt:lpwstr>0</vt:lpwstr>
  </property>
</Properties>
</file>