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C4E2-CCA1-4AD6-9CC7-C0D605D7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AC56-860B-4DDE-8732-3E7F696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CA6F-5203-4048-846A-3132F573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14FF-1441-4B73-B427-8AF1FE63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37F-E771-4562-B336-B37E490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B6C0-AC63-4F27-A844-D640A75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25A3-831B-4773-A8B7-DC3C7AE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6C8A-5683-409D-A282-E481D18A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B17D-31B7-4C45-BC79-72A045A8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8D0-73FB-426B-BD30-713E8D25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0AD-2B49-4694-9A2E-6E0B13A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BA1E-68AE-4E23-B489-143C44EB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1EFA-497F-408A-82FC-93D0891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F996-9E3D-4BC4-9932-6C2645B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AB3-E502-4128-AB05-E21FC56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D36-2430-4270-95C7-9D8024C8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B89-39BD-422A-9706-55B4CB37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990E-35EB-44EB-8E74-5F22C56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EEDA-3CD7-45F4-A724-EAFB0EC4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FAC0-0278-43F1-84C3-DC0025A6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1ACB-9B0F-4EB3-937A-343377E2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725A-8BFD-4455-95E4-9CC8DF8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B606-F55C-4227-8131-336E198D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8855-1C91-4C5A-A385-2A850B5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5F09-2570-4EEF-B952-F10389D3E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18FF-08AE-406C-900A-26465193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D2B19-0673-4F45-9BA8-4DB07667B7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D5C69-F775-47CD-8A4E-A003829C1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7AF35-22BB-4370-AC71-28AE1B119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/27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n-Registered DG Installed Capac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ndy Roberts provided the Second Quarter 2015 Non-Registered DG Installed Capacity Re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S requested that all Load Zones be included in the re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e MW reductions from the previous quarter are the result of a scrubbing effort performed by ERCOT and TDSP staff (LZ_North was previously at 6.8555 M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ed up duplications, Load profiling issues, Data variation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14400" y="1600200"/>
          <a:ext cx="7010280" cy="1752480"/>
        </p:xfrm>
        <a:graphic>
          <a:graphicData uri="http://schemas.openxmlformats.org/drawingml/2006/table">
            <a:tbl>
              <a:tblPr/>
              <a:tblGrid>
                <a:gridCol w="1327320"/>
                <a:gridCol w="1035000"/>
                <a:gridCol w="1523880"/>
                <a:gridCol w="31240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_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_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h_Exported_Prior_12_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A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1,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5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352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2,8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3,7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,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Load Profiling Validation process is progressing on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Allocation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will be reviewing the need for the current UFE allocation factors for NIDR, IDR-Distribution, and IDR-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ort to review and update Protocol Section 18, Load Profiling, is progressing on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Web Services (EWS) Modifications  Workshop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9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00 pm to 4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Met Center and Web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Forecast Distribution Factor Repor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currently publishes data on an hourly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is 1M lin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Ps only downloading the file once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ly changes seas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if corrections ar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recommending daily publication at 5:00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members to solicit feedback from their 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commendation to be made at the August 26th MISU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 to be Autom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ess continues in review of requirements to automate 16 manual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Open Item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UG maintained an “Open Items” list prior to transitioning from ERCOT leadership to Market 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n items list was reviewed and several items have been identified as potential new repor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Marginal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ical DC Tie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ical Information for AS Capacity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maining items had either already been addressed or were no longer relev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ember 9, 20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PGRR05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xtend Load Profile Model Calendar Inputs to 203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PS voted to approve LPGRR055 as amended by the 8/5/2015 PWG Com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S Assignment: NPRR70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Flexible Accounts, Payment of Invoices, and Disposition of Interest on Cash Collater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ovides Flexible (Pre-pay) Accounts today, but there is no language in the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 includes $150k-$200k for automation with a 6 to 9 month project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discussed: Submitting an SCR separate of the NPRR, Funding deadlines, Adding wiring fee savings to IA, Overpaymen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PS voted to endorse NPRR702 as submitted.  There was one abstention from the IOU Seg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tend Load Profile Model Calendar Inputs to 20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PGRR055 extends the Load Profile Model calendar-related inputs in Appendix E, Profile Model Spreadsheets, from 2020 to 203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has completed modification to the Load Profile Model Calendar Inp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WG has requested an implementation date of October 1,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S requests that the TAC table LPGRR055 for one month, to avoid unnecessarily grey-boxing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ley Load Forecasting Op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6854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liminary overview of options to address ERCOT’s Rio Grande Valley (Valley) area load forecasting and operational requir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will have the opportunity to discuss and provide in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taff plans to present options to ROS and 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: Load Profiling Guide Section 13, Changes to Weather Zone 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ther Zone Boundaries, Modeling Regions, Weather Stations, Weighting of Weather st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ley Load Forecasting Op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6854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staff determined a need for independent modeling of the Valley to facilitate more accurate load forecasting and address operational nee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upplemental Valley load forecast was created to meet immediate operational needs, e.g. Outage analysi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ransparency, ERCOT staff is looking at providing the supplemental Valley load forecast data to Market Participants.  The initial thought was to add a new Valley Weather Zone, because load forecasts are created by Weather Zone, however there is an alternativ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2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ley Load Forecasting Op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1: Create new Valley Weather Z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pact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 and System mod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RCOT, TDSPs, and C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ystems: LFC, STNET, CIM Importer, State Estimator, Short Term Load Forecast, MT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ail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orc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14 Transactions to update customer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volume, will need to be in p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ley Load Forecasting Op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1: Create new Valley Weather Z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Estimated ESID count by TDSP and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or the four targeted coun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y Weather Zone Counties: Cameron, Hidalgo, Starr, and Zap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5800" y="2666880"/>
          <a:ext cx="7772400" cy="3040200"/>
        </p:xfrm>
        <a:graphic>
          <a:graphicData uri="http://schemas.openxmlformats.org/drawingml/2006/table">
            <a:tbl>
              <a:tblPr/>
              <a:tblGrid>
                <a:gridCol w="4267080"/>
                <a:gridCol w="2392560"/>
                <a:gridCol w="1112760"/>
              </a:tblGrid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DSP_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IID_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EP TEXAS CENTRAL 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3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EP TEXAS CENTRAL 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mall Non-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,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EP TEXAS CENTRAL 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rge Non-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ERGY GULF STATES 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CES ELECTRIC COOP 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RYLAND UTILITIES LP MC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RYLAND UTILITIES LP MC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mall Non-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RYLAND UTILITIES LP MC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rge Non-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4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ley Load Forecasting Op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2: Carve out Valley area for modeling and load forecasting purposes only 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irtual Weather Z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will work for future area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o interest by MPs, ERCOT will not provide Valley load forecast data in a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 a mechanism to provide the load forecast data to the Market in a report/ex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ERCOT and CRs, but to a much lesser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NPRR may not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Participant Train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Kettlewell provided his Market Participant Training presentation to C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provided by COPS included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with Credit Management Training being a high pri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the development of a Verifiable Cos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that Settlements training not be provided the first week of the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standard cycle training programs and locations for cor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an annual Settlements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to Settlements 301, Covering rece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work with Mark Ruane on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8-20T15:26:19Z</cp:lastPrinted>
  <dcterms:modified xsi:type="dcterms:W3CDTF">2015-08-20T16:37:03Z</dcterms:modified>
  <cp:revision>1312</cp:revision>
  <dc:subject/>
  <dc:title>Instructions</dc:title>
</cp:coreProperties>
</file>