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7.jpeg" ContentType="image/jpeg"/>
  <Override PartName="/ppt/media/image6.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30D6-2429-4FB3-A3A1-047EDC695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B3F5-7D64-4F65-9171-EAB3A68C5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5A65-E142-4265-A0B3-1FA0A4677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AD86-645F-4843-A705-C29DACDD7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3082-F854-4142-AD70-25FF0C9A7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DF0E-3ED6-4D76-92E9-B67CAB5A6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A09F-366E-472C-8951-3F1136333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6BF7-A4EB-4DF1-B741-D446AEEF2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88AE-1E56-4F21-AD4B-8B16A6798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45D8E-4995-4335-A7D9-DAC557EA0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7A7DB-7D39-446A-83F8-0771DBFB8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F1D98-C744-4BDE-BBB1-B4CC934E0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12AB6-4D64-4ACB-AA45-8C1F8A3E0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53808-43F5-4E81-BF3E-16573F56F5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95B87-63B4-4946-9B0D-DF0664127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89A51-A194-4332-B4C0-4D8230C4C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01B18-487F-4CC6-8D2B-DB64C3177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AE659-F573-47D3-A5B4-95617697D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0E82D-D363-4643-9DE4-C4FAB7FB4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BEF57-4DCA-40F5-9CAB-A851F0421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7DEC3-EC35-43AE-8A5F-6C4F6CD86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E17B7-402B-4185-9D9E-E65AD804D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0BFAA-99A5-48F7-8F34-AD8BC3F24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4F217-F6AB-4D75-AA1A-1B09A753D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CC15D-AF60-46EF-AA22-0E2650EDD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D8170-B1E9-41E7-9AE9-F6B9E40D6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71E7FD-FEE3-4394-A624-2844A28981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F3C1D4-03A9-4742-A7C9-678A1E4298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FE35DE-3232-4D6A-B710-28CDFDCB72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772274-D46A-4B34-8619-54B767E17F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68920C-5A87-44DD-8679-1494151352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2D4A4-B115-49FC-B65B-D0E2EADA4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0D6443-C773-4CDD-BF27-7F5877CD5A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4FCB72-441D-4004-B9DF-F6C2CBDE6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E52BC6-0BB3-480F-A9B3-E9468DB7D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364CC7-7FD1-4BB4-B394-9E1DBB05D0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DF6464-382F-4051-82DA-E52F05B641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BA2EDF-F2B2-4394-9407-FFEB586B41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C85810-1938-42C1-B4D3-4F82C2BBA6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DF62AC-C10B-44C1-89CB-A0D150C584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817D46-0658-4F7A-BEAB-DFBC97E18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3944AF-4142-4FA4-9B2C-E407D4DC04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B5212-6BFE-48C0-A8E8-49085D957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01806E-85D7-4C7B-810C-D62C2749C4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7186F3-6C79-4B90-84D5-D63F4A7710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E2DECE-3861-4A9F-90C8-E9FCC8B62F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3819E-0B90-4937-B112-50A7A561E0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779C07-DA09-42CF-9C58-F347E9EE8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2E533-8F94-498D-8974-D44362ED64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AE6205-63BF-451A-9837-4C10D201E9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1F8202-3D68-4ABB-AD98-9EEBB6FB9D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2197DF-7651-4904-A0B0-73E8490D68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FD76C2-4701-46F9-BEA4-DB2687F1E2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3C257-6BF1-4ADA-B4AD-FEAEC8D30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082F87-1109-4A35-B156-02236A00FE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CBC8AE-845F-4E3A-B9D5-64ACBC65DE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435177-A623-48A9-842A-9B68873EB2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82186D-1F7B-4FDA-A019-56F9F8BAD3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E7C4E6-705F-4861-BFDD-CC4D29808E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08183B-4D25-49BB-A111-3D81B78563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E2443C-3795-409B-B0A6-33F9D87E90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903958-081A-4179-A0C9-04954E14BE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1E6F0B-C775-4905-AB49-03BB760063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017CF6-5DC6-48AD-A59D-649DC5C047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25F8D-3DA1-4750-B386-278BD54FC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874D1B-CF4C-4D68-9A4C-6B2234BB3B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01402C-6422-458D-8A81-3EA97BB8C5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4D4C14-E1D8-464B-B474-31B8AB7BBE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F742DB-FE3F-44D2-8799-813984D143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333F19-7187-4085-A259-3CEBBAAB8B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7B50C7-C164-43D5-8EB9-7342172933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82CFC9-61DD-4B54-A502-FB09DCBDCC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DCE4EE-81EC-47C4-A63D-75168684B5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62ED37-FD40-4470-AA93-5A5E999129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26E85E-A47F-4337-B899-50E6A890C1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26475-A248-4818-B718-E7740316C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A5F45C-ED70-4852-94C1-F6CE8E3610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473B45-00DF-45AC-8AF8-310EA7A878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E0304F-E793-4AE9-92EB-B027A95250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F53746-5EB7-40BE-B223-371526A10E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BB75F2-FE78-4851-B504-BE12538E9B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82212F-87A1-4ADC-8E8D-A2BD1CE69D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C73DC7-1FC3-4114-8C90-29FAAEB622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78610A-69D3-458F-981D-D1CF245549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725800-1ACE-43FD-932A-83FFF3E324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498B80-3EE0-477D-A0CC-29B51C28D5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4ED29-81A6-4B2A-AA97-98E4C6C18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B1C07A-661D-40E6-9E41-68767AD114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350A17-B41D-4390-8FD2-FA9E02CC5C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BC2617-CCB6-44B8-8148-69221E9577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853338-1550-475E-9A56-BB1365D019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DD3BDB-0AFA-497B-8FF6-ADF0D32772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2AC92-5DDE-46C1-A022-A52EBE8D9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0E8E-4E61-4AF0-805F-80091544A9E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8305-99AC-48D3-AD22-47B1ACD637B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53517-A54C-4314-B84A-E1B3773309C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EBD96-D375-4BB5-B951-69AFC48239C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83BEF-E221-44E7-890D-A3705F0B004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7B0F-EDE6-488D-BCD6-D43E094E2C4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3816-1CBF-4A4B-B9DD-576FFC283A9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mailto:RetailOperationsIssues@lists.ercot.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rcot.com/content/wcm/key_documents_lists/66757/711NPRR_06_TIEC_Pioneer_Comments_081015.doc"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7, 2015 </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A902-2B9C-4E47-ABA5-038C8A77FE2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IT Updates! </a:t>
            </a:r>
            <a:endParaRPr b="0" lang="en-US" sz="4300" spc="-1" strike="noStrike">
              <a:solidFill>
                <a:srgbClr val="572314"/>
              </a:solidFill>
              <a:latin typeface="Gill Sans MT"/>
            </a:endParaRPr>
          </a:p>
        </p:txBody>
      </p:sp>
      <p:sp>
        <p:nvSpPr>
          <p:cNvPr id="388" name=""/>
          <p:cNvSpPr txBox="1"/>
          <p:nvPr/>
        </p:nvSpPr>
        <p:spPr>
          <a:xfrm>
            <a:off x="914400" y="304560"/>
            <a:ext cx="8229600" cy="5181480"/>
          </a:xfrm>
          <a:prstGeom prst="rect">
            <a:avLst/>
          </a:prstGeom>
          <a:noFill/>
          <a:ln w="0">
            <a:noFill/>
          </a:ln>
        </p:spPr>
        <p:txBody>
          <a:bodyPr anchor="t">
            <a:normAutofit fontScale="86000"/>
          </a:bodyPr>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RCOT’s Retail System’s Unplanned Outage          Red Flag Notification</a:t>
            </a:r>
            <a:r>
              <a:rPr b="1" lang="en-US" sz="2800" spc="-1" strike="noStrike">
                <a:solidFill>
                  <a:srgbClr val="000000"/>
                </a:solidFill>
                <a:latin typeface="Gill Sans MT"/>
              </a:rPr>
              <a:t>:  </a:t>
            </a:r>
            <a:endParaRPr b="0" lang="en-US" sz="28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On August 3, 2015, ERCOT implemented an early notification system for unplanned retail system issues.  ERCOT will provide two ways for MPs to be informed of unplanned retail system issues.  A red flag will be displayed on the home page of ERCOT.com coupled with a system-generated Notice to an e-mail distribution list created for this purpose.    </a:t>
            </a:r>
            <a:endParaRPr b="0" lang="en-US" sz="16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e red flag and the system-generated Notice will be triggered when ERCOT experiences outages or significant issues impacting one of the following:</a:t>
            </a:r>
            <a:endParaRPr b="0" lang="en-US" sz="1600" spc="-1" strike="noStrike">
              <a:solidFill>
                <a:srgbClr val="000000"/>
              </a:solidFill>
              <a:latin typeface="Gill Sans MT"/>
            </a:endParaRPr>
          </a:p>
          <a:p>
            <a:pPr lvl="2" marL="761760" indent="-1965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Retail Transaction Processing</a:t>
            </a:r>
            <a:endParaRPr b="0" lang="en-US" sz="1400" spc="-1" strike="noStrike">
              <a:solidFill>
                <a:srgbClr val="000000"/>
              </a:solidFill>
              <a:latin typeface="Gill Sans MT"/>
            </a:endParaRPr>
          </a:p>
          <a:p>
            <a:pPr lvl="2" marL="761760" indent="-1965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MarkeTrak</a:t>
            </a:r>
            <a:endParaRPr b="0" lang="en-US" sz="1400" spc="-1" strike="noStrike">
              <a:solidFill>
                <a:srgbClr val="000000"/>
              </a:solidFill>
              <a:latin typeface="Gill Sans MT"/>
            </a:endParaRPr>
          </a:p>
          <a:p>
            <a:pPr lvl="2" marL="761760" indent="-1965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Retail MIS</a:t>
            </a:r>
            <a:endParaRPr b="0" lang="en-US" sz="14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e red flag will be displayed next to the “Notices and Bulletins” area of the home page of ERCOT.com*.  Once a red flag is displayed, a system-generated Notice will be sent to an e-mail distribution list (</a:t>
            </a:r>
            <a:r>
              <a:rPr b="0" lang="en-US" sz="1600" spc="-1" strike="noStrike" u="sng">
                <a:solidFill>
                  <a:srgbClr val="8dc765"/>
                </a:solidFill>
                <a:uFillTx/>
                <a:latin typeface="Gill Sans MT"/>
                <a:hlinkClick r:id="rId1"/>
              </a:rPr>
              <a:t>RetailOperationsIssues@lists.ercot.com</a:t>
            </a:r>
            <a:r>
              <a:rPr b="0" lang="en-US" sz="1600" spc="-1" strike="noStrike">
                <a:solidFill>
                  <a:srgbClr val="000000"/>
                </a:solidFill>
                <a:latin typeface="Gill Sans MT"/>
              </a:rPr>
              <a:t>) informing Market Participants that ERCOT is experiencing issues with one or more of the above categories. In addition to the system-generated Notice, a follow-up Market Notice will be sent during business hours for issues lasting 30 minutes or longer. The red flag on ERCOT.com will be removed when the issue is resolved.</a:t>
            </a:r>
            <a:endParaRPr b="0" lang="en-US" sz="16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ome versions of Internet Explorer may not display the red flag. Users checking to see if the red flag is displayed on ERCOT.com should use Internet Explorer 11.</a:t>
            </a:r>
            <a:endParaRPr b="0" lang="en-US" sz="1600" spc="-1" strike="noStrike">
              <a:solidFill>
                <a:srgbClr val="000000"/>
              </a:solidFill>
              <a:latin typeface="Gill Sans MT"/>
            </a:endParaRPr>
          </a:p>
          <a:p>
            <a:pPr lvl="3" marL="943200" indent="-14868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8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7, 2015</a:t>
            </a:r>
            <a:endParaRPr b="0" lang="en-US" sz="1200" spc="-1" strike="noStrike">
              <a:solidFill>
                <a:srgbClr val="000000"/>
              </a:solidFill>
              <a:latin typeface="Arial"/>
            </a:endParaRPr>
          </a:p>
        </p:txBody>
      </p:sp>
      <p:sp>
        <p:nvSpPr>
          <p:cNvPr id="39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9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AD6C-19B8-42D2-8578-5C60B8EF44B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IT Updates! </a:t>
            </a:r>
            <a:endParaRPr b="0" lang="en-US" sz="4300" spc="-1" strike="noStrike">
              <a:solidFill>
                <a:srgbClr val="572314"/>
              </a:solidFill>
              <a:latin typeface="Gill Sans MT"/>
            </a:endParaRPr>
          </a:p>
        </p:txBody>
      </p:sp>
      <p:sp>
        <p:nvSpPr>
          <p:cNvPr id="393" name=""/>
          <p:cNvSpPr txBox="1"/>
          <p:nvPr/>
        </p:nvSpPr>
        <p:spPr>
          <a:xfrm>
            <a:off x="914400" y="761760"/>
            <a:ext cx="8229600" cy="518148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Legacy Tool Replacement </a:t>
            </a:r>
            <a:endParaRPr b="0" lang="en-US" sz="24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mprovements initiated in response to the February 17</a:t>
            </a:r>
            <a:r>
              <a:rPr b="1" lang="en-US" sz="1800" spc="-1" strike="noStrike" baseline="30000">
                <a:solidFill>
                  <a:srgbClr val="000000"/>
                </a:solidFill>
                <a:latin typeface="Gill Sans MT"/>
              </a:rPr>
              <a:t>th</a:t>
            </a:r>
            <a:r>
              <a:rPr b="1" lang="en-US" sz="1800" spc="-1" strike="noStrike">
                <a:solidFill>
                  <a:srgbClr val="000000"/>
                </a:solidFill>
                <a:latin typeface="Gill Sans MT"/>
              </a:rPr>
              <a:t> duplicate retail transactions incident:</a:t>
            </a:r>
            <a:endParaRPr b="0" lang="en-US" sz="18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Current Status:</a:t>
            </a:r>
            <a:endParaRPr b="0" lang="en-US" sz="18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Complete</a:t>
            </a:r>
            <a:r>
              <a:rPr b="0" i="1" lang="en-US" sz="1600" spc="-1" strike="noStrike">
                <a:solidFill>
                  <a:srgbClr val="000000"/>
                </a:solidFill>
                <a:latin typeface="Gill Sans MT"/>
              </a:rPr>
              <a:t> - </a:t>
            </a:r>
            <a:r>
              <a:rPr b="0" lang="en-US" sz="1600" spc="-1" strike="noStrike">
                <a:solidFill>
                  <a:srgbClr val="000000"/>
                </a:solidFill>
                <a:latin typeface="Gill Sans MT"/>
              </a:rPr>
              <a:t>New outbound transaction flow monitor designed to alert when a five to ten minute transactional backlog exists</a:t>
            </a:r>
            <a:endParaRPr b="0" lang="en-US" sz="16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 progress </a:t>
            </a:r>
            <a:r>
              <a:rPr b="0" lang="en-US" sz="1800" spc="-1" strike="noStrike">
                <a:solidFill>
                  <a:srgbClr val="000000"/>
                </a:solidFill>
                <a:latin typeface="Gill Sans MT"/>
              </a:rPr>
              <a:t>- End-to-end pulse functionality monitoring for retail transactions – December 2015 target:</a:t>
            </a:r>
            <a:endParaRPr b="0" lang="en-US" sz="18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ystem will sit outside of the ERCOT firewall and mimic a market participant’s experience and alert when performance criteria are not met</a:t>
            </a:r>
            <a:endParaRPr b="0" lang="en-US" sz="16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 progress </a:t>
            </a:r>
            <a:r>
              <a:rPr b="0" lang="en-US" sz="1800" spc="-1" strike="noStrike">
                <a:solidFill>
                  <a:srgbClr val="000000"/>
                </a:solidFill>
                <a:latin typeface="Gill Sans MT"/>
              </a:rPr>
              <a:t>–</a:t>
            </a:r>
            <a:r>
              <a:rPr b="1" lang="en-US" sz="1800" spc="-1" strike="noStrike">
                <a:solidFill>
                  <a:srgbClr val="000000"/>
                </a:solidFill>
                <a:latin typeface="Gill Sans MT"/>
              </a:rPr>
              <a:t> </a:t>
            </a:r>
            <a:r>
              <a:rPr b="0" lang="en-US" sz="1800" spc="-1" strike="noStrike">
                <a:solidFill>
                  <a:srgbClr val="000000"/>
                </a:solidFill>
                <a:latin typeface="Gill Sans MT"/>
              </a:rPr>
              <a:t>Migrate monitoring functionality from a legacy system to a supported toolset – December 2015 target:</a:t>
            </a:r>
            <a:endParaRPr b="0" lang="en-US" sz="18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4 of 84 monitors complete</a:t>
            </a:r>
            <a:endParaRPr b="0" lang="en-US" sz="16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 of 19 directory monitors complete</a:t>
            </a:r>
            <a:endParaRPr b="0" lang="en-US" sz="16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 of 11 reports complete</a:t>
            </a:r>
            <a:endParaRPr b="0" lang="en-US" sz="16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1 of 112 dashboards complete</a:t>
            </a:r>
            <a:endParaRPr b="0" lang="en-US" sz="16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 of 3 business functions complete</a:t>
            </a:r>
            <a:endParaRPr b="0" lang="en-US" sz="16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On target for completion by the end of 2015</a:t>
            </a: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9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7, 2015</a:t>
            </a:r>
            <a:endParaRPr b="0" lang="en-US" sz="1200" spc="-1" strike="noStrike">
              <a:solidFill>
                <a:srgbClr val="000000"/>
              </a:solidFill>
              <a:latin typeface="Arial"/>
            </a:endParaRPr>
          </a:p>
        </p:txBody>
      </p:sp>
      <p:sp>
        <p:nvSpPr>
          <p:cNvPr id="39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9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9EA4-FADF-4B73-B72C-A1C11543070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IT Updates! </a:t>
            </a:r>
            <a:endParaRPr b="0" lang="en-US" sz="4300" spc="-1" strike="noStrike">
              <a:solidFill>
                <a:srgbClr val="572314"/>
              </a:solidFill>
              <a:latin typeface="Gill Sans MT"/>
            </a:endParaRPr>
          </a:p>
        </p:txBody>
      </p:sp>
      <p:sp>
        <p:nvSpPr>
          <p:cNvPr id="398" name=""/>
          <p:cNvSpPr txBox="1"/>
          <p:nvPr/>
        </p:nvSpPr>
        <p:spPr>
          <a:xfrm>
            <a:off x="914400" y="609480"/>
            <a:ext cx="8229600" cy="518184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hange Requests </a:t>
            </a: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ince there is NO market visibility into knowing what or when ERCOT’s internal Change Requests (CRs) will be implemented, RMS leadership requested that ERCOT provide  TDTWG and RMS with a list of these internal Change Requests and their scheduled implementation in case there will be direct MP impacts or system changes required by MPs to support ERCOT’s Change Requests upon implementation.  This would also give the market the opportunity to voice concerns or for Q&amp;A and .   ERCOT agreed!</a:t>
            </a:r>
            <a:endParaRPr b="0" lang="en-US" sz="1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light 0615 Summary</a:t>
            </a: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light 0615 is 100% complete as of 7/8/2015</a:t>
            </a:r>
            <a:endParaRPr b="0" lang="en-US" sz="1800" spc="-1" strike="noStrike">
              <a:solidFill>
                <a:srgbClr val="000000"/>
              </a:solidFill>
              <a:latin typeface="Gill Sans MT"/>
            </a:endParaRPr>
          </a:p>
          <a:p>
            <a:pPr lvl="3" marL="987120" indent="-1555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New CRs tested (Including 1 additional DUNS)</a:t>
            </a:r>
            <a:endParaRPr b="0" lang="en-US" sz="1600" spc="-1" strike="noStrike">
              <a:solidFill>
                <a:srgbClr val="000000"/>
              </a:solidFill>
              <a:latin typeface="Gill Sans MT"/>
            </a:endParaRPr>
          </a:p>
          <a:p>
            <a:pPr lvl="3" marL="987120" indent="-1555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xisting CRs: 7 CRs tested for a Change of Service Provider, 1 CR added a new service territory and 1 CR tested for a Change of Bank</a:t>
            </a:r>
            <a:endParaRPr b="0" lang="en-US" sz="1600" spc="-1" strike="noStrike">
              <a:solidFill>
                <a:srgbClr val="000000"/>
              </a:solidFill>
              <a:latin typeface="Gill Sans MT"/>
            </a:endParaRPr>
          </a:p>
          <a:p>
            <a:pPr lvl="3" marL="987120" indent="-1555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77 tasks were completed including connectivity</a:t>
            </a:r>
            <a:endParaRPr b="0" lang="en-US" sz="16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1" lang="en-US" sz="2000" spc="-1" strike="noStrike">
                <a:solidFill>
                  <a:srgbClr val="000000"/>
                </a:solidFill>
                <a:latin typeface="Gill Sans MT"/>
              </a:rPr>
              <a:t>Flight 1015 Update: </a:t>
            </a:r>
            <a:endParaRPr b="0" lang="en-US" sz="2000" spc="-1" strike="noStrike">
              <a:solidFill>
                <a:srgbClr val="000000"/>
              </a:solidFill>
              <a:latin typeface="Gill Sans MT"/>
            </a:endParaRPr>
          </a:p>
          <a:p>
            <a:pPr lvl="2" marL="797040" indent="-205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light 1015 signup begins 09/02/15</a:t>
            </a:r>
            <a:endParaRPr b="0" lang="en-US" sz="1600" spc="-1" strike="noStrike">
              <a:solidFill>
                <a:srgbClr val="000000"/>
              </a:solidFill>
              <a:latin typeface="Gill Sans MT"/>
            </a:endParaRPr>
          </a:p>
          <a:p>
            <a:pPr lvl="2" marL="797040" indent="-205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light 1015 signup deadline is 09/09/15 </a:t>
            </a:r>
            <a:r>
              <a:rPr b="0" i="1" lang="en-US" sz="1600" spc="-1" strike="noStrike">
                <a:solidFill>
                  <a:srgbClr val="000000"/>
                </a:solidFill>
                <a:latin typeface="Gill Sans MT"/>
              </a:rPr>
              <a:t>with Adhoc starting on10/23/15 for Current MPs Only, subject to Flight Administrator and TDSPs’ Approval)</a:t>
            </a:r>
            <a:endParaRPr b="0" lang="en-US" sz="16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9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7, 2015</a:t>
            </a:r>
            <a:endParaRPr b="0" lang="en-US" sz="1200" spc="-1" strike="noStrike">
              <a:solidFill>
                <a:srgbClr val="000000"/>
              </a:solidFill>
              <a:latin typeface="Arial"/>
            </a:endParaRPr>
          </a:p>
        </p:txBody>
      </p:sp>
      <p:sp>
        <p:nvSpPr>
          <p:cNvPr id="40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0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021E-4436-4A07-8883-D14F5771E9A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Save the Dates</a:t>
            </a:r>
            <a:r>
              <a:rPr b="0" lang="en-US" sz="4400" spc="-1" strike="noStrike">
                <a:solidFill>
                  <a:srgbClr val="572314"/>
                </a:solidFill>
                <a:latin typeface="Gill Sans MT"/>
              </a:rPr>
              <a:t>:  </a:t>
            </a:r>
            <a:endParaRPr b="0" lang="en-US" sz="4400" spc="-1" strike="noStrike">
              <a:solidFill>
                <a:srgbClr val="572314"/>
              </a:solidFill>
              <a:latin typeface="Gill Sans MT"/>
            </a:endParaRPr>
          </a:p>
        </p:txBody>
      </p:sp>
      <p:sp>
        <p:nvSpPr>
          <p:cNvPr id="403" name=""/>
          <p:cNvSpPr txBox="1"/>
          <p:nvPr/>
        </p:nvSpPr>
        <p:spPr>
          <a:xfrm>
            <a:off x="884160" y="838080"/>
            <a:ext cx="8229600" cy="5181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AEP’s Competitive Retailer Workshop</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ate/Time: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uesday,  September 1, 2015 – 6:30 PM (Social)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Wednesday,  September 2, 2015 – 8:30 AM (Workshop)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Location: </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AEP’s Texas Corporate Offices in Corpus Christi, TX </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RMS/WMS Workshop II</a:t>
            </a:r>
            <a:r>
              <a:rPr b="1" lang="en-US" sz="2800" spc="-1" strike="noStrike">
                <a:solidFill>
                  <a:srgbClr val="000000"/>
                </a:solidFill>
                <a:latin typeface="Gill Sans MT"/>
              </a:rPr>
              <a:t>: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mproving 3</a:t>
            </a:r>
            <a:r>
              <a:rPr b="1" lang="en-US" sz="2400" spc="-1" strike="noStrike" baseline="30000">
                <a:solidFill>
                  <a:srgbClr val="000000"/>
                </a:solidFill>
                <a:latin typeface="Gill Sans MT"/>
              </a:rPr>
              <a:t>rd</a:t>
            </a:r>
            <a:r>
              <a:rPr b="1" lang="en-US" sz="2400" spc="-1" strike="noStrike">
                <a:solidFill>
                  <a:srgbClr val="000000"/>
                </a:solidFill>
                <a:latin typeface="Gill Sans MT"/>
              </a:rPr>
              <a:t> Party Access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ate/Time:  Friday,  October 16, 2015 – 9:00 AM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Location:      ERCOT Met Center Conference Room 206 </a:t>
            </a: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0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7, 2015</a:t>
            </a:r>
            <a:endParaRPr b="0" lang="en-US" sz="1200" spc="-1" strike="noStrike">
              <a:solidFill>
                <a:srgbClr val="000000"/>
              </a:solidFill>
              <a:latin typeface="Arial"/>
            </a:endParaRPr>
          </a:p>
        </p:txBody>
      </p:sp>
      <p:sp>
        <p:nvSpPr>
          <p:cNvPr id="40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0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333B-9956-49C9-904E-56BA5873E52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08"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8813-9C0D-4E83-9FC5-087E7D8B4C2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0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7, 2015</a:t>
            </a:r>
            <a:endParaRPr b="0" lang="en-US" sz="1200" spc="-1" strike="noStrike">
              <a:solidFill>
                <a:srgbClr val="000000"/>
              </a:solidFill>
              <a:latin typeface="Arial"/>
            </a:endParaRPr>
          </a:p>
        </p:txBody>
      </p:sp>
      <p:sp>
        <p:nvSpPr>
          <p:cNvPr id="41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pic>
        <p:nvPicPr>
          <p:cNvPr id="411" name="Picture 7" descr="C:\Users\00015621\AppData\Local\Microsoft\Windows\Temporary Internet Files\Content.IE5\BO9MEPUZ\questions-2[1].jpg"/>
          <p:cNvPicPr/>
          <p:nvPr/>
        </p:nvPicPr>
        <p:blipFill>
          <a:blip r:embed="rId1"/>
          <a:stretch/>
        </p:blipFill>
        <p:spPr>
          <a:xfrm>
            <a:off x="1905120" y="990720"/>
            <a:ext cx="5943600" cy="48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29 Voting Recommendation:</a:t>
            </a:r>
            <a:endParaRPr b="0" lang="en-US" sz="3600" spc="-1" strike="noStrike">
              <a:solidFill>
                <a:srgbClr val="572314"/>
              </a:solidFill>
              <a:latin typeface="Gill Sans MT"/>
            </a:endParaRPr>
          </a:p>
        </p:txBody>
      </p:sp>
      <p:sp>
        <p:nvSpPr>
          <p:cNvPr id="338" name=""/>
          <p:cNvSpPr txBox="1"/>
          <p:nvPr/>
        </p:nvSpPr>
        <p:spPr>
          <a:xfrm>
            <a:off x="939960" y="68580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9</a:t>
            </a:r>
            <a:r>
              <a:rPr b="1" lang="en-US" sz="2400" spc="-1" strike="noStrike">
                <a:solidFill>
                  <a:srgbClr val="000000"/>
                </a:solidFill>
                <a:latin typeface="Gill Sans MT"/>
              </a:rPr>
              <a:t>, Revision to Customer Rescission Completion Timeline (Vote)</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Retail Market Guide Revision Request (RMGRR) provides additional guidelines regarding specific timing and responsibilities for a Competitive Retailer (CR) to complete a Customer Rescission MarkeTrak issue after completion of a Switch Request.  Once a Customer Rescission MarkeTrak issue has been submitted, the losing CR has two Business Days to agree to the Customer Rescission MarkeTrak issue, and another two Business Days to send a backdated 814_16, Move-In Request, once the Transmission and/or Distribution Service Provider (TDSP) has updated the MarkeTrak issue status to “Ready to Receive.”</a:t>
            </a:r>
            <a:endParaRPr b="0" lang="en-US" sz="18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5/28/15 TAC</a:t>
            </a:r>
            <a:r>
              <a:rPr b="0" lang="en-US" sz="1600" spc="-1" strike="noStrike">
                <a:solidFill>
                  <a:srgbClr val="000000"/>
                </a:solidFill>
                <a:latin typeface="Gill Sans MT"/>
              </a:rPr>
              <a:t>: TAC unanimously approved to “Table” RMGRR129 to allow MPs attending RMS time to develop an implementation schedule that works for all affected MPs.   </a:t>
            </a: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7/30/15 TAC</a:t>
            </a:r>
            <a:r>
              <a:rPr b="0" lang="en-US" sz="1600" spc="-1" strike="noStrike">
                <a:solidFill>
                  <a:srgbClr val="000000"/>
                </a:solidFill>
                <a:latin typeface="Gill Sans MT"/>
              </a:rPr>
              <a:t>: Since RMS didn’t meet in July, therefore, TAC continued to  “Table” RMGRR until RMS considers the MarkeTrak Taskforce’s recommended implementation.</a:t>
            </a: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08/04/15 RMS</a:t>
            </a:r>
            <a:r>
              <a:rPr b="1" lang="en-US" sz="1600" spc="-1" strike="noStrike">
                <a:solidFill>
                  <a:srgbClr val="000000"/>
                </a:solidFill>
                <a:latin typeface="Gill Sans MT"/>
              </a:rPr>
              <a:t>:  RMS unanimously approved and recommends TAC’s Approval of RMGRR129 with an implementation date of October 1, 2015</a:t>
            </a:r>
            <a:endParaRPr b="0" lang="en-US" sz="16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7, 2015</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7FB0-CD10-4784-9DB9-061D553DBB1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31-Voting Recommendation :</a:t>
            </a:r>
            <a:endParaRPr b="0" lang="en-US" sz="3600" spc="-1" strike="noStrike">
              <a:solidFill>
                <a:srgbClr val="572314"/>
              </a:solidFill>
              <a:latin typeface="Gill Sans MT"/>
            </a:endParaRPr>
          </a:p>
        </p:txBody>
      </p:sp>
      <p:sp>
        <p:nvSpPr>
          <p:cNvPr id="343" name=""/>
          <p:cNvSpPr txBox="1"/>
          <p:nvPr/>
        </p:nvSpPr>
        <p:spPr>
          <a:xfrm>
            <a:off x="939960" y="609480"/>
            <a:ext cx="8051760" cy="54864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1</a:t>
            </a:r>
            <a:r>
              <a:rPr b="1" lang="en-US" sz="2400" spc="-1" strike="noStrike">
                <a:solidFill>
                  <a:srgbClr val="000000"/>
                </a:solidFill>
                <a:latin typeface="Gill Sans MT"/>
              </a:rPr>
              <a:t>,  Guidelines for Notification of Invoice Dispute (Vote) </a:t>
            </a:r>
            <a:endParaRPr b="0" lang="en-US" sz="24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will align the Retail Market Guide with current market practices.</a:t>
            </a:r>
            <a:endParaRPr b="0" lang="en-US" sz="20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8.2, Guidelines for Notification of Invoice Dispute</a:t>
            </a:r>
            <a:endParaRPr b="0" lang="en-US" sz="18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efficiencies or enhancements</a:t>
            </a: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re were two sets of comments submitted to ERCOT’s Revision Listserv for RMGRR131 – </a:t>
            </a:r>
            <a:endParaRPr b="0" lang="en-US" sz="20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s and TXU Energy’s  comments required additional review and discussions by the MarkeTrak Taskforce  Subject Matter Experts (SME’s) during their May 7</a:t>
            </a:r>
            <a:r>
              <a:rPr b="0" lang="en-US" sz="1800" spc="-1" strike="noStrike" baseline="30000">
                <a:solidFill>
                  <a:srgbClr val="000000"/>
                </a:solidFill>
                <a:latin typeface="Gill Sans MT"/>
              </a:rPr>
              <a:t>th</a:t>
            </a:r>
            <a:r>
              <a:rPr b="0" lang="en-US" sz="1800" spc="-1" strike="noStrike">
                <a:solidFill>
                  <a:srgbClr val="000000"/>
                </a:solidFill>
                <a:latin typeface="Gill Sans MT"/>
              </a:rPr>
              <a:t> scheduled meeting.  </a:t>
            </a: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6/02/15 RMS:  </a:t>
            </a:r>
            <a:r>
              <a:rPr b="0" lang="en-US" sz="1600" spc="-1" strike="noStrike">
                <a:solidFill>
                  <a:srgbClr val="000000"/>
                </a:solidFill>
                <a:latin typeface="Gill Sans MT"/>
              </a:rPr>
              <a:t>RMS unanimously Approved RMGRR131 language with MTTF comments</a:t>
            </a:r>
            <a:r>
              <a:rPr b="1" lang="en-US" sz="1600" spc="-1" strike="noStrike">
                <a:solidFill>
                  <a:srgbClr val="000000"/>
                </a:solidFill>
                <a:latin typeface="Gill Sans MT"/>
              </a:rPr>
              <a:t>.  </a:t>
            </a:r>
            <a:r>
              <a:rPr b="0" lang="en-US" sz="1600" spc="-1" strike="noStrike">
                <a:solidFill>
                  <a:srgbClr val="000000"/>
                </a:solidFill>
                <a:latin typeface="Gill Sans MT"/>
              </a:rPr>
              <a:t>Impact Analysis will be returned to RMS for consideration during the 8/4/15 RMS meeting.  </a:t>
            </a:r>
            <a:endParaRPr b="0" lang="en-US" sz="16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08/04/15 RMS</a:t>
            </a:r>
            <a:r>
              <a:rPr b="1" lang="en-US" sz="1600" spc="-1" strike="noStrike">
                <a:solidFill>
                  <a:srgbClr val="000000"/>
                </a:solidFill>
                <a:latin typeface="Gill Sans MT"/>
              </a:rPr>
              <a:t>:  ERCOT’s IA reflected No Cost Impacts to ERCOT – this is a point to point market process.  RMS unanimously Approved RMGRR131.   RMS recommends TAC’s Approval of RMGRR131 as submitted.  </a:t>
            </a:r>
            <a:endParaRPr b="0" lang="en-US" sz="16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7, 2015</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BDE2-A1CE-4F30-929E-D17D17DFAC4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32 – An RMS Voting Update:</a:t>
            </a:r>
            <a:endParaRPr b="0" lang="en-US" sz="3600" spc="-1" strike="noStrike">
              <a:solidFill>
                <a:srgbClr val="572314"/>
              </a:solidFill>
              <a:latin typeface="Gill Sans MT"/>
            </a:endParaRPr>
          </a:p>
        </p:txBody>
      </p:sp>
      <p:sp>
        <p:nvSpPr>
          <p:cNvPr id="348" name=""/>
          <p:cNvSpPr txBox="1"/>
          <p:nvPr/>
        </p:nvSpPr>
        <p:spPr>
          <a:xfrm>
            <a:off x="914400" y="609480"/>
            <a:ext cx="8229600" cy="54864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2</a:t>
            </a:r>
            <a:r>
              <a:rPr b="1" lang="en-US" sz="2400" spc="-1" strike="noStrike">
                <a:solidFill>
                  <a:srgbClr val="000000"/>
                </a:solidFill>
                <a:latin typeface="Gill Sans MT"/>
              </a:rPr>
              <a:t>,  NOIE Disconnect and Reconnect Process (Vote) </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escription:</a:t>
            </a:r>
            <a:r>
              <a:rPr b="0" lang="en-US" sz="2000" spc="-1" strike="noStrike">
                <a:solidFill>
                  <a:srgbClr val="000000"/>
                </a:solidFill>
                <a:latin typeface="Gill Sans MT"/>
              </a:rPr>
              <a:t>  This Retail Market Guide Revision Request (RMGRR) provides Non Opt-In Entities (NOIEs) with the ability to disconnect retail Customers for non-payment by integrating them into Section 7.6, Disconnect and Reconnect for Non-Payment Process.  It also exempts NOIEs from the Texas Standard Electronic Transaction (TXSET) process if they utilize it less than 25 times per month.</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06/02/15 RMS Discussion/Vote:</a:t>
            </a:r>
            <a:r>
              <a:rPr b="0" lang="en-US" sz="1400" spc="-1" strike="noStrike">
                <a:solidFill>
                  <a:srgbClr val="000000"/>
                </a:solidFill>
                <a:latin typeface="Gill Sans MT"/>
              </a:rPr>
              <a:t>   Tom Burke, Golden Spread Electric Cooperative,  is trying to develop a market solution that allows a method of  Disconnecting Wind Units for Non-Payment  that are energized by TDSP’s (Retail) transmission lines through a by-directional meter.  Currently because the disconnection may not occur for several months Golden Spread Electric Cooperatives requires deposits that covers 6 months of potential usage, which could be significant cost to end the use customer.   GSEC provided the following  additional details on this issue:  </a:t>
            </a:r>
            <a:endParaRPr b="0" lang="en-US" sz="1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08/04/15 RMS </a:t>
            </a:r>
            <a:r>
              <a:rPr b="0" lang="en-US" sz="1600" spc="-1" strike="noStrike">
                <a:solidFill>
                  <a:srgbClr val="000000"/>
                </a:solidFill>
                <a:latin typeface="Gill Sans MT"/>
              </a:rPr>
              <a:t>:   RMS unanimously Approved to “</a:t>
            </a:r>
            <a:r>
              <a:rPr b="1" lang="en-US" sz="1600" spc="-1" strike="noStrike">
                <a:solidFill>
                  <a:srgbClr val="000000"/>
                </a:solidFill>
                <a:latin typeface="Gill Sans MT"/>
              </a:rPr>
              <a:t>Table RMGRR132”</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3" marL="997920" indent="-1573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Concerns to be investigated by Tom Burke ( submitter) with ERCOT and TDSPs:  </a:t>
            </a:r>
            <a:endParaRPr b="0" lang="en-US" sz="1400" spc="-1" strike="noStrike">
              <a:solidFill>
                <a:srgbClr val="000000"/>
              </a:solidFill>
              <a:latin typeface="Gill Sans MT"/>
            </a:endParaRPr>
          </a:p>
          <a:p>
            <a:pPr lvl="4" marL="1180080" indent="-1659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Does ERCOT need to be involved when a disconnection for non-payment affects a Generation Resource?</a:t>
            </a:r>
            <a:endParaRPr b="0" lang="en-US" sz="1400" spc="-1" strike="noStrike">
              <a:solidFill>
                <a:srgbClr val="000000"/>
              </a:solidFill>
              <a:latin typeface="Gill Sans MT"/>
            </a:endParaRPr>
          </a:p>
          <a:p>
            <a:pPr lvl="4" marL="1180080" indent="-1659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an a TDSP disconnect a premise for non-payment at the request of the non-Rep Of Record?</a:t>
            </a:r>
            <a:endParaRPr b="0" lang="en-US" sz="1400" spc="-1" strike="noStrike">
              <a:solidFill>
                <a:srgbClr val="000000"/>
              </a:solidFill>
              <a:latin typeface="Gill Sans MT"/>
            </a:endParaRPr>
          </a:p>
          <a:p>
            <a:pPr lvl="3" marL="997920" indent="-1573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7, 2015</a:t>
            </a:r>
            <a:endParaRPr b="0" lang="en-US" sz="1200" spc="-1" strike="noStrike">
              <a:solidFill>
                <a:srgbClr val="000000"/>
              </a:solidFill>
              <a:latin typeface="Arial"/>
            </a:endParaRPr>
          </a:p>
        </p:txBody>
      </p:sp>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AC7C-CD87-43C4-AC0D-26ABEAA37BA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52" name="Object 2"/>
          <p:cNvGraphicFramePr/>
          <p:nvPr/>
        </p:nvGraphicFramePr>
        <p:xfrm>
          <a:off x="7035840" y="4419720"/>
          <a:ext cx="631800" cy="533160"/>
        </p:xfrm>
        <a:graphic>
          <a:graphicData uri="http://schemas.openxmlformats.org/presentationml/2006/ole">
            <p:oleObj r:id="rId1" spid="">
              <p:embed/>
              <p:pic>
                <p:nvPicPr>
                  <p:cNvPr id="353" name="Object 2" descr=""/>
                  <p:cNvPicPr/>
                  <p:nvPr/>
                </p:nvPicPr>
                <p:blipFill>
                  <a:blip r:embed="rId2"/>
                  <a:stretch/>
                </p:blipFill>
                <p:spPr>
                  <a:xfrm>
                    <a:off x="7035840" y="4419720"/>
                    <a:ext cx="63180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NPRR711–RMS Voting Recommendation:</a:t>
            </a:r>
            <a:endParaRPr b="0" lang="en-US" sz="3600" spc="-1" strike="noStrike">
              <a:solidFill>
                <a:srgbClr val="572314"/>
              </a:solidFill>
              <a:latin typeface="Gill Sans MT"/>
            </a:endParaRPr>
          </a:p>
        </p:txBody>
      </p:sp>
      <p:sp>
        <p:nvSpPr>
          <p:cNvPr id="355" name=""/>
          <p:cNvSpPr txBox="1"/>
          <p:nvPr/>
        </p:nvSpPr>
        <p:spPr>
          <a:xfrm>
            <a:off x="838080" y="685800"/>
            <a:ext cx="8229600" cy="54864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NPRR711</a:t>
            </a:r>
            <a:r>
              <a:rPr b="1" lang="en-US" sz="2000" spc="-1" strike="noStrike">
                <a:solidFill>
                  <a:srgbClr val="000000"/>
                </a:solidFill>
                <a:latin typeface="Gill Sans MT"/>
              </a:rPr>
              <a:t>, Increase the Interval Data Recorder Meter Mandatory Install Requirement from 700 kW/kVA to 1.5 MW/MVA (Vote)  </a:t>
            </a: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is Nodal Protocol Revision Request (NPRR) increases the Interval Data Recorder (IDR) Meter mandatory installation requirement from 700 kW/kVA to1.5 MW/MVA.  In stakeholder discussions during the joint RMS/COPS IDR Meter Protocol Requirement Threshold Workshops, there were concerns expressed regarding the elimination of the mandatory IDR Meter threshold.  </a:t>
            </a:r>
            <a:endParaRPr b="0" lang="en-US" sz="16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08/04/15 RMS</a:t>
            </a:r>
            <a:r>
              <a:rPr b="0" lang="en-US" sz="1600" spc="-1" strike="noStrike">
                <a:solidFill>
                  <a:srgbClr val="c00000"/>
                </a:solidFill>
                <a:latin typeface="Gill Sans MT"/>
              </a:rPr>
              <a:t>:   </a:t>
            </a:r>
            <a:r>
              <a:rPr b="1" lang="en-US" sz="1600" spc="-1" strike="noStrike">
                <a:solidFill>
                  <a:srgbClr val="000000"/>
                </a:solidFill>
                <a:latin typeface="Gill Sans MT"/>
              </a:rPr>
              <a:t>Motion:  RMS Unanimously Endorses NPRR711</a:t>
            </a:r>
            <a:r>
              <a:rPr b="0" lang="en-US" sz="1600" spc="-1" strike="noStrike">
                <a:solidFill>
                  <a:srgbClr val="000000"/>
                </a:solidFill>
                <a:latin typeface="Gill Sans MT"/>
              </a:rPr>
              <a:t>. Additionally, RMS recommends that RMS and COPS should continue to work on metered data flow issues in order to use the most appropriate technology as possible.  For example, RMS desires that 15-minute data be in the same data flow regardless of the origination of the data. </a:t>
            </a:r>
            <a:endParaRPr b="0" lang="en-US" sz="1600" spc="-1" strike="noStrike">
              <a:solidFill>
                <a:srgbClr val="000000"/>
              </a:solidFill>
              <a:latin typeface="Gill Sans MT"/>
            </a:endParaRPr>
          </a:p>
          <a:p>
            <a:pPr lvl="2" marL="867960" indent="-22392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NOTE:  </a:t>
            </a:r>
            <a:r>
              <a:rPr b="0" lang="en-US" sz="1400" spc="-1" strike="noStrike">
                <a:solidFill>
                  <a:srgbClr val="000000"/>
                </a:solidFill>
                <a:latin typeface="Gill Sans MT"/>
              </a:rPr>
              <a:t>RMS agreed that this recommendation may be completed through the Profile Working Group’s (PWG) current tasks of reviewing and updating  ERCOT’s  Protocols Section 18  “Load Profiling”.  </a:t>
            </a:r>
            <a:endParaRPr b="0" lang="en-US" sz="1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08/13/15 PRS</a:t>
            </a:r>
            <a:r>
              <a:rPr b="0" lang="en-US" sz="1600" spc="-1" strike="noStrike">
                <a:solidFill>
                  <a:srgbClr val="000000"/>
                </a:solidFill>
                <a:latin typeface="Gill Sans MT"/>
              </a:rPr>
              <a:t>:  </a:t>
            </a:r>
            <a:r>
              <a:rPr b="1" lang="en-US" sz="1600" spc="-1" strike="noStrike">
                <a:solidFill>
                  <a:srgbClr val="000000"/>
                </a:solidFill>
                <a:latin typeface="Gill Sans MT"/>
              </a:rPr>
              <a:t>PRS Tabled NPRR711 for one month </a:t>
            </a:r>
            <a:r>
              <a:rPr b="0" lang="en-US" sz="1600" spc="-1" strike="noStrike">
                <a:solidFill>
                  <a:srgbClr val="000000"/>
                </a:solidFill>
                <a:latin typeface="Gill Sans MT"/>
              </a:rPr>
              <a:t>to allow more time for Market Participants to present possible solutions to the potential impacts that the proposed language changes would have on Market Participants. </a:t>
            </a:r>
            <a:endParaRPr b="0" lang="en-US" sz="1600" spc="-1" strike="noStrike">
              <a:solidFill>
                <a:srgbClr val="000000"/>
              </a:solidFill>
              <a:latin typeface="Gill Sans MT"/>
            </a:endParaRPr>
          </a:p>
          <a:p>
            <a:pPr lvl="2" marL="867960" indent="-22392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8dc765"/>
                </a:solidFill>
                <a:uFillTx/>
                <a:latin typeface="Gill Sans MT"/>
                <a:hlinkClick r:id="rId1"/>
              </a:rPr>
              <a:t>http://www.ercot.com/content/wcm/key_documents_lists/66757/711NPRR_06_TIEC_Pioneer_Comments_081015.doc</a:t>
            </a:r>
            <a:r>
              <a:rPr b="1" lang="en-US" sz="1400" spc="-1" strike="noStrike">
                <a:solidFill>
                  <a:srgbClr val="000000"/>
                </a:solidFill>
                <a:latin typeface="Gill Sans MT"/>
              </a:rPr>
              <a:t> </a:t>
            </a:r>
            <a:endParaRPr b="0" lang="en-US" sz="1400" spc="-1" strike="noStrike">
              <a:solidFill>
                <a:srgbClr val="000000"/>
              </a:solidFill>
              <a:latin typeface="Gill Sans MT"/>
            </a:endParaRPr>
          </a:p>
          <a:p>
            <a:pPr lvl="3" marL="1074960" indent="-1695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67960" indent="-22392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5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7, 2015</a:t>
            </a:r>
            <a:endParaRPr b="0" lang="en-US" sz="1200" spc="-1" strike="noStrike">
              <a:solidFill>
                <a:srgbClr val="000000"/>
              </a:solidFill>
              <a:latin typeface="Arial"/>
            </a:endParaRPr>
          </a:p>
        </p:txBody>
      </p:sp>
      <p:sp>
        <p:nvSpPr>
          <p:cNvPr id="35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2863-CE23-42DF-86EE-F35D4684EA1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SCR786: RMS Voting Recommendation: </a:t>
            </a:r>
            <a:endParaRPr b="0" lang="en-US" sz="3600" spc="-1" strike="noStrike">
              <a:solidFill>
                <a:srgbClr val="572314"/>
              </a:solidFill>
              <a:latin typeface="Gill Sans MT"/>
            </a:endParaRPr>
          </a:p>
        </p:txBody>
      </p:sp>
      <p:sp>
        <p:nvSpPr>
          <p:cNvPr id="360" name=""/>
          <p:cNvSpPr txBox="1"/>
          <p:nvPr/>
        </p:nvSpPr>
        <p:spPr>
          <a:xfrm>
            <a:off x="838080" y="83808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SCR786</a:t>
            </a:r>
            <a:r>
              <a:rPr b="1" lang="en-US" sz="2400" spc="-1" strike="noStrike">
                <a:solidFill>
                  <a:srgbClr val="000000"/>
                </a:solidFill>
                <a:latin typeface="Gill Sans MT"/>
              </a:rPr>
              <a:t>, Retail Market Test Environment (Vote) </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System Change Request (SCR) instructs ERCOT to develop a new retail market test environment, in addition to the current Certification (CERT) environment, that mimics ERCOT’s production environment functionality.  This new retail market testing environment will provide flexibility and availability for ad-hoc testing requests by Market Participants and will reduce the overall risk to the retail market by allowing Market Participants to fully test internal projects before going live in production.</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07/16/15 PRS:  </a:t>
            </a:r>
            <a:r>
              <a:rPr b="0" lang="en-US" sz="1800" spc="-1" strike="noStrike">
                <a:solidFill>
                  <a:srgbClr val="000000"/>
                </a:solidFill>
                <a:latin typeface="Gill Sans MT"/>
              </a:rPr>
              <a:t>PRS approved SCR 786, however,  there were concerns voiced about the cost to implement.  ERCOT stated it will take 2 months to bring IA back to PRS in order for ERCOT to fully examine all options to minimize cost.   </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8/04/15 RMS</a:t>
            </a:r>
            <a:r>
              <a:rPr b="0" lang="en-US" sz="1800" spc="-1" strike="noStrike">
                <a:solidFill>
                  <a:srgbClr val="000000"/>
                </a:solidFill>
                <a:latin typeface="Gill Sans MT"/>
              </a:rPr>
              <a:t>:  </a:t>
            </a:r>
            <a:r>
              <a:rPr b="1" lang="en-US" sz="1800" spc="-1" strike="noStrike">
                <a:solidFill>
                  <a:srgbClr val="000000"/>
                </a:solidFill>
                <a:latin typeface="Gill Sans MT"/>
              </a:rPr>
              <a:t>RMS unanimously Endorsed SCR786 as submitted by TDTWG.   </a:t>
            </a:r>
            <a:r>
              <a:rPr b="0" lang="en-US" sz="1800" spc="-1" strike="noStrike">
                <a:solidFill>
                  <a:srgbClr val="000000"/>
                </a:solidFill>
                <a:latin typeface="Gill Sans MT"/>
              </a:rPr>
              <a:t>RMS leadership requested and Troy Anderson (ERCOT) agreed to present SCR786 IA to RMS for discussion and/or recommendations prior to PRS’ voting  considerations.</a:t>
            </a: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53000" indent="-1659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50320" indent="-21924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7, 2015</a:t>
            </a:r>
            <a:endParaRPr b="0" lang="en-US" sz="1200" spc="-1" strike="noStrike">
              <a:solidFill>
                <a:srgbClr val="000000"/>
              </a:solidFill>
              <a:latin typeface="Arial"/>
            </a:endParaRPr>
          </a:p>
        </p:txBody>
      </p:sp>
      <p:sp>
        <p:nvSpPr>
          <p:cNvPr id="36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473B-B6BD-4D4C-BDDD-009BF64FB3E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a:t>
            </a:r>
            <a:endParaRPr b="0" lang="en-US" sz="2800" spc="-1" strike="noStrike">
              <a:solidFill>
                <a:srgbClr val="572314"/>
              </a:solidFill>
              <a:latin typeface="Gill Sans MT"/>
            </a:endParaRPr>
          </a:p>
        </p:txBody>
      </p:sp>
      <p:sp>
        <p:nvSpPr>
          <p:cNvPr id="36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7, 2015</a:t>
            </a:r>
            <a:endParaRPr b="0" lang="en-US" sz="1200" spc="-1" strike="noStrike">
              <a:solidFill>
                <a:srgbClr val="000000"/>
              </a:solidFill>
              <a:latin typeface="Arial"/>
            </a:endParaRPr>
          </a:p>
        </p:txBody>
      </p:sp>
      <p:sp>
        <p:nvSpPr>
          <p:cNvPr id="366" name=""/>
          <p:cNvSpPr txBox="1"/>
          <p:nvPr/>
        </p:nvSpPr>
        <p:spPr>
          <a:xfrm>
            <a:off x="1218960" y="457200"/>
            <a:ext cx="792468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08/04/15 RMS</a:t>
            </a:r>
            <a:r>
              <a:rPr b="1" lang="en-US" sz="2400" spc="-1" strike="noStrike">
                <a:solidFill>
                  <a:srgbClr val="000000"/>
                </a:solidFill>
                <a:latin typeface="Gill Sans MT"/>
              </a:rPr>
              <a:t>:</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MWG Change Requests 2015-041 (Vote) </a:t>
            </a:r>
            <a:endParaRPr b="0" lang="en-US" sz="24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8/04/15 RMS Discussion and/or Voting</a:t>
            </a:r>
            <a:r>
              <a:rPr b="0" lang="en-US" sz="2000" spc="-1" strike="noStrike">
                <a:solidFill>
                  <a:srgbClr val="000000"/>
                </a:solidFill>
                <a:latin typeface="Gill Sans MT"/>
              </a:rPr>
              <a:t>:  CR 2015-041 </a:t>
            </a:r>
            <a:r>
              <a:rPr b="1" lang="en-US" sz="1800" spc="-1" strike="noStrike">
                <a:solidFill>
                  <a:srgbClr val="c00000"/>
                </a:solidFill>
                <a:latin typeface="Gill Sans MT"/>
              </a:rPr>
              <a:t>Unanimously Approved by RMS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MWG Change Requests 2015-042 </a:t>
            </a:r>
            <a:endParaRPr b="0" lang="en-US" sz="24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8/04/15 RMS Discussion and/or Voting</a:t>
            </a:r>
            <a:r>
              <a:rPr b="0" lang="en-US" sz="2000" spc="-1" strike="noStrike">
                <a:solidFill>
                  <a:srgbClr val="000000"/>
                </a:solidFill>
                <a:latin typeface="Gill Sans MT"/>
              </a:rPr>
              <a:t>:   </a:t>
            </a:r>
            <a:r>
              <a:rPr b="0" lang="en-US" sz="1800" spc="-1" strike="noStrike">
                <a:solidFill>
                  <a:srgbClr val="000000"/>
                </a:solidFill>
                <a:latin typeface="Gill Sans MT"/>
              </a:rPr>
              <a:t>                                    </a:t>
            </a:r>
            <a:r>
              <a:rPr b="1" lang="en-US" sz="1800" spc="-1" strike="noStrike">
                <a:solidFill>
                  <a:srgbClr val="c00000"/>
                </a:solidFill>
                <a:latin typeface="Gill Sans MT"/>
              </a:rPr>
              <a:t>Approved with 1 Abstention</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MWG Change Requests 2014-018 </a:t>
            </a:r>
            <a:endParaRPr b="0" lang="en-US" sz="24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oll Call Vote take on Motion to Table Indefinitely:              </a:t>
            </a:r>
            <a:r>
              <a:rPr b="1" lang="en-US" sz="1800" spc="-1" strike="noStrike">
                <a:solidFill>
                  <a:srgbClr val="c00000"/>
                </a:solidFill>
                <a:latin typeface="Gill Sans MT"/>
              </a:rPr>
              <a:t>Motion to Table Indefinitely Carries.  </a:t>
            </a:r>
            <a:endParaRPr b="0" lang="en-US" sz="18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3.2% (For) 36.8% (Against) </a:t>
            </a:r>
            <a:endParaRPr b="0" lang="en-US" sz="16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Vote Tally:   3 (Yes)  1.75 (No) and 10 (Abstentions)   </a:t>
            </a:r>
            <a:endParaRPr b="0" lang="en-US" sz="16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6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C0445-C6CA-4931-9DC6-302CA006892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1" name="Object 2"/>
          <p:cNvGraphicFramePr/>
          <p:nvPr/>
        </p:nvGraphicFramePr>
        <p:xfrm>
          <a:off x="7467480" y="5029200"/>
          <a:ext cx="914400" cy="771480"/>
        </p:xfrm>
        <a:graphic>
          <a:graphicData uri="http://schemas.openxmlformats.org/presentationml/2006/ole">
            <p:oleObj progId="Excel.Sheet.12" r:id="rId1" spid="">
              <p:embed/>
              <p:pic>
                <p:nvPicPr>
                  <p:cNvPr id="372" name="Object 2" descr=""/>
                  <p:cNvPicPr/>
                  <p:nvPr/>
                </p:nvPicPr>
                <p:blipFill>
                  <a:blip r:embed="rId2"/>
                  <a:stretch/>
                </p:blipFill>
                <p:spPr>
                  <a:xfrm>
                    <a:off x="7467480" y="50292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2314"/>
                </a:solidFill>
                <a:latin typeface="Gill Sans MT"/>
              </a:rPr>
              <a:t>Texas Data Transport Working Group (TDTWG)</a:t>
            </a:r>
            <a:endParaRPr b="0" lang="en-US" sz="2400" spc="-1" strike="noStrike">
              <a:solidFill>
                <a:srgbClr val="572314"/>
              </a:solidFill>
              <a:latin typeface="Gill Sans MT"/>
            </a:endParaRPr>
          </a:p>
        </p:txBody>
      </p:sp>
      <p:sp>
        <p:nvSpPr>
          <p:cNvPr id="374" name=""/>
          <p:cNvSpPr txBox="1"/>
          <p:nvPr/>
        </p:nvSpPr>
        <p:spPr>
          <a:xfrm>
            <a:off x="1143000" y="762120"/>
            <a:ext cx="77724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8/04/15 RMS</a:t>
            </a:r>
            <a:r>
              <a:rPr b="1" lang="en-US" sz="2000" spc="-1" strike="noStrike">
                <a:solidFill>
                  <a:srgbClr val="000000"/>
                </a:solidFill>
                <a:latin typeface="Gill Sans MT"/>
              </a:rPr>
              <a:t>:</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rak Serena Upgrade Discussions</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 brought to TDTWG the presentation given at the July 13</a:t>
            </a:r>
            <a:r>
              <a:rPr b="0" lang="en-US" sz="1800" spc="-1" strike="noStrike" baseline="30000">
                <a:solidFill>
                  <a:srgbClr val="000000"/>
                </a:solidFill>
                <a:latin typeface="Gill Sans MT"/>
              </a:rPr>
              <a:t>th</a:t>
            </a:r>
            <a:r>
              <a:rPr b="0" lang="en-US" sz="1800" spc="-1" strike="noStrike">
                <a:solidFill>
                  <a:srgbClr val="000000"/>
                </a:solidFill>
                <a:latin typeface="Gill Sans MT"/>
              </a:rPr>
              <a:t> MTTF meeting.</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ummary:</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urrently ERCOT’s  MarkeTrak Serena version: 2009 R4.03</a:t>
            </a:r>
            <a:endParaRPr b="0" lang="en-US" sz="18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s Market is 5 Major Releases behind.   </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atest Serena version available: 10.5.1</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 End of Life (EOL)/End of Support (EOS) announced by Vendor</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ystem </a:t>
            </a:r>
            <a:r>
              <a:rPr b="1" lang="en-US" sz="1800" spc="-1" strike="noStrike" u="sng">
                <a:solidFill>
                  <a:srgbClr val="000000"/>
                </a:solidFill>
                <a:uFillTx/>
                <a:latin typeface="Gill Sans MT"/>
              </a:rPr>
              <a:t>is not at risk </a:t>
            </a:r>
            <a:r>
              <a:rPr b="0" lang="en-US" sz="1800" spc="-1" strike="noStrike">
                <a:solidFill>
                  <a:srgbClr val="000000"/>
                </a:solidFill>
                <a:latin typeface="Gill Sans MT"/>
              </a:rPr>
              <a:t>if updates are not implemented</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TDTWG and MarkeTrak agrees with ERCOT’s recommendation to stay with the current version &amp; revisit potential upgrade discussions in 6-12 month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7, 2015</a:t>
            </a:r>
            <a:endParaRPr b="0" lang="en-US" sz="1200" spc="-1" strike="noStrike">
              <a:solidFill>
                <a:srgbClr val="000000"/>
              </a:solidFill>
              <a:latin typeface="Arial"/>
            </a:endParaRPr>
          </a:p>
        </p:txBody>
      </p:sp>
      <p:sp>
        <p:nvSpPr>
          <p:cNvPr id="37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4CDD-C5DC-4CA2-9529-52B2D2360B7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2314"/>
                </a:solidFill>
                <a:latin typeface="Gill Sans MT"/>
              </a:rPr>
              <a:t>Texas Data Transport Working Group (TDTWG)</a:t>
            </a:r>
            <a:endParaRPr b="0" lang="en-US" sz="2400" spc="-1" strike="noStrike">
              <a:solidFill>
                <a:srgbClr val="572314"/>
              </a:solidFill>
              <a:latin typeface="Gill Sans MT"/>
            </a:endParaRPr>
          </a:p>
        </p:txBody>
      </p:sp>
      <p:sp>
        <p:nvSpPr>
          <p:cNvPr id="381" name=""/>
          <p:cNvSpPr txBox="1"/>
          <p:nvPr/>
        </p:nvSpPr>
        <p:spPr>
          <a:xfrm>
            <a:off x="1143000" y="762120"/>
            <a:ext cx="77724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8/04/15 RMS</a:t>
            </a:r>
            <a:r>
              <a:rPr b="1" lang="en-US" sz="2000" spc="-1" strike="noStrike">
                <a:solidFill>
                  <a:srgbClr val="000000"/>
                </a:solidFill>
                <a:latin typeface="Gill Sans MT"/>
              </a:rPr>
              <a:t>:</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AESB Upgrade Recommendation (Possible Vote)</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s recommendation to postpone the NAESB Upgrade effort until regulatory, security, or technology requirements necessitate the change.</a:t>
            </a:r>
            <a:endParaRPr b="0" lang="en-US" sz="20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ote: If the market feels that the benefits outweigh the cost, then ERCOT will assist in facilitating the creation of a new SCR.</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DTWG endorses ERCOT’s NAESB Recommendation.</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8/04/15 RMS</a:t>
            </a:r>
            <a:r>
              <a:rPr b="0" lang="en-US" sz="2000" spc="-1" strike="noStrike">
                <a:solidFill>
                  <a:srgbClr val="000000"/>
                </a:solidFill>
                <a:latin typeface="Gill Sans MT"/>
              </a:rPr>
              <a:t>:  </a:t>
            </a:r>
            <a:r>
              <a:rPr b="1" i="1" lang="en-US" sz="2000" spc="-1" strike="noStrike">
                <a:solidFill>
                  <a:srgbClr val="000000"/>
                </a:solidFill>
                <a:latin typeface="Gill Sans MT"/>
              </a:rPr>
              <a:t>RMS unanimously Approved TDTWG’s and ERCOT’s NAESB Upgrade recommendation . </a:t>
            </a:r>
            <a:endParaRPr b="0" lang="en-US" sz="20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ill Sans MT"/>
              </a:rPr>
              <a:t>This is another cost savings to the ERCOT market.   </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7, 2015</a:t>
            </a:r>
            <a:endParaRPr b="0" lang="en-US" sz="1200" spc="-1" strike="noStrike">
              <a:solidFill>
                <a:srgbClr val="000000"/>
              </a:solidFill>
              <a:latin typeface="Arial"/>
            </a:endParaRPr>
          </a:p>
        </p:txBody>
      </p:sp>
      <p:sp>
        <p:nvSpPr>
          <p:cNvPr id="38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8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2FEF-8621-4A66-B544-EAEBBEEC44F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8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5-08-19T21:14:57Z</dcterms:modified>
  <cp:revision>988</cp:revision>
  <dc:subject/>
  <dc:title>Instructions</dc:title>
</cp:coreProperties>
</file>