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97267-4F5C-4C0D-BD72-A9E537F7B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49673-47D5-4B32-83C2-CF1718C11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FD88C-142F-41AA-A742-612B8C8D2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C86D7-71B6-4811-A037-8AFFC7B29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622-2B32-4A8F-9474-14E3B345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348-7F9B-4088-89FC-F40EDC38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B20-F83B-4E1D-95E4-D75992C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96B-A874-40A5-8D2A-A3369CF9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519-D1BC-431D-94DC-F036A20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787-1F8B-44D7-BDA6-C514C8AB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415-09BD-40FE-9D5D-CC82F454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1A3-AA56-4B90-878D-05A6A0B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1FA-ED2E-4793-A1E7-0BD90FF1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96E-2197-47C6-9A66-1BBFE968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36E-A62F-4602-879C-05BD96E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7BA-3DEC-4C2F-8B79-7CA1CF0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68673-6ADC-4B53-959E-4F3490EA6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396C2-111D-4656-AE04-A718C470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DC65C-3BEF-442E-B029-3B1EB94E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ris Ly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ust 27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04, Revisions to the Size of Aggregate Generati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 Withdra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0, Clarification of Real-Time Telemetry for Split Generati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ion of ERCOT Manual Processes Related to Implementation of Revision Reque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9, Addressing Issues Surrounding High Dispatch Limit (HDL) Over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4, Real-Time Make-Whole Payment for Exceptional Fue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reviewing the business case and associated Impact Analyses for the two NPRRs noted above, PRS discussed the cost-benefit versus risk of various implementation scenarios: fully-automated, manual, or hybri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would like to further discuss with TAC and ERCOT the risks/cost-benefit of automated vs manual solutions when considering Revision Requ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ERCOT Market Rules</cp:lastModifiedBy>
  <cp:lastPrinted>2013-01-30T23:16:36Z</cp:lastPrinted>
  <dcterms:modified xsi:type="dcterms:W3CDTF">2015-08-17T17:23:19Z</dcterms:modified>
  <cp:revision>28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