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73152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A48E-3D87-4BF1-9880-00CBA52C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5666F-07F6-4129-AC22-62E64031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5658-6A9E-4096-A60E-470B5161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2CCA-5D77-4CB8-A962-5E5D5864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4CF2-428E-403C-A030-16ED10C6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E0C46-0E23-453E-87F5-82D5C3B7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CB72B-E0E3-4ECC-8F76-3FAE93D7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8F934-15B5-429C-994F-7BD0B2B0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0701E-E454-4B90-BB57-D9F05EDA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970FE-2AC2-48D6-B29C-7D7F9B5F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C914-2073-4A15-BC2D-AF29E9C3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0411D-6106-48CC-A56D-BA0BE862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F7EA4-1D73-480E-98C6-9C264FBC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673B1-F91D-40FE-A79B-57D4C86E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A3EB0-273C-4B0F-ABCF-AB388C33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1B47C-82A5-442F-A9DC-2E2C2BB4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42389-FCDA-44DF-9BE3-BFE5D26A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DE4DD-D3AC-476B-833F-CFA2251E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F57A5-8EFC-48B6-A4DE-9E959CE9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4738B-0481-414C-95B7-A9817132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277B5-B59B-4AE4-ABF4-D616AA36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83A2-78A8-45D5-9F94-C121DCE3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9CB887-3BDD-4C6D-9DDD-548410F9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E1E06E-EF54-42F0-8204-30CA7116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E7B7D-A436-401A-9CB0-E1085109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6A46A-9D2E-4145-A346-50224445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B8FCFE-583D-454B-BB73-40EBA362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3C02E-2EE7-4FCA-820C-A322FAA7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2BB50B-040D-4929-AF68-0B494462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2B1117-4D18-4D66-9573-7A6222AC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11D01-7F39-45E7-8189-1A63430B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B3EA-17EF-46C7-9C6F-5884D004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5A0A1-1AD7-49D6-96E3-98C52156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C294-C6E6-459E-9BDD-7105D64E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1B41-856D-4793-8141-FD159BB1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5A6D-61A5-41A3-9A3F-745306A0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CD40-2E3B-47C5-9B6E-549279C83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88824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88788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F5CA-A7D5-402E-AB35-2B8A3AFD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882D-0470-4A7C-B13F-BA59F9B35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B8CF-F7D4-487A-B5B1-8AF88CBCC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FF2C-841C-4EA1-8416-EBBF69501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uly 30, 2015</a:t>
            </a:r>
            <a:br>
              <a:rPr sz="2800"/>
            </a:br>
            <a:r>
              <a:rPr b="0" lang="en-US" sz="4400" spc="-1" strike="noStrike">
                <a:solidFill>
                  <a:srgbClr val="c00000"/>
                </a:solidFill>
                <a:latin typeface="Arial Black"/>
              </a:rPr>
              <a:t>TAC Me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pdate to CO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4560" y="4648320"/>
            <a:ext cx="84582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ugust 12,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S Report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E6FA-B524-4B5F-8CAF-2C3F7A8B74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295280"/>
            <a:ext cx="85341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l of the following NPRRs were approved by the TA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PRR68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emove Annual RUC Impact Report Requirement, Effective Date: September 1,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PRR69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emoval of MIS Posting Requirement of DAM Credit Parameters, Effective Date: Upon system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PRR69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ncorporation of “Threshold Values for Competitive Constraint Test” into the Protocols, Effective Date: Upon system implement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PRR69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Non-Spin Schedule Requirements, Effective Date: September 1,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PRR69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Posting and Notice Requirements for Notifications of Suspension of Operations and Notifications of Suspension of Operations and Notifications of Change of Generation Resource Designated, Effective Date: September 1,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PRR69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nergy Offer Curve Caps for Make-Whole Calculations for Resource Type Other, Effective Date: Upon system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S Report (Cont.)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E628-6E69-43F5-AB65-766567D088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2952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PRR70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Utilizing Actual Fuel Costs in Startup Offer Caps, Effective Date: Upon system implementation, Priority 2015, Rank 13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PRR70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s-Built Clarification of NPRR589, Ancillary Service Offers in the Supplemental Ancillary Services Market, Effective Date: September 1,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PRR70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Clarification of Disclosure Requirements for GINR Study Information, Effective Date: September 1,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PRR706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estore the ability to use Physical Responsive Reserve Capability as an Indicator of Available Frequency-Responsive Capacity, Effective Date: Upon system implementation, Priority 2015, Rank 13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PRR7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emoval of ORDC Phase 2 Language and Modification to HASL Calculation, Effective Date: Upon system implementation, Priority 2015, Rank 13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MGRR129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Revision to Customer Rescission Completion Timeline, Effective Date: To be determine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emains tabled at TA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S Report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A56B-D083-4CFE-A9D7-4D78BA38AE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0880" y="12193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GRR04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IS Scoping Amendment, Effective Date: September 1, 2015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GRR04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S Classification of GINR Study Information, Effective Date: Upon system implementation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GRR14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corporation of “Manual Deployment and Recall of Responsive Reserve Service during Scarcity Conditions into the Nodal Operating Guides, Effective Date: Upon system implementation 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ltage Reduction Task Force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RTF completed their whitepaper, which will be presented to the Board.  No follow-up action items at this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MS Report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8C9F-1558-4BF2-9ADB-9E3FC63AB9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12949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6.11.4.1, Determination of Total Potential Exposure for a Counter-Party – Request to Modify Value of Parameter T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C voted to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em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is issue to the WMS and the Credit Working Group/Market Credit Working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CMRR007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lignment with NPRR699, Energy Offer Curve Caps for Make-Whole Calculations for Resource Type Other, Effective Date: To be determin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abled pending consideration of NPRR699 at the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CMRR00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lignment with NPRR700, Utilizing Actual Fuel Cost in Startup Offer Caps, Effective Date: To be determin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abled pending consideration of NPRR700 at the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RCOT Reports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CC7A-BDBB-40D1-A80E-703583EE36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cillary Services Redesign Upd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ology for Current vs. Future Ancillary Services (FAS) Requirements review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Benefit Analysis draft study assumptions reviewed; Brattle Group was available to answer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attle Draft Report Outline for the FAS CBA review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C/TAC Subcommittee Structural and Procedural Re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gust 27,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llowing the TAC Meeting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RCOT to submit an SCR to create a New Weather Zone, Vall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C Members asked the appropriate Subcommittee (COPS/PWG/RMS) to report back on the impacts of creating a new weather z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RCOT Reports (Cont.)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080C-73DE-453B-9C19-A1D4071297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880" y="121896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tributed Resource Energy and Ancillaries Market (DREAM) Task Force (fka DER T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: To provide a forum for stakeholders and ERCOT Staff to develop market rules related to Distribute Energy Resources (DERs).  The DREAM TF will consider and recommend a potential market framework that allows DERs an opportunity to more fully participate in the ERCOT Wholesale Market including, but not limited to, participation in SCED and the Ancillary Services Mark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R definition and whether load reduction should be includ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R interconnec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R model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R regist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R meter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R market participation op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R settle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R market and reliability impa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R repor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ir: Greg Thurnher, Sh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-Vice Chairs: Lance Cunningham,  Denton Municipal Electric, and Jim Lee, A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EAMTF@lists.erco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RCOT Reports (Cont.)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7AD5-323D-4463-8BE9-48629314AE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ergy Management System (EMS) Coding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identified a case where the Shift Factor (SF) of a 138 kV radial transmission line was calculated in error due to a software coding issue in the Energy Management System (EM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S coding issue affected SFs used in the Security Constrained Economic Dispatch (SCED) solution for congestion management; Impacting dispatch and to some extent p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sue has existed since December 1, 2010 (Texas Nodal Market Implementation Date) and was corrected on July 8,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is unable to determine more “accurate prices” and will not be resettling the mark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Market Notice W-C073115-01 Energy Management System Coding Change for Shift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 MAMA</dc:creator>
  <dc:description/>
  <dc:language>en-US</dc:language>
  <cp:lastModifiedBy>Michelle Trenary</cp:lastModifiedBy>
  <cp:lastPrinted>2014-12-29T17:14:54Z</cp:lastPrinted>
  <dcterms:modified xsi:type="dcterms:W3CDTF">2015-08-05T16:52:19Z</dcterms:modified>
  <cp:revision>860</cp:revision>
  <dc:subject/>
  <dc:title>Instructions</dc:title>
</cp:coreProperties>
</file>