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12B0-7C22-455D-BD04-9C5DD3219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AE0E-895D-4029-89B5-E923BC75D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6CF4-E0EA-4CB4-A86B-7872CA07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AB40-A0FE-4304-8226-82B3368F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FF00-6A6F-4F73-816B-BF8899BA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4AD2-78BA-46A5-A94A-6B18534E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E565-2D7D-4D75-AB6B-6A12CEF5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4B04-A8E7-4D86-B325-938291A2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5E3F-11FC-420B-B77E-2BB772A7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1B9D-9900-46D2-990A-BBFE589C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0627-F745-4A47-9DCE-5D90E1DC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AA8C-B576-4BB4-A80F-25C587B3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6F93-653F-4C1D-A374-C46FB8F5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E5BB-A706-4006-B6D2-6AF68676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B049-AEA2-4F44-89BB-9AB346A2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97FF-AAD2-4023-BC06-26912CC8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644A-20C0-4D5A-B9E2-E78CC310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E275-9953-4916-ABD3-38CEC434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7CAC-0806-488F-A39F-A83DF1DA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32D44-63A0-4CCB-B7D4-E532DBE4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274A-6999-45E4-9D02-A3B38109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59CF-4978-46BD-B246-A4DEB6C3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CFAFD-D867-4DD5-BCD6-DDF6AA9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0D6B-3A6A-43C1-A66E-631C9EB5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182F-6DA3-48EC-B629-CB03F654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43A41-0016-4241-99A1-E142D309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F076-0228-4974-BA87-F565BBE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C4E3-0934-4FEC-95E7-A28FDEE5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5F33-DC63-4F82-82B3-16D5FAD6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B0858-D202-4C3E-B661-2180FC10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9573-9CED-4D95-9C07-19EF9C7E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0E02-CD14-4385-96B7-970D6B87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8925-9519-4EA4-B928-D7C92C6F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1752-3E6B-4EED-A8EC-9160F52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17C9-0421-47B9-B2E4-9CFB6C69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B089-E433-42A1-AD20-EA424EB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5EF7-1F9D-4B3F-8EE4-87756CA1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743C-8848-4B4A-BB9C-D402EE44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7859-7D82-4570-AEE6-25822C5DE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30DE-C096-4A11-9755-CB7BBE1B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C3E1-5206-43AE-A48D-7676EE335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9AD8-2BD1-4347-B663-F0DB1902E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F838-69A6-4DB3-8614-BC83F7327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August 12,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Jim Lee (AEP) – Chair</a:t>
            </a: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Annual Validation Update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A3C6-50E3-4673-90A7-DFEC89103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5336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UFE Allocation Methodolog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A847-99C4-488B-837B-2555FF40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3520" y="1262160"/>
            <a:ext cx="7924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WG re-hashed discussions to evaluate the accuracy of the current UFE allocation fac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discussions occurred at PWG in April/May 2010, but the Market Participants decided the benefits to adjust the allocation factors for NIDR, IDR-Distribution, and IDR-Transmission did not outweigh the cost/effort that it would requ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o bring to PWG analysis of the May’14 – April’15 “Total UFE” volumes and help initiate discussions for Market Participants to evaluate whether the “UFE%” is the appropriate percentage going forw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69720" y="1085760"/>
            <a:ext cx="798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ched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tocol Section 18 – Load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6B6-B67D-48E9-A64D-66D3A974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155520" y="1600200"/>
            <a:ext cx="82026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d5f5d"/>
                </a:solidFill>
                <a:latin typeface="Arial"/>
              </a:rPr>
              <a:t>LPGRR055 – Extend Load Profile Model Calendar Inputs to 2030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(VO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D6AD-D9B6-4B84-81AC-E8E0525ED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533520" y="1262160"/>
            <a:ext cx="792468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has completed modifications to the Load Profile Model Calendar Inputs and PWG has submitted comments to continue moving LPGRR055 through the ERCOT governanc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modifications were made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before Christmas”: Defined as “Weekdays December 19 – December 23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after Christmas”: Defined as “Weekdays December 26 – December 30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Motion: “For COPS to approve LPGRR055 as amended by the PWG commen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10A2-FB35-40F5-BC79-E92343242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571680" y="1889280"/>
            <a:ext cx="8001000" cy="411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iday, August 2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9:30am start time  (In-person MET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FE Alloca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GRR056 – Initial Profile Code Assignment for Temporary Services (Impact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Section 18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1"/>
          <p:cNvSpPr/>
          <p:nvPr/>
        </p:nvSpPr>
        <p:spPr>
          <a:xfrm>
            <a:off x="596880" y="28224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2057-5F2D-436D-9CF1-5DCE5F9A8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Jim Lee</cp:lastModifiedBy>
  <dcterms:modified xsi:type="dcterms:W3CDTF">2015-08-06T17:26:58Z</dcterms:modified>
  <cp:revision>1106</cp:revision>
  <dc:subject/>
  <dc:title>Instructions</dc:title>
</cp:coreProperties>
</file>