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4200-77CD-4397-9B51-BC641FDF1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1F2D-7CA0-456D-B178-47D60B461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1807-9971-4042-B611-057908BCB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75CA-02F7-4C16-AFB5-25A54C0DA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0A40-8804-4C0C-8157-8CE91EC7B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9009-0A2C-4448-B58D-130EE905C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DAEF-265E-4FF4-87CE-134D9EADC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BC8A-00BA-43DA-9193-4C540D7CC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05D36-9F7B-4BCF-878B-06B4C460F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2F39-84A5-4E8B-BE1E-F1B39F5C0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6A3F1-8735-47E0-B858-DBD14A3CA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FEAD0-6E51-4E2C-8314-7927731CC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BCCAB-A7C0-4925-B82E-5CC6E21C6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03E0F-15DB-434F-A13E-3B9249346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AD631-DA60-4EAA-BAD6-7025FEC94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24BFD-D2DB-4F19-BFE1-EE6AD1F7E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ED06E-7247-4431-9E48-04D29DC7D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822C0-8A4A-4DD8-8641-DDC627DA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81C5E-19C1-49F3-83E1-770D0A225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16CCD-119F-40C0-873C-A6A433CF7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3603-0625-4C6F-8A2E-49777CA75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594B-12FD-40EE-9872-1DFCCE27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63A88-EB55-4133-9F15-70E4CDA06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F01F3-0C2A-487C-B996-E2792597D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CAD5C-DC25-4BB4-9472-DF386748B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B01DD-6835-4182-A581-D157A7987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C730C-C61A-4473-B828-B8173973E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2224C-0D23-4775-9A62-DB8C41FE8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F2F96-4FE6-4CC5-AC2B-55C1B3A43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192371-9957-4A12-BC44-8BEEA24AE7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465BCE-6DA9-4EE3-844E-5A8E0A228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FC4AEC-66D7-40C8-98A8-E4A8422EA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B1C6-A238-4147-B92C-E21B84044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C8D9A-F327-4251-BDB6-0E7F77DC4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5B9B1E-FF7A-4DE7-9888-1271B5AA5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07572-1404-4A20-B985-4285BEBC1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216C8D-FA63-46D1-95CF-51BE677F8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0E807-948A-4401-A66A-110DA392D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207D36-357B-46D3-9E14-4FD9E740F8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AB658C-7B8F-4157-AFF5-A084D3D368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2A350-8781-40FA-BA50-DB822FBE7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9B410B-9B04-444F-9F9E-3B8353C6CF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BB7F0-E970-44CD-99AE-DD6E35A91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1098-5AD6-4F4E-9BD0-8C97F9CFE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E3817-DCBA-4FB2-B2D2-A6F655B2F6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E2227-9581-4B27-84A1-4EE41CF6F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41954-D73B-4A00-B2AF-871AEB6F9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84855-B328-408B-B92F-EF923E502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A3561-BFEF-462A-9B33-E26AEED8CB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24C0E-0D3F-4045-8AD7-41985D04D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B899A-C6A4-411C-AA06-F7FA979D7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61610-3AF9-456D-8153-DA76AE8FF6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3093FD-EE53-430A-8B10-99E1D8EAF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4FBCE-CF52-4763-B98F-974F079BF9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AE7AC-4DA2-4912-BCCE-EEFAF040D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0A8394-C18E-494D-8E3B-65DCC944B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0967D5-E44E-4FC5-B725-88F7D3AB1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D6C8B-82F4-49EE-B487-60F5364B4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E7642-7EC5-4A8E-9B6F-FD83198AF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EE57C8-0C40-4554-B304-741B73492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82E3B-23B4-415D-9D99-FD28600B9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B11A6-D429-4E59-B1BC-E731EA427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8DEA7-A8D0-4BC8-853E-2CA62688F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592301-DEDD-4558-AAA5-8056C67BF9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8288D2-5F2F-49CE-B990-610A5AAAA1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77CBA-79D4-4627-947B-6B8D64629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04B988-B38B-43E3-9066-EF1AD8E065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AD2A5-B960-4100-8637-3B3A02D0DA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806CB3-947C-4D80-9649-67A611209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C8975F-58AC-4A6B-9FD0-20174B3362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5E857-BE39-410A-A3F0-1C603981D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6E2BC-85F2-4EB5-A61E-494BA7BC4D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5B9FF-5A27-4391-9BAF-35D6A9E52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F076D-C125-41CC-9940-C219334717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98374-D30F-401E-BC19-E4E224DE0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666F1C-084B-4D03-B406-D16361A083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8CE1-C763-4337-A603-795250D2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9A2EC7-E522-47E1-8266-A3AF106C83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770AF8-9141-4DDD-ABF9-D1FE49E60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71413-09ED-4578-9C93-F2E90CAB2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CD28DC-5B16-49F9-AF89-34463BE7F9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53019F-9DB4-4382-B6B0-D3D960C56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A3F4B-BD4C-425C-A2B7-0410624E9E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7B16A1-3000-4660-9EC3-B97F37A17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849583-0B30-49CF-BCC6-F1C10D3A59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E5FA56-54A1-42DD-8F82-80117C9DD7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A2D8E-BA27-428B-9190-4B3B2BEFD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18E63-B9AD-43FA-95CD-A91C4AD9C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DA62BF-DC20-4E2D-B564-43D4531C6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7D9641-E16F-4FCD-82E4-C79640A41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5A68AD-6E2B-48D6-95E9-3521D52237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E5B0EE-43CA-4BDF-9BDD-D03735F17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AD49EE-A102-4F9C-B111-68070CBBE6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0D66B-3968-443F-BC8F-7945D1DC8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8F16-8439-4790-9266-831E1B1842B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288F-089D-4BCE-8907-D56F163A171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77C1-ADE3-4A2C-855C-4AA4905C024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4157-61A0-4106-95EF-F753D3DEE6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1246-05D1-4F61-BAD3-AAE0047285C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290E-C8FF-4083-BCD2-832CCCC231E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45F0-412B-45E6-B1E1-0D101B7BE18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RetailOperationsIssues@lists.ercot.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nterchange.puc.state.tx.us/WebApp/Interchange/application/dbapps/filings/pgControl.asp?TXT_UTILITY_TYPE=A&amp;TXT_CNTRL_NO=42786&amp;TXT_ITEM_MATCH=1&amp;TXT_ITEM_NO=&amp;TXT_N_UTILITY=&amp;TXT_N_FILE_PARTY=&amp;TXT_DOC_TYPE=ALL&amp;TXT_D_FROM=&amp;TXT_D_TO=&amp;TXT_NEW=true"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7553-76F7-4554-901F-3A4519E1C5B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Working Group (TDTWG)</a:t>
            </a:r>
            <a:endParaRPr b="0" lang="en-US" sz="2400" spc="-1" strike="noStrike">
              <a:solidFill>
                <a:srgbClr val="572314"/>
              </a:solidFill>
              <a:latin typeface="Gill Sans MT"/>
            </a:endParaRPr>
          </a:p>
        </p:txBody>
      </p:sp>
      <p:sp>
        <p:nvSpPr>
          <p:cNvPr id="390" name=""/>
          <p:cNvSpPr txBox="1"/>
          <p:nvPr/>
        </p:nvSpPr>
        <p:spPr>
          <a:xfrm>
            <a:off x="1143000" y="7621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MarkeTrak Serena Upgrade Discussion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brought to TDTWG the presentation given at the July 13</a:t>
            </a:r>
            <a:r>
              <a:rPr b="0" lang="en-US" sz="1800" spc="-1" strike="noStrike" baseline="30000">
                <a:solidFill>
                  <a:srgbClr val="000000"/>
                </a:solidFill>
                <a:latin typeface="Gill Sans MT"/>
              </a:rPr>
              <a:t>th</a:t>
            </a:r>
            <a:r>
              <a:rPr b="0" lang="en-US" sz="1800" spc="-1" strike="noStrike">
                <a:solidFill>
                  <a:srgbClr val="000000"/>
                </a:solidFill>
                <a:latin typeface="Gill Sans MT"/>
              </a:rPr>
              <a:t> MTTF meeting.</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ummary:</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rrently ERCOT’s  MarkeTrak Serena version: 2009 R4.03</a:t>
            </a:r>
            <a:endParaRPr b="0" lang="en-US" sz="18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Market is 5 Major Releases behind.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test Serena version available: 10.5.1</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End of Life (EOL)/End of Support (EOS) announced by Vendor</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ystem </a:t>
            </a:r>
            <a:r>
              <a:rPr b="1" lang="en-US" sz="1800" spc="-1" strike="noStrike" u="sng">
                <a:solidFill>
                  <a:srgbClr val="000000"/>
                </a:solidFill>
                <a:uFillTx/>
                <a:latin typeface="Gill Sans MT"/>
              </a:rPr>
              <a:t>is not at risk </a:t>
            </a:r>
            <a:r>
              <a:rPr b="0" lang="en-US" sz="1800" spc="-1" strike="noStrike">
                <a:solidFill>
                  <a:srgbClr val="000000"/>
                </a:solidFill>
                <a:latin typeface="Gill Sans MT"/>
              </a:rPr>
              <a:t>if updates are not implemented</a:t>
            </a: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TDTWG and MarkeTrak agrees with ERCOT’s recommendation to stay with the current version &amp; revisit the upgrade discussion in 6-12 month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8866-917B-42C7-AAF9-006DD9F4180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Working Group (TDTWG)</a:t>
            </a:r>
            <a:endParaRPr b="0" lang="en-US" sz="2400" spc="-1" strike="noStrike">
              <a:solidFill>
                <a:srgbClr val="572314"/>
              </a:solidFill>
              <a:latin typeface="Gill Sans MT"/>
            </a:endParaRPr>
          </a:p>
        </p:txBody>
      </p:sp>
      <p:sp>
        <p:nvSpPr>
          <p:cNvPr id="397" name=""/>
          <p:cNvSpPr txBox="1"/>
          <p:nvPr/>
        </p:nvSpPr>
        <p:spPr>
          <a:xfrm>
            <a:off x="1143000" y="7621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AESB Upgrade Recommendation (Possible Vote)</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s recommendation to postpone the NAESB Upgrade effort until regulatory, security, or technology requirements necessitate the change.</a:t>
            </a:r>
            <a:endParaRPr b="0" lang="en-US" sz="20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te: If the market feels that the benefits outweigh the cost, then ERCOT will assist in facilitating the creation of a new SCR.</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TWG endorses ERCOT’s NAESB Recommendation.</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0" lang="en-US" sz="2000" spc="-1" strike="noStrike">
                <a:solidFill>
                  <a:srgbClr val="000000"/>
                </a:solidFill>
                <a:latin typeface="Gill Sans MT"/>
              </a:rPr>
              <a:t>:  </a:t>
            </a:r>
            <a:r>
              <a:rPr b="1" lang="en-US" sz="2000" spc="-1" strike="noStrike">
                <a:solidFill>
                  <a:srgbClr val="000000"/>
                </a:solidFill>
                <a:latin typeface="Gill Sans MT"/>
              </a:rPr>
              <a:t>RMS unanimously Approved TDTWG’s and ERCOT’s NAESB Upgrade recommendation . This is another cost savings to the ERCOT marke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9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FA03-4F7A-4BAC-8EE3-DD9C2C33B19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sp>
        <p:nvSpPr>
          <p:cNvPr id="404" name=""/>
          <p:cNvSpPr txBox="1"/>
          <p:nvPr/>
        </p:nvSpPr>
        <p:spPr>
          <a:xfrm>
            <a:off x="938160" y="762120"/>
            <a:ext cx="8229600" cy="541008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Market 101 Training (New and Improved Edition)</a:t>
            </a:r>
            <a:endParaRPr b="0" lang="en-US" sz="22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ized Outline for Retail 101 Training</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aining Needs</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rget Audience</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urse Objectives</a:t>
            </a: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entative Timeline Developed for build and rollout</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January 2016 anticipated completion</a:t>
            </a:r>
            <a:endParaRPr b="0" lang="en-US" sz="1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MarkeTrak web-based training</a:t>
            </a:r>
            <a:endParaRPr b="0" lang="en-US" sz="22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ree modules reviewed:</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verview</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advertent Gain </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witch Hold</a:t>
            </a: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ditional Modules </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ollout of Course(s)</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 what order are they more beneficial to the market.</a:t>
            </a:r>
            <a:endParaRPr b="0" lang="en-US" sz="18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Date Placeholder 3"/>
          <p:cNvSpPr/>
          <p:nvPr/>
        </p:nvSpPr>
        <p:spPr>
          <a:xfrm>
            <a:off x="3581280" y="6305400"/>
            <a:ext cx="23623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	</a:t>
            </a: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448A-5B31-42FD-B80C-88EDD598CCE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409" name=""/>
          <p:cNvSpPr txBox="1"/>
          <p:nvPr/>
        </p:nvSpPr>
        <p:spPr>
          <a:xfrm>
            <a:off x="914400" y="304560"/>
            <a:ext cx="8229600" cy="518148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ERCOT’s Retail System’s Unplanned Outage          Red Flag Notification</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August 3, 2015, ERCOT implemented an early notification system for unplanned retail system issues.  ERCOT will provide two ways for MPs to be informed of unplanned retail system issues.  A red flag will be displayed on the home page of ERCOT.com coupled with a system-generated Notice to an e-mail distribution list created for this purpose.    </a:t>
            </a:r>
            <a:endParaRPr b="0" lang="en-US" sz="16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red flag and the system-generated Notice will be triggered when ERCOT experiences outages or significant issues impacting one of the following:</a:t>
            </a:r>
            <a:endParaRPr b="0" lang="en-US" sz="16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tail Transaction Processing</a:t>
            </a:r>
            <a:endParaRPr b="0" lang="en-US" sz="14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MarkeTrak</a:t>
            </a:r>
            <a:endParaRPr b="0" lang="en-US" sz="1400" spc="-1" strike="noStrike">
              <a:solidFill>
                <a:srgbClr val="000000"/>
              </a:solidFill>
              <a:latin typeface="Gill Sans MT"/>
            </a:endParaRPr>
          </a:p>
          <a:p>
            <a:pPr lvl="2" marL="761760" indent="-196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tail MIS</a:t>
            </a:r>
            <a:endParaRPr b="0" lang="en-US" sz="14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red flag will be displayed next to the “Notices and Bulletins” area of the home page of ERCOT.com*.  Once a red flag is displayed, a system-generated Notice will be sent to an e-mail distribution list (</a:t>
            </a:r>
            <a:r>
              <a:rPr b="0" lang="en-US" sz="1600" spc="-1" strike="noStrike" u="sng">
                <a:solidFill>
                  <a:srgbClr val="8dc765"/>
                </a:solidFill>
                <a:uFillTx/>
                <a:latin typeface="Gill Sans MT"/>
                <a:hlinkClick r:id="rId1"/>
              </a:rPr>
              <a:t>RetailOperationsIssues@lists.ercot.com</a:t>
            </a:r>
            <a:r>
              <a:rPr b="0" lang="en-US" sz="1600" spc="-1" strike="noStrike">
                <a:solidFill>
                  <a:srgbClr val="000000"/>
                </a:solidFill>
                <a:latin typeface="Gill Sans MT"/>
              </a:rPr>
              <a:t>) informing Market Participants that ERCOT is experiencing issues with one or more of the above categories. In addition to the system-generated Notice, a follow-up Market Notice will be sent during business hours for issues lasting 30 minutes or longer. The red flag on ERCOT.com will be removed when the issue is resolved.</a:t>
            </a:r>
            <a:endParaRPr b="0" lang="en-US" sz="16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ome versions of Internet Explorer may not display the red flag. Users checking to see if the red flag is displayed on ERCOT.com should use Internet Explorer 11.</a:t>
            </a:r>
            <a:endParaRPr b="0" lang="en-US" sz="1600" spc="-1" strike="noStrike">
              <a:solidFill>
                <a:srgbClr val="000000"/>
              </a:solidFill>
              <a:latin typeface="Gill Sans MT"/>
            </a:endParaRPr>
          </a:p>
          <a:p>
            <a:pPr lvl="3" marL="943200" indent="-14868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1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A2FA-9F9E-4167-9A6C-DF9338B1CF5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414" name=""/>
          <p:cNvSpPr txBox="1"/>
          <p:nvPr/>
        </p:nvSpPr>
        <p:spPr>
          <a:xfrm>
            <a:off x="914400" y="761760"/>
            <a:ext cx="8229600" cy="51814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gacy Tool Replacement </a:t>
            </a:r>
            <a:endParaRPr b="0" lang="en-US" sz="24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mprovements initiated in response to the February 17</a:t>
            </a:r>
            <a:r>
              <a:rPr b="1" lang="en-US" sz="1800" spc="-1" strike="noStrike" baseline="30000">
                <a:solidFill>
                  <a:srgbClr val="000000"/>
                </a:solidFill>
                <a:latin typeface="Gill Sans MT"/>
              </a:rPr>
              <a:t>th</a:t>
            </a:r>
            <a:r>
              <a:rPr b="1" lang="en-US" sz="1800" spc="-1" strike="noStrike">
                <a:solidFill>
                  <a:srgbClr val="000000"/>
                </a:solidFill>
                <a:latin typeface="Gill Sans MT"/>
              </a:rPr>
              <a:t> duplicate retail transactions incident:</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urrent Status:</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omplete</a:t>
            </a:r>
            <a:r>
              <a:rPr b="0" i="1" lang="en-US" sz="1600" spc="-1" strike="noStrike">
                <a:solidFill>
                  <a:srgbClr val="000000"/>
                </a:solidFill>
                <a:latin typeface="Gill Sans MT"/>
              </a:rPr>
              <a:t> - </a:t>
            </a:r>
            <a:r>
              <a:rPr b="0" lang="en-US" sz="1600" spc="-1" strike="noStrike">
                <a:solidFill>
                  <a:srgbClr val="000000"/>
                </a:solidFill>
                <a:latin typeface="Gill Sans MT"/>
              </a:rPr>
              <a:t>New outbound transaction flow monitor designed to alert when a five to ten minute transactional backlog exists</a:t>
            </a:r>
            <a:endParaRPr b="0" lang="en-US" sz="16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 progress </a:t>
            </a:r>
            <a:r>
              <a:rPr b="0" lang="en-US" sz="1800" spc="-1" strike="noStrike">
                <a:solidFill>
                  <a:srgbClr val="000000"/>
                </a:solidFill>
                <a:latin typeface="Gill Sans MT"/>
              </a:rPr>
              <a:t>- End-to-end pulse functionality monitoring for retail transactions – December 2015 target:</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ystem will sit outside of the ERCOT firewall and mimic a market participant’s experience and alert when performance criteria are not met</a:t>
            </a:r>
            <a:endParaRPr b="0" lang="en-US" sz="16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 progress </a:t>
            </a:r>
            <a:r>
              <a:rPr b="0" lang="en-US" sz="1800" spc="-1" strike="noStrike">
                <a:solidFill>
                  <a:srgbClr val="000000"/>
                </a:solidFill>
                <a:latin typeface="Gill Sans MT"/>
              </a:rPr>
              <a:t>–</a:t>
            </a:r>
            <a:r>
              <a:rPr b="1" lang="en-US" sz="1800" spc="-1" strike="noStrike">
                <a:solidFill>
                  <a:srgbClr val="000000"/>
                </a:solidFill>
                <a:latin typeface="Gill Sans MT"/>
              </a:rPr>
              <a:t> </a:t>
            </a:r>
            <a:r>
              <a:rPr b="0" lang="en-US" sz="1800" spc="-1" strike="noStrike">
                <a:solidFill>
                  <a:srgbClr val="000000"/>
                </a:solidFill>
                <a:latin typeface="Gill Sans MT"/>
              </a:rPr>
              <a:t>Migrate monitoring functionality from a legacy system to a supported toolset – December 2015 target:</a:t>
            </a:r>
            <a:endParaRPr b="0" lang="en-US" sz="18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4 of 84 monitor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7 of 19 directory monitor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1 of 11 report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1 of 112 dashboard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 of 3 business functions complete</a:t>
            </a:r>
            <a:endParaRPr b="0" lang="en-US" sz="1600" spc="-1" strike="noStrike">
              <a:solidFill>
                <a:srgbClr val="000000"/>
              </a:solidFill>
              <a:latin typeface="Gill Sans MT"/>
            </a:endParaRPr>
          </a:p>
          <a:p>
            <a:pPr lvl="4" marL="1231920" indent="-1731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n target for completion by the end of 2015</a:t>
            </a: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1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1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668C-BD2A-4FA5-BDB2-BCF7F870741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IT Updates! </a:t>
            </a:r>
            <a:endParaRPr b="0" lang="en-US" sz="4300" spc="-1" strike="noStrike">
              <a:solidFill>
                <a:srgbClr val="572314"/>
              </a:solidFill>
              <a:latin typeface="Gill Sans MT"/>
            </a:endParaRPr>
          </a:p>
        </p:txBody>
      </p:sp>
      <p:sp>
        <p:nvSpPr>
          <p:cNvPr id="419" name=""/>
          <p:cNvSpPr txBox="1"/>
          <p:nvPr/>
        </p:nvSpPr>
        <p:spPr>
          <a:xfrm>
            <a:off x="914400" y="609480"/>
            <a:ext cx="8229600" cy="518184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nge Requests </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there is NO market visibility into knowing what or when ERCOT’s internal Change Requests (CRs) will be implemented, RMS leadership requested that ERCOT provide  TDTWG and RMS with a list of these internal Change Requests and their scheduled implementation in case there will be direct MP impacts or system changes required by MPs to support ERCOT’s Change Requests upon implementation.  This would also give the market the opportunity to voice concerns or for Q&amp;A and .   ERCOT agreed!</a:t>
            </a:r>
            <a:endParaRPr b="0" lang="en-US" sz="1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0615 Summary</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0615 is 100% complete as of 7/8/2015</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 New CRs tested (Including 1 additional DUNS)</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xisting CRs: 7 CRs tested for a Change of Service Provider, 1 CR added a new territory, and 1 CR tested for a Change of Bank</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77 tasks were completed including connectivity</a:t>
            </a: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2000" spc="-1" strike="noStrike">
                <a:solidFill>
                  <a:srgbClr val="000000"/>
                </a:solidFill>
                <a:latin typeface="Gill Sans MT"/>
              </a:rPr>
              <a:t>Flight 1015 Update: </a:t>
            </a:r>
            <a:endParaRPr b="0" lang="en-US" sz="20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5 signup begins 09/02/15</a:t>
            </a: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5 signup deadline is 09/09/15 </a:t>
            </a:r>
            <a:r>
              <a:rPr b="0" i="1" lang="en-US" sz="1600" spc="-1" strike="noStrike">
                <a:solidFill>
                  <a:srgbClr val="000000"/>
                </a:solidFill>
                <a:latin typeface="Gill Sans MT"/>
              </a:rPr>
              <a:t>with Adhoc starting on10/23/15 for Current MPs Only, subject to Flight Administrator and TDSPs’ Approval)</a:t>
            </a:r>
            <a:endParaRPr b="0" lang="en-US" sz="16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06040" indent="-207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3A3B-1481-4C8E-ADAC-5A858DC8385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Joint RMS/WMS Workshop I</a:t>
            </a:r>
            <a:r>
              <a:rPr b="0" lang="en-US" sz="4400" spc="-1" strike="noStrike">
                <a:solidFill>
                  <a:srgbClr val="572314"/>
                </a:solidFill>
                <a:latin typeface="Gill Sans MT"/>
              </a:rPr>
              <a:t>:  </a:t>
            </a:r>
            <a:endParaRPr b="0" lang="en-US" sz="4400" spc="-1" strike="noStrike">
              <a:solidFill>
                <a:srgbClr val="572314"/>
              </a:solidFill>
              <a:latin typeface="Gill Sans MT"/>
            </a:endParaRPr>
          </a:p>
        </p:txBody>
      </p:sp>
      <p:sp>
        <p:nvSpPr>
          <p:cNvPr id="424" name=""/>
          <p:cNvSpPr txBox="1"/>
          <p:nvPr/>
        </p:nvSpPr>
        <p:spPr>
          <a:xfrm>
            <a:off x="884160" y="685440"/>
            <a:ext cx="8229600" cy="518148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en-US" sz="2400" spc="-1" strike="noStrike">
                <a:solidFill>
                  <a:srgbClr val="000000"/>
                </a:solidFill>
                <a:latin typeface="Gill Sans MT"/>
              </a:rPr>
              <a:t>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o Smart Meter Texa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 23, 2015 Workshop I Day 1-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tendance includes ERCOT, TDSPs, CRs, PUCT Staff and various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Representatives from in and outside of </a:t>
            </a:r>
            <a:r>
              <a:rPr b="1" lang="en-US" sz="2000" spc="-1" strike="noStrike">
                <a:solidFill>
                  <a:srgbClr val="000000"/>
                </a:solidFill>
                <a:latin typeface="Gill Sans MT"/>
              </a:rPr>
              <a:t>Texas—GREAT Turnout!!!</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78</a:t>
            </a:r>
            <a:r>
              <a:rPr b="0" lang="en-US" sz="2000" spc="-1" strike="noStrike">
                <a:solidFill>
                  <a:srgbClr val="000000"/>
                </a:solidFill>
                <a:latin typeface="Gill Sans MT"/>
              </a:rPr>
              <a:t> </a:t>
            </a:r>
            <a:r>
              <a:rPr b="1" lang="en-US" sz="2000" spc="-1" strike="noStrike">
                <a:solidFill>
                  <a:srgbClr val="000000"/>
                </a:solidFill>
                <a:latin typeface="Gill Sans MT"/>
              </a:rPr>
              <a:t>Attendees</a:t>
            </a:r>
            <a:r>
              <a:rPr b="0" lang="en-US" sz="2000" spc="-1" strike="noStrike">
                <a:solidFill>
                  <a:srgbClr val="000000"/>
                </a:solidFill>
                <a:latin typeface="Gill Sans MT"/>
              </a:rPr>
              <a:t> : Conference Room 206 ERCOT Met Center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ey Documents reviewed and discussed:  </a:t>
            </a:r>
            <a:endParaRPr b="0" lang="en-US" sz="20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2/Day_1_07_23_15_Workshop_I_FINALv2.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297080" indent="-18252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2/Joint_RMS_WMS__Workshop_1_Meeting_Agenda_07_23_15_FINALv2.doc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1" marL="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132A-9958-4BCC-BBEF-B7508BF7781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2314"/>
                </a:solidFill>
                <a:latin typeface="Gill Sans MT"/>
              </a:rPr>
              <a:t>Joint RMS/WMS Workshop I</a:t>
            </a:r>
            <a:r>
              <a:rPr b="0" lang="en-US" sz="4400" spc="-1" strike="noStrike">
                <a:solidFill>
                  <a:srgbClr val="572314"/>
                </a:solidFill>
                <a:latin typeface="Gill Sans MT"/>
              </a:rPr>
              <a:t>:  </a:t>
            </a:r>
            <a:endParaRPr b="0" lang="en-US" sz="4400" spc="-1" strike="noStrike">
              <a:solidFill>
                <a:srgbClr val="572314"/>
              </a:solidFill>
              <a:latin typeface="Gill Sans MT"/>
            </a:endParaRPr>
          </a:p>
        </p:txBody>
      </p:sp>
      <p:sp>
        <p:nvSpPr>
          <p:cNvPr id="429" name=""/>
          <p:cNvSpPr txBox="1"/>
          <p:nvPr/>
        </p:nvSpPr>
        <p:spPr>
          <a:xfrm>
            <a:off x="884160" y="838080"/>
            <a:ext cx="8229600" cy="518184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o Smart Meter Texas”</a:t>
            </a: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July 24, 2015 Workshop I Day 2- </a:t>
            </a:r>
            <a:endParaRPr b="0" lang="en-US" sz="24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tendance includes ERCOT, TDSPs, CRs, PUCT Staff and various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Representatives from in and outside of Texas—it was another </a:t>
            </a:r>
            <a:r>
              <a:rPr b="1" lang="en-US" sz="2000" spc="-1" strike="noStrike">
                <a:solidFill>
                  <a:srgbClr val="000000"/>
                </a:solidFill>
                <a:latin typeface="Gill Sans MT"/>
              </a:rPr>
              <a:t>GREAT Turnout, especially for a Friday Workshop!!!</a:t>
            </a:r>
            <a:endParaRPr b="0" lang="en-US" sz="20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64</a:t>
            </a:r>
            <a:r>
              <a:rPr b="0" lang="en-US" sz="2000" spc="-1" strike="noStrike">
                <a:solidFill>
                  <a:srgbClr val="c00000"/>
                </a:solidFill>
                <a:latin typeface="Gill Sans MT"/>
              </a:rPr>
              <a:t> </a:t>
            </a:r>
            <a:r>
              <a:rPr b="1" lang="en-US" sz="2000" spc="-1" strike="noStrike">
                <a:solidFill>
                  <a:srgbClr val="000000"/>
                </a:solidFill>
                <a:latin typeface="Gill Sans MT"/>
              </a:rPr>
              <a:t>Attendees</a:t>
            </a:r>
            <a:r>
              <a:rPr b="0" lang="en-US" sz="2000" spc="-1" strike="noStrike">
                <a:solidFill>
                  <a:srgbClr val="000000"/>
                </a:solidFill>
                <a:latin typeface="Gill Sans MT"/>
              </a:rPr>
              <a:t>:  Conference Room 206 ERCOT Met Center </a:t>
            </a:r>
            <a:endParaRPr b="0" lang="en-US" sz="20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ey Documents reviewed and discussed: </a:t>
            </a:r>
            <a:endParaRPr b="0" lang="en-US" sz="2000" spc="-1" strike="noStrike">
              <a:solidFill>
                <a:srgbClr val="000000"/>
              </a:solidFill>
              <a:latin typeface="Gill Sans MT"/>
            </a:endParaRPr>
          </a:p>
          <a:p>
            <a:pPr lvl="4" marL="1193040" indent="-1677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Day_2_07.24.15_Workshop_I_FINALv2.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193040" indent="-1677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Joint_RMS_WMS__Workshop_1_Meeting_Agenda_Day_2_07_24_15_FINALv2.docx</a:t>
            </a:r>
            <a:endParaRPr b="0" lang="en-US" sz="1600" spc="-1" strike="noStrike">
              <a:solidFill>
                <a:srgbClr val="000000"/>
              </a:solidFill>
              <a:latin typeface="Gill Sans MT"/>
            </a:endParaRPr>
          </a:p>
          <a:p>
            <a:pPr lvl="4" marL="1193040" indent="-1677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www.ercot.com/content/wcm/key_documents_lists/64998/20141020_Third_Party_Access_to_SMT_v1_0_FINAL.doc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nnouncement: </a:t>
            </a:r>
            <a:endParaRPr b="0" lang="en-US" sz="2400" spc="-1" strike="noStrike">
              <a:solidFill>
                <a:srgbClr val="000000"/>
              </a:solidFill>
              <a:latin typeface="Gill Sans MT"/>
            </a:endParaRPr>
          </a:p>
          <a:p>
            <a:pPr lvl="4" marL="1193040" indent="-1677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RMS/WMS Workshop II</a:t>
            </a:r>
            <a:r>
              <a:rPr b="1" lang="en-US" sz="2000" spc="-1" strike="noStrike">
                <a:solidFill>
                  <a:srgbClr val="000000"/>
                </a:solidFill>
                <a:latin typeface="Gill Sans MT"/>
              </a:rPr>
              <a:t>: Improving 3</a:t>
            </a:r>
            <a:r>
              <a:rPr b="1" lang="en-US" sz="2000" spc="-1" strike="noStrike" baseline="30000">
                <a:solidFill>
                  <a:srgbClr val="000000"/>
                </a:solidFill>
                <a:latin typeface="Gill Sans MT"/>
              </a:rPr>
              <a:t>rd</a:t>
            </a:r>
            <a:r>
              <a:rPr b="1" lang="en-US" sz="2000" spc="-1" strike="noStrike">
                <a:solidFill>
                  <a:srgbClr val="000000"/>
                </a:solidFill>
                <a:latin typeface="Gill Sans MT"/>
              </a:rPr>
              <a:t> Party Access </a:t>
            </a:r>
            <a:r>
              <a:rPr b="1" lang="en-US" sz="2000" spc="-1" strike="noStrike" u="sng">
                <a:solidFill>
                  <a:srgbClr val="000000"/>
                </a:solidFill>
                <a:uFillTx/>
                <a:latin typeface="Gill Sans MT"/>
              </a:rPr>
              <a:t>tentatively</a:t>
            </a:r>
            <a:r>
              <a:rPr b="1" lang="en-US" sz="2000" spc="-1" strike="noStrike">
                <a:solidFill>
                  <a:srgbClr val="000000"/>
                </a:solidFill>
                <a:latin typeface="Gill Sans MT"/>
              </a:rPr>
              <a:t> scheduled for Friday, October 16, 2015.  </a:t>
            </a:r>
            <a:endParaRPr b="0" lang="en-US" sz="2000" spc="-1" strike="noStrike">
              <a:solidFill>
                <a:srgbClr val="000000"/>
              </a:solidFill>
              <a:latin typeface="Gill Sans MT"/>
            </a:endParaRPr>
          </a:p>
          <a:p>
            <a:pPr lvl="1" marL="370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63E9-6380-41AC-AB1D-046E0E520A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3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96C9-0371-498A-895B-229F1F82697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37" name="Picture 7" descr="C:\Users\00015621\AppData\Local\Microsoft\Windows\Temporary Internet Files\Content.IE5\BO9MEPUZ\questions-2[1].jpg"/>
          <p:cNvPicPr/>
          <p:nvPr/>
        </p:nvPicPr>
        <p:blipFill>
          <a:blip r:embed="rId1"/>
          <a:stretch/>
        </p:blipFill>
        <p:spPr>
          <a:xfrm>
            <a:off x="1905120" y="990720"/>
            <a:ext cx="59436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29 Voting Recommendation:</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29</a:t>
            </a:r>
            <a:r>
              <a:rPr b="1" lang="en-US" sz="2400" spc="-1" strike="noStrike">
                <a:solidFill>
                  <a:srgbClr val="000000"/>
                </a:solidFill>
                <a:latin typeface="Gill Sans MT"/>
              </a:rPr>
              <a:t>, Revision to Customer Rescission Completion Timeline (Vote)</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is Retail Market Guide Revision Request (RMGRR) provides additional guidelines regarding specific timing and responsibilities for a Competitive Retailer (CR) to complete a Customer Rescission MarkeTrak issue after completion of a Switch Request.  Once a Customer Rescission MarkeTrak issue has been submitted, the losing CR has two Business Days to agree to the Customer Rescission MarkeTrak issue, and another two Business Days to send a backdated 814_16, Move-In Request, once the Transmission and/or Distribution Service Provider (TDSP) has updated the MarkeTrak issue status to “Ready to Receive.”</a:t>
            </a:r>
            <a:endParaRPr b="0" lang="en-US" sz="1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5/28/15 TAC</a:t>
            </a:r>
            <a:r>
              <a:rPr b="0" lang="en-US" sz="1600" spc="-1" strike="noStrike">
                <a:solidFill>
                  <a:srgbClr val="000000"/>
                </a:solidFill>
                <a:latin typeface="Gill Sans MT"/>
              </a:rPr>
              <a:t>: TAC unanimously approved to “Table” RMGRR129 to allow MPs attending RMS time to develop an implementation schedule that works for all affected MPs.   </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7/30/15 TAC</a:t>
            </a:r>
            <a:r>
              <a:rPr b="0" lang="en-US" sz="1600" spc="-1" strike="noStrike">
                <a:solidFill>
                  <a:srgbClr val="000000"/>
                </a:solidFill>
                <a:latin typeface="Gill Sans MT"/>
              </a:rPr>
              <a:t>: Since RMS didn’t meet in July, therefore, TAC continued to  “Table” RMGRR until RMS considers the MarkeTrak Taskforce’s recommended implementation.</a:t>
            </a: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1" lang="en-US" sz="1600" spc="-1" strike="noStrike">
                <a:solidFill>
                  <a:srgbClr val="000000"/>
                </a:solidFill>
                <a:latin typeface="Gill Sans MT"/>
              </a:rPr>
              <a:t>:  RMS unanimously Approved the July 13, 2015 MarkeTrak Taskforce recommendation to implement RMGRR129 on October 1, 2015. </a:t>
            </a:r>
            <a:endParaRPr b="0" lang="en-US" sz="16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106B-3572-46BE-A886-5E1817EE985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Voting Recommendation :</a:t>
            </a:r>
            <a:endParaRPr b="0" lang="en-US" sz="3600" spc="-1" strike="noStrike">
              <a:solidFill>
                <a:srgbClr val="572314"/>
              </a:solidFill>
              <a:latin typeface="Gill Sans MT"/>
            </a:endParaRPr>
          </a:p>
        </p:txBody>
      </p:sp>
      <p:sp>
        <p:nvSpPr>
          <p:cNvPr id="343" name=""/>
          <p:cNvSpPr txBox="1"/>
          <p:nvPr/>
        </p:nvSpPr>
        <p:spPr>
          <a:xfrm>
            <a:off x="939960" y="685800"/>
            <a:ext cx="805176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comments required additional review and discussions by the MarkeTrak Taskforce  Subject Matter Experts (SME’s) during their May 7</a:t>
            </a:r>
            <a:r>
              <a:rPr b="0" lang="en-US" sz="1800" spc="-1" strike="noStrike" baseline="30000">
                <a:solidFill>
                  <a:srgbClr val="000000"/>
                </a:solidFill>
                <a:latin typeface="Gill Sans MT"/>
              </a:rPr>
              <a:t>th</a:t>
            </a:r>
            <a:r>
              <a:rPr b="0" lang="en-US" sz="1800" spc="-1" strike="noStrike">
                <a:solidFill>
                  <a:srgbClr val="000000"/>
                </a:solidFill>
                <a:latin typeface="Gill Sans MT"/>
              </a:rPr>
              <a:t> scheduled meeting.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6/02/15 RMS:  </a:t>
            </a:r>
            <a:r>
              <a:rPr b="0" lang="en-US" sz="1600" spc="-1" strike="noStrike">
                <a:solidFill>
                  <a:srgbClr val="000000"/>
                </a:solidFill>
                <a:latin typeface="Gill Sans MT"/>
              </a:rPr>
              <a:t>RMS unanimously Approved RMGRR131 language with MTTF comments</a:t>
            </a:r>
            <a:r>
              <a:rPr b="1" lang="en-US" sz="1600" spc="-1" strike="noStrike">
                <a:solidFill>
                  <a:srgbClr val="000000"/>
                </a:solidFill>
                <a:latin typeface="Gill Sans MT"/>
              </a:rPr>
              <a:t>.  </a:t>
            </a:r>
            <a:r>
              <a:rPr b="0" lang="en-US" sz="1600" spc="-1" strike="noStrike">
                <a:solidFill>
                  <a:srgbClr val="000000"/>
                </a:solidFill>
                <a:latin typeface="Gill Sans MT"/>
              </a:rPr>
              <a:t>Impact Analysis will be returned to RMS for consideration during the 8/4/15 RMS meeting.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1" lang="en-US" sz="1600" spc="-1" strike="noStrike">
                <a:solidFill>
                  <a:srgbClr val="000000"/>
                </a:solidFill>
                <a:latin typeface="Gill Sans MT"/>
              </a:rPr>
              <a:t>:  RMS unanimously Approved RMGRR131.  Note: ERCOT’s IA reflected No Cost Impacts to ERCOT.  This RMGRR will be considered by TAC on August 27, 2015.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D3F1-5DB6-45F3-9E86-9A6B268E129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2 – An RMS Voting Update:</a:t>
            </a:r>
            <a:endParaRPr b="0" lang="en-US" sz="3600" spc="-1" strike="noStrike">
              <a:solidFill>
                <a:srgbClr val="572314"/>
              </a:solidFill>
              <a:latin typeface="Gill Sans MT"/>
            </a:endParaRPr>
          </a:p>
        </p:txBody>
      </p:sp>
      <p:sp>
        <p:nvSpPr>
          <p:cNvPr id="348" name=""/>
          <p:cNvSpPr txBox="1"/>
          <p:nvPr/>
        </p:nvSpPr>
        <p:spPr>
          <a:xfrm>
            <a:off x="914400" y="6094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 </a:t>
            </a: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scription:</a:t>
            </a:r>
            <a:r>
              <a:rPr b="0" lang="en-US" sz="2000" spc="-1" strike="noStrike">
                <a:solidFill>
                  <a:srgbClr val="000000"/>
                </a:solidFill>
                <a:latin typeface="Gill Sans MT"/>
              </a:rPr>
              <a:t>  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06/02/15 RMS Discussion/Vote:</a:t>
            </a:r>
            <a:r>
              <a:rPr b="0" lang="en-US" sz="1400" spc="-1" strike="noStrike">
                <a:solidFill>
                  <a:srgbClr val="000000"/>
                </a:solidFill>
                <a:latin typeface="Gill Sans MT"/>
              </a:rPr>
              <a:t>   Tom Burke, Golden Spread Electric Cooperative,  is trying to develop a market solution that allows a method of  Disconnecting Wind Units for Non-Payment  that are energized by TDSP’s (Retail) transmission lines through a by-directional meter.  Currently because the disconnection may not occur for several months Golden Spread Electric Cooperatives requires deposits that covers 6 months of potential usage, which could be significant cost to end the use customer.   GSEC provided the following  additional details on this issue:  </a:t>
            </a:r>
            <a:endParaRPr b="0" lang="en-US" sz="1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 </a:t>
            </a:r>
            <a:r>
              <a:rPr b="0" lang="en-US" sz="1600" spc="-1" strike="noStrike">
                <a:solidFill>
                  <a:srgbClr val="000000"/>
                </a:solidFill>
                <a:latin typeface="Gill Sans MT"/>
              </a:rPr>
              <a:t>:   RMS unanimously Approved to “</a:t>
            </a:r>
            <a:r>
              <a:rPr b="1" lang="en-US" sz="1600" spc="-1" strike="noStrike">
                <a:solidFill>
                  <a:srgbClr val="000000"/>
                </a:solidFill>
                <a:latin typeface="Gill Sans MT"/>
              </a:rPr>
              <a:t>Table RMGRR132”</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3" marL="997920" indent="-1573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Concerns to be investigated by Tom Burke ( submitter) with ERCOT and TDSPs:  </a:t>
            </a:r>
            <a:endParaRPr b="0" lang="en-US" sz="1400" spc="-1" strike="noStrike">
              <a:solidFill>
                <a:srgbClr val="000000"/>
              </a:solidFill>
              <a:latin typeface="Gill Sans MT"/>
            </a:endParaRPr>
          </a:p>
          <a:p>
            <a:pPr lvl="4" marL="1180080" indent="-165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oes ERCOT need to be involved when a disconnection for non-payment affects a Generation Resource?</a:t>
            </a:r>
            <a:endParaRPr b="0" lang="en-US" sz="1400" spc="-1" strike="noStrike">
              <a:solidFill>
                <a:srgbClr val="000000"/>
              </a:solidFill>
              <a:latin typeface="Gill Sans MT"/>
            </a:endParaRPr>
          </a:p>
          <a:p>
            <a:pPr lvl="4" marL="1180080" indent="-1659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an a TDSP disconnect a premise for non-payment at the request of the non-Rep Of Record?</a:t>
            </a:r>
            <a:endParaRPr b="0" lang="en-US" sz="14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6A48D-0046-4AE3-8A99-95CE73C7830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2" name="Object 2"/>
          <p:cNvGraphicFramePr/>
          <p:nvPr/>
        </p:nvGraphicFramePr>
        <p:xfrm>
          <a:off x="7035840" y="4419720"/>
          <a:ext cx="631800" cy="533160"/>
        </p:xfrm>
        <a:graphic>
          <a:graphicData uri="http://schemas.openxmlformats.org/presentationml/2006/ole">
            <p:oleObj r:id="rId1" spid="">
              <p:embed/>
              <p:pic>
                <p:nvPicPr>
                  <p:cNvPr id="353" name="Object 2" descr=""/>
                  <p:cNvPicPr/>
                  <p:nvPr/>
                </p:nvPicPr>
                <p:blipFill>
                  <a:blip r:embed="rId2"/>
                  <a:stretch/>
                </p:blipFill>
                <p:spPr>
                  <a:xfrm>
                    <a:off x="7035840" y="4419720"/>
                    <a:ext cx="63180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NPRR711–RMS Voting Recommendation:</a:t>
            </a:r>
            <a:endParaRPr b="0" lang="en-US" sz="3600" spc="-1" strike="noStrike">
              <a:solidFill>
                <a:srgbClr val="572314"/>
              </a:solidFill>
              <a:latin typeface="Gill Sans MT"/>
            </a:endParaRPr>
          </a:p>
        </p:txBody>
      </p:sp>
      <p:sp>
        <p:nvSpPr>
          <p:cNvPr id="355" name=""/>
          <p:cNvSpPr txBox="1"/>
          <p:nvPr/>
        </p:nvSpPr>
        <p:spPr>
          <a:xfrm>
            <a:off x="83808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NPRR711</a:t>
            </a:r>
            <a:r>
              <a:rPr b="1" lang="en-US" sz="2000" spc="-1" strike="noStrike">
                <a:solidFill>
                  <a:srgbClr val="000000"/>
                </a:solidFill>
                <a:latin typeface="Gill Sans MT"/>
              </a:rPr>
              <a:t>, Increase the Interval Data Recorder Meter Mandatory Install Requirement from 700 kW/kVA to 1.5 MW/MVA (Vote)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Nodal Protocol Revision Request (NPRR) increases the Interval Data Recorder (IDR) Meter mandatory installation requirement from 700 kW/kVA to1.5 MW/MVA.  In stakeholder discussions during the joint RMS/COPS IDR Meter Protocol Requirement Threshold Workshops, there were concerns expressed regarding the elimination of the mandatory IDR Meter threshold.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06/02/15 RMS :</a:t>
            </a:r>
            <a:r>
              <a:rPr b="0" lang="en-US" sz="1600" spc="-1" strike="noStrike">
                <a:solidFill>
                  <a:srgbClr val="000000"/>
                </a:solidFill>
                <a:latin typeface="Gill Sans MT"/>
              </a:rPr>
              <a:t>   RMS unanimously directed Workshop leadership to submit Draft NPRR to PRS Revision Request Listserv for number assignment and 21 day comment period. </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08/04/15 RMS</a:t>
            </a:r>
            <a:r>
              <a:rPr b="0" lang="en-US" sz="1600" spc="-1" strike="noStrike">
                <a:solidFill>
                  <a:srgbClr val="c00000"/>
                </a:solidFill>
                <a:latin typeface="Gill Sans MT"/>
              </a:rPr>
              <a:t>:   </a:t>
            </a:r>
            <a:r>
              <a:rPr b="1" lang="en-US" sz="1600" spc="-1" strike="noStrike">
                <a:solidFill>
                  <a:srgbClr val="000000"/>
                </a:solidFill>
                <a:latin typeface="Gill Sans MT"/>
              </a:rPr>
              <a:t>Motion:  RMS Unanimously Endorses NPRR711</a:t>
            </a:r>
            <a:r>
              <a:rPr b="0" lang="en-US" sz="1600" spc="-1" strike="noStrike">
                <a:solidFill>
                  <a:srgbClr val="000000"/>
                </a:solidFill>
                <a:latin typeface="Gill Sans MT"/>
              </a:rPr>
              <a:t>. Additionally, RMS recommends that RMS and COPS should continue to work on metered data flow issues in order to use the most appropriate technology as possible.  For example, RMS desires that 15-minute data be in the same data flow regardless of the origination of the data. </a:t>
            </a:r>
            <a:endParaRPr b="0" lang="en-US" sz="16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NOTE:  </a:t>
            </a:r>
            <a:r>
              <a:rPr b="0" lang="en-US" sz="1400" spc="-1" strike="noStrike">
                <a:solidFill>
                  <a:srgbClr val="000000"/>
                </a:solidFill>
                <a:latin typeface="Gill Sans MT"/>
              </a:rPr>
              <a:t>RMS agreed that this recommendation may be completed through the Profile Working Group’s (PWG) current tasks of reviewing and updating, where necessary, Protocols Section 18  “Load Profiling”.  </a:t>
            </a:r>
            <a:endParaRPr b="0" lang="en-US" sz="1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96920" indent="-173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45B2-0458-4DF7-95E3-20CF4690337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RMS Voting Recommendation: </a:t>
            </a:r>
            <a:endParaRPr b="0" lang="en-US" sz="3600" spc="-1" strike="noStrike">
              <a:solidFill>
                <a:srgbClr val="572314"/>
              </a:solidFill>
              <a:latin typeface="Gill Sans MT"/>
            </a:endParaRPr>
          </a:p>
        </p:txBody>
      </p:sp>
      <p:sp>
        <p:nvSpPr>
          <p:cNvPr id="360" name=""/>
          <p:cNvSpPr txBox="1"/>
          <p:nvPr/>
        </p:nvSpPr>
        <p:spPr>
          <a:xfrm>
            <a:off x="838080" y="60948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CR786</a:t>
            </a:r>
            <a:r>
              <a:rPr b="1" lang="en-US" sz="2400" spc="-1" strike="noStrike">
                <a:solidFill>
                  <a:srgbClr val="000000"/>
                </a:solidFill>
                <a:latin typeface="Gill Sans MT"/>
              </a:rPr>
              <a:t>, Retail Market Test Environment (Vote)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ystem Change Request (SCR) instructs ERCOT to develop a new retail market test environment, in addition to the current Certification (CERT) environment, that mimics ERCOT’s production environment functionality.  This new retail market testing environment will provide flexibility and availability for ad-hoc testing requests by Market Participants and will reduce the overall risk to the retail market by allowing Market Participants to fully test internal projects before going live in production.</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7/16/15 PRS:  </a:t>
            </a:r>
            <a:r>
              <a:rPr b="0" lang="en-US" sz="1800" spc="-1" strike="noStrike">
                <a:solidFill>
                  <a:srgbClr val="000000"/>
                </a:solidFill>
                <a:latin typeface="Gill Sans MT"/>
              </a:rPr>
              <a:t>PRS approved SCR 786, however,  there were concerns voiced about the cost to implement.  ERCOT stated it will take 2 months to bring IA back to PRS in order for ERCOT to fully examine all options to minimize cost.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08/04/15 RMS</a:t>
            </a:r>
            <a:r>
              <a:rPr b="0" lang="en-US" sz="1800" spc="-1" strike="noStrike">
                <a:solidFill>
                  <a:srgbClr val="000000"/>
                </a:solidFill>
                <a:latin typeface="Gill Sans MT"/>
              </a:rPr>
              <a:t>:  </a:t>
            </a:r>
            <a:r>
              <a:rPr b="1" lang="en-US" sz="1800" spc="-1" strike="noStrike">
                <a:solidFill>
                  <a:srgbClr val="000000"/>
                </a:solidFill>
                <a:latin typeface="Gill Sans MT"/>
              </a:rPr>
              <a:t>RMS unanimously Endorsed SCR786 as submitted by TDTWG.   </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41840" indent="-1641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41320" indent="-21708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F98A-674C-4937-B17F-A36D7E4B60F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6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66" name=""/>
          <p:cNvSpPr txBox="1"/>
          <p:nvPr/>
        </p:nvSpPr>
        <p:spPr>
          <a:xfrm>
            <a:off x="1218960" y="457200"/>
            <a:ext cx="792468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08/04/15 RMS</a:t>
            </a:r>
            <a:r>
              <a:rPr b="1" lang="en-US" sz="2400" spc="-1" strike="noStrike">
                <a:solidFill>
                  <a:srgbClr val="000000"/>
                </a:solidFill>
                <a:latin typeface="Gill Sans MT"/>
              </a:rPr>
              <a: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5-041 (Vote)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8/04/15 RMS Discussion and/or Voting</a:t>
            </a:r>
            <a:r>
              <a:rPr b="0" lang="en-US" sz="2000" spc="-1" strike="noStrike">
                <a:solidFill>
                  <a:srgbClr val="000000"/>
                </a:solidFill>
                <a:latin typeface="Gill Sans MT"/>
              </a:rPr>
              <a:t>:  CR 2015-041 </a:t>
            </a:r>
            <a:r>
              <a:rPr b="1" lang="en-US" sz="1800" spc="-1" strike="noStrike">
                <a:solidFill>
                  <a:srgbClr val="c00000"/>
                </a:solidFill>
                <a:latin typeface="Gill Sans MT"/>
              </a:rPr>
              <a:t>Unanimously Approved by RMS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5-042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8/04/15 RMS Discussion and/or Voting</a:t>
            </a:r>
            <a:r>
              <a:rPr b="0" lang="en-US" sz="2000" spc="-1" strike="noStrike">
                <a:solidFill>
                  <a:srgbClr val="000000"/>
                </a:solidFill>
                <a:latin typeface="Gill Sans MT"/>
              </a:rPr>
              <a:t>:   </a:t>
            </a:r>
            <a:r>
              <a:rPr b="0" lang="en-US" sz="1800" spc="-1" strike="noStrike">
                <a:solidFill>
                  <a:srgbClr val="000000"/>
                </a:solidFill>
                <a:latin typeface="Gill Sans MT"/>
              </a:rPr>
              <a:t>                                    </a:t>
            </a:r>
            <a:r>
              <a:rPr b="1" lang="en-US" sz="1800" spc="-1" strike="noStrike">
                <a:solidFill>
                  <a:srgbClr val="c00000"/>
                </a:solidFill>
                <a:latin typeface="Gill Sans MT"/>
              </a:rPr>
              <a:t>Approved with 1 Abstention</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2014-018 </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oll Call Vote take on Motion to Table Indefinitely:              </a:t>
            </a:r>
            <a:r>
              <a:rPr b="1" lang="en-US" sz="1800" spc="-1" strike="noStrike">
                <a:solidFill>
                  <a:srgbClr val="c00000"/>
                </a:solidFill>
                <a:latin typeface="Gill Sans MT"/>
              </a:rPr>
              <a:t>Motion to Table Indefinitely Carries.  </a:t>
            </a:r>
            <a:endParaRPr b="0" lang="en-US" sz="18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63.2% (For) 36.8% (Against) </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Vote Tally:   3 (Yes)  1.75 (No) and 10 (Abstentions)   </a:t>
            </a:r>
            <a:endParaRPr b="0" lang="en-US" sz="16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CE39-47AB-47E6-ADF8-E53C03FAA13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1" name="Object 2"/>
          <p:cNvGraphicFramePr/>
          <p:nvPr/>
        </p:nvGraphicFramePr>
        <p:xfrm>
          <a:off x="7467480" y="5029200"/>
          <a:ext cx="914400" cy="771480"/>
        </p:xfrm>
        <a:graphic>
          <a:graphicData uri="http://schemas.openxmlformats.org/presentationml/2006/ole">
            <p:oleObj progId="Excel.Sheet.12" r:id="rId1" spid="">
              <p:embed/>
              <p:pic>
                <p:nvPicPr>
                  <p:cNvPr id="372" name="Object 2" descr=""/>
                  <p:cNvPicPr/>
                  <p:nvPr/>
                </p:nvPicPr>
                <p:blipFill>
                  <a:blip r:embed="rId2"/>
                  <a:stretch/>
                </p:blipFill>
                <p:spPr>
                  <a:xfrm>
                    <a:off x="7467480" y="50292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art Meter Texas (SMT) </a:t>
            </a:r>
            <a:endParaRPr b="0" lang="en-US" sz="2800" spc="-1" strike="noStrike">
              <a:solidFill>
                <a:srgbClr val="572314"/>
              </a:solidFill>
              <a:latin typeface="Gill Sans MT"/>
            </a:endParaRPr>
          </a:p>
        </p:txBody>
      </p:sp>
      <p:sp>
        <p:nvSpPr>
          <p:cNvPr id="374" name=""/>
          <p:cNvSpPr txBox="1"/>
          <p:nvPr/>
        </p:nvSpPr>
        <p:spPr>
          <a:xfrm>
            <a:off x="1061640" y="6094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y new SMT projects, system enhancements and/or new functionality is currently  “</a:t>
            </a:r>
            <a:r>
              <a:rPr b="1" lang="en-US" sz="2400" spc="-1" strike="noStrike">
                <a:solidFill>
                  <a:srgbClr val="000000"/>
                </a:solidFill>
                <a:latin typeface="Gill Sans MT"/>
              </a:rPr>
              <a:t>On Hold</a:t>
            </a:r>
            <a:r>
              <a:rPr b="0" lang="en-US" sz="2400" spc="-1" strike="noStrike">
                <a:solidFill>
                  <a:srgbClr val="000000"/>
                </a:solidFill>
                <a:latin typeface="Gill Sans MT"/>
              </a:rPr>
              <a:t>” at SMT due to PUCT Project 42786 “REVIEW OF ADVANCED METERING SYSTEM WEB PORTALS” is still pending recommendations and PUCT Approval.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der PUCT Project 42786,  the Retail Market Subcommittee (RMS) , the Joint TDSPs (JDOA) and ERCOT are looking for guidance from Commissioners concerning : ” </a:t>
            </a:r>
            <a:r>
              <a:rPr b="1" lang="en-US" sz="2000" spc="-1" strike="noStrike">
                <a:solidFill>
                  <a:srgbClr val="c00000"/>
                </a:solidFill>
                <a:latin typeface="Gill Sans MT"/>
              </a:rPr>
              <a:t>What will be the Future of SM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interchange.puc.state.tx.us/WebApp/Interchange/application/dbapps/filings/pgControl.asp?TXT_UTILITY_TYPE=A&amp;TXT_CNTRL_NO=42786&amp;TXT_ITEM_MATCH=1&amp;TXT_ITEM_NO=&amp;TXT_N_UTILITY=&amp;TXT_N_FILE_PARTY=&amp;TXT_DOC_TYPE=ALL&amp;TXT_D_FROM=&amp;TXT_D_TO=&amp;TXT_NEW=tru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7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617F-FCD4-4805-94E9-62B216B3347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MarkeTrak Taskforce (MTTF)</a:t>
            </a:r>
            <a:endParaRPr b="0" lang="en-US" sz="2800" spc="-1" strike="noStrike">
              <a:solidFill>
                <a:srgbClr val="572314"/>
              </a:solidFill>
              <a:latin typeface="Gill Sans MT"/>
            </a:endParaRPr>
          </a:p>
        </p:txBody>
      </p:sp>
      <p:sp>
        <p:nvSpPr>
          <p:cNvPr id="381" name=""/>
          <p:cNvSpPr txBox="1"/>
          <p:nvPr/>
        </p:nvSpPr>
        <p:spPr>
          <a:xfrm>
            <a:off x="1143000" y="67932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8/04/15 RMS</a:t>
            </a:r>
            <a:r>
              <a:rPr b="1" lang="en-US" sz="2000" spc="-1" strike="noStrike">
                <a:solidFill>
                  <a:srgbClr val="000000"/>
                </a:solidFill>
                <a:latin typeface="Gill Sans MT"/>
              </a:rPr>
              <a:t>:</a:t>
            </a:r>
            <a:r>
              <a:rPr b="0" lang="en-US" sz="2000" spc="-1" strike="noStrike">
                <a:solidFill>
                  <a:srgbClr val="000000"/>
                </a:solidFill>
                <a:latin typeface="Gill Sans MT"/>
              </a:rPr>
              <a:t>   </a:t>
            </a:r>
            <a:r>
              <a:rPr b="1" lang="en-US" sz="2000" spc="-1" strike="noStrike">
                <a:solidFill>
                  <a:srgbClr val="000000"/>
                </a:solidFill>
                <a:latin typeface="Gill Sans MT"/>
              </a:rPr>
              <a:t>RMS agreed to remand RMGRR129 to the MarkeTrak Taskforce (MTTF) and to delay Sunsetting MTTF due to additional action items, such as:</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pecting a recommendation to RMS from MTTF on an implementation timeline for RMGRR129 during the August 4</a:t>
            </a:r>
            <a:r>
              <a:rPr b="0" lang="en-US" sz="1800" spc="-1" strike="noStrike" baseline="30000">
                <a:solidFill>
                  <a:srgbClr val="000000"/>
                </a:solidFill>
                <a:latin typeface="Gill Sans MT"/>
              </a:rPr>
              <a:t>th</a:t>
            </a:r>
            <a:r>
              <a:rPr b="0" lang="en-US" sz="1800" spc="-1" strike="noStrike">
                <a:solidFill>
                  <a:srgbClr val="000000"/>
                </a:solidFill>
                <a:latin typeface="Gill Sans MT"/>
              </a:rPr>
              <a:t> 2015 RMS meeting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ile attendance and summarize the Inadvertent Gain (IAG) Post-Training survey responses for all three  IAG Training Sessions held in Austin, Houston and Dallas during May and June 2015.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IAG Training reached: </a:t>
            </a:r>
            <a:endParaRPr b="0" lang="en-US" sz="1800" spc="-1" strike="noStrike">
              <a:solidFill>
                <a:srgbClr val="000000"/>
              </a:solidFill>
              <a:latin typeface="Gill Sans MT"/>
            </a:endParaRPr>
          </a:p>
        </p:txBody>
      </p:sp>
      <p:sp>
        <p:nvSpPr>
          <p:cNvPr id="3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2, 2015</a:t>
            </a:r>
            <a:endParaRPr b="0" lang="en-US" sz="1200" spc="-1" strike="noStrike">
              <a:solidFill>
                <a:srgbClr val="000000"/>
              </a:solidFill>
              <a:latin typeface="Arial"/>
            </a:endParaRPr>
          </a:p>
        </p:txBody>
      </p:sp>
      <p:sp>
        <p:nvSpPr>
          <p:cNvPr id="38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B72F-48C0-4E61-9626-923D19B899B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8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9" descr=""/>
          <p:cNvPicPr/>
          <p:nvPr/>
        </p:nvPicPr>
        <p:blipFill>
          <a:blip r:embed="rId1"/>
          <a:stretch/>
        </p:blipFill>
        <p:spPr>
          <a:xfrm>
            <a:off x="2743200" y="4041720"/>
            <a:ext cx="4346640" cy="2054160"/>
          </a:xfrm>
          <a:prstGeom prst="rect">
            <a:avLst/>
          </a:prstGeom>
          <a:ln w="0">
            <a:noFill/>
          </a:ln>
        </p:spPr>
      </p:pic>
      <p:pic>
        <p:nvPicPr>
          <p:cNvPr id="388" name="Picture 14" descr=""/>
          <p:cNvPicPr/>
          <p:nvPr/>
        </p:nvPicPr>
        <p:blipFill>
          <a:blip r:embed="rId2"/>
          <a:stretch/>
        </p:blipFill>
        <p:spPr>
          <a:xfrm>
            <a:off x="6242040" y="5715000"/>
            <a:ext cx="228600" cy="2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08-06T20:29:08Z</dcterms:modified>
  <cp:revision>970</cp:revision>
  <dc:subject/>
  <dc:title>Instructions</dc:title>
</cp:coreProperties>
</file>