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2B76-A35E-4C19-AD2E-E7648A2BA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368F-6F14-44FF-9772-F389D9265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7898-F97F-41CE-8EAA-BEED18430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B4B1-C6FD-4331-8DA0-F88ED2BAA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80D3AD5-3A22-4397-A3E1-F6A56A747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228EABC-ABA3-4689-8BE8-F04007DFC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8AAE7F7-AFC6-4998-B3BD-D9CF31A420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47FFF60-AE91-4533-813C-A886DA66A5E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0F9ECFC-332E-4562-BD83-4780BBD2EB7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C01D73-9D66-47E0-8E64-BA89D3F0655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AE450DE-B5EC-4A4D-8FD2-20B929C1E5A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A1E922-EC7F-4194-A855-640B25A9386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EC9E2F3-E84E-4046-A34C-CE2CA4CFDD7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37218DF-21DB-4591-A46B-08FD681BCCA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405DA26-D262-4BF0-AA2C-56DD6B41436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55A8F51-2C3F-4E48-9DC0-F2008DF1D9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2C24EA3-DB44-4ECE-92FF-5AAF723CB9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CD9A1-70FE-4FC8-A692-B743C6055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7E006-DAA1-485C-A115-B77BE03F6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25A98-C313-44EF-8DCE-CAC0328B3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0F3E4-A290-4325-9BE1-7BC050817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4E0C9-DC0A-45C7-AD3C-F08CE6C40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5F191-44CA-4A62-8A8C-2289338B2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57ED8-065D-4590-82DD-F9D3FFA2B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5D5155-560D-4E84-9269-98B129054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BFCB2-17D6-45D4-B42B-0F750AF5C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CEB42-EE15-4654-8E54-6D0F496A3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7FFBF-FCAC-4729-84AB-7BAF077B3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41553-792B-4F3B-8BA6-691E68828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D272B-6262-4A9E-A0D6-3073DE0B5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5261A8-BE9D-41DA-93F5-A26E5092E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822E432-795D-45E3-9CD1-13D817DB8B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42550E8-0D78-4612-AD10-6A2EAA26F5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7C30BA-928F-4DE8-ADF9-536FF93E04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03A868B-A911-44BF-A372-F592B0FA8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431E64-9468-411B-B45D-099D5F3A52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464034-8B7D-4C67-BAF1-22B7FD36B9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719E87-1800-4BF0-9EE7-3D2FF7EB05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241C41-EF88-450C-8423-1B92795CF7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0DAAFA-58E0-4C8C-B694-0B9B7EA800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302316-A418-4237-A983-FA0D1AE4DA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00EE3C-1CC6-44AD-819F-C6B86AC458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5445107-9CAB-42A7-AB97-7EC380B94A6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DA18F52-0667-4ED7-87B2-A85CBE26A5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E9604D5-7C9F-456C-89FF-9D0847E6F2F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E8C1DC-254F-4E10-AE04-9F2DBC8E2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A297235-3964-4ABB-AA52-935F9538B93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46EF92E-8844-4F7A-AEAB-6F03D4CDA0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DB3FCD5-B320-4CE3-A714-B4E8909C5D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AD23B7-79C5-4779-B603-BD99B853390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547DA57-4920-4CC9-BEAC-D1D5A8482B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BEFB94-2D41-4DB4-B299-318C68E5DB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D7B35E-5EAD-4157-81FF-1A9A37EBC5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B11AF6-1095-4747-8C0C-99FE9ADABD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99695A-F9ED-4934-82AF-1388009DBA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852701B-A6AB-4DF1-ADD4-17EAAD3EAFE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E6D4EEA-1443-458C-949C-8EDF88B30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EE8B371-F859-40A3-A2B1-5E5E525B30B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7BF8064-C934-49DA-96BE-C564CEB7679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323D236-1ABB-424C-A3AB-BF801DB090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49E2453-3CD4-49C7-A310-D9AF15AF6D2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05E9916-4752-4DC9-9B4B-6CD6ED45ACE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FA9FB94-6CAC-4E42-B9EA-EEE5F61324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7FA9252-3C83-488A-8F94-2DE8D052FC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BF5F048-EDDF-4ECC-8339-2EDB34AD8C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6A0740-773F-4E7A-9B6B-03BAB5B026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890D97-8BD5-46DF-96A8-768F68FAB5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540C4B-80C6-42FA-AAB7-D1AC29737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0146838-3115-4382-8B5A-D683F20B287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DBD8DDA-6FF0-4757-820C-91CF109B3EC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8BAE00A-9613-4655-82B1-683BCCFF1E9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5026000-315D-4612-A3E2-1F95C7F43F4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EDF2536-5DC4-42AE-B2DA-F1C9137D112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FA92450-D317-46B3-A8F3-8DEC2872753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82012A3-B54C-4CA5-A51A-5D04356C766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07FE637-57D6-492C-8BCE-71C62F78C65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F405698-32FE-4924-A41A-C5E9CD85612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A69A8B-4102-46B3-B977-631266B207E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67330C-ED90-4445-99F8-EC1DFFEFC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93F2B9-8B18-4C30-929A-E52C8646A08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D4FAA0-0CAE-4B2E-AA1F-4FFACD4A653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BCDFBF3-8433-4984-BE92-0E9ABDE2698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2524D02-734D-4957-8ABA-95A7347A8C7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5CA42B5-BCC7-468C-B7D4-AD567F1E9CD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EF2CEC8-4BD6-44CA-9B4E-45666360690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C119ED5-D9B0-451E-925B-1EF6D84EC7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38C23F6-853D-4674-89CE-125C4F52B70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4E61D58-90E9-4E7D-805D-D7E00423E1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D3F0E13-8FF1-457D-8510-69DDF8A70E6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DE37C7-7429-49D6-9BA8-6EE536B2B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8FC6E24-9936-426C-A533-7517A98994C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254EE4-5BB6-40F5-B5B8-992697EE69B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D4319C-0E91-4182-8F68-69E82FA617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2CDA5C6-1AE8-42C5-BE9F-60DB04BB8C0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AF9096D-B209-4910-8442-344339E044D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9CA98F6-5737-4305-9DA8-A7CF0A58119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67AEEB3-2185-453B-BC24-40BB6F086B9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2712E81-EADF-4A3E-85E4-A9693189745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59A26FF-0ED1-4277-8176-A05C19E6730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C642126-12A8-4C87-B2E7-0A7C7257D0C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33F7-3193-4C4E-9457-5BE5A7565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6B01-5188-4F1D-BD9B-1CE059A60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6A3E-9A99-491A-B720-C6CEA39FCF8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5626-BAAC-4F5E-B241-421522284DA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9FFB-F331-4BA3-83E7-8345FA25B89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1113-5594-490B-9FE5-492719DDDA5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7180-EA0B-4661-91A7-865A6DCAC62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08A8-41DD-43F5-B0D3-30C6982F8B0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9A42-39B4-4CAF-9DCC-B1A1881D658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July 30, 2015 </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000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4, 2015</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1E83-8798-485B-8ED1-C721518D347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914400" y="685800"/>
            <a:ext cx="8229600" cy="556272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GRR130</a:t>
            </a:r>
            <a:r>
              <a:rPr b="0" lang="en-US" sz="2400" spc="-1" strike="noStrike">
                <a:solidFill>
                  <a:srgbClr val="000000"/>
                </a:solidFill>
                <a:latin typeface="Gill Sans MT"/>
              </a:rPr>
              <a:t>, Alignment of Section 7, Market Processes, with TDSP Terms &amp; Conditions Tariff Effective 01/15/2015, and Adds New Appendix D3, TDSP’s Discretionary Services Timelines Matrix to Section 9, Appendices (Vote)</a:t>
            </a:r>
            <a:endParaRPr b="0" lang="en-US" sz="24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Motion to Approve RMGRR130 with Just Energy’s July 28, 2015 comments was unanimously approved by TAC</a:t>
            </a:r>
            <a:endParaRPr b="0" lang="en-US" sz="2000" spc="-1" strike="noStrike">
              <a:solidFill>
                <a:srgbClr val="000000"/>
              </a:solidFill>
              <a:latin typeface="Gill Sans MT"/>
            </a:endParaRPr>
          </a:p>
          <a:p>
            <a:pPr lvl="3" marL="1074960" indent="-1695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8023/130RMGRR_13_Just_Energy_Comments_072815.doc</a:t>
            </a:r>
            <a:endParaRPr b="0" lang="en-US" sz="20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changes were implemented and effective on Monday,  August 3, 2015.  </a:t>
            </a:r>
            <a:endParaRPr b="0" lang="en-US" sz="2400" spc="-1" strike="noStrike">
              <a:solidFill>
                <a:srgbClr val="000000"/>
              </a:solidFill>
              <a:latin typeface="Gill Sans MT"/>
            </a:endParaRPr>
          </a:p>
          <a:p>
            <a:pPr lvl="3" marL="1074960" indent="-169560">
              <a:spcBef>
                <a:spcPts val="1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67960" indent="-2239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867960" indent="-22392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6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6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01C7-FEDA-461E-B294-DA82C13C92A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9" name="Title 1"/>
          <p:cNvSpPr/>
          <p:nvPr/>
        </p:nvSpPr>
        <p:spPr>
          <a:xfrm>
            <a:off x="1130400" y="-22860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90720" y="-1526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600" spc="-1" strike="noStrike">
                <a:solidFill>
                  <a:srgbClr val="572314"/>
                </a:solidFill>
                <a:latin typeface="Gill Sans MT"/>
              </a:rPr>
              <a:t>Ancillary Services Re-design Update </a:t>
            </a:r>
            <a:endParaRPr b="0" lang="en-US" sz="3600" spc="-1" strike="noStrike">
              <a:solidFill>
                <a:srgbClr val="572314"/>
              </a:solidFill>
              <a:latin typeface="Gill Sans MT"/>
            </a:endParaRPr>
          </a:p>
        </p:txBody>
      </p:sp>
      <p:sp>
        <p:nvSpPr>
          <p:cNvPr id="471" name=""/>
          <p:cNvSpPr txBox="1"/>
          <p:nvPr/>
        </p:nvSpPr>
        <p:spPr>
          <a:xfrm>
            <a:off x="990720" y="761760"/>
            <a:ext cx="8153280" cy="57150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AS (NPRR 667)</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rattle provided information about their assumptions for the cost benefit analysis.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AC Leadership suggested as more information is made available to TAC concerning the CBA will require a follow-up workshop or meeting to give Market Participants an opportunity for Q&amp;A.   </a:t>
            </a:r>
            <a:endParaRPr b="0" lang="en-US" sz="28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ttp://www.ercot.com/content/wcm/key_documents_lists/72257/11._Ancillary_Service_Redesign_Update.zip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7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7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0651-6C8E-42A2-BD7B-06264AFF95A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90720" y="-1526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600" spc="-1" strike="noStrike">
                <a:solidFill>
                  <a:srgbClr val="572314"/>
                </a:solidFill>
                <a:latin typeface="Gill Sans MT"/>
              </a:rPr>
              <a:t>DREAM Taskforce Update </a:t>
            </a:r>
            <a:endParaRPr b="0" lang="en-US" sz="3600" spc="-1" strike="noStrike">
              <a:solidFill>
                <a:srgbClr val="572314"/>
              </a:solidFill>
              <a:latin typeface="Gill Sans MT"/>
            </a:endParaRPr>
          </a:p>
        </p:txBody>
      </p:sp>
      <p:sp>
        <p:nvSpPr>
          <p:cNvPr id="476" name=""/>
          <p:cNvSpPr txBox="1"/>
          <p:nvPr/>
        </p:nvSpPr>
        <p:spPr>
          <a:xfrm>
            <a:off x="990720" y="761760"/>
            <a:ext cx="8153280" cy="57150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stributed Resource Energy and Ancillaries Market Taskforce (DREAM) </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eam Taskforce Leadership (Vote) </a:t>
            </a:r>
            <a:endParaRPr b="0" lang="en-US" sz="24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Greg Thurnher (Shell</a:t>
            </a:r>
            <a:r>
              <a:rPr b="0" lang="en-US" sz="2000" spc="-1" strike="noStrike">
                <a:solidFill>
                  <a:srgbClr val="000000"/>
                </a:solidFill>
                <a:latin typeface="Gill Sans MT"/>
              </a:rPr>
              <a:t>) – Chair </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Jim Lee (AEP) </a:t>
            </a:r>
            <a:r>
              <a:rPr b="0" lang="en-US" sz="2000" spc="-1" strike="noStrike">
                <a:solidFill>
                  <a:srgbClr val="000000"/>
                </a:solidFill>
                <a:latin typeface="Gill Sans MT"/>
              </a:rPr>
              <a:t>– Co-Vice Chair </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Lance Cunningham </a:t>
            </a:r>
            <a:r>
              <a:rPr b="0" lang="en-US" sz="2000" spc="-1" strike="noStrike">
                <a:solidFill>
                  <a:srgbClr val="000000"/>
                </a:solidFill>
                <a:latin typeface="Gill Sans MT"/>
              </a:rPr>
              <a:t>(Denton Municipal) – Co-Vice Chair </a:t>
            </a: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Gill Sans MT"/>
              </a:rPr>
              <a:t>TAC Unanimously Approved DREAM TF Leadership</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EAM Scope (Vote)</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TAC unanimously approved the Scope of Work as revised by TAC.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ERCOT will make all the corrections to change DER TF to DREAM Taskforce offline and create DREAM Taskforce listserv.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EAM Taskforce Update:  </a:t>
            </a:r>
            <a:endParaRPr b="0" lang="en-US" sz="24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www.ercot.com/content/wcm/key_documents_lists/72257/12._DREAM_TF.zip </a:t>
            </a: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7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7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09EF-5B07-4237-9BF3-FB2BB348B7D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Operations, Planning and IT Report </a:t>
            </a:r>
            <a:endParaRPr b="0" lang="en-US" sz="3600" spc="-1" strike="noStrike">
              <a:solidFill>
                <a:srgbClr val="572314"/>
              </a:solidFill>
              <a:latin typeface="Gill Sans MT"/>
            </a:endParaRPr>
          </a:p>
        </p:txBody>
      </p:sp>
      <p:sp>
        <p:nvSpPr>
          <p:cNvPr id="481" name=""/>
          <p:cNvSpPr txBox="1"/>
          <p:nvPr/>
        </p:nvSpPr>
        <p:spPr>
          <a:xfrm>
            <a:off x="1066320" y="456840"/>
            <a:ext cx="8077320" cy="57150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MP reported a EMS system problem on June 22, 2015, ERCOT immediately started their investigation and identified an EMS Coding Issue.  </a:t>
            </a:r>
            <a:endParaRPr b="0" lang="en-US" sz="28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shift factors being sent to SCED were different than what ERCOT anticipated.   This resulted in a different dispatch and pricing.   This coding has been in ERCOT’s EMS systems since December 2010</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AC Leadership voiced concerns that there were no market notices provided by ERCOT reporting this EMS Coding issue.  </a:t>
            </a:r>
            <a:endParaRPr b="0" lang="en-US" sz="24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rad Jones stated ERCOT had not planned a market notice, but will consider it going forward. ERCOT planned to provide updates  to TAC next month and will discuss technical questions at  WMS.  </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 2015</a:t>
            </a:r>
            <a:endParaRPr b="0" lang="en-US" sz="1200" spc="-1" strike="noStrike">
              <a:solidFill>
                <a:srgbClr val="000000"/>
              </a:solidFill>
              <a:latin typeface="Arial"/>
            </a:endParaRPr>
          </a:p>
        </p:txBody>
      </p:sp>
      <p:sp>
        <p:nvSpPr>
          <p:cNvPr id="48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8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A0DB-0C2E-47AC-9017-C7BD0E10C5B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Other Business</a:t>
            </a:r>
            <a:endParaRPr b="0" lang="en-US" sz="3600" spc="-1" strike="noStrike">
              <a:solidFill>
                <a:srgbClr val="572314"/>
              </a:solidFill>
              <a:latin typeface="Gill Sans MT"/>
            </a:endParaRPr>
          </a:p>
        </p:txBody>
      </p:sp>
      <p:sp>
        <p:nvSpPr>
          <p:cNvPr id="486" name=""/>
          <p:cNvSpPr txBox="1"/>
          <p:nvPr/>
        </p:nvSpPr>
        <p:spPr>
          <a:xfrm>
            <a:off x="1066320" y="762120"/>
            <a:ext cx="8077320" cy="541008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Working Group/Task Force Leadership Election Discussion</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re are no rules around how to conduct elections for Taskforce level leadership voting.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 Leadership stated that TAC Procedures would be the appropriate place to formalize the process.  TAC should have draft redlined process ready for review for the August TAC meeting.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AC Subcommittee Structural and Procedural Review and TAC Goals Review </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ugust 27, 2015 TAC meeting will include Subcommittee Structural and Procedural and Goals Review following TAC meeting.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vision Request Alignment with 2015 TAC Goals: </a:t>
            </a:r>
            <a:endParaRPr b="0" lang="en-US" sz="20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ttp://www.ercot.com/content/wcm/key_documents_lists/72257/14._Revision_Request_Alignment_with_2015_TAC_Goals.xls </a:t>
            </a:r>
            <a:endParaRPr b="0" lang="en-US" sz="1800" spc="-1" strike="noStrike">
              <a:solidFill>
                <a:srgbClr val="000000"/>
              </a:solidFill>
              <a:latin typeface="Gill Sans MT"/>
            </a:endParaRPr>
          </a:p>
        </p:txBody>
      </p:sp>
      <p:sp>
        <p:nvSpPr>
          <p:cNvPr id="48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8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8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352A-1B10-4521-AAA0-CBD0E996B35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Other Business</a:t>
            </a:r>
            <a:endParaRPr b="0" lang="en-US" sz="3600" spc="-1" strike="noStrike">
              <a:solidFill>
                <a:srgbClr val="572314"/>
              </a:solidFill>
              <a:latin typeface="Gill Sans MT"/>
            </a:endParaRPr>
          </a:p>
        </p:txBody>
      </p:sp>
      <p:sp>
        <p:nvSpPr>
          <p:cNvPr id="491" name=""/>
          <p:cNvSpPr txBox="1"/>
          <p:nvPr/>
        </p:nvSpPr>
        <p:spPr>
          <a:xfrm>
            <a:off x="1066320" y="762120"/>
            <a:ext cx="8077320" cy="5410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 is considering the addition of a </a:t>
            </a:r>
            <a:r>
              <a:rPr b="1" lang="en-US" sz="2400" spc="-1" strike="noStrike">
                <a:solidFill>
                  <a:srgbClr val="c00000"/>
                </a:solidFill>
                <a:latin typeface="Gill Sans MT"/>
              </a:rPr>
              <a:t>new</a:t>
            </a:r>
            <a:r>
              <a:rPr b="1" lang="en-US" sz="2400" spc="-1" strike="noStrike">
                <a:solidFill>
                  <a:srgbClr val="000000"/>
                </a:solidFill>
                <a:latin typeface="Gill Sans MT"/>
              </a:rPr>
              <a:t> “Valley Weather Zone”: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will need to provide more information to the market on why any new Weather Zone is necessary and provide more market wide visibility into their thought processe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wide communications on this type ERCOT change should include  Retail, Commercial and Wholesale Subcommittees since all would be impacted.  These subcommittees will need to be involved into the approval process and, if approved, revision request(s) implementation scheduling.  </a:t>
            </a:r>
            <a:endParaRPr b="0" lang="en-US" sz="2000" spc="-1" strike="noStrike">
              <a:solidFill>
                <a:srgbClr val="000000"/>
              </a:solidFill>
              <a:latin typeface="Gill Sans MT"/>
            </a:endParaRPr>
          </a:p>
        </p:txBody>
      </p:sp>
      <p:sp>
        <p:nvSpPr>
          <p:cNvPr id="49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9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9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DF82-7FC2-4430-A788-177337B5366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96"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B768-D4A0-46C9-8FC5-C4B2B634C52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9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9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99" name="Content Placeholder 4" descr=""/>
          <p:cNvPicPr/>
          <p:nvPr/>
        </p:nvPicPr>
        <p:blipFill>
          <a:blip r:embed="rId1"/>
          <a:stretch/>
        </p:blipFill>
        <p:spPr>
          <a:xfrm>
            <a:off x="1676520" y="838080"/>
            <a:ext cx="6705360" cy="50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 Board Update</a:t>
            </a:r>
            <a:endParaRPr b="0" lang="en-US" sz="4300" spc="-1" strike="noStrike">
              <a:solidFill>
                <a:srgbClr val="572314"/>
              </a:solidFill>
              <a:latin typeface="Gill Sans MT"/>
            </a:endParaRPr>
          </a:p>
        </p:txBody>
      </p:sp>
      <p:sp>
        <p:nvSpPr>
          <p:cNvPr id="424" name=""/>
          <p:cNvSpPr txBox="1"/>
          <p:nvPr/>
        </p:nvSpPr>
        <p:spPr>
          <a:xfrm>
            <a:off x="1218960" y="990360"/>
            <a:ext cx="792468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June 9, 2015 Board Meeting:</a:t>
            </a: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re was no Board meeting this month, but during the June Board meeting the Board approved all revision requests submitted by TAC. </a:t>
            </a:r>
            <a:endParaRPr b="0" lang="en-US" sz="28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AC leadership provided an update to Board concerning status of NPRR638 :  </a:t>
            </a:r>
            <a:endParaRPr b="0" lang="en-US" sz="28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itional analysis and review in progress by the Wholesale Market Subcommittee (WMS).  More recent status updates will be provided to the Board during their August 11</a:t>
            </a:r>
            <a:r>
              <a:rPr b="0" lang="en-US" sz="2400" spc="-1" strike="noStrike" baseline="30000">
                <a:solidFill>
                  <a:srgbClr val="000000"/>
                </a:solidFill>
                <a:latin typeface="Gill Sans MT"/>
              </a:rPr>
              <a:t>th</a:t>
            </a:r>
            <a:r>
              <a:rPr b="0" lang="en-US" sz="2400" spc="-1" strike="noStrike">
                <a:solidFill>
                  <a:srgbClr val="000000"/>
                </a:solidFill>
                <a:latin typeface="Gill Sans MT"/>
              </a:rPr>
              <a:t> meeting. </a:t>
            </a:r>
            <a:endParaRPr b="0" lang="en-US" sz="24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2F27-C2B7-41A2-A4C5-9A5F94A16C8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a:t>
            </a:r>
            <a:endParaRPr b="0" lang="en-US" sz="4300" spc="-1" strike="noStrike">
              <a:solidFill>
                <a:srgbClr val="572314"/>
              </a:solidFill>
              <a:latin typeface="Gill Sans MT"/>
            </a:endParaRPr>
          </a:p>
        </p:txBody>
      </p:sp>
      <p:sp>
        <p:nvSpPr>
          <p:cNvPr id="429" name=""/>
          <p:cNvSpPr txBox="1"/>
          <p:nvPr/>
        </p:nvSpPr>
        <p:spPr>
          <a:xfrm>
            <a:off x="914400" y="685800"/>
            <a:ext cx="8305920" cy="556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84</a:t>
            </a:r>
            <a:r>
              <a:rPr b="0" lang="en-US" sz="2200" spc="-1" strike="noStrike">
                <a:solidFill>
                  <a:srgbClr val="000000"/>
                </a:solidFill>
                <a:latin typeface="Gill Sans MT"/>
              </a:rPr>
              <a:t>, Remove Annual RUC Impact Report Requirement:  </a:t>
            </a:r>
            <a:r>
              <a:rPr b="0" lang="en-US" sz="2200" spc="-1" strike="noStrike">
                <a:solidFill>
                  <a:srgbClr val="c00000"/>
                </a:solidFill>
                <a:latin typeface="Gill Sans MT"/>
              </a:rPr>
              <a:t>TAC Unanimously Approved  </a:t>
            </a:r>
            <a:endParaRPr b="0" lang="en-US" sz="2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92</a:t>
            </a:r>
            <a:r>
              <a:rPr b="0" lang="en-US" sz="2200" spc="-1" strike="noStrike">
                <a:solidFill>
                  <a:srgbClr val="000000"/>
                </a:solidFill>
                <a:latin typeface="Gill Sans MT"/>
              </a:rPr>
              <a:t>, Removal of MIS Posting Requirement of DAM Credit Parameters:  </a:t>
            </a:r>
            <a:r>
              <a:rPr b="0" lang="en-US" sz="2200" spc="-1" strike="noStrike">
                <a:solidFill>
                  <a:srgbClr val="c00000"/>
                </a:solidFill>
                <a:latin typeface="Gill Sans MT"/>
              </a:rPr>
              <a:t>TAC</a:t>
            </a:r>
            <a:r>
              <a:rPr b="0" lang="en-US" sz="2200" spc="-1" strike="noStrike">
                <a:solidFill>
                  <a:srgbClr val="000000"/>
                </a:solidFill>
                <a:latin typeface="Gill Sans MT"/>
              </a:rPr>
              <a:t> </a:t>
            </a:r>
            <a:r>
              <a:rPr b="0" lang="en-US" sz="2200" spc="-1" strike="noStrike">
                <a:solidFill>
                  <a:srgbClr val="c00000"/>
                </a:solidFill>
                <a:latin typeface="Gill Sans MT"/>
              </a:rPr>
              <a:t>Unanimously Approved </a:t>
            </a:r>
            <a:endParaRPr b="0" lang="en-US" sz="2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93</a:t>
            </a:r>
            <a:r>
              <a:rPr b="0" lang="en-US" sz="2200" spc="-1" strike="noStrike">
                <a:solidFill>
                  <a:srgbClr val="000000"/>
                </a:solidFill>
                <a:latin typeface="Gill Sans MT"/>
              </a:rPr>
              <a:t>, Incorporation of “Threshold Values for Competitive Constraint Test” into the Protocols:  </a:t>
            </a:r>
            <a:r>
              <a:rPr b="0" lang="en-US" sz="2200" spc="-1" strike="noStrike">
                <a:solidFill>
                  <a:srgbClr val="c00000"/>
                </a:solidFill>
                <a:latin typeface="Gill Sans MT"/>
              </a:rPr>
              <a:t>TAC Unanimously Approved </a:t>
            </a:r>
            <a:endParaRPr b="0" lang="en-US" sz="2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94</a:t>
            </a:r>
            <a:r>
              <a:rPr b="0" lang="en-US" sz="2200" spc="-1" strike="noStrike">
                <a:solidFill>
                  <a:srgbClr val="000000"/>
                </a:solidFill>
                <a:latin typeface="Gill Sans MT"/>
              </a:rPr>
              <a:t>, Non-Spin Schedule Requirements:  </a:t>
            </a:r>
            <a:r>
              <a:rPr b="0" lang="en-US" sz="2200" spc="-1" strike="noStrike">
                <a:solidFill>
                  <a:srgbClr val="c00000"/>
                </a:solidFill>
                <a:latin typeface="Gill Sans MT"/>
              </a:rPr>
              <a:t>TAC Unanimously Approved  </a:t>
            </a:r>
            <a:endParaRPr b="0" lang="en-US" sz="2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95</a:t>
            </a:r>
            <a:r>
              <a:rPr b="0" lang="en-US" sz="2200" spc="-1" strike="noStrike">
                <a:solidFill>
                  <a:srgbClr val="000000"/>
                </a:solidFill>
                <a:latin typeface="Gill Sans MT"/>
              </a:rPr>
              <a:t>, Posting and Notice Requirements for Notifications of Suspension of Operations and Notifications of Change of Generation Resource Designation: </a:t>
            </a:r>
            <a:r>
              <a:rPr b="0" lang="en-US" sz="2200" spc="-1" strike="noStrike">
                <a:solidFill>
                  <a:srgbClr val="c00000"/>
                </a:solidFill>
                <a:latin typeface="Gill Sans MT"/>
              </a:rPr>
              <a:t>TAC Unanimously Approved</a:t>
            </a:r>
            <a:endParaRPr b="0" lang="en-US" sz="2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7BBF-1DEC-48E6-B428-881A58630C9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a:t>
            </a:r>
            <a:endParaRPr b="0" lang="en-US" sz="4300" spc="-1" strike="noStrike">
              <a:solidFill>
                <a:srgbClr val="572314"/>
              </a:solidFill>
              <a:latin typeface="Gill Sans MT"/>
            </a:endParaRPr>
          </a:p>
        </p:txBody>
      </p:sp>
      <p:sp>
        <p:nvSpPr>
          <p:cNvPr id="434" name=""/>
          <p:cNvSpPr txBox="1"/>
          <p:nvPr/>
        </p:nvSpPr>
        <p:spPr>
          <a:xfrm>
            <a:off x="914400" y="685800"/>
            <a:ext cx="830592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99</a:t>
            </a:r>
            <a:r>
              <a:rPr b="0" lang="en-US" sz="2200" spc="-1" strike="noStrike">
                <a:solidFill>
                  <a:srgbClr val="000000"/>
                </a:solidFill>
                <a:latin typeface="Gill Sans MT"/>
              </a:rPr>
              <a:t>, Energy Offer Curve Caps for Make-Whole Calculations for Resource Type Other: </a:t>
            </a:r>
            <a:r>
              <a:rPr b="0" lang="en-US" sz="2200" spc="-1" strike="noStrike">
                <a:solidFill>
                  <a:srgbClr val="c00000"/>
                </a:solidFill>
                <a:latin typeface="Gill Sans MT"/>
              </a:rPr>
              <a:t>TAC Unanimously Approved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00</a:t>
            </a:r>
            <a:r>
              <a:rPr b="0" lang="en-US" sz="2200" spc="-1" strike="noStrike">
                <a:solidFill>
                  <a:srgbClr val="000000"/>
                </a:solidFill>
                <a:latin typeface="Gill Sans MT"/>
              </a:rPr>
              <a:t>, Utilizing Actual Fuel Costs in Startup Offer Caps: </a:t>
            </a:r>
            <a:r>
              <a:rPr b="0" lang="en-US" sz="2200" spc="-1" strike="noStrike">
                <a:solidFill>
                  <a:srgbClr val="c00000"/>
                </a:solidFill>
                <a:latin typeface="Gill Sans MT"/>
              </a:rPr>
              <a:t>TAC Unanimously Approved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01</a:t>
            </a:r>
            <a:r>
              <a:rPr b="0" lang="en-US" sz="2200" spc="-1" strike="noStrike">
                <a:solidFill>
                  <a:srgbClr val="000000"/>
                </a:solidFill>
                <a:latin typeface="Gill Sans MT"/>
              </a:rPr>
              <a:t>, As-Built Clarification of NPRR589, Ancillary Service Offers in the Supplemental Ancillary Services Market: </a:t>
            </a:r>
            <a:r>
              <a:rPr b="0" lang="en-US" sz="2200" spc="-1" strike="noStrike">
                <a:solidFill>
                  <a:srgbClr val="c00000"/>
                </a:solidFill>
                <a:latin typeface="Gill Sans MT"/>
              </a:rPr>
              <a:t>TAC Unanimously Approved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03</a:t>
            </a:r>
            <a:r>
              <a:rPr b="0" lang="en-US" sz="2200" spc="-1" strike="noStrike">
                <a:solidFill>
                  <a:srgbClr val="000000"/>
                </a:solidFill>
                <a:latin typeface="Gill Sans MT"/>
              </a:rPr>
              <a:t>, Clarification of Disclosure Requirements for GINR Study Information: </a:t>
            </a:r>
            <a:r>
              <a:rPr b="0" lang="en-US" sz="2200" spc="-1" strike="noStrike">
                <a:solidFill>
                  <a:srgbClr val="c00000"/>
                </a:solidFill>
                <a:latin typeface="Gill Sans MT"/>
              </a:rPr>
              <a:t>TAC Unanimously Approved</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06</a:t>
            </a:r>
            <a:r>
              <a:rPr b="0" lang="en-US" sz="2200" spc="-1" strike="noStrike">
                <a:solidFill>
                  <a:srgbClr val="000000"/>
                </a:solidFill>
                <a:latin typeface="Gill Sans MT"/>
              </a:rPr>
              <a:t>, Restore the ability to use Physical Responsive Reserve Capability as an Indicator of Available Frequency-Responsive Capacity: </a:t>
            </a:r>
            <a:r>
              <a:rPr b="0" lang="en-US" sz="2200" spc="-1" strike="noStrike">
                <a:solidFill>
                  <a:srgbClr val="c00000"/>
                </a:solidFill>
                <a:latin typeface="Gill Sans MT"/>
              </a:rPr>
              <a:t>TAC Unanimously Approved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5092-498A-4065-B00A-261E138E33F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a:t>
            </a:r>
            <a:endParaRPr b="0" lang="en-US" sz="4300" spc="-1" strike="noStrike">
              <a:solidFill>
                <a:srgbClr val="572314"/>
              </a:solidFill>
              <a:latin typeface="Gill Sans MT"/>
            </a:endParaRPr>
          </a:p>
        </p:txBody>
      </p:sp>
      <p:sp>
        <p:nvSpPr>
          <p:cNvPr id="439" name=""/>
          <p:cNvSpPr txBox="1"/>
          <p:nvPr/>
        </p:nvSpPr>
        <p:spPr>
          <a:xfrm>
            <a:off x="914400" y="685800"/>
            <a:ext cx="8305920" cy="556272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10</a:t>
            </a:r>
            <a:r>
              <a:rPr b="0" lang="en-US" sz="2400" spc="-1" strike="noStrike">
                <a:solidFill>
                  <a:srgbClr val="000000"/>
                </a:solidFill>
                <a:latin typeface="Gill Sans MT"/>
              </a:rPr>
              <a:t>, Removal of ORDC Phase 2 Language and Modification to HASL Calculation: </a:t>
            </a:r>
            <a:r>
              <a:rPr b="0" lang="en-US" sz="2400" spc="-1" strike="noStrike">
                <a:solidFill>
                  <a:srgbClr val="c00000"/>
                </a:solidFill>
                <a:latin typeface="Gill Sans MT"/>
              </a:rPr>
              <a:t>TAC Unanimously Approved </a:t>
            </a: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ther Binding Document </a:t>
            </a:r>
            <a:r>
              <a:rPr b="0" lang="en-US" sz="2000" spc="-1" strike="noStrike">
                <a:solidFill>
                  <a:srgbClr val="000000"/>
                </a:solidFill>
                <a:latin typeface="Gill Sans MT"/>
              </a:rPr>
              <a:t>– Methodology for Implementing Operating Reserve Demand Curve (ORDC) to Calculate Real-Time Reserve Price Adder </a:t>
            </a:r>
            <a:endParaRPr b="0" lang="en-US" sz="2000" spc="-1" strike="noStrike">
              <a:solidFill>
                <a:srgbClr val="000000"/>
              </a:solidFill>
              <a:latin typeface="Gill Sans MT"/>
            </a:endParaRPr>
          </a:p>
          <a:p>
            <a:pPr lvl="3" marL="1031040" indent="-1627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NOTE:  </a:t>
            </a:r>
            <a:r>
              <a:rPr b="0" lang="en-US" sz="1800" spc="-1" strike="noStrike">
                <a:solidFill>
                  <a:srgbClr val="c00000"/>
                </a:solidFill>
                <a:latin typeface="Gill Sans MT"/>
              </a:rPr>
              <a:t>When TAC Approved NPRR710 also included this Unanimous Approval of this Other Binding Document </a:t>
            </a:r>
            <a:endParaRPr b="0" lang="en-US" sz="1800" spc="-1" strike="noStrike">
              <a:solidFill>
                <a:srgbClr val="000000"/>
              </a:solidFill>
              <a:latin typeface="Gill Sans MT"/>
            </a:endParaRPr>
          </a:p>
          <a:p>
            <a:pPr lvl="3" marL="1031040" indent="-1627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ject Review Discussion (Possible Vote):</a:t>
            </a:r>
            <a:endParaRPr b="0" lang="en-US" sz="2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 is the proper process for addressing Aging Projects?</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purred a lot of discussion, comments and suggestions.                    </a:t>
            </a:r>
            <a:r>
              <a:rPr b="1" lang="en-US" sz="2000" spc="-1" strike="noStrike">
                <a:solidFill>
                  <a:srgbClr val="000000"/>
                </a:solidFill>
                <a:latin typeface="Gill Sans MT"/>
              </a:rPr>
              <a:t>Action Item</a:t>
            </a:r>
            <a:r>
              <a:rPr b="0" lang="en-US" sz="2000" spc="-1" strike="noStrike">
                <a:solidFill>
                  <a:srgbClr val="000000"/>
                </a:solidFill>
                <a:latin typeface="Gill Sans MT"/>
              </a:rPr>
              <a:t>: PRS Leadership will develop formal process for TAC’s review and possible approval in the next few months.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0D6F-A695-4EBB-B26C-F90BE19B7B2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Tabled and/or Withdrawn Revisions</a:t>
            </a:r>
            <a:endParaRPr b="0" lang="en-US" sz="3200" spc="-1" strike="noStrike">
              <a:solidFill>
                <a:srgbClr val="572314"/>
              </a:solidFill>
              <a:latin typeface="Gill Sans MT"/>
            </a:endParaRPr>
          </a:p>
        </p:txBody>
      </p:sp>
      <p:sp>
        <p:nvSpPr>
          <p:cNvPr id="444" name=""/>
          <p:cNvSpPr txBox="1"/>
          <p:nvPr/>
        </p:nvSpPr>
        <p:spPr>
          <a:xfrm>
            <a:off x="838080" y="685800"/>
            <a:ext cx="830592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quest Previously Tabled at  TAC (Possible Vote):</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GRR129</a:t>
            </a:r>
            <a:r>
              <a:rPr b="0" lang="en-US" sz="2800" spc="-1" strike="noStrike">
                <a:solidFill>
                  <a:srgbClr val="000000"/>
                </a:solidFill>
                <a:latin typeface="Gill Sans MT"/>
              </a:rPr>
              <a:t>, Revision to Customer Rescission Completion Timeline </a:t>
            </a:r>
            <a:endParaRPr b="0" lang="en-US" sz="2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Gill Sans MT"/>
              </a:rPr>
              <a:t>RMGRR129 will continue to be “Tabled” at TAC since RMS didn’t meet in July to address and approve MarkeTrak Taskforce’s recommendation for a delayed implementation date as requested by MPs during the May 28, 2015 TAC meeting</a:t>
            </a:r>
            <a:r>
              <a:rPr b="0" lang="en-US" sz="2000" spc="-1" strike="noStrike">
                <a:solidFill>
                  <a:srgbClr val="c00000"/>
                </a:solidFill>
                <a:latin typeface="Gill Sans MT"/>
              </a:rPr>
              <a:t>.  </a:t>
            </a: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7/30/15</a:t>
            </a:r>
            <a:r>
              <a:rPr b="0" lang="en-US" sz="2400" spc="-1" strike="noStrike">
                <a:solidFill>
                  <a:srgbClr val="000000"/>
                </a:solidFill>
                <a:latin typeface="Gill Sans MT"/>
              </a:rPr>
              <a:t>:  TAC Unanimously Approved to continue to Table RMGRR129 awaiting RMS’ recommendation for an implementation timeline.  The RMS recommendation  is expected for the August 27</a:t>
            </a:r>
            <a:r>
              <a:rPr b="0" lang="en-US" sz="2400" spc="-1" strike="noStrike" baseline="30000">
                <a:solidFill>
                  <a:srgbClr val="000000"/>
                </a:solidFill>
                <a:latin typeface="Gill Sans MT"/>
              </a:rPr>
              <a:t>th</a:t>
            </a:r>
            <a:r>
              <a:rPr b="0" lang="en-US" sz="2400" spc="-1" strike="noStrike">
                <a:solidFill>
                  <a:srgbClr val="000000"/>
                </a:solidFill>
                <a:latin typeface="Gill Sans MT"/>
              </a:rPr>
              <a:t> TAC meeting. </a:t>
            </a: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888A-B402-4A66-BEDD-A21A6819CB5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914400" y="685800"/>
            <a:ext cx="8153280" cy="55627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OGRR144</a:t>
            </a:r>
            <a:r>
              <a:rPr b="0" lang="en-US" sz="2200" spc="-1" strike="noStrike">
                <a:solidFill>
                  <a:srgbClr val="000000"/>
                </a:solidFill>
                <a:latin typeface="Gill Sans MT"/>
              </a:rPr>
              <a:t>, Incorporation of “Manual Deployment and Recall of Responsive Reserve Service during Scarcity Conditions” into the Nodal Operating Guides (Vote)</a:t>
            </a:r>
            <a:endParaRPr b="0" lang="en-US" sz="22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TAC Unanimously Approved with ERCOT’s July 23, 2015 comment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PGRR043</a:t>
            </a:r>
            <a:r>
              <a:rPr b="0" lang="en-US" sz="2200" spc="-1" strike="noStrike">
                <a:solidFill>
                  <a:srgbClr val="000000"/>
                </a:solidFill>
                <a:latin typeface="Gill Sans MT"/>
              </a:rPr>
              <a:t>, FIS Scoping Amendment (Vote)</a:t>
            </a:r>
            <a:endParaRPr b="0" lang="en-US" sz="22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TAC Unanimously Approved as submitted by ROS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PGRR044</a:t>
            </a:r>
            <a:r>
              <a:rPr b="0" lang="en-US" sz="2200" spc="-1" strike="noStrike">
                <a:solidFill>
                  <a:srgbClr val="000000"/>
                </a:solidFill>
                <a:latin typeface="Gill Sans MT"/>
              </a:rPr>
              <a:t>, MIS Classification of GINR Study Information (Vote)</a:t>
            </a:r>
            <a:endParaRPr b="0" lang="en-US" sz="22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TAC Unanimously Approved as submitted by ROS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Voltage Reduction Task Force (VRTF) Update:</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0" lang="en-US" sz="2000" spc="-1" strike="noStrike">
                <a:solidFill>
                  <a:srgbClr val="000000"/>
                </a:solidFill>
                <a:latin typeface="Gill Sans MT"/>
              </a:rPr>
              <a:t>Scope of VRTF will be reviewed by ROS during their next meeting</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0A46-8F14-42AE-9A19-378FEC8B4EC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2"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OS Initiatives and Votes: </a:t>
            </a:r>
            <a:endParaRPr b="0" lang="en-US" sz="4300" spc="-1" strike="noStrike">
              <a:solidFill>
                <a:srgbClr val="000000"/>
              </a:solidFill>
              <a:latin typeface="Arial"/>
            </a:endParaRPr>
          </a:p>
        </p:txBody>
      </p:sp>
      <p:graphicFrame>
        <p:nvGraphicFramePr>
          <p:cNvPr id="453" name="Object 1"/>
          <p:cNvGraphicFramePr/>
          <p:nvPr/>
        </p:nvGraphicFramePr>
        <p:xfrm>
          <a:off x="4191120" y="4800600"/>
          <a:ext cx="914400" cy="771480"/>
        </p:xfrm>
        <a:graphic>
          <a:graphicData uri="http://schemas.openxmlformats.org/presentationml/2006/ole">
            <p:oleObj r:id="rId1" spid="">
              <p:embed/>
              <p:pic>
                <p:nvPicPr>
                  <p:cNvPr id="454" name="Object 1" descr=""/>
                  <p:cNvPicPr/>
                  <p:nvPr/>
                </p:nvPicPr>
                <p:blipFill>
                  <a:blip r:embed="rId2"/>
                  <a:stretch/>
                </p:blipFill>
                <p:spPr>
                  <a:xfrm>
                    <a:off x="4191120" y="48006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99072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6.11.4.1</a:t>
            </a:r>
            <a:r>
              <a:rPr b="0" lang="en-US" sz="2400" spc="-1" strike="noStrike">
                <a:solidFill>
                  <a:srgbClr val="000000"/>
                </a:solidFill>
                <a:latin typeface="Gill Sans MT"/>
              </a:rPr>
              <a:t>, Determination of Total Potential Exposure for a Counter-Party – Request to Modify Value of Parameter T5 (Possible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way</a:t>
            </a:r>
            <a:r>
              <a:rPr b="1" lang="en-US" sz="2000" spc="-1" strike="noStrike">
                <a:solidFill>
                  <a:srgbClr val="000000"/>
                </a:solidFill>
                <a:latin typeface="Gill Sans MT"/>
              </a:rPr>
              <a:t> </a:t>
            </a:r>
            <a:r>
              <a:rPr b="0" lang="en-US" sz="2000" spc="-1" strike="noStrike">
                <a:solidFill>
                  <a:srgbClr val="000000"/>
                </a:solidFill>
                <a:latin typeface="Gill Sans MT"/>
              </a:rPr>
              <a:t>NPRR639 was implemented unintentionally increased the MCE for counter-parties that have both generation and load since it treats all counter-parties that have any load the same.   Luminant requested that TAC approve a new value for the T5 Parameter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jority of the responses from TAC membership were against making this type of change on the fly without understanding possible long term ramifications created with this change.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oll Call Voting requested on the Motion to Remand to WMS </a:t>
            </a:r>
            <a:r>
              <a:rPr b="0" lang="en-US" sz="2000" spc="-1" strike="noStrike">
                <a:solidFill>
                  <a:srgbClr val="000000"/>
                </a:solidFill>
                <a:latin typeface="Gill Sans MT"/>
              </a:rPr>
              <a:t>which includes a request for WMS to consider Luminant’s long term solution.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Vote 25 (Yes),  3 (No),  2 (Abstentions)- Motion Carried</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5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FB25-0EF0-486A-A27A-84BC4D05FDB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9" name="Title 1"/>
          <p:cNvSpPr/>
          <p:nvPr/>
        </p:nvSpPr>
        <p:spPr>
          <a:xfrm>
            <a:off x="990720" y="-228600"/>
            <a:ext cx="815328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Determination of Total Potential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914400" y="685800"/>
            <a:ext cx="8153280" cy="556272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a:t>
            </a:r>
            <a:endParaRPr b="0" lang="en-US" sz="28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VCMRR007</a:t>
            </a:r>
            <a:r>
              <a:rPr b="0" lang="en-US" sz="2400" spc="-1" strike="noStrike">
                <a:solidFill>
                  <a:srgbClr val="000000"/>
                </a:solidFill>
                <a:latin typeface="Gill Sans MT"/>
              </a:rPr>
              <a:t>, Alignment with NPRR699, Energy Offer Curve Caps for Make-Whole Calculations for Resource Type Other (Vote)</a:t>
            </a:r>
            <a:endParaRPr b="0" lang="en-US" sz="2400" spc="-1" strike="noStrike">
              <a:solidFill>
                <a:srgbClr val="000000"/>
              </a:solidFill>
              <a:latin typeface="Gill Sans MT"/>
            </a:endParaRPr>
          </a:p>
          <a:p>
            <a:pPr lvl="3" marL="1074960" indent="-1695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Motion to Table VCMRR007 pending Board Approval of NPRR699 was unanimous</a:t>
            </a:r>
            <a:endParaRPr b="0" lang="en-US" sz="20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en-US" sz="2400" spc="-1" strike="noStrike">
                <a:solidFill>
                  <a:srgbClr val="000000"/>
                </a:solidFill>
                <a:latin typeface="Gill Sans MT"/>
              </a:rPr>
              <a:t>VCMRR008</a:t>
            </a:r>
            <a:r>
              <a:rPr b="0" lang="en-US" sz="2400" spc="-1" strike="noStrike">
                <a:solidFill>
                  <a:srgbClr val="000000"/>
                </a:solidFill>
                <a:latin typeface="Gill Sans MT"/>
              </a:rPr>
              <a:t>, Alignment with NPRR700, Utilizing Actual Fuel Cost in Startup Offer Caps (Vote)</a:t>
            </a:r>
            <a:endParaRPr b="0" lang="en-US" sz="2400" spc="-1" strike="noStrike">
              <a:solidFill>
                <a:srgbClr val="000000"/>
              </a:solidFill>
              <a:latin typeface="Gill Sans MT"/>
            </a:endParaRPr>
          </a:p>
          <a:p>
            <a:pPr lvl="3" marL="1074960" indent="-1695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Gill Sans MT"/>
              </a:rPr>
              <a:t>Motion to Table VCMRR008 pending Board Approval of NPRR700 was unanimous</a:t>
            </a: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mmercial Operations Subcommittee</a:t>
            </a:r>
            <a:endParaRPr b="0" lang="en-US" sz="28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Update Only</a:t>
            </a:r>
            <a:endParaRPr b="0" lang="en-US" sz="2400" spc="-1" strike="noStrike">
              <a:solidFill>
                <a:srgbClr val="000000"/>
              </a:solidFill>
              <a:latin typeface="Gill Sans MT"/>
            </a:endParaRPr>
          </a:p>
          <a:p>
            <a:pPr lvl="3" marL="1074960" indent="-1695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72257/10._COPS_UPDATE_TO_TAC_073015.ppt </a:t>
            </a:r>
            <a:endParaRPr b="0" lang="en-US" sz="2000" spc="-1" strike="noStrike">
              <a:solidFill>
                <a:srgbClr val="000000"/>
              </a:solidFill>
              <a:latin typeface="Gill Sans MT"/>
            </a:endParaRPr>
          </a:p>
          <a:p>
            <a:pPr lvl="2" marL="867960" indent="-2239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4, 2015</a:t>
            </a:r>
            <a:endParaRPr b="0" lang="en-US" sz="1200" spc="-1" strike="noStrike">
              <a:solidFill>
                <a:srgbClr val="000000"/>
              </a:solidFill>
              <a:latin typeface="Arial"/>
            </a:endParaRPr>
          </a:p>
        </p:txBody>
      </p:sp>
      <p:sp>
        <p:nvSpPr>
          <p:cNvPr id="4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5ED7-4EB4-4632-A8FF-64F8C795FD3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4" name="Title 1"/>
          <p:cNvSpPr/>
          <p:nvPr/>
        </p:nvSpPr>
        <p:spPr>
          <a:xfrm>
            <a:off x="1130400" y="-228600"/>
            <a:ext cx="8001000" cy="114300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MS/COP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08-03T03:06:31Z</dcterms:modified>
  <cp:revision>791</cp:revision>
  <dc:subject/>
  <dc:title>Instructions</dc:title>
</cp:coreProperties>
</file>