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1E04-5CA4-4077-9217-09704126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54BA-A568-4607-9766-35B63D57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17C9-2A0E-4F67-97F8-3E0879CE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CB6A-075A-44E8-BBB7-32260C6F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4384-4D79-4AE5-AF04-6F7E3903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0548-C674-48AD-94A9-7CC9D99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5479-8907-4A15-9F62-B7F088CD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A70A-A168-4D93-9C37-8448032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2205-CD10-4EFF-A6C6-43D853BB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A160-6B0E-47FD-8813-A460C1BC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7F27-17D8-429D-A8C9-48E265B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D02A-C4F5-4940-9C2A-2E0C0C6D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21FE-B776-4ACE-BB83-8BACD9D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993F-1E04-4659-89E9-98D49CE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754-5FE7-4E1D-A6AB-7FF64AA4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AB1F-4CB8-4412-ABCF-A9360B3D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F9AE-9FDF-4314-8D8F-6283E46A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28BB-FCA9-4E42-B8E1-3197E98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1980-ED06-4BE4-BE7F-3790CAED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7C19-C5DC-4FF9-8FB8-F7A7951F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E019-18CA-4D24-9392-2781BC93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5624-5A96-42CB-A3CC-AB868D5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B762-209D-40BC-99D2-D07A71B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CB90-FCDA-4358-9AA8-6DC108F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B223-6CD7-434E-A1A4-6B8246C5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B918-B1B7-44F2-8B30-F61CDFD2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47346-552E-40DD-8334-1B7A0E0296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8FC35-1955-402F-BFAA-BC4DFC287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DAA1E-8DCA-4345-920B-2B76D922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8/4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OTING Items for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voting items for TA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rease the IDR Meter Mandatory Install Requirement from 700 kW/kVA to 1.5 MW/MV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COP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PGRR0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xtend Load Profile Model Calendar Inputs to 2030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b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PS pending spreadsheet corrections by ERCOT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vers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moval of Trigger and Requirement to Reduce the DG Registration Thresho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 and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vers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MGRR0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ignment with NPRR719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 and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version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pdate to Settlement Stability Reporting Requiremen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ved and sub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s and Settlements Working Group </a:t>
            </a:r>
            <a:r>
              <a:rPr b="0" lang="en-US" sz="2200" spc="-1" strike="noStrike">
                <a:solidFill>
                  <a:srgbClr val="c00000"/>
                </a:solidFill>
                <a:latin typeface="Arial Black"/>
              </a:rPr>
              <a:t>(CSWG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MGRR03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mercial Operations Market Guide Clean-up of Old Invo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ted by ERC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orsed by CSW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pdate to Settlement Stability Reporting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recommended changes to Protocol Section 8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will review to ensure dispute reporting aligns with the MIS Dispute T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Timing of Settlement Extra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ing is driven by approval of Settlement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cts may be considered timely, yet post after invoices are d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PGRR05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itial Profile Code Assignment of Temporary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aligns the initial Load Profile assigned with AMS meter types and actual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more accurate initial Settlement for temporary 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tocol Section 18, Load Profiling, Upda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ent is up-to-date and accu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of 7 Protocol Sections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Profiling Guide alignment will fo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completion by the end of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’s Aging Projects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GRR08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ily Grid Operations Report – MISUG supports on-going efforts to publish the information referenced in NOGRR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s working with OWG/ROS to update gray-boxed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OWG July 2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eting ag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4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RR Shift Factors – Sponsor and CMWG need to be eng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7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shboard for Indicative LMP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went live the last week of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Web Services (EWS) Mod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S Survey distributed to the MISUG 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bring more information on possible data streaming solutions post-R4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 to be Autom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anual reports; SCRs and NPRRs will be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ugust 12, 20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Schatz, John</cp:lastModifiedBy>
  <cp:lastPrinted>2015-05-19T18:20:47Z</cp:lastPrinted>
  <dcterms:modified xsi:type="dcterms:W3CDTF">2015-07-24T02:26:48Z</dcterms:modified>
  <cp:revision>1245</cp:revision>
  <dc:subject/>
  <dc:title>Instructions</dc:title>
</cp:coreProperties>
</file>