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EAD74-A163-4A56-BE19-62B358D83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02E74-DC5D-47CC-9A12-E25875AE5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7F95A-6B57-4015-8AA2-90E601949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05FEF-D4F7-49DD-A02B-F4C73CE30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696E2-2F0D-48F8-AFA3-A5E5C5D46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E1788-76C1-408E-9A4F-5FA8C10C6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E64-EDFA-4CD7-9BA8-38EF0E93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5CD-F058-4DFB-A8B8-DD3E368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E85-CFB9-4970-9517-7EFC3E7F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536-0012-4140-83FC-B18CC235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5ED-2239-4466-8E45-26DEDBC6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265-08B3-4406-8205-7730769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416-2A87-4F95-BE58-B3174D6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0DC-F8A8-48D0-841F-201AEF1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F48-150F-4834-8AC7-AE5EF094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7B9-D60A-487D-92D5-9C6957C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248-AD12-4FFF-9157-F0C7B84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694-B437-48DC-BF33-89B9673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49FC1-6FF2-4343-91E4-DAAEA8AF7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5094C-DDFA-428C-8099-40D74AE3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0AC41-B88D-4353-93E5-12053841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ly 30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84, Remove Annual RUC Impact Report Requirement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2, Removal of MIS Posting Requirement of DAM Credit Parameter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3, Incorporation of “Threshold Values for Competitive Constraint Test” into the Protocol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4, Non-Spin Schedule Requirement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5, Posting and Notice Requirements for Notifications of Suspension of Operations and Notifications of Change of Generation Resource Designation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9, Energy Offer Curve Caps for Make-Whole Calculations for Resource Type Other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0, Utilizing Actual Fuel Costs in Startup Offer Ca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1, As-Built Clarification of NPRR589, Ancillary Service Offers in the Supplemental Ancillary Services Market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3, Clarification of Disclosure Requirements for GINR Study Information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6, Restore the ability to use Physical Responsive Reserve Capability as an Indicator of Available Frequency-Responsive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10, Removal of ORDC Phase 2 Language and Modification to HASL Calc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June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S meeting, participants requested a special session to review aging projects (Board-approved Revision Requests which have not yet been implemented).  At the July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S meeting, participants reviewed 12 aging projects and discussed the current need for moving forward with implementation with the following out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agreement that the Revision Request is no longer needed.  Original submitter agreed to file an NPRR to strike grey-boxes from Protoc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181, FIP Definition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56, Synchronize Nodal Protocols with PRR787, Add Non-Compliance Language to QSE Performance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455, CRR Shift Factor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493, Half-Hour RUC Claw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Review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agreement to not start project, pending further stakeholder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GRR084, Daily Grid Operations Summa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484, Revisions to Congestion Revenue Rights Credit Calculations and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664, Fuel Index Price for Resource Definition and Real-Time Make-Whole Payments for Exceptional Fuel Cost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agreement to proceed with system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10, Wind Forecasting Change to P50, Synchronization with PRR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72, Definition and Participation of Quick Start Generation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Review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 circum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85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 Resource Base Point Deviation Charge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missed system change being assessed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327, State Estimator Data Redac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has been on hold for an extensive period due to ERCOT resource constraints.  Some MPs questioned the current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515, Day-Ahead Market Self-Commitment of Generation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planned for work in 2016, ERCOT has found an alternate funding option in 2015.  Some MPs questioned the current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S discussion was productive but concerns were expressed regarding the process including how aging projects should be treated and whether or not PRS should be revisiting Board-approved Revision 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Review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7-21T14:09:45Z</dcterms:modified>
  <cp:revision>27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