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D9106-15AC-4A89-8DB5-700F8624B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92616-2926-44D9-8DA1-CBED85808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B81-2124-4982-A6B2-28DC79CC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49E-6A0D-4760-AC15-FFB6515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068B6C-37EB-49F2-8E12-F95E50F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9DB410-DAD6-4A89-8251-CE3EECF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3D7FB0-9CF7-42CD-B6F7-098D1778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3E49F5-DD1D-40A1-9741-6F4DEFE7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7A4F7-0AB1-40EC-93B6-FE30AFF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C68DF-B008-46E3-9E1C-87FC1DC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5F7E4-787B-4DA1-BEE7-E7B3DEA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D54FC-62F1-404C-B689-E919071E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780E4-BC8C-406D-8EBF-053684BE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1C695-73B8-444A-948B-B4DDA7F4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685-A942-4F6F-A9F8-86B71522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9700E-8EB8-410E-A26F-1E1A327D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318F1-5283-4F82-9D36-EF704BA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ED865-96CE-473B-BBA7-8CC08EF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F99F6-344D-414B-AE23-EA0F4C44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1D7A7-7B18-48CC-9F49-8C71E7FB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9D664-3E25-4F0F-BBBA-A1DE78F1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0CB4EC-F56C-4A91-BFCC-25DF290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A0438-5F32-47B4-B8E7-4CBAE7C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2732F-B933-45BE-B56E-E466ADF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1509C0-7858-4AEB-9AC2-C74772EC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29C-79A9-437A-B771-99F8248B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9C6C2B-93E0-4C08-8E49-8AA11759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44AF1-D69B-449C-8D6C-8A5670CA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14571-C20B-435F-A23A-08ADDA3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498D5-FBFE-4625-B32B-EE8F0F85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74B10-4790-49FA-BD6B-76CFE85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03C02-F029-4D13-A953-DF586DD1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FCE81-B3DE-48A6-8F4B-40063E2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14EA3-06B5-46D4-9CA6-B3DCD12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D777F-B732-4323-9B11-FD9CCB1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B4597-6701-4F5E-B26B-2E4D0C4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7A4-FCFB-4085-8487-7A9A1E5B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3936D-9005-4581-8EA6-A0DD2D7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F6D0A-EE32-4C15-8EFF-D44BAA71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EBC40-B4FB-40D8-BD59-5EA785A8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C1743B-C388-40D1-A7F6-2A478AF7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F8886F-01E8-42D4-88BB-C2504F1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CFB8D4-C48B-4DD3-BDDF-151CB78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885E3-6033-4218-BE87-75198F6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EC302-0359-449A-8534-DC9BD0C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7E3F45-15C5-4FD0-9019-528312E3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14C12-D2E1-49A6-B43B-31BAC310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83A6-117D-4FFD-A4BC-1B8FE7F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D0493C-0E1C-4881-B407-A51D52E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4760E5-0BE6-4DE5-98F9-CF6017F4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3CB9E2-41B2-4BFA-8351-089D3858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037CEC-02B9-4362-A62E-EF8828B6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CFDF05-5F88-4E10-802E-D2C6FE5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DC81-1CDD-4B99-AF3C-28C918C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D522-F3B9-4650-A0F0-836EA3E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A47-9331-41E8-9909-C1FD6067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937-96BA-47D1-9C49-0246E36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B45B-BD76-4D1F-B629-CA610DB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595A-7128-4454-9EF5-80E0A86C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C949A-89FF-4F77-92A9-98F5809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EBA7D-C08C-4F9D-8844-5334A42B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4E04A-404E-46A4-B414-C8AC5300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A1839-E5CD-44FA-957F-83DFCAF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1CFD9-AA23-41BB-AC8D-8CAC24F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30996-BC9D-4560-A3FF-709BF60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EE9-A287-42E1-B9D1-26FA4BA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7165-977D-4CE3-A138-9D57496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201F3-BF25-46F1-B0FC-F2BDDC9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2672C-8AF0-4B2B-BAE1-79BA349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E8746-644C-447F-8ADF-94235F8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AE640-E885-475E-A932-4C6D054A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4D5F-A238-447A-9F5F-65D4BC0D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3CB759-1EC1-4CE7-91B5-3348E251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516105-2161-4EC9-93AC-76AE5461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AB9F7C-B385-4FBD-8E19-E7C3096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2CE61D-284F-452E-B5A1-54CF0CD3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E10965-D664-41F1-B262-DA5881B2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0051-C85F-4406-8BC6-DB0E955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BB4490-1C86-435E-AAF1-75BD66D2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18A65B-DAF8-46F7-8A7D-3865EA0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6E24D2-A91B-4E10-94DA-27D2BB4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39D3AE-E577-43F2-BFAD-B1B340C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C4E4D1-352B-436E-A61D-6B87435F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40513-FF10-471D-A1AC-E28FBBFB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5A38FC-CB32-41C2-8E2E-2B3AEE1B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B85667-2A82-4418-BDAD-68F00076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C03AF8-345E-4256-93B4-A6DA0183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8F05FD-8A61-4482-AB37-58EDA3F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2756-83F8-4A1A-B505-11FE026F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D88D2C-BE29-422B-9B28-F767A58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153219-730D-481D-8168-B234B515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EE569A-46B6-49FC-81D9-B4768293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4C4F4D-D92D-4B3B-B508-EC4808FA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56567A-BF0F-4029-842E-D13B629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CFBEE2-A842-44EA-A2DA-9F9170C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8D1901-E095-4776-926F-DD391DE3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EA91E4-6318-484C-A1FA-32506527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22C6D2-9498-42E0-8874-05593693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E43A82-EEA1-4FCB-A5C3-F5D34C17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A29B-B7D0-40F0-A637-3A17C201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D5E0D7-BAB3-4BD5-BFE3-66D9026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056435-A637-488A-91E5-038A455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25EA4B-174C-4C78-872C-8C7B064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457F04-292C-4B63-A67B-8598926D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F5EC0A-BB89-4FF7-93B9-CCB1830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CFF651-A538-4D70-80BA-D384810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B2B410-F969-40D7-A061-3E8F46E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6E263C-9A4B-457D-9096-D8A6332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D803CA-282C-43ED-B6BC-88047D8C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E0C0A1-8128-4258-B33A-2E5BEC59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56A-B57F-4840-9CAB-B37F9425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1930F4-B530-41BA-8F7C-4BFCC78D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04532-8483-402C-85A5-70A491FC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CF017-E349-4E9A-B6AC-AC8EA810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B0AEA-6C17-467B-A219-A0AB87A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1066C-6F0E-4D33-990E-991779D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79BA7-92EC-4F1C-9A85-0642D9C6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86B22-1A5B-4F03-8EBE-9E3C7B8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882C3-12AF-4E93-B48B-3E5D3B7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CC77C-A680-411A-93D1-B2F3B2E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ED86B-F145-4D1F-BA43-BF02E9F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885A-BFCA-4CF0-9C24-53099593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2DC57-72F1-4EA9-9BD2-1032A267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8B09C-53F4-48A0-99F0-2FE66D1C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5776E-6269-4B6A-A33F-63B7577B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57D0BD-1916-4ADA-A6E0-F75DF063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46BF74-FB43-43A3-B107-98DABE7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A7ECD9-9753-4611-9030-B098BBEC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F9185C-E0AB-4A64-9A61-98694F4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8D5EE1-C2E5-410D-A0A6-D3AB48B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FF4D6B-FC33-4DC8-9895-6500FBDB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34DA7E-EDDF-42ED-AF5A-9BFEFFE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D39D-A0AA-4905-9EC9-0589EBC7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E1CAFB-5CE3-4ED5-9ABD-B77560A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CE9547-03DB-4381-BA32-FCFE2FD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2FCEAA-DF73-4CCF-A686-4FB4DC4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B4FD21-8E96-4FB9-9797-C0FA3733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95597E-3847-4C14-A7E9-942DF343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211CB-427B-494B-812C-5BE6E7FE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332DB-8442-4408-BF9D-202F6BF7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25EA5-3218-428A-95DA-D5072485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9FEFA-A1DB-43C5-8F98-10E4732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CDB3F-3D24-4F6A-9729-ADB5B70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BEEE-35C7-4221-B1F9-41E839A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BCD9F-44B2-48EF-81C9-D3B92F7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0807D-CF88-470B-BF1C-E934EFC9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69810-DE6A-46BB-8A40-7442E4AC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073F4-5EA3-4E07-995B-84BF141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33193-6CC9-479D-803D-BD3B783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94159-0E72-4BC2-8B4B-62AB461C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C61B3-47B8-4BA8-9660-F23DE386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DE6C-58E6-4DAB-A3B5-2951691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C9D4-F8EB-4658-B966-32E40670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2D1-1583-4981-8B96-4370834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7900-A2ED-46A4-A74E-C15808B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1EFF-F1EC-4E34-8AA9-B994000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5520-CD30-4147-BDE1-3CC033C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E61F-EEDB-4DD9-9E2F-3856DF3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EE4D-E440-48C3-91F1-B315F7C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569A-ADC8-4C62-B58A-8E8C6354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31F0-C9B4-4F5B-AE79-6B9F5715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B58-45BE-45BE-BDAE-79E0A1F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6BA-8E8C-456C-AE1F-C3F462E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C27-CB67-4C17-B8EF-F1CF365A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E057E-0701-4BF1-91F4-E2C2AF70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EB49B-2415-4202-8124-7473124A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8CE6B-0522-4B0F-8C18-4CDEE39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F00B1-B96A-4248-B600-BCB2D9C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3BA12-F672-4244-89EC-BBE012C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4DE04-11CC-4815-A206-5CAEA70C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44274-1CAA-403C-A258-D554DC9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74B47-2222-4822-AFF0-5EE165B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F1A8F-E27C-4465-A5B4-6B31F70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3CE-B4A4-44E3-9CC0-7B3E8926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53F67-70F4-44D5-9EA0-BD848A5D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5B774-51BA-418B-8449-9A651CEC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5FD64-E541-4AAA-8D74-2E8150BD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DE532-99D1-4881-A936-94EB20D2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47D2DF-48E4-4F04-AE07-133D932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2C91C-38C0-45F6-ABF0-E6E5719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18098-BB12-492F-B13C-0C0BA73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8421D-95CE-4E00-A6B3-2E8F2D04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966B2-AE6A-4456-9B36-CD09288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22319-D64B-402C-8B24-AD63244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B55-BC0E-4498-B98A-8449ABE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C3872-1E4A-4B33-B4DB-A2A80FC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2C282-D16B-4086-9680-620FE52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72A60-63E5-49FA-82DE-1D9501D9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38E4E1-2587-42D2-B543-75C44CB7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73ACB-68BF-4AA3-B563-CA979A59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E75C62-0B09-4FF8-8EB9-A9AFF2D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7CA9E-B2B2-4CBC-BB68-C69EF85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24B7C-468F-4CEF-B321-9C70EA19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4659D-73C9-44BF-89EE-70E1A40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A5E15-1274-41E4-8E1D-9E64435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11F-6A62-4362-ACFF-5A64A7C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646DF-FFCF-4322-A3F3-7C80D0C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B5831-BA82-401E-8FC5-862FEC9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8D9A7-1EEB-45EF-A1FF-ADF847D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9C09E-5015-44EA-9B30-F7124BE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DC6D29-8908-4239-9AF6-C000886A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2D5D6-3571-4584-9E36-F366C41A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B86BFD-DFBF-47AE-A8A1-9F5EC6C3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D58E2-01BA-4CDC-8FA1-056A6C9C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27C95-A06A-4464-8093-D6CD2A9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B8F08-EA1A-4D46-ABE9-2CBE5F5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F7FBC-A648-4F03-8231-80F86BDEEC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77F1D-7454-4B8C-9011-FF63D3CAE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497D4-15D4-429F-A1C0-722FECC8594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FAC30-3564-417B-AFE7-AD8B091C866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F73E8-5BE3-4838-9DB1-7E49D859D73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FCFE7-CC78-40E4-9890-6CF6F161E17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78851-0937-40D0-AA2C-C14E2779D5A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B9EB3-6D17-4630-A276-B0583950BC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891EA-6AB6-42B5-831D-61DF15D1915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C500A-8732-4134-BF50-DBBA6C4ACD6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24DB-F793-44C5-9FA5-E2EA47EE177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8DE3D-559B-422E-B5F4-DF7B55D19BA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E5B62-6DEE-4B9D-B34F-1CA8972C256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2AD7B-F989-4B9A-AECE-C9BED02ADF7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3DB88-F895-49C7-98FF-7A435B9E2A5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F2F61-82CC-4954-BD09-4AC35D8E0B7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59A61-28EB-4C92-AAC8-03C9CF8D700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C3ACA-F8AB-4AE3-B7F6-0AE3431137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67540-69FD-4F52-B90E-BE973310B7D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8E83-F99A-4919-9DEB-FEC81840C1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CD732-8E1B-458B-B8FB-91678D360E4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67C66-1444-4EE8-8697-073B277B44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2983C-DE59-44E4-96A2-9B58F171DB6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26F58-8F18-4DD5-A15C-F33C2F6D5DD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89D26-C123-42B3-B277-FC6FE35A397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A631C-0CDC-4A40-9986-14426C6B5A0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E0772-FA39-43D9-904D-3B64E94AB3B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4CAD2-E739-4DB0-BA58-4153776DB9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C6B32-D0C8-4989-8541-B333FBEF242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038D3-1BC1-465C-B674-37F29727CEE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D2AC9-D952-471D-A38A-C0F18B81161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B85B6-CE9F-4EE7-9984-A5235C6BCFD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5D3E4-AC96-4053-8124-5D4F6556493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3643A-5B1D-4877-AC29-10F755B40E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E9E36-5200-468D-907B-4E9D750B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76165-4948-46E1-BB6D-8878A0DF060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275B0-2416-4962-85FA-1E19F754A05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BC8F7-D292-4F6F-AA68-F7C0545157A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2890F-C182-48EE-83ED-20065B7FCDA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96BBF-3CA9-4161-853A-F6516848023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969D5-E7CB-4E6C-BFF5-A440534AE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45B31-CFB2-4F87-9747-5611F04D5D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BCDF5-D3D3-4010-B64B-34144C02F3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RO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ly 9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ugust 6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3 – FIS Scoping Amendmen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4 – MIS Classification of GINR Study Inform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44 – Incorporation of “Manual Deployment and Recall of Responsive Reserve Service during Scarcity Conditions” into the Nodal Operating Guid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xpecting additional ERCOT com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1784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691 – Alignment of Protocols with NERC Reliability Standard, BAL-001-TRE-1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commended PRS continue to table until joint meeting set u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approved PDCWG to post com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5 – Provides Consistency of References to the End Date of the Generation Interconnec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viewing for P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7 – Provision of Transmission System Voltage Telemetry to QS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viewing for P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708 Clarifying ERCOT Actions During Energy Emergency Aler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revised by ROS for approv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RCOT comments (expected to projected) to be discussed at next mee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ROS created Voltage Profile Working Group (VPWG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Scope will be reviewed at next ROS meetin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ROS evaluating request for EMS task force by ERCO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Steve White from ERCOT will present on the merit of having a task force versus ERCOT hosting workshops periodically on the topic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Task force would report up through OWG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248520"/>
            <a:ext cx="46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Update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79388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ROS endorsed posting white paper on PLWG sit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Recommendations being reviewed by PLWG and SSW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Does TAC have any further requirements on this topic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Update being given at this TAC meeting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2"/>
          <p:cNvSpPr/>
          <p:nvPr/>
        </p:nvSpPr>
        <p:spPr>
          <a:xfrm>
            <a:off x="609480" y="6248520"/>
            <a:ext cx="479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07-29T19:46:37Z</dcterms:modified>
  <cp:revision>82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