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D981C8-3D0D-45F4-A582-2EC38F826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071B91-29F6-49A2-89BD-B3B27200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FA7E07-21D0-4268-B8A0-FEFE31E8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BF5134-B18A-47E2-9AA2-81159616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6820A3-A867-4E88-A89D-CC7CC55B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F94-4FCF-4874-A82B-527FD2BC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1C8-3648-4D92-B9C4-FE9EEF93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54C-66C6-468D-B234-ED5E967B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14C-6743-429C-B873-9E68969B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101C-0933-49CC-B43A-9EF41597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1D3-EBF2-4271-B289-09835F7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1822-8DE4-4483-AC40-1FDC660B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D993-AFCD-4F2F-A116-E1AF38A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4D5-17C3-4032-ABC9-EA9F5C1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CDB4-CB58-40FC-A2AB-19FED23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34B2-6353-45B5-9F0B-40E63A3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26F-D79F-42BB-952D-E1B5118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94A-17C1-4CC8-9595-E9684CF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C57-15B0-46B8-979A-4DE2F2B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DBE-85A2-4338-9204-08AF06F5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FF48-CBDD-4818-97B4-EC7F60C0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DD21-356B-4895-BFFD-15334FF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B22-C5C2-4600-969F-4DD3198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943-E083-4D03-8E80-A2F48A96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8DD-E39E-41D3-A54C-3EC192A9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646-02FD-411F-917C-9317DD0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880-546A-4647-B5B6-E990514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BAC-8A99-4088-9483-027505E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D88-A74A-4BC2-80E4-26F05E9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FD6D-CD53-4F68-BEB1-AB0981081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30, 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568-46A7-48E3-AC44-DE7F7C4C2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s@crescentpower.ne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Changing T5=5 is Inappropriate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27024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ms Siddiqi, Ph.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ing Freeport LNG Development, L.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619-35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hams@crescentpowe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C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30,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ly 30, 201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E7F-895D-42A7-8754-D8BA14747D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PRR639 Implemented Correctl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3804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PRR639 appropriately determines Minimum Current Exposure (MCE) based on hedging activities of the Counterpart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ities with Load that hedge by submitting Energy Trades as “Buyer” appropriately receive credit for 80% (to be conservative) of their net “buy” trades for the same number of days (T5=5) as their load (T2=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 T5=2 while keeping T2=5 as suggested by Luminant would reduce the credit for hedging from 80% to 32% -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lmost undoing NPRR63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ities with Load that increase their exposure by submitting Energy Trades as “Seller” appropriately increase their MCE corresponding to their net “sell” trades for the same number of days (T5=5) as their load (T2=5) – NPRR639 appropriately treats load and net “sell” trades consist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 T5=2 while keeping T2=5 as suggested by Luminant would not appropriately increase credit requirements for entities that increase their exposure to the mark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uminant’s suggested long term solution of setting T5=5 for net “buy” trades while setting T5=2 for net “sell” trades results in inconsistent treatment between “load” and net “sell” trades – entities could split load and generation into two counterparties with Energy Trades between them and significantly decrease their credit requir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ly 30, 201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228D-24FA-4E0B-A464-AC8B3C9F56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eparate issue – over-hedg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3804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loads may be over-hedging – i.e. have more “Buy” Energy Trades than their loa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ntities may have very little credit requir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is is deemed an issue, Stakeholders can work towards addressing this issue through the normal Stakeholder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-33804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sue is separate from the issue raised by Luminant – which is: Should entities that increase their exposure by being a net “seller” bilaterally be subject to T5=5 days or T5=2 day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984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July 30, 201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5BD-42EC-497E-887D-D6C4F0ECB7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hanging T5=5 is Inappropria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3804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ing T5 from 5 to 2 for entities that are hedging load by being a net “buyer” bilaterally 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ly inappropriate and undoes most of NPRR639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this woul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gnificantly increase credit requir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most LSEs that are net buyers bilater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8520" indent="-33804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ing T5 from 5 to 2 for entities that are increasing their exposure by being a net “seller” bilatarally is also inappropri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8520" indent="-33804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PRR639 concept was to provide a credit to recognize the reduced risk to the market of Load Counter-Parties that fully cover their position (net bilateral purchasers), while requiring additional collateral for Counter-Parties with short positions (net bilateral sellers) – thu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orking as desig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1:38:03Z</dcterms:created>
  <dc:creator>ssiddiqi</dc:creator>
  <dc:description/>
  <dc:language>en-US</dc:language>
  <cp:lastModifiedBy>Shams Siddiqi</cp:lastModifiedBy>
  <dcterms:modified xsi:type="dcterms:W3CDTF">2015-07-29T20:08:38Z</dcterms:modified>
  <cp:revision>70</cp:revision>
  <dc:subject/>
  <dc:title>Locational Marginal Pricing: The Texas Nodal Market</dc:title>
</cp:coreProperties>
</file>