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7EBC-B379-44A3-ADFF-74BBF3C3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3646-5C19-41E6-B855-9CF797F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01D2-3EEE-49CB-BA91-07FD1269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D35A-EA0D-4567-A259-E6CACA29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902-43B9-4E67-85D1-D0D7F734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0FD0-0A22-4C17-A066-A0299ED2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6084-E8C2-456F-8895-AE2B2BEC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0C6-5449-4570-AC90-466E017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22C1-270B-4C12-B1E0-ECE78D65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2E5D-26FD-40A8-8F8D-3FACF81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6E0D-F1DC-4DA9-8E09-412DA56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A00E-DF35-47ED-BE24-0B6CB6D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D91-FC8B-4426-A97A-51076E3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4F0-7B02-4FBB-B1E3-F8CFF8B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CB72-3C32-4536-BC66-3539838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9EC-9401-4998-A477-D22C0D43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9607-A2B4-4FAA-9F7D-6477B8EF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44D7-6DF4-4597-8CDB-6FD96AA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797A-FDE7-4020-BDA6-7BA39486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6660-A490-410F-8B92-C5F1D76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AD79-47D2-4450-9337-3FA96ED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F4A3-4E22-487C-AD01-915D370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7E10-2684-4A69-99A0-0AC91A80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ED18-0809-42FA-87B0-6E2C888B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45E-2EE9-4C0C-A237-B318EA611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FC0-FF02-4C8D-9D89-249F7E80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B9AA1-2B7C-4613-B048-8F2EA5F1968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A059A-7241-4144-AC22-6B2DAD294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8F3E9-FA8F-40CF-955B-11E66A1E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/30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TING Items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voting items for TA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rease the IDR Meter Mandatory Install Requirement from 700 kW/kVA to 1.5 MW/MV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COP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PGRR0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tend Load Profile Model Calendar Inputs to 2030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PS pending spreadsheet corrections by ERCOT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oval of Trigger and Requirement to Reduce the DG Registration Thresho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ignment with NPRR719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date to Settlement Stability Reporting Requiremen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2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3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ercial Operations Market Guide Clean-up of Old Invo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ted by ERC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orsed by CS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recommended changes to Protocol Section 8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o ensure dispute reporting aligns with the MIS Dispute T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Timing of Settlement Extr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ing is driven by approval of Settlement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s may be considered timely, yet post after invoices are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itial Profile Code Assignment of Temporary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aligns the initial Load Profile assigned with AMS meter types and actual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more accurate initial Settlement for temporary 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ocol Section 18, Load Profiling, Upda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ent is up-to-date and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of 7 Protocol Sections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Profiling Guide alignment will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completion by the end of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Aging Projects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GRR08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ily Grid Operations Report – MISUG supports on-going efforts to publish the information referenced in NOGRR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 working with OWG/ROS to update gray-boxe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OWG July 2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 ag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4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RR Shift Factors – Sponsor and CMWG need to be eng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shboard for Indicative LMP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ent live the last week of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Web Services (EWS) Mod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S Survey distributed to the MISUG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bring more information on possible data streaming solutions post-R4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 to be Autom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anual reports; SCRs and NPRRs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ugust 12, 20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5-19T18:20:47Z</cp:lastPrinted>
  <dcterms:modified xsi:type="dcterms:W3CDTF">2015-07-22T19:56:59Z</dcterms:modified>
  <cp:revision>1245</cp:revision>
  <dc:subject/>
  <dc:title>Instructions</dc:title>
</cp:coreProperties>
</file>