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1BF37-603E-4053-8BF3-1BB1FD97E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B4948-22E4-49B8-BE36-5699C50F7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83B-A772-43BF-86A8-DEF1D424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339-3FBB-4A76-A637-6FFD9F3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73F1C-7195-4696-A4EA-A9F44E1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8C22A-744E-42CD-909D-A8F3329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3F49E4-0EC6-416D-94A6-9198E8FE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67A59-7F9C-41BB-A948-7B9D7D4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1C1A8-5BA1-4426-A3E8-7DEB5925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9D103B-7081-4127-9EC8-B212891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77A97-D232-4BC5-B3FA-1D71AAAB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1C849-5C9F-4074-B1C8-C59B9170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CC79F5-F106-465B-AFCC-864D76E1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201FB-B034-4C46-8D99-F32914A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0A9-4F6D-4BBF-B6C2-AED5786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1C289-69AC-4DB5-8AEA-65CE56D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83620-9320-4E7D-BFC2-7F6413A6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F1D66-F154-41EA-8D2C-AD141277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8382AA-9306-4C25-8AD5-82654BC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C56D6-33F7-4865-BAD1-CEEB2856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4166F-C260-44F5-907F-97B1FB6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325644-A1B9-4BC7-8E25-5F8F39F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B2B6C-D7DC-41A3-A928-B6A984B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B0190-465B-4F1B-A16D-DE6C06C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8B37A-1252-4B6F-89AD-1E0CD730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E1C-8502-424F-ADCB-E9859328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61976B-E31B-483B-9A9C-4D625D8A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78509-E06F-4E4D-8F94-140CE1CD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EE2C5-55D1-467A-88D4-2FC4771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BA876-DA59-44C9-A3F5-3D007D84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C586B-34EE-4AD8-8F6C-826842B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AD6AC-BD9B-4A52-9BA4-32022E1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0BEB5-3211-4D58-AA38-AC5B244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6A371-EBD0-4E3C-9E83-03492F2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18FA4-EB58-4242-A07F-D1E2793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85C0D-9F8C-4661-88A5-8890B61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3D39-C8BF-485D-A616-D1CD715E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566A9-0F4E-4DBD-AB63-1FB5C95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25D47-52BB-44FB-8C7F-B36C6007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D32E5-3995-41C0-8519-00DC6407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7AFE62-FC5A-43EE-9AAC-C10DCEFD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3948FD-0DA3-4E51-8805-DC4FD37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99368-9862-4866-9718-47FD6513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24F9C-1326-487F-B007-446F4CB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9A7039-10F5-477C-AAD8-AFDD9BDA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11CE77-BD29-42DD-AE04-DD77965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AC9F9-6478-4DDD-B1B0-2B3F529C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87B-5A32-4FB7-9B26-186E932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42C21-6E03-405E-87E7-CD36C7C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4BDD49-2DD5-44C7-A475-7251A12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B94872-9187-4C61-8C2D-EDC41CE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6AC7A-F935-40BE-9EEA-EA9E172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1556B0-3B17-46D6-B7E3-063C7AE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EC8D-3B92-4AD6-A39B-2084D48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1A6-2F1F-4B2D-B6CE-63C87F1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FCC-A49F-434D-90F5-8421681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8ED-3197-4883-9D4A-619011C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B61-1415-4B85-BD4C-7F22B46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95139-4E11-4E7A-B4F2-5AA7DDF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5CEA4-384B-4031-9000-C9630B9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4D23F-0702-43DC-96DF-81BDDBD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C19DE-C816-4B71-A50A-9A9D99E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60D15-0421-44BE-BC45-3FA278C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E8275-9FA2-479F-8A49-A115F92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E5794-D389-4DED-A382-D8B9F3F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150-04EE-4B5D-9413-63F9691E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17D4-8014-4E41-B356-0422EBD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D6BE2-65D9-45A6-B539-2A887E5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46EB6-2FFC-447E-AD1B-1D6F418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AC123-39DC-451B-B7A2-6112197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2E967-334C-481D-A666-D4826A8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B9065-EC9F-4E49-B4CE-E63F3836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364945-74AA-413C-A2C4-66D121CD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2B7CDF-1FF4-4F0F-B7CB-85B4804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AF4D22-6CB5-4099-8417-931F72C1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3103EF-871F-4DC7-8B45-F4713189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172582-93D9-45B8-8568-6D1BBE92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9422-7240-4063-9FD3-599A724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CE3064-5CB8-4CC9-BE68-7AEA18F5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BADC80-C829-42B3-BE45-B7584C0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74D1E3-DE07-4F07-810A-C21B9BF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7D464A-1EBB-43D2-BB52-9FD5A05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A48F53-6DD7-412C-90F8-EE533AE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6FD4CF-B1BC-4329-B8C8-EE6CE2FE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C86065-988F-4200-AE4F-3AB0567F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9BEDC5-063A-456E-BCCA-D55EE1AB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90A1C0-4811-4835-B0E3-62DA338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D1D2F1-5D34-4FE4-8FFF-3A3C253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399E-8979-4B09-BED2-64256E06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C8B405-009E-4797-BBA0-F805AEA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1CA040-490B-4107-AA67-A71A4AE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E9958-BB13-4322-BB9B-90E4C8CF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03BB40-336D-4474-857E-69019FF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911804-52CA-4885-9585-A7BA703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B240C0-160D-4D9A-8178-31188E9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9CB330-2843-44D4-B1D1-CA5FE5DC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582714-E8CA-4851-A5C8-F551A39F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399044-60D5-4226-97BA-43D2DF6F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2AF603-D47F-4F58-8BEE-C259F499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C7F-2A50-47B8-ADCA-392F1EA3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F8C4C6-0AD3-4B0A-9169-EF7A4AD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82E508-3A88-4D71-93CB-1AAA97A4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C36D8A-C04A-41EF-91F3-3F0581EA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1EA910-CBB2-4F4B-A0EA-EFAA1DD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4E5164-8088-463D-80F9-2CDB37F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6F0388-A984-4BAF-AC47-17264B2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6B9D31-D386-4C63-B6E3-43B41A2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06DF0B-E938-489F-A0CB-720E9F9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5FAD25-BC19-4769-B680-6241767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3AE676-9773-4FB0-9BE5-B430F69B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D8A1-FDFF-4A04-86E4-4E52A392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0EA503-DCEE-412B-97B6-2E92EFFE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7AD2D-F401-4737-9F13-39D55C5C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847DB-18B8-4062-A04E-4420E37C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A0463-EDEC-4FCC-A9BA-FF76CA5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7A147-E492-4340-982C-DE6B73E8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672D5-4652-4D57-B9DB-8ED8576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FBA79-C0BD-4752-828C-E931207E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F7C14-AD14-4A53-BC92-4EC87DD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ABF28-9428-425B-9F82-7EE3BAD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8815E-420E-4493-8280-3584CEC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E627-EFD3-4A67-9F37-21010D78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55971-F28D-44CB-B66F-25B3672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BC6F3-0F3D-4AF3-8AC6-D543C984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49A6F-22C7-41E3-BFB1-540CE7B2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6FBA1B-0A86-4142-B144-20542370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B36794-CEC6-4416-9A40-E91A121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9B40EA-1C6B-459E-900E-5348964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BED9FF-4E4B-417B-A0E2-DB6581D0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2F952A-7651-40D0-9061-6DB4B18A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CB072B-32E1-4C59-8E56-701A49F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A2A7D3-90F1-479D-869E-CDC6D90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02B2-2CA1-44D3-8F0A-CFE78044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086E7D-7071-41C3-A6F0-E5C4370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7E005B-C1ED-4003-A79C-B669406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865E15-CCA4-4F27-853F-76B9B55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FDCF5A-442D-4744-85FD-DB67003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B703EB-A2C0-4BDB-8F22-0AE0497D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149D6-3945-4787-BAE0-85293DF7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CB51D-F1D7-4D2C-B0BE-DA78CBC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3258C-E6E4-4AF1-AA46-2BFCC90F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27C5E-FAA9-45DE-B68E-2565E684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77A53-E928-4456-AF1F-4E0DD0B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6967-F672-41BD-B917-A8DFD47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14F5D-144F-43FB-9BB8-5FA5AED9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DFABE-73CC-4EC5-A98F-566AED4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ADED1-BE90-4227-A0D2-8601552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110D8-F6F7-4384-B37C-AE430F7D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48208-7559-4737-B2CA-8C7B1F5B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34D63-604B-4B93-B183-E8928DF8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0F1CE-7700-483F-A9E4-9669FE8F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C126-8518-4A10-8F28-5C5C922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6A01-8A28-4363-94FD-74F0691F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FE1-6DAD-47FE-8C59-CDAB09D3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42FA-5CF3-42DD-9DB5-9A4B1EA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E09F-565B-43CE-B0E9-0596A32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B227-FA23-4F24-82AA-14A535C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D6FD-DA99-4200-AC88-4D5B507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1464-78CC-4986-A446-74B421C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5B2B-D337-4D34-A2C0-61117D50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B812-8EDA-4464-8BFB-15DB7F39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A45-20D7-4794-9217-E3D4B4B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E83-F867-4DCE-BF1C-62875D4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A6D-548C-4512-B18F-F1E8BF49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FB4A0-094B-4E66-B50B-A61A6503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97807-D9CB-41F0-9463-F4C9B5D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E7F80-3DFB-420A-9E7E-0BD8168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C46A4-A592-4E75-8988-1C3145E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CA8D8-E01D-455F-AA45-532D53C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0DE8E-723D-4233-9372-53C35573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03E0A-B4FD-4784-B842-F23EF14D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9361D-0952-414D-8AC4-41182CCF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B0EEC-0432-40BF-9C0D-1993B61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3A7-873E-45C0-AA22-9BAC8C6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BDB4B-D0CE-403F-BED5-FD1F1108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321A5-13BD-41C3-90BD-21A50F18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CBCCA-5BA4-4CC5-934A-F2C36905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C1585E-1EB6-4F4D-A3C9-F6CE1E03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7A572-EDC6-4D56-B506-4B8245D5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4E5DB-F35A-427B-9267-3F71584D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25002-2C24-4114-8798-476E9B7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8A57EA-A523-499E-8436-D8A9BF80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914FA-EBA1-493B-BD52-ACF8257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36B6E4-8B8A-4DBC-9536-9723247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4D7-F580-4679-9326-7C0F52F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F63F7-8A66-472E-94A1-C9D7E0CA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3AA5F-CA78-4F51-B7F0-DAF9DE2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A4347-1947-4C72-889A-433E854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FEF26-68FC-4343-9C1D-645B7C7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5D0C2-C871-4623-8650-3ADC0820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C0C639-3F50-4459-9AE7-E12F82C0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0E757-A852-41C3-9999-CEF81A73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CD46B-6EDC-40A2-BD9F-BDBC38F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11268-8672-4AFF-8859-05F9ACB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024F77-4221-4BB7-85EB-163DB355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A01-C08F-42D7-886B-73317F0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72405-4851-47E8-A369-3D61449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97A560-CD3E-4A10-9083-1B09AAE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2446FE-94E3-4F38-940F-AF8EBC3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EB90EF-FF3E-45FC-8EB8-BE5F252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5CDD6-D3AE-4751-9CF1-A5ABD0C4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5A489-DBC7-49A1-82CA-75750A8E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48A553-F3A4-4A51-8723-23C56952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9D2845-FC84-4620-A0F4-26EB65EF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2A3496-F6FE-43FD-8741-C7A096FB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B9E3B-DD0A-4E4E-A3FE-3D11A70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922A6-B011-4B51-8582-302368EFC0D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4DBEE-5B84-4CAE-B8EE-1A75474C7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45A51-2479-4058-AFD5-C52175CFC2A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D4FC0-F2C4-4E4A-AE5E-AA4F2E52604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2FAEE-788C-4C26-AB35-E4809BC1008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3F94B-529B-454D-8C56-609302B4470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EFD24-04CE-422D-9FDB-5430FE56CA9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0BB87-6779-40B1-BFF4-E948272C91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FB8F7-FEF5-48C4-A2D4-5C3982C9654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1603F-6A71-475B-BF13-114B90435FD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23B0C-6191-4A0E-A350-8A9C04E1DA1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19684-A034-4E51-8BC9-EB8071B6D7E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E9865-7A07-46B5-B43E-2F06C738FE5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8D8C9-FAD6-48EA-A8CA-666E3CCD40B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F546F-8842-467F-AC47-9A36B728120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40D02-4442-4D64-BEFA-7582724EC6D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76F37-5C2C-45E2-8C5C-A49CDB3AB6F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3FD61-F7DB-4CA0-9A41-51F642B108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F0C9D-A8EF-4396-97F0-A2746326B46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95038-3836-4D81-9021-574F10A956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D325-8E5A-4897-9985-DC49EB43E9F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F1DA0-2757-49D1-8761-2DD0ABBDF8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463E0-B129-4FE7-ACF9-6E13FA876AD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15DBC-DEF3-40F6-ABAC-35778F8A808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E323D-5133-4915-A568-C9ED35EFE87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DC33-8AE7-4BFC-96F4-A723C11F2C8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94EFF-B201-4BF7-B71D-3BC39465042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A9D77-09CD-435C-AD25-588366536F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F43A2-8078-4CFF-92C2-1C7AAC83E0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807B5-27D9-43C1-8944-D32FACCD7F5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A1F0D-E591-415B-9498-17EBC0A9C4C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CBB48-30DA-4C05-9A50-5C0B4F3DBB9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0D7CC-31CE-413B-8C90-293956AB0BE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5D1F0-A98C-46BC-8B22-6918A31B2F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E11DE-CCD3-4810-ADC8-CE90B6B9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57DB4-DE44-464D-B99D-42F2BD7D762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F2873-D1AF-4608-895B-5C83CC96D1A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4AC04-9BAD-429D-8196-2A1E6ED947C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564C4-EC78-4BAC-8D66-F2BB51D8B1D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38016-640F-4FA5-9FA6-C4CEC2D7355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9A82B-B92C-40DC-8DBC-D931AC2DF7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C77D1-41BA-47D3-B129-0B2F8AFD894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18050-A717-456F-A934-F6537C7DD2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RO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ly 9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ugust 6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3 – FIS Scoping Amendmen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4 – MIS Classification of GINR Study Inform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44 – Incorporation of “Manual Deployment and Recall of Responsive Reserve Service during Scarcity Conditions” into the Nodal Operating Guid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xpecting additional ERCOT com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1784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691 – Alignment of Protocols with NERC Reliability Standard, BAL-001-TRE-1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commended PRS continue to table until joint meeting set u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approved PDCWG to post com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5 – Provides Consistency of References to the End Date of the Generation Interconnec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viewing for P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7 – Provision of Transmission System Voltage Telemetry to QS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viewing for P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8 Clarifying ERCOT Actions During Energy Emergency Aler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revised by ROS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RCOT comments (expected to projected) to be discussed at next mee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ROS created Voltage Profile Working Group (VPWG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Scope will be reviewed at next ROS meetin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ROS evaluating request for EMS task force by ERCO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Steve White from ERCOT will present on the merit of having a task force versus ERCOT hosting workshops periodically on the topic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Task force would report up through OWG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248520"/>
            <a:ext cx="46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Update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79388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ROS endorsed posting white paper on PLWG sit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Recommendations being reviewed by PLWG and SSW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Does TAC have any further requirements on this topic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Update being given at this TAC meetin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2"/>
          <p:cNvSpPr/>
          <p:nvPr/>
        </p:nvSpPr>
        <p:spPr>
          <a:xfrm>
            <a:off x="609480" y="6248520"/>
            <a:ext cx="479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07-29T19:46:37Z</dcterms:modified>
  <cp:revision>82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