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85EC8-3BF7-4FD3-8D85-8B0A31A3A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1B14C-30C5-4ABA-B72F-F9A8B53E1F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2BEFE-9288-41EC-8CD1-17DD9E21E6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7D88E3-26EB-4ACD-8DC9-5ED6E0933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E5190-6245-418B-B6F5-D14F61FEF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5E8AB-C8EF-410E-B824-C24E8A7269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F4F-B58B-494C-AE8A-0CEE83E5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4A2-FDEA-42AF-AA42-0754D1C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DA8-CB86-45A7-B484-01F075AF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ED6E-EA48-47E3-A6E3-87037BCC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B57-A4E2-4C2F-AE19-6FFB4881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F1A-6236-4EAE-B391-A05DDCAD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414-076C-40C8-9A71-73A21BC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AB7-115D-45D4-B76A-EAF29F18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6AB-CD1E-4FA7-879C-2F66191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3AA-C102-482E-9FC7-408D38E4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8566-1999-4D2C-B237-4A3A6FAA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B8B-BA5F-440B-B38B-7D519DAB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2FD02-2FB0-4B95-918C-B0921C135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AEE69D-6866-4A57-A6BD-3FBDB942D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C3AB3-6D5B-4738-AE17-B6134D19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4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uly 30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84, Remove Annual RUC Impact Report Requirement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2, Removal of MIS Posting Requirement of DAM Credit Parameter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3, Incorporation of “Threshold Values for Competitive Constraint Test” into the Protocol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4, Non-Spin Schedule Requirements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5, Posting and Notice Requirements for Notifications of Suspension of Operations and Notifications of Change of Generation Resource Designation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699, Energy Offer Curve Caps for Make-Whole Calculations for Resource Type Other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0, Utilizing Actual Fuel Costs in Startup Offer Ca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1, As-Built Clarification of NPRR589, Ancillary Service Offers in the Supplemental Ancillary Services Market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3, Clarification of Disclosure Requirements for GINR Study Information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06, Restore the ability to use Physical Responsive Reserve Capability as an Indicator of Available Frequency-Responsive Capac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PRR710, Removal of ORDC Phase 2 Language and Modification to HASL Calc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June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S meeting, participants requested a special session to review aging projects (Board-approved Revision Requests which have not yet been implemented).  At the July 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S meeting, participants reviewed 12 aging projects and discussed the current need for moving forward with implementation with the following out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hat the Revision Request is no longer needed.  Original submitter agreed to file an NPRR to strike grey-boxes from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181, FIP Definition Re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56, Synchronize Nodal Protocols with PRR787, Add Non-Compliance Language to QSE Performance Standa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55, CRR Shift Factors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93, Half-Hour RUC Claw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o not start project, pending further stakeholder a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GRR084, Daily Grid Operations Summar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484, Revisions to Congestion Revenue Rights Credit Calculations and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664, Fuel Index Price for Resource Definition and Real-Time Make-Whole Payments for Exceptional Fuel Cost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agreement to proceed with system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10, Wind Forecasting Change to P50, Synchronization with PRR8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72, Definition and Participation of Quick Start Generatio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403200" y="71424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que circum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285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 Resource Base Point Deviation Charge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st of missed system change being assess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327, State Estimator Data Redac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has been on hold for an extensive period due to ERCOT resource constraints.  Some MPs questioned the current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PRR515, Day-Ahead Market Self-Commitment of Generation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planned for work in 2016, ERCOT has found an alternate funding option in 2015.  Some MPs questioned the current n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S discussion was productive but concerns were expressed regarding the process including how aging projects should be treated and whether or not PRS should be revisiting Board-approved Revision 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Review Discu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7-21T14:09:45Z</dcterms:modified>
  <cp:revision>274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