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0F94-079C-49F7-81FE-D7E65FDF3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E596-99CF-4FE4-9DE1-05BCC3B73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E6EE-09E4-472D-B508-A7CAA64A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A41E9-769F-4031-B8E4-5F9643AE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49F08-A7DB-44BC-843A-6D9FC23D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76A58-52E9-4239-823C-31BEA9A6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40A8-4515-4AF8-A695-0AE0F383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21F3-6435-4C5C-B8B8-46DCC50F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8CD0-E9FF-4CE4-B400-564EFC04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705A-D1BE-4B2F-AA02-AC728485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B390-2D4E-4CCE-8BDC-DB255579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D54F-B9D0-4022-8A77-860A1E01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D65B-CAD2-4BDF-B37B-B600E9C9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520D-9E52-428B-B2F4-00249163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12D3-688D-4D8A-A9C5-EE5016CB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3D69-B0B3-4806-A080-7C492BBB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8C44-AEB3-47F3-93B2-F9BDA7FB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C29E-4F1E-4C58-AE2C-34B186DE3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4081-236B-4D61-8BA9-90BF0FF4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6D54F-4323-40A4-B910-651C5FA2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503D6-FAE0-412F-91E8-5D2E193E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EC620-DF4F-4F69-9A49-462C49FD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DB6AD-B7F5-48A0-BA6B-E82D8B31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739D0-E9A0-4A53-9D8F-93309EF9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833D-B69E-499F-8B7A-CAEE9330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40A58-45FF-45FE-821E-23837D0C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60BD0-410C-4732-AA0F-A2FCC667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3EB8-FD26-4268-A59E-A7E44A31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75F9C-CA69-4CC7-B208-FD7B911E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481F1-6BAF-409C-A53A-62DABDCF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8876A-A935-47DB-B17B-A84D05D9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95DFA-B928-4C70-91E0-E42E25D30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7C074-9D15-442D-9005-94B64F5B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2628-EAD8-4142-ACB8-BDD0CD48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1D16-7E1C-418E-9F14-77FC9B36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51501-5E88-4F47-AA20-B1EDC867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36F2-D7AC-4A7A-9C8B-6374DC5E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4AE0-C4B0-4F47-ABF0-D15F6F2B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4E66-ECDE-4139-8C9B-F608365D4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37E4-C49C-4520-9D3B-41A11ACB5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3C65-A69C-4138-B6E9-C8456F51A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AC96-FC11-46DC-A555-FDE7D48E1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76F9-947F-4191-877D-E4825FFD5E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July 15,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Jim Lee (AEP) – Chair</a:t>
            </a: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Vic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June 24</a:t>
            </a:r>
            <a:r>
              <a:rPr b="1" lang="en-US" sz="2800" spc="-1" strike="noStrike" baseline="30000">
                <a:solidFill>
                  <a:srgbClr val="3d5f5d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 PWG: Review of LPGRR056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665D-21FC-4F63-901B-767F2992E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811080" y="1495440"/>
            <a:ext cx="7570800" cy="46242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"/>
          <p:cNvSpPr/>
          <p:nvPr/>
        </p:nvSpPr>
        <p:spPr>
          <a:xfrm>
            <a:off x="369720" y="1143000"/>
            <a:ext cx="84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LPGRR056, Initial Profile Code Assignment for Tempora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69720" y="1085760"/>
            <a:ext cx="798840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Benefi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Better aligns the initial Load Profile with AMS meter types and actual us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More accurate initial Settlement for temporary 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More accurately reflects credit exposure of M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Reduces impact of Revenue/Cost of Goods Sold (COGS) in accounting between Initial and True-Up Sett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Reduces UFE impact between Initial and True-Up Sett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ticipated governance time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PWG initial language review (July 29</a:t>
            </a:r>
            <a:r>
              <a:rPr b="1" lang="en-US" sz="20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PWG Impact Analysis review (Aug 26</a:t>
            </a:r>
            <a:r>
              <a:rPr b="1" lang="en-US" sz="20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COPS review/approval (Sept 9</a:t>
            </a:r>
            <a:r>
              <a:rPr b="1" lang="en-US" sz="20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AC review/approval (Sept 24</a:t>
            </a:r>
            <a:r>
              <a:rPr b="1" lang="en-US" sz="20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70c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Anticipated effective date: October 1, 2015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369720" y="297000"/>
            <a:ext cx="70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June 24</a:t>
            </a:r>
            <a:r>
              <a:rPr b="1" lang="en-US" sz="2800" spc="-1" strike="noStrike" baseline="30000">
                <a:solidFill>
                  <a:srgbClr val="3d5f5d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 PWG: Review of LPGRR056</a:t>
            </a: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06E2-AEAC-4B70-9C71-502F4CF0E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69720" y="1085760"/>
            <a:ext cx="7988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PWG began review of Section 18 on May 27th with the goal of completing review of Section 18 by the end of 201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The following is the proposed timeline for Section 18 revie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06440" y="282600"/>
            <a:ext cx="67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5f5d"/>
                </a:solidFill>
                <a:latin typeface="Arial"/>
              </a:rPr>
              <a:t>Protocol Section 18 – Load Profi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99E4-7BF2-4034-8637-33736EACA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719280" y="2409840"/>
            <a:ext cx="728964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ACBF-A434-4DE4-8D4C-9A5A0E99E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71680" y="1889280"/>
            <a:ext cx="8001000" cy="383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ly 2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9:30am start time  (In-person METCenter Room 16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 it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PGRR056 – Initial Profile Code Assignment for Tempora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ocol Section 18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61"/>
          <p:cNvSpPr/>
          <p:nvPr/>
        </p:nvSpPr>
        <p:spPr>
          <a:xfrm>
            <a:off x="596880" y="28224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A7E14-A5E7-4A43-B0B6-9CB23C7F7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Jim Lee</cp:lastModifiedBy>
  <dcterms:modified xsi:type="dcterms:W3CDTF">2015-07-08T18:34:32Z</dcterms:modified>
  <cp:revision>1097</cp:revision>
  <dc:subject/>
  <dc:title>Instructions</dc:title>
</cp:coreProperties>
</file>