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7B7-2019-4141-BFF4-10F806B0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00D-6D2A-4E48-8A2E-6293CC9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BCC-68B6-4C7D-9243-1CF38459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A42-7C86-47CA-9F26-77325786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ED4-1B26-4C91-9D97-DDA1BF9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F9A-80E5-477A-8F7B-3C7B82F0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785-CB13-4DAF-BB85-0CF52844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BCC-6924-4DE6-BE1A-2BC9777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D12-1DFE-44D1-8CF3-DB98A60B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B9C-F133-41C6-984C-1C7EB59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9F4-53B2-49EA-8B67-D8F9886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6D5-683E-427C-9672-916D284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5823-6563-43EC-BF4A-EDA624E33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E77D-6AA9-4060-A3B9-676409A5D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3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4386-6AC4-45A3-9271-5BFB673A9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CMRR007 and VCMRR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CMRR00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Alignment with NPRR699, Energy Offer Curve Caps for Make-Whole Calculations for Resource Type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RR699 approved at last WM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CMRR00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Alignment with NPRR700, Utilizing Actual Fuel Cost in Startup Offer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RR700 approved at last WM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 to Table; ERCOT will be submitting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942C-577F-41F1-9D67-6FD734CEC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CMRR Minimum Fuel Requirement Cost in Fuel Adder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seeking clarification on allocating minimum gas transportation costs in the fuel adder calcu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ource can elect to submit an “actual” fuel adder instead of the default $0.50/MMB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ource must submit documentation to ERCOT for ve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Options to allocate minimum requirement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cate to resource usage only, excluding third-party and stor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cate to resource and third-party usage, excluding stor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cate across all activity on transportation contr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raft VCMRR reflects Option 1, as endorsed by W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FEF-ABE3-4819-A68E-DB9114FED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T Mitigation During Exceptional Fuel Events (Alternative to NPRR6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Options Discuss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ption 1 – Reinstate the manual workaround for the Real-Time Make-Whole Payment for Exceptional Fuel Costs in NPRR 66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ption 2 - Pursue “Exceptional Fuel Cost flag” concep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ption 3 - Increase MOC’s during Cold Weather Ev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ngie (GDF Suez) to submit NPRR for Option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C289-3C24-4439-B39B-77FEF3ED7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for verifying exceptional fuel costs for c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R End of Life Cycle Verif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WG Open Action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MS Open Action Items for RC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5A8-0602-4BFA-B411-9FA3DF1C2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371600"/>
          <a:ext cx="8458200" cy="5019840"/>
        </p:xfrm>
        <a:graphic>
          <a:graphicData uri="http://schemas.openxmlformats.org/drawingml/2006/table">
            <a:tbl>
              <a:tblPr/>
              <a:tblGrid>
                <a:gridCol w="3600720"/>
                <a:gridCol w="895320"/>
                <a:gridCol w="39621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case examples in order to assess the potential dollar impact of utilizing separate MOCs for power augmentation and quick start unit m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the verifiable costs of new technolo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rt of RCWG Char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WG submitted NPRR560 Caps and Floors for Energy Storage Resources, approved 12/9/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CWG submitted NPRR/VCMRR, EOC Caps for Make-Whole for  Resource Type “Other”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C procurement involving Power Purchase Agre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submitted NPRR658-Changes to Annual Reporting Requirements for RUC Payments Made to Resources with PP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moval of PPA applied in Verifiable Cost from 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pending finalization of NPRR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on process for Fuel Index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-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working on draft NPR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s prices impacted by CSAPR and expiration of current 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ices under C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 ruling replaced CAIR with CSAPR ; ERCOT began implementing CSAPR emissions pricing in Verifiable Costs for 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n January 1, 201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to NPRR664 Fuel Index Price for Resource Definition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-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 at today’s W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-Whole Payment Caps/Implementation of NPRR560, Caps and Floors for Energy Storage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-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pproved NPRR699 EOC Caps for Make-Whole for Resource Type “Other”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MRR007 up for vote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5-06-01T14:19:44Z</dcterms:modified>
  <cp:revision>447</cp:revision>
  <dc:subject/>
  <dc:title>QMWG Update to WMS</dc:title>
</cp:coreProperties>
</file>