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D6C7-9A1B-4E5F-B7D4-349DABDEA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C70E-A4EF-4B2F-B5CF-4B15FC56D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6ABA-84ED-41F3-9AE9-59EE364F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0D04-E0EF-471E-B2D2-DB1F53E8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0E46-3492-47E2-B34C-8889C3DB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F4D7-6A7D-4037-8211-8EA033D3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050E-7952-42EF-970F-AF10B6EA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7F28-1996-4CF8-A452-3F7AD010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D2C9-ADCF-4674-8415-6873AC6F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151A-CDE2-41DD-8BBE-995014FA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CF5A-6795-4B3E-B554-398FD079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F29B-BB9E-4387-89A8-D885CD7A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6838-27BF-41DF-BEC8-6E7C5AF2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A2E0-1E6D-4699-A9BD-484503CD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E639-D030-4E63-978E-BE50D5D3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466B-29D1-415E-91D2-3F4383A4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DA5B-F118-472C-8EF2-847671E3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4EC9-99D6-40E9-A587-C4A61D736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E724-1BC4-44DB-A5FC-39665C05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8692A-61F4-4209-B064-61414ACC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34B3F-E444-47BC-9703-15BFB817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648C6-46EA-4F33-9E9A-F80AA104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1A467-3993-4660-8CC6-5FDFCCAB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9A39C-63A3-4AE5-953D-7311D81F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E3AE-BE37-4832-8B31-33935A07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5B021-8EFC-466A-9A94-172929A1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87CC9-D0EE-48E5-A7E1-5858B425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8C265-BAB2-4374-9F48-5663AB20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A9E6B-B3B7-4465-B56C-A49BFFB3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CD8C3-E617-4EDE-9E21-FE7F1300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9D3DD-371B-4C5E-BA61-CE99C1A6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62ADF-3BAB-4A3D-84B6-B14D0A2A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5F050-1676-402D-8105-6E162B5E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F9651-4DED-4DFA-B8BF-B4CEF0BC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A4E4C-BCA3-40B2-99AA-262930F9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612-502D-4E35-B255-A43F51C5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D221D-4F0E-4AE7-A648-A2C0DAD2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7514F-A3E8-474A-AF0C-DA3D3E39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4E58D-36D4-44D1-93CA-FA998CB8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F1517-97A6-4D39-8A94-3DADC0B7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D3732-BECC-4C55-B503-8CEF36DE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0C49E-41E0-4F28-BCC2-615C7535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9F3C8-DE1B-4505-8031-4DDB291F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674C5-A130-49D5-93A1-4BC272BA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972DC-EC61-4B10-AB4C-0F1FCE5A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81D4C-4432-4512-93D1-93B68A00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CDCA-A63D-420C-923D-550FD1DB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2BB80-715F-4735-9C2F-7F08112D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E61BA-35E7-447D-AB51-860352E4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DC2B7-50F5-4360-9577-0509A316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27934-9926-472C-BD7E-E85C2548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958A0-3024-45B4-AAE9-2B41D496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C2CBA-9B07-4724-84F7-94F1CBB1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8AC93-D3AC-438D-A4CF-F24EF8C0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08AC9-22E9-4737-9773-30F38F26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94BB4-A8CD-4CEB-A49B-2A78AFDE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9CD66-6418-4D73-B289-750967D5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1783-D70B-49CC-B6DC-D03AD53D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366C6-0D5D-4561-955E-406EEE4B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6D2B2-D261-4CBC-BBAF-FADD88E0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7C272-E2C4-4F9E-8082-8992421F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B1E54-5BD0-452E-8BEF-84D940AB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DB63E-4B5C-4E93-BAF3-15DA8AE0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34BF6-5460-496B-81CA-197CAD36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70F6D-E7A0-431C-A479-A99A1E9A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D78BF-42D3-428E-A5BA-67E28EFD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D988F-FF33-40A7-9268-D65DCD58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1F538-DD89-466B-9D14-D7819D5D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21AD-0058-43FB-B52B-926424A5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3F2A4-CB42-4A1D-9AC0-4917EBCD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8B583-59E1-46E9-A301-90CEC363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C4C26-0273-48A1-9200-49AD112D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477F0-1300-4DB9-9495-7B8B61A3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A7485-F87C-4DA4-BC95-81F2EC93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5514C-9D6A-4027-AE13-BB0B85D1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F9F2B-5923-442C-9E65-C5550643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02DB0-79E8-450F-8B86-43BCDBB6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D22F5-38DE-450A-8A94-0CD6884A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5AFCB-5459-48DB-8DCC-225ACD45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B3C4-41A7-4E17-9DBE-7BB33538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72E62-024A-46AB-B539-280477BD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545F2-179B-4F37-9EE3-7091B26A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40B31-BC23-43DF-8D34-8649F1A4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7CA67-BBEE-4368-AEAD-36067069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6AB8E-1B37-4A6E-A10C-D4880BE0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C52EA-E354-4B3B-B437-CFC58288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E0E55-EF7B-4095-A364-84848823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D6FE7-B94E-4DE3-BDD7-99123825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95A2F-04ED-485B-8CFD-A414532A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D0856-7F59-4799-A3E6-08E7BE52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766-5ACC-42B0-A501-2BCBED6C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F6352-5B29-4F27-B6EE-1D85FCA6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67A0B-7B42-4991-B15E-621D8584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53326-8118-4F47-8CCF-6225DDB1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BC532-26BC-420C-A2A8-A1E83210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CED31-311D-49E6-983C-1213AAC3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900DA-80BD-4046-83C1-0E8605B9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D2B5E-1FF2-4482-B8BB-B5CE84CE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22E6-03BC-4ED1-8CCC-D53E7FEEDBF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5794-2DE7-441D-BE1B-67747F4E13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4711-15E5-4D53-8BD5-30A47F7AF58E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400A-1838-4EA5-808D-9D313A1E02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7C0D-3A6E-44B7-BBAD-7DA137F86D6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4486-B43E-4ED4-A179-92AA697EA5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6EFF-18A1-4B68-8969-F180C990849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5D2B-9A11-4682-8F4D-BCE8666ABF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8598-0F41-4BBB-9AA7-1F5E03339F6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16C3-F1D5-419D-8651-BABB381A28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B374-D311-4472-9A98-C52BED39817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D83D-041A-42D8-A263-3FCAAEB8AD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6F0D-FBAE-4E1D-B4BD-A441E52A1D9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71C3-884A-4D8F-BC63-D06AF02628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AAB8-B6A3-447D-B31B-6A9AAEA584E5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8A1C-D9EB-42AE-9168-D3E3F18D58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epartnership.org/intelligent-energy-management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371520" y="1755720"/>
            <a:ext cx="8089920" cy="22003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Lucida Sans Unicode"/>
              </a:rPr>
              <a:t>Update to R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Lucida Sans Unicode"/>
              </a:rPr>
              <a:t>June 2, 201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8B7B-7F95-4A8C-81C2-2D6089CDCA90}" type="slidenum">
              <a:rPr b="0" lang="en-US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art Energy Roadmap Repo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commendation review led by Doug Lewin of SPE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port accessed via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Lucida Sans Unicode"/>
                <a:hlinkClick r:id="rId1"/>
              </a:rPr>
              <a:t>http://eepartnership.org/intelligent-energy-management/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545680" cy="1243080"/>
          </a:xfrm>
          <a:prstGeom prst="rect">
            <a:avLst/>
          </a:prstGeom>
          <a:ln w="0">
            <a:noFill/>
          </a:ln>
        </p:spPr>
      </p:pic>
      <p:sp>
        <p:nvSpPr>
          <p:cNvPr id="38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EDF4-B8E8-44B9-BC44-FD4F99CFFC7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6840" y="148104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rkshop to discuss Improvement to SMT 3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r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Party Acc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July 23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rd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1:00 p.m. – 5:00 p.m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July 24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9:00 a.m. – 3:00 p.m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RCOT Met Center, Room 206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rket notice has been s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9991-465D-40E2-BF9E-D078B32310B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2 total AMWG C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9 deliver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 waiting next releas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4 RMS approved estimate, AMWG categorized, &amp; proceeding AMWG packag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 pending approval to move to cost estima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6 pending approval to move to prioritiza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0 tabled at AMW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201600" y="262080"/>
            <a:ext cx="8485200" cy="1158840"/>
          </a:xfrm>
          <a:prstGeom prst="rect">
            <a:avLst/>
          </a:prstGeom>
          <a:ln w="0">
            <a:noFill/>
          </a:ln>
        </p:spPr>
      </p:pic>
      <p:sp>
        <p:nvSpPr>
          <p:cNvPr id="388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27D5-50D5-40CA-8FDB-41910F5FD600}" type="slidenum">
              <a:rPr b="0" lang="en-US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684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T Help Desk Call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,292 (+440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T Help Desk Ticke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,191 (+414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sidential = 1,062 (+361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-22392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GUI access issues = 559 (+144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-22392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Registration issues = 240 (+92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T Registered User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7,994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(-666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ecrease due to customers moving, not updating profile to reflect new meter/ESI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SIs in SM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7,013,816 (+11,540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ters in SM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Active Meters)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6,942,378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+11,184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2ABC-55AC-4BD7-9548-81B5C158365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ergy Data Agreemen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97 (+10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EPN = 1; CNP = 34; Oncor = 62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N Device Agreemen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87 (+2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N Devic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9,321 (+653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r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Parties Registered @ SM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2 (+12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s Registered @ SM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96 (+2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 Demand Rea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ustomer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,164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P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8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rd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Part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5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D436-27E9-4E43-8AA9-1849DE31956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nthly, alternating between in-person and WebE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xt meeting is June 16th, 9:00 – 3:30, WebEx on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maining meetings for 2015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June 16th – WebEx only                   September 2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Lucida Sans Unicode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Room 168 at ERCO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July 2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Lucida Sans Unicode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– Room 168 at ERCOT        October 2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Lucida Sans Unicode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– WebEx only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August 17</a:t>
            </a:r>
            <a:r>
              <a:rPr b="0" lang="en-US" sz="16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– WebEx only                November 17</a:t>
            </a:r>
            <a:r>
              <a:rPr b="0" lang="en-US" sz="16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– Room 209 at ERCO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December 1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– WebEx only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B9F7-0007-4D44-A83F-3B25AA62DEF1}" type="slidenum">
              <a:rPr b="0" lang="en-US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2590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58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Lucida Sans Unicode"/>
              </a:rPr>
              <a:t>Questions?</a:t>
            </a:r>
            <a:endParaRPr b="0" lang="en-US" sz="7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EF7E-DAAF-417F-ACC3-EB874938B21C}" type="slidenum">
              <a:rPr b="0" lang="en-US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20:53:10Z</dcterms:created>
  <dc:creator>Schatz, John</dc:creator>
  <dc:description/>
  <dc:language>en-US</dc:language>
  <cp:lastModifiedBy>Schatz, John</cp:lastModifiedBy>
  <cp:lastPrinted>2015-04-27T19:27:05Z</cp:lastPrinted>
  <dcterms:modified xsi:type="dcterms:W3CDTF">2015-05-26T15:20:06Z</dcterms:modified>
  <cp:revision>50</cp:revision>
  <dc:subject/>
  <dc:title>Advanced Metering Working Group (AMWG)</dc:title>
</cp:coreProperties>
</file>