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8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9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0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E3B-B733-426A-AF45-1B7C0727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9E44-954C-4912-ACA5-88577CFA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4526-A63A-43A0-91E6-6B0127AA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804-27B3-49D0-B94F-E533C9ECB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ED85-2A5E-41C8-AB82-8771C824D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2F1-1A5F-4927-B3AF-F35DE7B0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9795-9804-4A07-9ED7-65AEA7DBE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7D4-C40F-4766-AE58-57495071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B79-09FC-43BC-A200-93A6C4FC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4F98-0257-42E4-8572-4DC53D58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FCD-3E8D-40B1-9091-37DADD42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4D86-A95A-4907-BA02-6621B6BD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565-6D6E-440F-81ED-7BF2D662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078-A18E-45A8-BDD7-9B06B11A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CADA-FDD5-402C-8DDC-0CF728CB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0B99-E702-4BA1-AFDC-B56E405F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619A-7FA1-41B4-AB99-B5611CE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A587-3D70-40CC-B5BE-367165D1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EE64-DCB8-4B16-BB38-CB4802F3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BB37-F6FC-4763-80E1-CAE19233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F337-4075-4DC3-B21A-8A0BA591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584F-C602-4015-A3CC-349AB3B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250-7EF0-42B9-9501-607F05A8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6B9-3D61-4A43-868A-EB845B2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D439-A852-4C41-89C0-7E2FEA5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78D-D65F-4D55-A1F8-38C42D0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DB84-7AF7-430C-A377-C6CFA4BA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893-E620-490B-9E88-AA128C1B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823F-4CD3-466C-B26E-0B869B3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7F65-6B13-400B-ACA4-0467E6F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4E56-A885-403E-9222-42ADFB3F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D85-287D-43CE-9BA1-F6C71543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B05B-A820-413D-9F6A-43A48E56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8370-1E4C-45B7-9F2E-B5915B5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60DE-7F97-4680-9613-1F6482A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510A-E489-47F6-82A2-08E9793A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CF8D-8DA1-4051-8A64-794B2AC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DD03-5E71-44EF-BF00-B51430D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2C4E-A5FA-4953-AB2A-B77A468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7DF-6AD6-4385-9191-AEB46B09E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521-D736-48D0-9754-2CF44719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8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831AE-E1F1-4582-86E6-01512C82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852FF-2D2A-407C-8BE5-2635289D1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A4B0F-62FD-4A47-B418-5143551F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1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7CEBD-C5C5-4054-8E2D-19D8E5F9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1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F025C-6AB1-4A59-A792-DDFECE1B30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42297-EE7E-4723-ADFB-DD8F6681D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AE854-BBB2-4D43-8274-35F3A306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49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EE3DC-6787-40B7-96D8-4D4E28F9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01AE9-0E1E-478F-8F3A-3F41592C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285F7-ED87-4553-A003-0A7E6784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6/2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Profiling Working Group 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ing with TDSPs on an ‘Initial Profile Code Assignments for Temporary Services’ draft LPGR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the possibility of modifying TDSP processes for handling initial load profile assignments for temporary services for non-residential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, the profile “BUSMEDLF” is used, which has an associated backcast profile of approximately 500 kWh, which has caused credit and customer experience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Protocol Section 18, Load Profil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ent is up-to-date and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 to face PWG meetings scheduled beginning May 2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completion by the end of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15, 201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58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Box 1"/>
          <p:cNvSpPr/>
          <p:nvPr/>
        </p:nvSpPr>
        <p:spPr>
          <a:xfrm>
            <a:off x="1163520" y="2344680"/>
            <a:ext cx="6438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Update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y Ba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/15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3"/>
          <p:cNvSpPr/>
          <p:nvPr/>
        </p:nvSpPr>
        <p:spPr>
          <a:xfrm>
            <a:off x="352440" y="866880"/>
            <a:ext cx="832788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          ERCOT Performanc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        Settlement 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rack number of price changes “after-the-fac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rack number and types of disputes submitted to ERCO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Report on compliance with timeliness of response and disposition of disput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Other Settlement metrics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Availability of Electric Service Identifier (ESI ID) consumption data in conformance with Settlem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        Uplift:  ERCOT shall calculate and post the sum of all charges for all Qualified Scheduling Entities (QSEs) for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 and year-to-date due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he RUC Capacity-Short Charge, as described in Section 5.7.4.1, RUC Capacity-Short Charg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he RUC Decommitment Charge, as described in Section 5.7.6, RUC Decommitmen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The Load-Allocated Reliability Must Run Amount per QSE, as described in Section 6.6.6.5, RMR 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The Load-Allocated Voltage Support Service Amount per QSE, as described in Section 6.6.7.2, Volt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The Load-Allocated Black Start Service Amount per QSE, as described in Section 6.6.8.2, Black St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       The Load-Allocated Emergency Energy Amount per QSE, as described in Section 6.6.9.2, Charge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Power Increas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)      The Load-Allocated Real-Time Revenue Neutrality Amount per QSE, as described in Section 6.6.10, Real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Revenue Neutrality Allocation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i)     The total of the ERCOT System Administration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) Track number of price changes “after-the-fa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93600" y="1308240"/>
          <a:ext cx="7169400" cy="1882800"/>
        </p:xfrm>
        <a:graphic>
          <a:graphicData uri="http://schemas.openxmlformats.org/drawingml/2006/table">
            <a:tbl>
              <a:tblPr/>
              <a:tblGrid>
                <a:gridCol w="1238400"/>
                <a:gridCol w="682560"/>
                <a:gridCol w="771480"/>
                <a:gridCol w="762120"/>
                <a:gridCol w="790560"/>
                <a:gridCol w="704880"/>
                <a:gridCol w="609480"/>
                <a:gridCol w="781200"/>
                <a:gridCol w="828720"/>
              </a:tblGrid>
              <a:tr h="43812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5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27612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25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27648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30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590" name="TextBox 7"/>
          <p:cNvSpPr/>
          <p:nvPr/>
        </p:nvSpPr>
        <p:spPr>
          <a:xfrm>
            <a:off x="1035000" y="3402000"/>
            <a:ext cx="630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25/2015 were due to the Tech Refresh Project production cutov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30/2015 were due to an MMS application out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31880" y="932040"/>
          <a:ext cx="7191360" cy="4024080"/>
        </p:xfrm>
        <a:graphic>
          <a:graphicData uri="http://schemas.openxmlformats.org/drawingml/2006/table">
            <a:tbl>
              <a:tblPr/>
              <a:tblGrid>
                <a:gridCol w="3630600"/>
                <a:gridCol w="1185840"/>
                <a:gridCol w="1187280"/>
                <a:gridCol w="118764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. Res. Base Pt Deviation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 Unit Commitment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738360" y="901800"/>
          <a:ext cx="7522920" cy="3187440"/>
        </p:xfrm>
        <a:graphic>
          <a:graphicData uri="http://schemas.openxmlformats.org/drawingml/2006/table">
            <a:tbl>
              <a:tblPr/>
              <a:tblGrid>
                <a:gridCol w="3125520"/>
                <a:gridCol w="1100160"/>
                <a:gridCol w="1098720"/>
                <a:gridCol w="1100160"/>
                <a:gridCol w="109836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 w/Ex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762120" y="1050840"/>
          <a:ext cx="7159680" cy="4054680"/>
        </p:xfrm>
        <a:graphic>
          <a:graphicData uri="http://schemas.openxmlformats.org/drawingml/2006/table">
            <a:tbl>
              <a:tblPr/>
              <a:tblGrid>
                <a:gridCol w="3549600"/>
                <a:gridCol w="1203120"/>
                <a:gridCol w="1203480"/>
                <a:gridCol w="1203480"/>
              </a:tblGrid>
              <a:tr h="3970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illary Service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. Res. Base Pt Deviation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 Unit Commitment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733320" y="1066680"/>
          <a:ext cx="6264360" cy="2925720"/>
        </p:xfrm>
        <a:graphic>
          <a:graphicData uri="http://schemas.openxmlformats.org/drawingml/2006/table">
            <a:tbl>
              <a:tblPr/>
              <a:tblGrid>
                <a:gridCol w="3678480"/>
                <a:gridCol w="1292040"/>
                <a:gridCol w="1293840"/>
              </a:tblGrid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VOTING Item(s)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55, Extend Load Profile Model Calendar Inputs to 20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ffective Date: June 1, 201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 for Revision - Administrati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the Load Profile Model calendar-related inputs in Appendix E, Profile Model Spreadsheets, from 2020 to 2030.  The calendar inputs include calendar variables, daylight savings variables, sunrise/sunset times and holiday variables.  Corresponding changes to calendar-related inputs will be made to the Load Profile Models in the MetrixIDR load forecast and backcast system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314280" y="3913200"/>
            <a:ext cx="45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 Final settlement data is not represented in grap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"/>
          <p:cNvSpPr/>
          <p:nvPr/>
        </p:nvSpPr>
        <p:spPr>
          <a:xfrm>
            <a:off x="5973840" y="41292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verag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4962600" y="4476600"/>
            <a:ext cx="3554280" cy="1640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2"/>
          <a:stretch/>
        </p:blipFill>
        <p:spPr>
          <a:xfrm>
            <a:off x="225360" y="1093680"/>
            <a:ext cx="86932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5059440" y="868320"/>
            <a:ext cx="3425760" cy="2517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900000" y="3678120"/>
            <a:ext cx="7182000" cy="1957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"/>
          <p:cNvPicPr/>
          <p:nvPr/>
        </p:nvPicPr>
        <p:blipFill>
          <a:blip r:embed="rId3"/>
          <a:stretch/>
        </p:blipFill>
        <p:spPr>
          <a:xfrm>
            <a:off x="363600" y="779400"/>
            <a:ext cx="4782960" cy="2698920"/>
          </a:xfrm>
          <a:prstGeom prst="rect">
            <a:avLst/>
          </a:prstGeom>
          <a:ln w="0">
            <a:noFill/>
          </a:ln>
        </p:spPr>
      </p:pic>
      <p:sp>
        <p:nvSpPr>
          <p:cNvPr id="610" name="TextBox 6"/>
          <p:cNvSpPr/>
          <p:nvPr/>
        </p:nvSpPr>
        <p:spPr>
          <a:xfrm>
            <a:off x="900000" y="5622840"/>
            <a:ext cx="741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5052960" y="717480"/>
            <a:ext cx="3627360" cy="2799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"/>
          <p:cNvPicPr/>
          <p:nvPr/>
        </p:nvPicPr>
        <p:blipFill>
          <a:blip r:embed="rId2"/>
          <a:stretch/>
        </p:blipFill>
        <p:spPr>
          <a:xfrm>
            <a:off x="925560" y="3637080"/>
            <a:ext cx="7181640" cy="19573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4848120" cy="24670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1"/>
          <p:cNvSpPr/>
          <p:nvPr/>
        </p:nvSpPr>
        <p:spPr>
          <a:xfrm>
            <a:off x="887400" y="5594400"/>
            <a:ext cx="741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"/>
          <p:cNvSpPr/>
          <p:nvPr/>
        </p:nvSpPr>
        <p:spPr>
          <a:xfrm>
            <a:off x="6167520" y="1282680"/>
            <a:ext cx="2690640" cy="8240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At month end, settling 6.7M ESIIDs using Advanced Meter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254160" y="3946680"/>
            <a:ext cx="281916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98.4% of the load in ERCOT is settled with 15-min interval data (AMS, Competitive IDR, and NOIE ID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3139920" y="3448080"/>
            <a:ext cx="5743800" cy="2743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270000" y="666720"/>
            <a:ext cx="574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79440" y="274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260280" y="71604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4597560" y="716040"/>
            <a:ext cx="4298760" cy="25606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"/>
          <p:cNvPicPr/>
          <p:nvPr/>
        </p:nvPicPr>
        <p:blipFill>
          <a:blip r:embed="rId3"/>
          <a:stretch/>
        </p:blipFill>
        <p:spPr>
          <a:xfrm>
            <a:off x="260280" y="331308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"/>
          <p:cNvPicPr/>
          <p:nvPr/>
        </p:nvPicPr>
        <p:blipFill>
          <a:blip r:embed="rId4"/>
          <a:stretch/>
        </p:blipFill>
        <p:spPr>
          <a:xfrm>
            <a:off x="4597560" y="3313080"/>
            <a:ext cx="42987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g) Up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404640" y="3467160"/>
            <a:ext cx="10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$Mill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8080200" y="3457440"/>
          <a:ext cx="659160" cy="243000"/>
        </p:xfrm>
        <a:graphic>
          <a:graphicData uri="http://schemas.openxmlformats.org/drawingml/2006/table">
            <a:tbl>
              <a:tblPr/>
              <a:tblGrid>
                <a:gridCol w="659160"/>
              </a:tblGrid>
              <a:tr h="243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5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404640" y="1433520"/>
            <a:ext cx="83347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TextBox 3" descr=""/>
          <p:cNvPicPr/>
          <p:nvPr/>
        </p:nvPicPr>
        <p:blipFill>
          <a:blip r:embed="rId1"/>
          <a:stretch/>
        </p:blipFill>
        <p:spPr>
          <a:xfrm>
            <a:off x="255600" y="689040"/>
            <a:ext cx="8736120" cy="55357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tential protocol improvements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"/>
          <p:cNvSpPr/>
          <p:nvPr/>
        </p:nvSpPr>
        <p:spPr>
          <a:xfrm>
            <a:off x="1231920" y="5857920"/>
            <a:ext cx="4743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 - Should (g) 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costs/credits allocated to load,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ly the unpreventable load ratio share based charge-typ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6805440" y="685800"/>
            <a:ext cx="2033640" cy="170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uld (c)(iv) remain general so that COPS has the flexibility to change the focus, as needed?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our recommendatio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at information should be provided in support of (c)(iv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 chang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Save the Date – DER Worksho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Energy Resource (DER)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8, 2015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9:30 AM – 3:30 P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Austin, Room 206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Ex Conference availab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detailed agenda will be posted prior to the mee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genda will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ion of Protocol Section 16.5 (5), which requires a reset of the Distributed Generation (DG) registration threshold if the level of unregistered DG greater than 50kW in a Load Zone reaches 10 MWs.  This issue is currently under discussion at CSWG and COP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keholder input into ERCOT’s outline of the forthcoming white paper on DERs, which was released at the April 9, 2015 ETWG meeting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http://www.ercot.com/calendar/2015/4/9/54807-ETW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 Registration Threshold  &gt; 1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Market Particip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modeled RA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d unregistered DG &gt; 50 kW and &lt;= 1 MW is tracked and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16.5, Registration of a Resource Entity, Paragraph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ggregated unregistered DG exceeds 10 MW in any Load Zone, ERCOT shall issue a Market Notice that states a lower DG registration threshold to reduce the total installed capacity  of DG greater than 50 kW to no more than 7 MW in any Loa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come effective 9 months after Market Notice is iss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WG Special Meeting held 5-4-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 Existing Protocol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Grandfathering for existing D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 one tim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cation will provide the necessary information and not address enfor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items for May 26 CSWG mee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verify that Customer Billing Contact Information (CBCI) cannot be used to provide DG Facility Owner contac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create a straw man communication document for CSWG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he DG Resource Webpage on ERCOT.com for possible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IGGER: Unregistered DG reaches 10 MW in any one Load Zo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Determin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Issue Market Notice (Includes an email to Authorized Representatives of all TDSP companie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Meet with appropriate TAC Subcommittees to announce th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NOIEs and TDSPs of specific DG Facilities impacted by the new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Work with TDSPs and NOIEs to obtain information needed to contact the DG Facility Own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Send notice to impacted LSEs’ Authorized Representatives (This is just a heads up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impacted DG Facility Owners - Include information like ‘Who is ERCOT’ and step by step instructions on how to become a Market Participant and how to register a DG Resour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6858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tlement Stability Report provided by Mandy Bauld and Blake Holt (See Appendix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8.2 (2), Paragraphs (c) and (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from Q1 2015 repo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) Track number of price changes “after the fact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2 Intervals 3/25/2015 and 2 Intervals 3/30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46, Granted 30 and Denied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27, Granted 13, Granted w/Exceptions 1, Denied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i) Response compliance of disputes (timeline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100%, Fin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– Variance from Initial Sett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Final Variance 3.18%, True-up Variance 0.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Final Variance 3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75, Indicative LMP Dis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esented mock-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 and display time period fin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target date: 6/26/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rcRect l="6957" t="22408" r="7426" b="39818"/>
          <a:stretch/>
        </p:blipFill>
        <p:spPr>
          <a:xfrm>
            <a:off x="762120" y="2209680"/>
            <a:ext cx="7696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Web Services (EWS) Modifications Workshop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discu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for providing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working on a demo of a streaming solution that could be used for smaller sets of high-demand data, e.g., L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send out a survey to solicit MP feedback on the best solution for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o be tabulated and distributed in a future MISU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feedback, ERCOT will begin defining a revised EW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will be used as the means for communicating progress and gather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</cp:lastModifiedBy>
  <cp:lastPrinted>2015-05-19T18:20:47Z</cp:lastPrinted>
  <dcterms:modified xsi:type="dcterms:W3CDTF">2015-05-21T15:06:32Z</dcterms:modified>
  <cp:revision>1229</cp:revision>
  <dc:subject/>
  <dc:title>Instructions</dc:title>
</cp:coreProperties>
</file>