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BF41-8851-4824-9565-DA2298BBC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406E-6DFB-4919-B606-11D66B157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6271-B8AB-4390-B79C-088CE9A47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3D2AB80-8870-489D-86F8-CF3EA2651B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FE73623-9275-4AA3-8979-49AF19948F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4E96845-B89B-439B-95DA-B256042097F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70E1E33-ECB1-4436-9995-0D4CCEB291A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3B718C1-08F1-4693-A9B7-37BBD78133D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1D5548E-FF3C-419D-9A8F-AAEA2E7D414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B324651-8277-4201-A2C3-970E778583A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766D145-A5F9-4552-B2E2-F2AFD2599D9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00F71FF-CACA-4B02-9C41-E2982769748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DA61312-EC66-4F78-9024-D75364DDCAB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38C8763-F7D9-42A6-9613-C6A0CBC4BC3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B9DFABB-456C-429E-94E0-9E1C6F6455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8D7F432-985A-44D9-AD84-E58F78CC97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88DCE-0FD8-4DE9-B408-161F3C9FD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BF4D8-BE90-48C0-8D84-0C8CA0C46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31163-A10E-4DB3-9150-2B8F29CA0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7E7AA-2A65-4DA6-94AB-7B17EDD51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8DCC3-9BD7-4388-9E1E-812CB68B7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69378-442A-4C9B-8615-B82F56CE1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29EB3-08A7-4692-B6A1-0D92858E5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FC52CDD-7E50-4238-A1F2-1419419252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851C7-BE00-4A56-9EC3-230D89158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01486-9BDA-4E71-8D76-BC1557BA0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96F16-8D1C-45B8-A52E-1ACDE69A6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A6B1A-AE9A-4842-AECA-CDB359247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1BDF0B-B4FF-4361-B28C-166BC4C29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2F509B8-90AB-47EB-B01C-E5338D8C71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CC4C413-2C98-43F8-AED2-94F60993A8A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90DF11B-8031-432C-ADD9-489856E55D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2395B0-CCA7-48CF-B6BD-0EAF7321945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15A1D1C-F9AC-4318-9A36-7355523CF4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9FB7A66-8CBE-4330-A012-2E74DBD386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47F9C6-554F-4580-8AB5-803801DCB4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E2AE622-6776-4690-BDAE-33971D0CC4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870D95-080D-473D-A313-0AAB7669D7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61C385-E322-49F0-AEC4-D853E93203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52A880-FC9A-416B-A455-01FE6B286D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FF1D14E-496B-46FD-A9B9-BFA0AE4627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E1FECA4-3798-45B2-9567-8704479FD36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6E9A7FF-DEC5-4D73-A48F-81820143548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5DDB169-21E3-4E85-96BE-61EDBA4FF9A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09E107E-0AEA-4AFC-9AEC-15D0F904C7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63F47E1-4487-4BF4-8D36-D485326C54E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ECCEF43-2DCB-4290-8E3E-476C1C95159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B7F93D5-31CC-4EE3-9EA6-1225719118B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B9FBB67-ED94-470F-89DE-2A758187364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456A56C-FCEF-4EA0-96E0-184DC075394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AB1E9C6-B01A-4592-AC6E-03F2AE6D470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E0D3339-E400-4F0A-9D93-3E82ADB1E3C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648C4DE-87EB-410E-AD57-84B6DCC3677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A5A82DA-3EBC-4FF6-A05C-04520FA3016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9613E43-487C-4283-88A6-7EAB181A3AE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ED45148-8B04-46E2-9E5A-4B24023B6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A7B20D3-7C4C-4B3E-9D38-A238514941C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6CBC51D-FFC9-4E0C-87CA-7714830DBCB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CD137A3-17BC-48D2-8DB3-055450783A5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CD93AF6-DDD8-4951-ABF6-319F94761F8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D5D203B-72CD-4C75-822F-2F58EA7F9E9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C4E95EC-CB9E-41A5-93B8-09374941CD9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398FF12-3410-4E17-957A-7203B4B1F50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C534594-2313-450D-BC7E-A5290AC9B92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23046B3-6FE2-41AF-B662-96788F9F1A7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B324930-EA54-4EC1-B440-225A0C91640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6CEF7C8-5508-47BE-BB68-A6D9E804FD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DBF474F-7B62-4A6C-94F9-80C7A460502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3379030-D810-4A63-AA6A-F6279C9F8D6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CA75DB4-622B-453A-BD6C-9282E1BE3F8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D5AAB1D-96A8-4AC6-87CA-3DCA4F8EF1F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E5677C5-BE41-4BDD-8CFC-4B5BABCBF82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1B68CFD-815C-4DBF-975E-EDAD9A5103D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94C1EC7-8778-4D65-A11A-943194E8891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29A8B9F-C15B-49C9-9648-7797A01DAFE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F8FAF1E-5224-45F6-8C0A-A7E41B0073E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2F9C39F-4D0A-44DD-8FF4-E74594A3900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01B4D82-EBBB-4CFD-8C66-F9AB43157C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4F75DF6-60F5-4837-9498-A657F54157B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20C7B21-FA20-4C95-BA49-3066BC6840B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2A793A2-F8CD-4D20-8B66-6A27E865280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8668350-D101-4A5C-B28F-2AAD02D005E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22A161E-C85E-4C5D-8514-6A55672C163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18EF208-1C0D-496C-9B39-3D9F997CB0B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6A483D5-346D-4B2D-92D9-7DB349CA102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8C52476-77EA-4C1D-8EE1-CD3B1434CF6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497F931-6164-45D2-9CB6-602D38DFDE4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120CC94-79AE-475E-BBC1-78147159C7E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FD275C6-9CC4-44AD-8B03-3522EB4565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44EE50A-4DDB-4773-8AA6-B428D58363E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E4E7ED4-D42F-4D8F-8D78-7D843499F26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B78EB71-3763-4731-B05C-DD544840EF0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7A908C0-6429-4216-B357-438558B26E4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0F1E079-0AC4-4486-80A3-908C1CC3475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CA75079-A123-42C8-9934-ECC8D29E68D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C8EB0B1-CAEB-48BC-BE3A-4E1917DEC93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0DCD7F7-109A-45E0-8129-9F5351161D0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9F63E1D-817A-40DC-AC9F-5098E928D22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665A7D6-549D-412C-80AE-27B2CB4F9067}"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477F-D563-44D1-8053-FC6AE67588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A6B1-E6AA-4C6A-8833-EB1ADF135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1682-4742-494A-9302-3819D7A203B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3A87-FF44-4B54-9FD7-5B4BC504D47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22B9-4C44-4E5C-9421-E5158E33D7B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2FF5-6166-488A-8C12-B932ABE5E19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A6AF-2437-42C3-966F-1F191A3AACB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D3B61-BA7C-4A06-9E40-3D69D27DC02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5280-EB26-4C47-BB69-DC173CACBB1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ercot.com/content/mktrules/obd/documents/Credit%20Formulas%20and%20Detail%20Whitepaper%20for%20the%20Day-Ahead%20Mark.doc"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ercot.com/content/wcm/key_documents_lists/56054/07._WMS_update_2015_05_28.ppt.pdf" TargetMode="External"/><Relationship Id="rId2" Type="http://schemas.openxmlformats.org/officeDocument/2006/relationships/hyperlink" Target="http://www.ercot.com/content/wcm/key_documents_lists/56054/07._WMS_update_2015_05_28.ppt.pdf" TargetMode="External"/><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May 28, 2015 </a:t>
            </a:r>
            <a:br>
              <a:rPr sz="2900"/>
            </a:br>
            <a:r>
              <a:rPr b="1" lang="en-US" sz="2900" spc="-1" strike="noStrike">
                <a:solidFill>
                  <a:srgbClr val="572314"/>
                </a:solidFill>
                <a:latin typeface="Gill Sans MT"/>
              </a:rPr>
              <a:t>Technical Advisory Committee (TAC) Update to RMS</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400800"/>
            <a:ext cx="2210040" cy="3808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2, 2015</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C Update to RMS</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CAE44-08A1-473C-9608-10662483F25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914400" y="685800"/>
            <a:ext cx="8229600" cy="55627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Subcommittee (RM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MGRR129</a:t>
            </a:r>
            <a:r>
              <a:rPr b="0" lang="en-US" sz="2400" spc="-1" strike="noStrike">
                <a:solidFill>
                  <a:srgbClr val="000000"/>
                </a:solidFill>
                <a:latin typeface="Gill Sans MT"/>
              </a:rPr>
              <a:t>, Revision to Customer Rescission Completion Timeline (Vote)</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to Table at TAC and remand to RMS was Unanimous</a:t>
            </a:r>
            <a:r>
              <a:rPr b="1" lang="en-US" sz="2000" spc="-1" strike="noStrike">
                <a:solidFill>
                  <a:srgbClr val="000000"/>
                </a:solidFill>
                <a:latin typeface="Gill Sans MT"/>
              </a:rPr>
              <a:t>.  </a:t>
            </a:r>
            <a:r>
              <a:rPr b="0" lang="en-US" sz="2000" spc="-1" strike="noStrike">
                <a:solidFill>
                  <a:srgbClr val="000000"/>
                </a:solidFill>
                <a:latin typeface="Gill Sans MT"/>
              </a:rPr>
              <a:t>Reason for remand:  Market Participants (MPs) are requesting additional implementation timeline for RMGRR129 to allow MPs the time to create some internal processes that supports the rescission new timelines as stated in RMGRR129.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hanges to Texas Market Test Plan (TMPT)</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AC reviewed RMS’  TMPT deletion that removed TAC ‘s Approval of the Market Test Flight Schedules, TAC members thought this deletion allows RMS more flexibility to make changes when and where necessary.  TAC had no concerns or issues with their deletion.  </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859320" indent="-22140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46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 2015</a:t>
            </a:r>
            <a:endParaRPr b="0" lang="en-US" sz="1200" spc="-1" strike="noStrike">
              <a:solidFill>
                <a:srgbClr val="000000"/>
              </a:solidFill>
              <a:latin typeface="Arial"/>
            </a:endParaRPr>
          </a:p>
        </p:txBody>
      </p:sp>
      <p:sp>
        <p:nvSpPr>
          <p:cNvPr id="46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6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C3D2-F704-4CB7-9893-582AB1FB754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67" name="Title 1"/>
          <p:cNvSpPr/>
          <p:nvPr/>
        </p:nvSpPr>
        <p:spPr>
          <a:xfrm>
            <a:off x="1130400" y="-228600"/>
            <a:ext cx="80010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S Initiatives and Vote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990720" y="-1526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 </a:t>
            </a:r>
            <a:r>
              <a:rPr b="0" lang="en-US" sz="3600" spc="-1" strike="noStrike">
                <a:solidFill>
                  <a:srgbClr val="572314"/>
                </a:solidFill>
                <a:latin typeface="Gill Sans MT"/>
              </a:rPr>
              <a:t>Ancillary Services Re-design Update </a:t>
            </a:r>
            <a:endParaRPr b="0" lang="en-US" sz="3600" spc="-1" strike="noStrike">
              <a:solidFill>
                <a:srgbClr val="572314"/>
              </a:solidFill>
              <a:latin typeface="Gill Sans MT"/>
            </a:endParaRPr>
          </a:p>
        </p:txBody>
      </p:sp>
      <p:sp>
        <p:nvSpPr>
          <p:cNvPr id="469" name=""/>
          <p:cNvSpPr txBox="1"/>
          <p:nvPr/>
        </p:nvSpPr>
        <p:spPr>
          <a:xfrm>
            <a:off x="990720" y="761760"/>
            <a:ext cx="815328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AS (NPRR 667)</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rket Clearing Price of Capacity (MCPC)</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st Benefit Analysis (CBA)</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CBA is delayed/rescheduled from September to October 2015</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Motion:  TAC will not vote on the MCPC proposals until  TAC considers NPRR667, also TAC requested that the FAS  Team discontinue work on the MCPC issue.  </a:t>
            </a:r>
            <a:r>
              <a:rPr b="1" lang="en-US" sz="2400" spc="-1" strike="noStrike">
                <a:solidFill>
                  <a:srgbClr val="c00000"/>
                </a:solidFill>
                <a:latin typeface="Gill Sans MT"/>
              </a:rPr>
              <a:t>Motion was unanimously Approved by TAC.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www.ercot.com/content/wcm/key_documents_lists/56054/10._FAS_Procurement_and_Pricing_5_28_15_TAC_Meeting.pptx </a:t>
            </a:r>
            <a:endParaRPr b="0" lang="en-US" sz="16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www.ercot.com/content/wcm/key_documents_lists/56054/10._Procurement_Pricing_Matrix_as_of_5_28_15_TAC.xlsx </a:t>
            </a:r>
            <a:endParaRPr b="0" lang="en-US" sz="1600" spc="-1" strike="noStrike">
              <a:solidFill>
                <a:srgbClr val="000000"/>
              </a:solidFill>
              <a:latin typeface="Gill Sans MT"/>
            </a:endParaRPr>
          </a:p>
        </p:txBody>
      </p:sp>
      <p:sp>
        <p:nvSpPr>
          <p:cNvPr id="47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 2015</a:t>
            </a:r>
            <a:endParaRPr b="0" lang="en-US" sz="1200" spc="-1" strike="noStrike">
              <a:solidFill>
                <a:srgbClr val="000000"/>
              </a:solidFill>
              <a:latin typeface="Arial"/>
            </a:endParaRPr>
          </a:p>
        </p:txBody>
      </p:sp>
      <p:sp>
        <p:nvSpPr>
          <p:cNvPr id="47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7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D1E2-4A8A-44C1-8277-29C3F591A4F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Operations, Planning and IT Report </a:t>
            </a:r>
            <a:endParaRPr b="0" lang="en-US" sz="3600" spc="-1" strike="noStrike">
              <a:solidFill>
                <a:srgbClr val="572314"/>
              </a:solidFill>
              <a:latin typeface="Gill Sans MT"/>
            </a:endParaRPr>
          </a:p>
        </p:txBody>
      </p:sp>
      <p:sp>
        <p:nvSpPr>
          <p:cNvPr id="474" name=""/>
          <p:cNvSpPr txBox="1"/>
          <p:nvPr/>
        </p:nvSpPr>
        <p:spPr>
          <a:xfrm>
            <a:off x="1066320" y="685800"/>
            <a:ext cx="8077320" cy="5410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Browser Compatibility Assessment Update:</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http://www.ercot.com/content/wcm/key_documents_lists/56054/11._2015_05_28_TAC_Browser_Presentation___Final.pptx</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 2015</a:t>
            </a:r>
            <a:endParaRPr b="0" lang="en-US" sz="1200" spc="-1" strike="noStrike">
              <a:solidFill>
                <a:srgbClr val="000000"/>
              </a:solidFill>
              <a:latin typeface="Arial"/>
            </a:endParaRPr>
          </a:p>
        </p:txBody>
      </p:sp>
      <p:sp>
        <p:nvSpPr>
          <p:cNvPr id="47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7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461B-A203-4827-92E2-690C963BFE2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78" name="Object 6"/>
          <p:cNvGraphicFramePr/>
          <p:nvPr/>
        </p:nvGraphicFramePr>
        <p:xfrm>
          <a:off x="4114800" y="3043080"/>
          <a:ext cx="914400" cy="771840"/>
        </p:xfrm>
        <a:graphic>
          <a:graphicData uri="http://schemas.openxmlformats.org/presentationml/2006/ole">
            <p:oleObj r:id="rId1" spid="">
              <p:embed/>
              <p:pic>
                <p:nvPicPr>
                  <p:cNvPr id="479" name="Object 6" descr=""/>
                  <p:cNvPicPr/>
                  <p:nvPr/>
                </p:nvPicPr>
                <p:blipFill>
                  <a:blip r:embed="rId2"/>
                  <a:stretch/>
                </p:blipFill>
                <p:spPr>
                  <a:xfrm>
                    <a:off x="4114800" y="3043080"/>
                    <a:ext cx="914400" cy="77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Other Business</a:t>
            </a:r>
            <a:endParaRPr b="0" lang="en-US" sz="3600" spc="-1" strike="noStrike">
              <a:solidFill>
                <a:srgbClr val="572314"/>
              </a:solidFill>
              <a:latin typeface="Gill Sans MT"/>
            </a:endParaRPr>
          </a:p>
        </p:txBody>
      </p:sp>
      <p:sp>
        <p:nvSpPr>
          <p:cNvPr id="481" name=""/>
          <p:cNvSpPr txBox="1"/>
          <p:nvPr/>
        </p:nvSpPr>
        <p:spPr>
          <a:xfrm>
            <a:off x="1066320" y="762120"/>
            <a:ext cx="8077320" cy="541008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write of Protocol Section 20, Alternative Dispute Resolution Procedure</a:t>
            </a:r>
            <a:endParaRPr b="0" lang="en-US" sz="20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PRR 709 has been filed by ERCOT that provides their recommended redlined process improvements for Protocols Section 20.      </a:t>
            </a:r>
            <a:endParaRPr b="0" lang="en-US" sz="1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had Seely,  ERCOT,  stated a Workshop is planned for some time in June 2015 to provide market transparency throughout the revision process.  </a:t>
            </a:r>
            <a:endParaRPr b="0" lang="en-US" sz="1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NPRR is scheduled for consideration at the June 11, 2015 PRS meeting</a:t>
            </a:r>
            <a:endParaRPr b="0" lang="en-US" sz="18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 Participant Training</a:t>
            </a:r>
            <a:endParaRPr b="0" lang="en-US" sz="20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tp://www.ercot.com/content/wcm/key_documents_lists/56054/12._Training_Plan_for_ET.pptx </a:t>
            </a:r>
            <a:endParaRPr b="0" lang="en-US" sz="18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Update on NPRR638, Revisions to Certain Price Components of EAL</a:t>
            </a:r>
            <a:endParaRPr b="0" lang="en-US" sz="20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 planned to provide an update the ERCOT Board F&amp;A Committee  during the June Board meeting. ERCOT will continue working with CWG and MCWG</a:t>
            </a:r>
            <a:endParaRPr b="0" lang="en-US" sz="1800" spc="-1" strike="noStrike">
              <a:solidFill>
                <a:srgbClr val="000000"/>
              </a:solidFill>
              <a:latin typeface="Gill Sans MT"/>
            </a:endParaRPr>
          </a:p>
          <a:p>
            <a:pPr lvl="1" marL="633240" indent="-234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 2015</a:t>
            </a:r>
            <a:endParaRPr b="0" lang="en-US" sz="1200" spc="-1" strike="noStrike">
              <a:solidFill>
                <a:srgbClr val="000000"/>
              </a:solidFill>
              <a:latin typeface="Arial"/>
            </a:endParaRPr>
          </a:p>
        </p:txBody>
      </p:sp>
      <p:sp>
        <p:nvSpPr>
          <p:cNvPr id="48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8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C11D-E82A-4C4C-BF96-AD6DDC30499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Other Business</a:t>
            </a:r>
            <a:endParaRPr b="0" lang="en-US" sz="3600" spc="-1" strike="noStrike">
              <a:solidFill>
                <a:srgbClr val="572314"/>
              </a:solidFill>
              <a:latin typeface="Gill Sans MT"/>
            </a:endParaRPr>
          </a:p>
        </p:txBody>
      </p:sp>
      <p:sp>
        <p:nvSpPr>
          <p:cNvPr id="486" name=""/>
          <p:cNvSpPr txBox="1"/>
          <p:nvPr/>
        </p:nvSpPr>
        <p:spPr>
          <a:xfrm>
            <a:off x="1066320" y="762120"/>
            <a:ext cx="8077320" cy="5410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hould TAC implement a Consent Agenda?: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EP requested that TAC consider implementing a “Consent Agenda” to eliminate discussions of uncontested items.  TAC members voiced some concerns with going in that direction and stated in some ways TAC already conducts their voting as an “Informal Consent Agenda”.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s Market Rules are concerned about how do they determine the “Consent Agenda” items, what if there is a difference of opinion between parties of what is or isn’t part of the “Consent Agenda” ?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AC Chair Response:  First Leadership and ERCOT will try grouping voting  items differently to see if that helps resolve this request.</a:t>
            </a:r>
            <a:endParaRPr b="0" lang="en-US" sz="2000" spc="-1" strike="noStrike">
              <a:solidFill>
                <a:srgbClr val="000000"/>
              </a:solidFill>
              <a:latin typeface="Gill Sans MT"/>
            </a:endParaRPr>
          </a:p>
        </p:txBody>
      </p:sp>
      <p:sp>
        <p:nvSpPr>
          <p:cNvPr id="48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 2015</a:t>
            </a:r>
            <a:endParaRPr b="0" lang="en-US" sz="1200" spc="-1" strike="noStrike">
              <a:solidFill>
                <a:srgbClr val="000000"/>
              </a:solidFill>
              <a:latin typeface="Arial"/>
            </a:endParaRPr>
          </a:p>
        </p:txBody>
      </p:sp>
      <p:sp>
        <p:nvSpPr>
          <p:cNvPr id="48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8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2DED-42B6-40DD-A64F-321F9E410C2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9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8781-D1F4-4C47-B3EB-D6D69C4B145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9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 2015</a:t>
            </a:r>
            <a:endParaRPr b="0" lang="en-US" sz="1200" spc="-1" strike="noStrike">
              <a:solidFill>
                <a:srgbClr val="000000"/>
              </a:solidFill>
              <a:latin typeface="Arial"/>
            </a:endParaRPr>
          </a:p>
        </p:txBody>
      </p:sp>
      <p:sp>
        <p:nvSpPr>
          <p:cNvPr id="49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pic>
        <p:nvPicPr>
          <p:cNvPr id="494" name="Content Placeholder 4" descr=""/>
          <p:cNvPicPr/>
          <p:nvPr/>
        </p:nvPicPr>
        <p:blipFill>
          <a:blip r:embed="rId1"/>
          <a:stretch/>
        </p:blipFill>
        <p:spPr>
          <a:xfrm>
            <a:off x="1676520" y="838080"/>
            <a:ext cx="6705360" cy="509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0"/>
            <a:ext cx="7499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 Board Update</a:t>
            </a:r>
            <a:endParaRPr b="0" lang="en-US" sz="4300" spc="-1" strike="noStrike">
              <a:solidFill>
                <a:srgbClr val="572314"/>
              </a:solidFill>
              <a:latin typeface="Gill Sans MT"/>
            </a:endParaRPr>
          </a:p>
        </p:txBody>
      </p:sp>
      <p:sp>
        <p:nvSpPr>
          <p:cNvPr id="424" name=""/>
          <p:cNvSpPr txBox="1"/>
          <p:nvPr/>
        </p:nvSpPr>
        <p:spPr>
          <a:xfrm>
            <a:off x="1218960" y="990360"/>
            <a:ext cx="7499160" cy="48006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April 14, 2015 Board Meeting: </a:t>
            </a:r>
            <a:endParaRPr b="0" lang="en-US" sz="32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oard approved all Revision Requests that were submitted to the Board by TAC, includes the LCRA/CPS RPG project.   </a:t>
            </a: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w Unaffiliated Director of ERCOT Board:  Peter Cramton was nominated and approved by the ERCOT Corporate members.  This vote will also require PUCT approval.  </a:t>
            </a: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pdate provided on NPRR638 with more current details were included in this May 28</a:t>
            </a:r>
            <a:r>
              <a:rPr b="0" lang="en-US" sz="2800" spc="-1" strike="noStrike" baseline="30000">
                <a:solidFill>
                  <a:srgbClr val="000000"/>
                </a:solidFill>
                <a:latin typeface="Gill Sans MT"/>
              </a:rPr>
              <a:t>th</a:t>
            </a:r>
            <a:r>
              <a:rPr b="0" lang="en-US" sz="2800" spc="-1" strike="noStrike">
                <a:solidFill>
                  <a:srgbClr val="000000"/>
                </a:solidFill>
                <a:latin typeface="Gill Sans MT"/>
              </a:rPr>
              <a:t> TAC meeting under “Other Business” </a:t>
            </a:r>
            <a:endParaRPr b="0" lang="en-US" sz="28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 2015</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E8D4-8043-4C4C-9613-566B8AAD993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S Initiatives and Votes</a:t>
            </a:r>
            <a:endParaRPr b="0" lang="en-US" sz="4300" spc="-1" strike="noStrike">
              <a:solidFill>
                <a:srgbClr val="572314"/>
              </a:solidFill>
              <a:latin typeface="Gill Sans MT"/>
            </a:endParaRPr>
          </a:p>
        </p:txBody>
      </p:sp>
      <p:sp>
        <p:nvSpPr>
          <p:cNvPr id="429" name=""/>
          <p:cNvSpPr txBox="1"/>
          <p:nvPr/>
        </p:nvSpPr>
        <p:spPr>
          <a:xfrm>
            <a:off x="914400" y="685800"/>
            <a:ext cx="8305920" cy="556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62</a:t>
            </a:r>
            <a:r>
              <a:rPr b="0" lang="en-US" sz="2400" spc="-1" strike="noStrike">
                <a:solidFill>
                  <a:srgbClr val="000000"/>
                </a:solidFill>
                <a:latin typeface="Gill Sans MT"/>
              </a:rPr>
              <a:t>, Proxy Energy Offer Curves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AC Approved with vote of 83% (Yes) 17% (No) and 6 abstentions.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74</a:t>
            </a:r>
            <a:r>
              <a:rPr b="0" lang="en-US" sz="2400" spc="-1" strike="noStrike">
                <a:solidFill>
                  <a:srgbClr val="000000"/>
                </a:solidFill>
                <a:latin typeface="Gill Sans MT"/>
              </a:rPr>
              <a:t>, Clarification of Water Supply Rights Documentation</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AC Unanimously Approved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79</a:t>
            </a:r>
            <a:r>
              <a:rPr b="0" lang="en-US" sz="2400" spc="-1" strike="noStrike">
                <a:solidFill>
                  <a:srgbClr val="000000"/>
                </a:solidFill>
                <a:latin typeface="Gill Sans MT"/>
              </a:rPr>
              <a:t>, ONOPTOUT for RUC Given After the Adjustment Period</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AC Unanimously Approved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80</a:t>
            </a:r>
            <a:r>
              <a:rPr b="0" lang="en-US" sz="2400" spc="-1" strike="noStrike">
                <a:solidFill>
                  <a:srgbClr val="000000"/>
                </a:solidFill>
                <a:latin typeface="Gill Sans MT"/>
              </a:rPr>
              <a:t>, Allow QSEs to Self-Arrange AS Quantities Greater Than Their AS Obligation - Urgent</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AC Unanimously Approved with Reliant’s comments along with TAC’s 5/28/15 edits. </a:t>
            </a:r>
            <a:endParaRPr b="0" lang="en-US" sz="2000" spc="-1" strike="noStrike">
              <a:solidFill>
                <a:srgbClr val="000000"/>
              </a:solidFill>
              <a:latin typeface="Gill Sans MT"/>
            </a:endParaRPr>
          </a:p>
          <a:p>
            <a:pPr lvl="2" marL="8859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 2015</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12A82-073E-4063-A3FC-C78AC28CAC0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S Initiatives and Votes (cont.)  </a:t>
            </a:r>
            <a:endParaRPr b="0" lang="en-US" sz="4300" spc="-1" strike="noStrike">
              <a:solidFill>
                <a:srgbClr val="572314"/>
              </a:solidFill>
              <a:latin typeface="Gill Sans MT"/>
            </a:endParaRPr>
          </a:p>
        </p:txBody>
      </p:sp>
      <p:sp>
        <p:nvSpPr>
          <p:cNvPr id="434" name=""/>
          <p:cNvSpPr txBox="1"/>
          <p:nvPr/>
        </p:nvSpPr>
        <p:spPr>
          <a:xfrm>
            <a:off x="914400" y="685800"/>
            <a:ext cx="8305920" cy="55627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81</a:t>
            </a:r>
            <a:r>
              <a:rPr b="0" lang="en-US" sz="2400" spc="-1" strike="noStrike">
                <a:solidFill>
                  <a:srgbClr val="000000"/>
                </a:solidFill>
                <a:latin typeface="Gill Sans MT"/>
              </a:rPr>
              <a:t>, Clarifications to Dynamic Ratings</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AC Unanimously Approved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82</a:t>
            </a:r>
            <a:r>
              <a:rPr b="0" lang="en-US" sz="2400" spc="-1" strike="noStrike">
                <a:solidFill>
                  <a:srgbClr val="000000"/>
                </a:solidFill>
                <a:latin typeface="Gill Sans MT"/>
              </a:rPr>
              <a:t>, Changes to Notification Method when ERCOT Intends to Procure Additional Ancillary Services</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AC Unanimously Approved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83</a:t>
            </a:r>
            <a:r>
              <a:rPr b="0" lang="en-US" sz="2400" spc="-1" strike="noStrike">
                <a:solidFill>
                  <a:srgbClr val="000000"/>
                </a:solidFill>
                <a:latin typeface="Gill Sans MT"/>
              </a:rPr>
              <a:t>, Revision to Available Credit Limit Calculation</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AC Unanimously Approved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86</a:t>
            </a:r>
            <a:r>
              <a:rPr b="0" lang="en-US" sz="2400" spc="-1" strike="noStrike">
                <a:solidFill>
                  <a:srgbClr val="000000"/>
                </a:solidFill>
                <a:latin typeface="Gill Sans MT"/>
              </a:rPr>
              <a:t>, Changing the IRR Forecast from Next 48 Hours to Next 168 Hours</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AC Unanimously Approved </a:t>
            </a:r>
            <a:endParaRPr b="0" lang="en-US" sz="20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 2015</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430A-34FA-4EF9-840A-5760F350003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S Initiatives and Votes (cont.)</a:t>
            </a:r>
            <a:endParaRPr b="0" lang="en-US" sz="4300" spc="-1" strike="noStrike">
              <a:solidFill>
                <a:srgbClr val="572314"/>
              </a:solidFill>
              <a:latin typeface="Gill Sans MT"/>
            </a:endParaRPr>
          </a:p>
        </p:txBody>
      </p:sp>
      <p:sp>
        <p:nvSpPr>
          <p:cNvPr id="439" name=""/>
          <p:cNvSpPr txBox="1"/>
          <p:nvPr/>
        </p:nvSpPr>
        <p:spPr>
          <a:xfrm>
            <a:off x="914400" y="685800"/>
            <a:ext cx="8305920" cy="556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87</a:t>
            </a:r>
            <a:r>
              <a:rPr b="0" lang="en-US" sz="2400" spc="-1" strike="noStrike">
                <a:solidFill>
                  <a:srgbClr val="000000"/>
                </a:solidFill>
                <a:latin typeface="Gill Sans MT"/>
              </a:rPr>
              <a:t>, Required Telemetry for Operational Awareness and PDCWG Analysis</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AC Unanimously Approved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88</a:t>
            </a:r>
            <a:r>
              <a:rPr b="0" lang="en-US" sz="2400" spc="-1" strike="noStrike">
                <a:solidFill>
                  <a:srgbClr val="000000"/>
                </a:solidFill>
                <a:latin typeface="Gill Sans MT"/>
              </a:rPr>
              <a:t>, Black Start Services Testing Clarifications</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AC Unanimously Approved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90</a:t>
            </a:r>
            <a:r>
              <a:rPr b="0" lang="en-US" sz="2400" spc="-1" strike="noStrike">
                <a:solidFill>
                  <a:srgbClr val="000000"/>
                </a:solidFill>
                <a:latin typeface="Gill Sans MT"/>
              </a:rPr>
              <a:t>, Incorporation of Creditworthiness Standards into Protocols</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AC Unanimously Approved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98</a:t>
            </a:r>
            <a:r>
              <a:rPr b="0" lang="en-US" sz="2400" spc="-1" strike="noStrike">
                <a:solidFill>
                  <a:srgbClr val="000000"/>
                </a:solidFill>
                <a:latin typeface="Gill Sans MT"/>
              </a:rPr>
              <a:t>, Clarifications to NPRR595, RRS Load Resource Treatment In ORDC -- Urgent</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AC Unanimously Approved </a:t>
            </a:r>
            <a:endParaRPr b="0" lang="en-US" sz="2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 2015</a:t>
            </a:r>
            <a:endParaRPr b="0" lang="en-US" sz="1200" spc="-1" strike="noStrike">
              <a:solidFill>
                <a:srgbClr val="000000"/>
              </a:solidFill>
              <a:latin typeface="Arial"/>
            </a:endParaRPr>
          </a:p>
        </p:txBody>
      </p:sp>
      <p:sp>
        <p:nvSpPr>
          <p:cNvPr id="4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5B93-0F83-4534-B633-42345412C16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S Initiatives and Votes (cont.) </a:t>
            </a:r>
            <a:endParaRPr b="0" lang="en-US" sz="4300" spc="-1" strike="noStrike">
              <a:solidFill>
                <a:srgbClr val="572314"/>
              </a:solidFill>
              <a:latin typeface="Gill Sans MT"/>
            </a:endParaRPr>
          </a:p>
        </p:txBody>
      </p:sp>
      <p:sp>
        <p:nvSpPr>
          <p:cNvPr id="444" name=""/>
          <p:cNvSpPr txBox="1"/>
          <p:nvPr/>
        </p:nvSpPr>
        <p:spPr>
          <a:xfrm>
            <a:off x="914400" y="685800"/>
            <a:ext cx="8305920" cy="556272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Other Binding Document List </a:t>
            </a:r>
            <a:r>
              <a:rPr b="0" lang="en-US" sz="2800" spc="-1" strike="noStrike">
                <a:solidFill>
                  <a:srgbClr val="000000"/>
                </a:solidFill>
                <a:latin typeface="Gill Sans MT"/>
              </a:rPr>
              <a:t>-- Removal of "Credit Formulas and Detail Whitepaper for the Day-Ahead Market" (Vote)</a:t>
            </a:r>
            <a:endParaRPr b="0" lang="en-US" sz="2800" spc="-1" strike="noStrike">
              <a:solidFill>
                <a:srgbClr val="000000"/>
              </a:solidFill>
              <a:latin typeface="Gill Sans MT"/>
            </a:endParaRPr>
          </a:p>
          <a:p>
            <a:pPr lvl="3" marL="50688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TAC Unanimously Approved </a:t>
            </a:r>
            <a:endParaRPr b="0" lang="en-US" sz="2400" spc="-1" strike="noStrike">
              <a:solidFill>
                <a:srgbClr val="000000"/>
              </a:solidFill>
              <a:latin typeface="Gill Sans MT"/>
            </a:endParaRPr>
          </a:p>
          <a:p>
            <a:pPr lvl="4" marL="6829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www.ercot.com/content/mktrules/obd/documents/Credit%20Formulas%20and%20Detail%20Whitepaper%20for%20the%20Day-Ahead%20Mark.doc</a:t>
            </a:r>
            <a:r>
              <a:rPr b="0" lang="en-US" sz="1800" spc="-1" strike="noStrike">
                <a:solidFill>
                  <a:srgbClr val="000000"/>
                </a:solidFill>
                <a:latin typeface="Gill Sans MT"/>
              </a:rPr>
              <a:t>  </a:t>
            </a:r>
            <a:endParaRPr b="0" lang="en-US" sz="18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intaining Duplicate EEA Language in Protocols and Operating Guides (Possible Vote)</a:t>
            </a: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TAC Unanimously Approved establishing procedures that allows language to be maintained in both ERCOT Protocols and Operating Guides and to ensure language remains in sync.  </a:t>
            </a: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779400" indent="-2008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  2015</a:t>
            </a:r>
            <a:endParaRPr b="0" lang="en-US" sz="1200" spc="-1" strike="noStrike">
              <a:solidFill>
                <a:srgbClr val="000000"/>
              </a:solidFill>
              <a:latin typeface="Arial"/>
            </a:endParaRPr>
          </a:p>
        </p:txBody>
      </p:sp>
      <p:sp>
        <p:nvSpPr>
          <p:cNvPr id="44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4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9A6E-40E4-4926-80AC-41D0BB26127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Tabled and/or Withdrawn Revisions</a:t>
            </a:r>
            <a:endParaRPr b="0" lang="en-US" sz="3200" spc="-1" strike="noStrike">
              <a:solidFill>
                <a:srgbClr val="572314"/>
              </a:solidFill>
              <a:latin typeface="Gill Sans MT"/>
            </a:endParaRPr>
          </a:p>
        </p:txBody>
      </p:sp>
      <p:sp>
        <p:nvSpPr>
          <p:cNvPr id="449" name=""/>
          <p:cNvSpPr txBox="1"/>
          <p:nvPr/>
        </p:nvSpPr>
        <p:spPr>
          <a:xfrm>
            <a:off x="838080" y="685800"/>
            <a:ext cx="83059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tice of Withdrawal </a:t>
            </a: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75</a:t>
            </a:r>
            <a:r>
              <a:rPr b="0" lang="en-US" sz="2400" spc="-1" strike="noStrike">
                <a:solidFill>
                  <a:srgbClr val="000000"/>
                </a:solidFill>
                <a:latin typeface="Gill Sans MT"/>
              </a:rPr>
              <a:t>, Modifications for ERS Estimates in Calculating Future Planning Reserves</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No action necessary by TAC </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quest Previously Tabled at  TAC (Possible Vote):</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68</a:t>
            </a:r>
            <a:r>
              <a:rPr b="0" lang="en-US" sz="2400" spc="-1" strike="noStrike">
                <a:solidFill>
                  <a:srgbClr val="000000"/>
                </a:solidFill>
                <a:latin typeface="Gill Sans MT"/>
              </a:rPr>
              <a:t>, Updates to Texas SET Implementation Guide Process</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ebruary’s  TAC “</a:t>
            </a:r>
            <a:r>
              <a:rPr b="1" lang="en-US" sz="2000" spc="-1" strike="noStrike">
                <a:solidFill>
                  <a:srgbClr val="c00000"/>
                </a:solidFill>
                <a:latin typeface="Gill Sans MT"/>
              </a:rPr>
              <a:t>Motion to Table</a:t>
            </a:r>
            <a:r>
              <a:rPr b="0" lang="en-US" sz="2000" spc="-1" strike="noStrike">
                <a:solidFill>
                  <a:srgbClr val="000000"/>
                </a:solidFill>
                <a:latin typeface="Gill Sans MT"/>
              </a:rPr>
              <a:t>” continued awaiting RMS’ approval of TX SET Change Control Process Implementation Guide that completes the process associated to this NPRR.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Since RMS Approved the TX SET Change Control Process during our April 7</a:t>
            </a:r>
            <a:r>
              <a:rPr b="1" lang="en-US" sz="2000" spc="-1" strike="noStrike" baseline="30000">
                <a:solidFill>
                  <a:srgbClr val="c00000"/>
                </a:solidFill>
                <a:latin typeface="Gill Sans MT"/>
              </a:rPr>
              <a:t>th</a:t>
            </a:r>
            <a:r>
              <a:rPr b="1" lang="en-US" sz="2000" spc="-1" strike="noStrike">
                <a:solidFill>
                  <a:srgbClr val="c00000"/>
                </a:solidFill>
                <a:latin typeface="Gill Sans MT"/>
              </a:rPr>
              <a:t> RMS,  TAC removed NPRR668 from the Tabled list and unanimously Approved NPRR668.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5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  2015</a:t>
            </a:r>
            <a:endParaRPr b="0" lang="en-US" sz="1200" spc="-1" strike="noStrike">
              <a:solidFill>
                <a:srgbClr val="000000"/>
              </a:solidFill>
              <a:latin typeface="Arial"/>
            </a:endParaRPr>
          </a:p>
        </p:txBody>
      </p:sp>
      <p:sp>
        <p:nvSpPr>
          <p:cNvPr id="45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5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3A3E-8F29-464B-BE90-BE3BBAE5CC1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914400" y="685800"/>
            <a:ext cx="8153280" cy="556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liability Operations Subcommittee (RO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OGRR142</a:t>
            </a:r>
            <a:r>
              <a:rPr b="0" lang="en-US" sz="2400" spc="-1" strike="noStrike">
                <a:solidFill>
                  <a:srgbClr val="000000"/>
                </a:solidFill>
                <a:latin typeface="Gill Sans MT"/>
              </a:rPr>
              <a:t>, Phasor Measurement</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AC Unanimously Approved with ERCOT’s comment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GRR040</a:t>
            </a:r>
            <a:r>
              <a:rPr b="0" lang="en-US" sz="2400" spc="-1" strike="noStrike">
                <a:solidFill>
                  <a:srgbClr val="000000"/>
                </a:solidFill>
                <a:latin typeface="Gill Sans MT"/>
              </a:rPr>
              <a:t>, Clarification of Water Supply Rights Attestation Obligation</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AC Unanimously Approved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commendation re LCRA/Austin Energy Application for Permanent Site-Specific Exemption from Compliance with ERCOT Nodal Metering Protocols, Section 10.3.2.3 (2)(b) and 10.3.2.3 (5)</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AC Unanimously Approved this recommendation</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 2015</a:t>
            </a:r>
            <a:endParaRPr b="0" lang="en-US" sz="1200" spc="-1" strike="noStrike">
              <a:solidFill>
                <a:srgbClr val="000000"/>
              </a:solidFill>
              <a:latin typeface="Arial"/>
            </a:endParaRPr>
          </a:p>
        </p:txBody>
      </p:sp>
      <p:sp>
        <p:nvSpPr>
          <p:cNvPr id="4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B4986-A29C-4DFD-B879-5BA8BB7BE2C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57"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OS Initiatives and Vote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914400" y="685800"/>
            <a:ext cx="8153280" cy="556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Wholesale Market Subcommittee (WMS)</a:t>
            </a: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Update Only to TAC </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www.ercot.com/content/wcm/key_documents_lists/56054/07._</a:t>
            </a:r>
            <a:r>
              <a:rPr b="0" lang="en-US" sz="2000" spc="-1" strike="noStrike" u="sng">
                <a:solidFill>
                  <a:srgbClr val="8dc765"/>
                </a:solidFill>
                <a:uFillTx/>
                <a:latin typeface="Gill Sans MT"/>
                <a:hlinkClick r:id="rId2"/>
              </a:rPr>
              <a:t>WMS_update_2015_05_28.ppt.pdf</a:t>
            </a: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ommercial Operations Subcommittee</a:t>
            </a: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PGRR055, Extend Load Profile Model Calendar Inputs to 2030 (Vote)</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to remand to COPS for additional edits to load profile spreadsheets was Unanimous</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 2015</a:t>
            </a:r>
            <a:endParaRPr b="0" lang="en-US" sz="1200" spc="-1" strike="noStrike">
              <a:solidFill>
                <a:srgbClr val="000000"/>
              </a:solidFill>
              <a:latin typeface="Arial"/>
            </a:endParaRPr>
          </a:p>
        </p:txBody>
      </p:sp>
      <p:sp>
        <p:nvSpPr>
          <p:cNvPr id="46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6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316AC-60E3-4979-8D44-3075F1C99CE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62" name="Title 1"/>
          <p:cNvSpPr/>
          <p:nvPr/>
        </p:nvSpPr>
        <p:spPr>
          <a:xfrm>
            <a:off x="1130400" y="-228600"/>
            <a:ext cx="8001000" cy="1143000"/>
          </a:xfrm>
          <a:prstGeom prst="rect">
            <a:avLst/>
          </a:prstGeom>
          <a:noFill/>
          <a:ln w="0">
            <a:noFill/>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MS/COPS Initiatives and Vote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5-05-30T04:09:03Z</dcterms:modified>
  <cp:revision>736</cp:revision>
  <dc:subject/>
  <dc:title>Instructions</dc:title>
</cp:coreProperties>
</file>