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23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dt" idx="18"/>
          </p:nvPr>
        </p:nvSpPr>
        <p:spPr>
          <a:xfrm>
            <a:off x="39366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ftr" idx="19"/>
          </p:nvPr>
        </p:nvSpPr>
        <p:spPr>
          <a:xfrm>
            <a:off x="-36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 type="sldNum" idx="20"/>
          </p:nvPr>
        </p:nvSpPr>
        <p:spPr>
          <a:xfrm>
            <a:off x="393660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7E55-692A-40E0-AEC3-F460EC3A5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s/board/index.html" TargetMode="External"/><Relationship Id="rId2" Type="http://schemas.openxmlformats.org/officeDocument/2006/relationships/hyperlink" Target="http://www.ercot.com/mktinfo/data_agg/index.html" TargetMode="External"/><Relationship Id="rId3" Type="http://schemas.openxmlformats.org/officeDocument/2006/relationships/hyperlink" Target="http://www.ercot.com/committees/board/tac/rms/amwg/index.html" TargetMode="External"/><Relationship Id="rId4" Type="http://schemas.openxmlformats.org/officeDocument/2006/relationships/slide" Target="../slides/slide25.xml"/><Relationship Id="rId5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s/board/index.html" TargetMode="External"/><Relationship Id="rId2" Type="http://schemas.openxmlformats.org/officeDocument/2006/relationships/hyperlink" Target="http://www.ercot.com/mktinfo/data_agg/index.html" TargetMode="External"/><Relationship Id="rId3" Type="http://schemas.openxmlformats.org/officeDocument/2006/relationships/hyperlink" Target="http://www.ercot.com/committees/board/tac/rms/amwg/index.html" TargetMode="External"/><Relationship Id="rId4" Type="http://schemas.openxmlformats.org/officeDocument/2006/relationships/slide" Target="../slides/slide26.xml"/><Relationship Id="rId5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04B3-80FD-413C-BFB0-EB39A55C1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6278-A61C-4F32-948E-AEC29AD59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B045-4E67-4188-B568-30029E774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85E8-F815-4D37-821E-6C659ECBB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96A9-AB11-47DB-8F7A-8E36ECF2E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51CD-05F3-437F-9538-63781417F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0DD0-3C82-4176-84DA-A4A476D2F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2188-6F4A-481B-B2DE-D33183B63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D11D-CF57-4DBD-A831-D0EBEE155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3A4E-697D-47D4-8DB5-C4F305B96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lvl="1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AVAILBLE IN THE ERCOT Monthly Operations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: Advanced Meter Settlement Imp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: ERCOT Wide Load Volumes by Meter Type at Initial Settl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s/board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itional Information Avail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 Estimation Counts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unts of ESIIDs and percentages of counts by MRE settled with actual meter data, estimated using historical meter data, and estimated using default lo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rcot.com/mktinfo/data_agg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S Volume &amp; Count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s lag between the Operating Day and the data loading date AMS rea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rcot.com/committees/board/tac/rms/amwg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s posted under specific AMWG meeting pages on a periodic basis starting 03/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ooter Placeholder 3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4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A71A-F62C-46AD-8711-ADA80A27E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lvl="1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AVAILBLE IN THE ERCOT Monthly Operations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: Advanced Meter Settlement Imp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: ERCOT Wide Load Volumes by Meter Type at Initial Settl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s/board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itional Information Avail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 Estimation Counts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unts of ESIIDs and percentages of counts by MRE settled with actual meter data, estimated using historical meter data, and estimated using default lo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rcot.com/mktinfo/data_agg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S Volume &amp; Count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s lag between the Operating Day and the data loading date AMS rea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rcot.com/committees/board/tac/rms/amwg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s posted under specific AMWG meeting pages on a periodic basis starting 03/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ooter Placeholder 3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lide Number Placeholder 4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1915-F3F9-4A9A-A123-80F92DC64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E5BE-597E-420D-A8D5-A1991AB09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2D12-EFCC-42DC-BAF5-B839CA311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202D8-5FFE-45CC-870D-7494723B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AA892-6672-4664-85CB-D973879A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467FF-4854-41ED-869E-1FA6B75A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9BB86-8463-4400-ABA1-848D94C4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9C67-3E86-4174-897A-3EB7A23FE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2102-2B95-4F1F-92AA-186CE909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F165-2E0D-4AF3-8467-7FB4D193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1526-5BC5-4548-B7A5-0BCD02F9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2297-0A0E-4B2C-9187-C774FAEA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9F76-A19F-472B-9ADB-B116D05F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4812-D87D-4C69-A994-431D01A0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9F4FE-A4C6-4039-875C-C44BBFBA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3C77-F311-449C-809E-427D4A69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994D-B34A-405E-8561-BE9E5EC5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9684-53EB-4E2D-88B4-CF2E0246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DD88-E4DF-4A83-952B-4792D334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4A10-1602-40E7-AC3A-4A098036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CE79E-5DD8-4906-AE33-8B66D642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C3CF0-FF2A-4F65-B76C-68C1FFD7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EB750-FAD9-4BF6-BEF6-38C93938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B6D17-EF32-4474-A731-E9AEB08A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FAC89-9459-4530-AB7E-E3EF223E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0E978-51B3-40CA-98FB-A2DE1D38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56DAF-F555-49D0-92C3-B567C8AB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5DFF-724D-4CF1-9F7E-8C5A8381C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15E8-B4EE-4793-B9A1-7D97DC6D2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380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714293-F67D-4423-9140-DD4075BCE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ftr" idx="1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424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372623-202C-47A5-91C3-F21F9F2DA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ftr" idx="1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46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6931B7-0B81-4E81-BDB4-50DBA7226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ftr" idx="1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511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8808D4-69FA-40AE-AAED-1ADFC4E5C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ftr" idx="1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CC5BEB-3CF3-438F-92CE-0DF9C2A2045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CF1487-7F0D-40A8-930E-5E959697E6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ftr" idx="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0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83B205-EC74-4DB0-9972-4B486B850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249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77C1C9-A50F-4C7B-967A-D5CEEC9E1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1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293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45A302-6EA6-4375-9230-E4B61F9C5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ftr" idx="1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336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43ED07-6DDE-468E-8E89-59EE2918D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1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2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calendar/2015/4/9/54807-ETWG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mercial Operations Subcommittee </a:t>
            </a:r>
            <a:r>
              <a:rPr b="0" lang="en-US" sz="2800" spc="-1" strike="noStrike">
                <a:solidFill>
                  <a:srgbClr val="c00000"/>
                </a:solidFill>
                <a:latin typeface="Arial Black"/>
              </a:rPr>
              <a:t>(COPS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pdate to TA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5/28/20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Market Information System User Group (MISU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8052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775, Indicative LMP Displ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presented mock-u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yout and display time period finaliz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ation target date: 6/26/20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1"/>
          <a:srcRect l="6957" t="22408" r="7426" b="39818"/>
          <a:stretch/>
        </p:blipFill>
        <p:spPr>
          <a:xfrm>
            <a:off x="762120" y="2209680"/>
            <a:ext cx="7696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Market Information System User Group (MISU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8052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rnal Web Services (EWS) Modifications Workshop I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liminary discus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792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for providing not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792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792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is working on a demo of a streaming solution that could be used for smaller sets of high-demand data, e.g., L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792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will send out a survey to solicit MP feedback on the best solution for th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792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to be tabulated and distributed in a future MISUG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792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feedback, ERCOT will begin defining a revised EWS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792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UG will be used as the means for communicating progress and gathering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792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2792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Profiling Working Group (PW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8052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orking with TDSPs on an ‘Initial Profile Code Assignments for Temporary Services’ draft LPGR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ing the possibility of modifying TDSP processes for handling initial load profile assignments for temporary services for non-residential custo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rrently, the profile “BUSMEDLF” is used, which has an associated backcast profile of approximately 500 kWh, which has caused credit and customer experience im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view of Protocol Section 18, Load Profil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ent is up-to-date and accu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e to face PWG meetings scheduled beginning May 27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rget completion by the end of 20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6" descr="C:\Documents and Settings\basaranh\Local Settings\Temporary Internet Files\Content.IE5\JIWL6VC7\MC900156053[1].wmf"/>
          <p:cNvPicPr/>
          <p:nvPr/>
        </p:nvPicPr>
        <p:blipFill>
          <a:blip r:embed="rId1"/>
          <a:stretch/>
        </p:blipFill>
        <p:spPr>
          <a:xfrm>
            <a:off x="3048120" y="2971800"/>
            <a:ext cx="2895480" cy="268776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 txBox="1"/>
          <p:nvPr/>
        </p:nvSpPr>
        <p:spPr>
          <a:xfrm>
            <a:off x="533520" y="914040"/>
            <a:ext cx="80769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ext COPS meeting is scheduled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ly 15, 2015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533520" y="914040"/>
            <a:ext cx="80769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endix 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13"/>
          <p:cNvGrpSpPr/>
          <p:nvPr/>
        </p:nvGrpSpPr>
        <p:grpSpPr>
          <a:xfrm>
            <a:off x="542880" y="422280"/>
            <a:ext cx="7728120" cy="1922400"/>
            <a:chOff x="542880" y="422280"/>
            <a:chExt cx="7728120" cy="1922400"/>
          </a:xfrm>
        </p:grpSpPr>
        <p:pic>
          <p:nvPicPr>
            <p:cNvPr id="589" name="Picture 8" descr="ERCOT cmyk-01.png"/>
            <p:cNvPicPr/>
            <p:nvPr/>
          </p:nvPicPr>
          <p:blipFill>
            <a:blip r:embed="rId1"/>
            <a:stretch/>
          </p:blipFill>
          <p:spPr>
            <a:xfrm>
              <a:off x="542880" y="422280"/>
              <a:ext cx="245772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TextBox 9"/>
            <p:cNvSpPr/>
            <p:nvPr/>
          </p:nvSpPr>
          <p:spPr>
            <a:xfrm>
              <a:off x="726840" y="2006280"/>
              <a:ext cx="754416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Straight Connector 12"/>
            <p:cNvSpPr/>
            <p:nvPr/>
          </p:nvSpPr>
          <p:spPr>
            <a:xfrm flipV="1">
              <a:off x="726840" y="1728360"/>
              <a:ext cx="628668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TextBox 1"/>
          <p:cNvSpPr/>
          <p:nvPr/>
        </p:nvSpPr>
        <p:spPr>
          <a:xfrm>
            <a:off x="1163520" y="2344680"/>
            <a:ext cx="64389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lement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5 Q1 Update to C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y Ba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4/15/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Box 3"/>
          <p:cNvSpPr/>
          <p:nvPr/>
        </p:nvSpPr>
        <p:spPr>
          <a:xfrm>
            <a:off x="352440" y="866880"/>
            <a:ext cx="8327880" cy="49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2          ERCOT Performance 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)        Settlement stabil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)         Track number of price changes “after-the-fact”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        Track number and types of disputes submitted to ERCO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i)       Report on compliance with timeliness of response and disposition of disputes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v)       Other Settlement metrics;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)        Availability of Electric Service Identifier (ESI ID) consumption data in conformance with Settlemen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lin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)        Uplift:  ERCOT shall calculate and post the sum of all charges for all Qualified Scheduling Entities (QSEs) for eac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th and year-to-date due to each of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)         The RUC Capacity-Short Charge, as described in Section 5.7.4.1, RUC Capacity-Short Charg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        The RUC Decommitment Charge, as described in Section 5.7.6, RUC Decommitment Charg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i)       The Load-Allocated Reliability Must Run Amount per QSE, as described in Section 6.6.6.5, RMR Servi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g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v)       The Load-Allocated Voltage Support Service Amount per QSE, as described in Section 6.6.7.2, Voltag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Charg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)        The Load-Allocated Black Start Service Amount per QSE, as described in Section 6.6.8.2, Black Star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ty Charg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i)       The Load-Allocated Emergency Energy Amount per QSE, as described in Section 6.6.9.2, Charge f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ency Power Increase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ii)      The Load-Allocated Real-Time Revenue Neutrality Amount per QSE, as described in Section 6.6.10, Real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Revenue Neutrality Allocation;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iii)     The total of the ERCOT System Administration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 8.2 (2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tlement stability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2(c)(i) Track number of price changes “after-the-fac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993600" y="1308240"/>
          <a:ext cx="7169400" cy="1882800"/>
        </p:xfrm>
        <a:graphic>
          <a:graphicData uri="http://schemas.openxmlformats.org/drawingml/2006/table">
            <a:tbl>
              <a:tblPr/>
              <a:tblGrid>
                <a:gridCol w="1238400"/>
                <a:gridCol w="682560"/>
                <a:gridCol w="771480"/>
                <a:gridCol w="762120"/>
                <a:gridCol w="790560"/>
                <a:gridCol w="704880"/>
                <a:gridCol w="609480"/>
                <a:gridCol w="781200"/>
                <a:gridCol w="828720"/>
              </a:tblGrid>
              <a:tr h="438120">
                <a:tc gridSpan="9"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orting Period: 2015 Q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56bb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956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ting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56bb8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Corrected Pr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Intervals Aff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PP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SP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RMP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C Add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PP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SP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RMP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C Add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  <a:tr h="276120"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3/25/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56bb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</a:tr>
              <a:tr h="276480"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3/30/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56bb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</a:tbl>
          </a:graphicData>
        </a:graphic>
      </p:graphicFrame>
      <p:sp>
        <p:nvSpPr>
          <p:cNvPr id="597" name="TextBox 7"/>
          <p:cNvSpPr/>
          <p:nvPr/>
        </p:nvSpPr>
        <p:spPr>
          <a:xfrm>
            <a:off x="1035000" y="3402000"/>
            <a:ext cx="630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ote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ice corrections for OD 3/25/2015 were due to the Tech Refresh Project production cutov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ice corrections for OD 3/30/2015 were due to an MMS application outag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2(c)(ii) Track number and types of disputes sub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731880" y="932040"/>
          <a:ext cx="7191360" cy="4024080"/>
        </p:xfrm>
        <a:graphic>
          <a:graphicData uri="http://schemas.openxmlformats.org/drawingml/2006/table">
            <a:tbl>
              <a:tblPr/>
              <a:tblGrid>
                <a:gridCol w="3630600"/>
                <a:gridCol w="1185840"/>
                <a:gridCol w="1187280"/>
                <a:gridCol w="1187640"/>
              </a:tblGrid>
              <a:tr h="3650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l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w Lab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</a:tr>
              <a:tr h="36648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cillary Services-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gestion Revenue Rights-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ergency Operations-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-D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-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. Res. Base Pt Deviation-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ability Unit Commitment-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2(c)(ii) Track number and types of disputes sub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738360" y="901800"/>
          <a:ext cx="7522920" cy="3187440"/>
        </p:xfrm>
        <a:graphic>
          <a:graphicData uri="http://schemas.openxmlformats.org/drawingml/2006/table">
            <a:tbl>
              <a:tblPr/>
              <a:tblGrid>
                <a:gridCol w="3125520"/>
                <a:gridCol w="1100160"/>
                <a:gridCol w="1098720"/>
                <a:gridCol w="1100160"/>
                <a:gridCol w="1098360"/>
              </a:tblGrid>
              <a:tr h="3650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680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w Lab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ted w/Ex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</a:tr>
              <a:tr h="49680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gestion Revenue Rights-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-D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-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ergency Operations-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VOTING Item(s) for TA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8377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PGRR055, Extend Load Profile Model Calendar Inputs to 203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osed Effective Date: June 1, 2015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son for Revision - Administrativ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ends the Load Profile Model calendar-related inputs in Appendix E, Profile Model Spreadsheets, from 2020 to 2030.  The calendar inputs include calendar variables, daylight savings variables, sunrise/sunset times and holiday variables.  Corresponding changes to calendar-related inputs will be made to the Load Profile Models in the MetrixIDR load forecast and backcast system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Box 3"/>
          <p:cNvSpPr/>
          <p:nvPr/>
        </p:nvSpPr>
        <p:spPr>
          <a:xfrm>
            <a:off x="352440" y="866880"/>
            <a:ext cx="8327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2(c)(iii) Response compliance and disposition of disputes (timelin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762120" y="1050840"/>
          <a:ext cx="7159680" cy="4054680"/>
        </p:xfrm>
        <a:graphic>
          <a:graphicData uri="http://schemas.openxmlformats.org/drawingml/2006/table">
            <a:tbl>
              <a:tblPr/>
              <a:tblGrid>
                <a:gridCol w="3549600"/>
                <a:gridCol w="1203120"/>
                <a:gridCol w="1203480"/>
                <a:gridCol w="1203480"/>
              </a:tblGrid>
              <a:tr h="39708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Al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w Lab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E-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50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cillary Services-RT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gestion Revenue Rights-RT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ergency Operations-RT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y-D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y-RT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. Res. Base Pt Deviation-RT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ability Unit Commitment-RT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Box 3"/>
          <p:cNvSpPr/>
          <p:nvPr/>
        </p:nvSpPr>
        <p:spPr>
          <a:xfrm>
            <a:off x="352440" y="866880"/>
            <a:ext cx="8327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2(c)(iii) Response compliance and disposition of disputes (timelin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733320" y="1066680"/>
          <a:ext cx="6264360" cy="2925720"/>
        </p:xfrm>
        <a:graphic>
          <a:graphicData uri="http://schemas.openxmlformats.org/drawingml/2006/table">
            <a:tbl>
              <a:tblPr/>
              <a:tblGrid>
                <a:gridCol w="3678480"/>
                <a:gridCol w="1292040"/>
                <a:gridCol w="1293840"/>
              </a:tblGrid>
              <a:tr h="36540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w Lab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E-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540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gestion Revenue Rights-RT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y-D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y-RT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ergency Operations-RT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2(c)(iv) Other Settlement met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11"/>
          <p:cNvSpPr/>
          <p:nvPr/>
        </p:nvSpPr>
        <p:spPr>
          <a:xfrm>
            <a:off x="314280" y="3913200"/>
            <a:ext cx="451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S Final settlement data is not represented in graph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1"/>
          <p:cNvSpPr/>
          <p:nvPr/>
        </p:nvSpPr>
        <p:spPr>
          <a:xfrm>
            <a:off x="5973840" y="4129200"/>
            <a:ext cx="19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verage per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3" descr=""/>
          <p:cNvPicPr/>
          <p:nvPr/>
        </p:nvPicPr>
        <p:blipFill>
          <a:blip r:embed="rId1"/>
          <a:stretch/>
        </p:blipFill>
        <p:spPr>
          <a:xfrm>
            <a:off x="4962600" y="4476600"/>
            <a:ext cx="3554280" cy="164016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" descr=""/>
          <p:cNvPicPr/>
          <p:nvPr/>
        </p:nvPicPr>
        <p:blipFill>
          <a:blip r:embed="rId2"/>
          <a:stretch/>
        </p:blipFill>
        <p:spPr>
          <a:xfrm>
            <a:off x="225360" y="1093680"/>
            <a:ext cx="869328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2(c)(iv) Other Settlement met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3" descr=""/>
          <p:cNvPicPr/>
          <p:nvPr/>
        </p:nvPicPr>
        <p:blipFill>
          <a:blip r:embed="rId1"/>
          <a:stretch/>
        </p:blipFill>
        <p:spPr>
          <a:xfrm>
            <a:off x="5059440" y="868320"/>
            <a:ext cx="3425760" cy="25178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"/>
          <p:cNvPicPr/>
          <p:nvPr/>
        </p:nvPicPr>
        <p:blipFill>
          <a:blip r:embed="rId2"/>
          <a:stretch/>
        </p:blipFill>
        <p:spPr>
          <a:xfrm>
            <a:off x="900000" y="3678120"/>
            <a:ext cx="7182000" cy="19576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4" descr=""/>
          <p:cNvPicPr/>
          <p:nvPr/>
        </p:nvPicPr>
        <p:blipFill>
          <a:blip r:embed="rId3"/>
          <a:stretch/>
        </p:blipFill>
        <p:spPr>
          <a:xfrm>
            <a:off x="363600" y="779400"/>
            <a:ext cx="4782960" cy="2698920"/>
          </a:xfrm>
          <a:prstGeom prst="rect">
            <a:avLst/>
          </a:prstGeom>
          <a:ln w="0">
            <a:noFill/>
          </a:ln>
        </p:spPr>
      </p:pic>
      <p:sp>
        <p:nvSpPr>
          <p:cNvPr id="617" name="TextBox 6"/>
          <p:cNvSpPr/>
          <p:nvPr/>
        </p:nvSpPr>
        <p:spPr>
          <a:xfrm>
            <a:off x="900000" y="5622840"/>
            <a:ext cx="741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Total of Charges” represents the sum of statements that are a net charge to the Market Participant (i.e., the amount due to ERCO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Box 3"/>
          <p:cNvSpPr/>
          <p:nvPr/>
        </p:nvSpPr>
        <p:spPr>
          <a:xfrm>
            <a:off x="352440" y="866880"/>
            <a:ext cx="8327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2(c)(iv) Other Settlement met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3" descr=""/>
          <p:cNvPicPr/>
          <p:nvPr/>
        </p:nvPicPr>
        <p:blipFill>
          <a:blip r:embed="rId1"/>
          <a:stretch/>
        </p:blipFill>
        <p:spPr>
          <a:xfrm>
            <a:off x="5052960" y="717480"/>
            <a:ext cx="3627360" cy="27990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4" descr=""/>
          <p:cNvPicPr/>
          <p:nvPr/>
        </p:nvPicPr>
        <p:blipFill>
          <a:blip r:embed="rId2"/>
          <a:stretch/>
        </p:blipFill>
        <p:spPr>
          <a:xfrm>
            <a:off x="925560" y="3637080"/>
            <a:ext cx="7181640" cy="195732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3" descr=""/>
          <p:cNvPicPr/>
          <p:nvPr/>
        </p:nvPicPr>
        <p:blipFill>
          <a:blip r:embed="rId3"/>
          <a:stretch/>
        </p:blipFill>
        <p:spPr>
          <a:xfrm>
            <a:off x="352440" y="809640"/>
            <a:ext cx="4848120" cy="2467080"/>
          </a:xfrm>
          <a:prstGeom prst="rect">
            <a:avLst/>
          </a:prstGeom>
          <a:ln w="0">
            <a:noFill/>
          </a:ln>
        </p:spPr>
      </p:pic>
      <p:sp>
        <p:nvSpPr>
          <p:cNvPr id="623" name="TextBox 11"/>
          <p:cNvSpPr/>
          <p:nvPr/>
        </p:nvSpPr>
        <p:spPr>
          <a:xfrm>
            <a:off x="887400" y="5594400"/>
            <a:ext cx="741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Total of Charges” represents the sum of statements that are a net charge to the Market Participant (i.e., the amount due to ERCO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79440" y="179280"/>
            <a:ext cx="8445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2(c)(v) Availability of ESIID consumptio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2"/>
          <p:cNvSpPr/>
          <p:nvPr/>
        </p:nvSpPr>
        <p:spPr>
          <a:xfrm>
            <a:off x="6167520" y="1282680"/>
            <a:ext cx="2690640" cy="82404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ch 2015: At month end, settling 6.7M ESIIDs using Advanced Meter dat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3"/>
          <p:cNvSpPr/>
          <p:nvPr/>
        </p:nvSpPr>
        <p:spPr>
          <a:xfrm>
            <a:off x="254160" y="3946680"/>
            <a:ext cx="2819160" cy="131076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ch 2015: 98.4% of the load in ERCOT is settled with 15-min interval data (AMS, Competitive IDR, and NOIE IDR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3" descr=""/>
          <p:cNvPicPr/>
          <p:nvPr/>
        </p:nvPicPr>
        <p:blipFill>
          <a:blip r:embed="rId1"/>
          <a:stretch/>
        </p:blipFill>
        <p:spPr>
          <a:xfrm>
            <a:off x="3139920" y="3448080"/>
            <a:ext cx="5743800" cy="27432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4" descr=""/>
          <p:cNvPicPr/>
          <p:nvPr/>
        </p:nvPicPr>
        <p:blipFill>
          <a:blip r:embed="rId2"/>
          <a:stretch/>
        </p:blipFill>
        <p:spPr>
          <a:xfrm>
            <a:off x="270000" y="666720"/>
            <a:ext cx="574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79440" y="274320"/>
            <a:ext cx="8445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2(c)(v) Availability of ESIID consumption data</a:t>
            </a: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260280" y="716040"/>
            <a:ext cx="4297320" cy="256068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3" descr=""/>
          <p:cNvPicPr/>
          <p:nvPr/>
        </p:nvPicPr>
        <p:blipFill>
          <a:blip r:embed="rId2"/>
          <a:stretch/>
        </p:blipFill>
        <p:spPr>
          <a:xfrm>
            <a:off x="4597560" y="716040"/>
            <a:ext cx="4298760" cy="25606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4" descr=""/>
          <p:cNvPicPr/>
          <p:nvPr/>
        </p:nvPicPr>
        <p:blipFill>
          <a:blip r:embed="rId3"/>
          <a:stretch/>
        </p:blipFill>
        <p:spPr>
          <a:xfrm>
            <a:off x="260280" y="3313080"/>
            <a:ext cx="4297320" cy="25606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" descr=""/>
          <p:cNvPicPr/>
          <p:nvPr/>
        </p:nvPicPr>
        <p:blipFill>
          <a:blip r:embed="rId4"/>
          <a:stretch/>
        </p:blipFill>
        <p:spPr>
          <a:xfrm>
            <a:off x="4597560" y="3313080"/>
            <a:ext cx="429876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2(g) Upl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3"/>
          <p:cNvSpPr/>
          <p:nvPr/>
        </p:nvSpPr>
        <p:spPr>
          <a:xfrm>
            <a:off x="404640" y="3467160"/>
            <a:ext cx="106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$Mill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6" name=""/>
          <p:cNvGraphicFramePr/>
          <p:nvPr/>
        </p:nvGraphicFramePr>
        <p:xfrm>
          <a:off x="8080200" y="3457440"/>
          <a:ext cx="659160" cy="243000"/>
        </p:xfrm>
        <a:graphic>
          <a:graphicData uri="http://schemas.openxmlformats.org/drawingml/2006/table">
            <a:tbl>
              <a:tblPr/>
              <a:tblGrid>
                <a:gridCol w="659160"/>
              </a:tblGrid>
              <a:tr h="243000">
                <a:tc>
                  <a:txBody>
                    <a:bodyPr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5.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7" name="Picture 2" descr=""/>
          <p:cNvPicPr/>
          <p:nvPr/>
        </p:nvPicPr>
        <p:blipFill>
          <a:blip r:embed="rId1"/>
          <a:stretch/>
        </p:blipFill>
        <p:spPr>
          <a:xfrm>
            <a:off x="404640" y="1433520"/>
            <a:ext cx="833472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TextBox 3" descr=""/>
          <p:cNvPicPr/>
          <p:nvPr/>
        </p:nvPicPr>
        <p:blipFill>
          <a:blip r:embed="rId1"/>
          <a:stretch/>
        </p:blipFill>
        <p:spPr>
          <a:xfrm>
            <a:off x="255600" y="689040"/>
            <a:ext cx="8736120" cy="553572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 8.2 (2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tlement stability –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tential protocol improvements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1"/>
          <p:cNvSpPr/>
          <p:nvPr/>
        </p:nvSpPr>
        <p:spPr>
          <a:xfrm>
            <a:off x="1231920" y="5857920"/>
            <a:ext cx="4743360" cy="59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eking input - Should (g) moni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 costs/credits allocated to load, 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nly the unpreventable load ratio share based charge-types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4"/>
          <p:cNvSpPr/>
          <p:nvPr/>
        </p:nvSpPr>
        <p:spPr>
          <a:xfrm>
            <a:off x="6805440" y="685800"/>
            <a:ext cx="2033640" cy="170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eking input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hould (c)(iv) remain general so that COPS has the flexibility to change the focus, as needed?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(our recommendation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at information should be provided in support of (c)(iv)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ther changes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Save the Date – DER Worksho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buted Energy Resource (DER) Worksho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e 18, 2015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9:30 AM – 3:30 PM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 Austin, Room 206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ebEx Conference availabl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detailed agenda will be posted prior to the meeting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genda will includ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scussion of Protocol Section 16.5 (5), which requires a reset of the Distributed Generation (DG) registration threshold if the level of unregistered DG greater than 50kW in a Load Zone reaches 10 MWs.  This issue is currently under discussion at CSWG and COPS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keholder input into ERCOT’s outline of the forthcoming white paper on DERs, which was released at the April 9, 2015 ETWG meeting </a:t>
            </a:r>
            <a:r>
              <a:rPr b="0" lang="en-US" sz="2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alendar/2015/4/9/54807-ETWG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DG Registration Threshold</a:t>
            </a:r>
            <a:br>
              <a:rPr sz="2400"/>
            </a:b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Change Communication Pla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052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G Registration Threshold  &gt; 1 M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COT Market Particip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modeled RA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ed unregistered DG &gt; 50 kW and &lt;= 1 MW is tracked and repor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Section 16.5, Registration of a Resource Entity, Paragraph (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ggregated unregistered DG exceeds 10 MW in any Load Zone, ERCOT shall issue a Market Notice that states a lower DG registration threshold to reduce the total installed capacity  of DG greater than 50 kW to no more than 7 MW in any Load Z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become effective 9 months after Market Notice is issu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DG Registration Threshold</a:t>
            </a:r>
            <a:br>
              <a:rPr sz="2400"/>
            </a:b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Change Communication Pla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SWG Special Meeting held 5-4-201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:  Existing Protocol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Grandfathering for existing D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a one time ev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mmunication will provide the necessary information and not address enforc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-up items for May 26 CSWG meet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COT staff will verify that Customer Billing Contact Information (CBCI) cannot be used to provide DG Facility Owner contact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COT staff will create a straw man communication document for CSWG re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SWG will review the DG Resource Webpage on ERCOT.com for possible improv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DG Registration Threshold</a:t>
            </a:r>
            <a:br>
              <a:rPr sz="2400"/>
            </a:b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Change Communication Pla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304920" y="8377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IGGER: Unregistered DG reaches 10 MW in any one Load Zon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: Determine new DG Registration Threshold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: Issue Market Notice (Includes an email to Authorized Representatives of all distribution companies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: Meet with appropriate TAC Subcommittees to announce the new DG Registration Threshold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: Contact NOIEs and TDSPs of specific DG Facilities impacted by the new Threshold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: Work with TDSPs and NOIEs to obtain information needed to contact the DG Facility Owner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: Send notice to impacted LSEs’ Authorized Representatives (This is just a heads up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: Contact impacted DG Facility Owners - Include information like ‘Who is ERCOT’ and step by step instructions on how to become a Market Participant and how to register a DG Resourc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Q1 2015 Settlement Stability Review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6840" y="6858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ettlement Stability Report provided by Mandy Bauld and Blake Holt (See Appendix 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Section 8.2 (2), Paragraphs (c) and (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s from Q1 2015 repor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2(c)(i) Track number of price changes “after the fact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5 Q1 2 Intervals 3/25/2015 and 2 Intervals 3/30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2(c)(ii) Track number and types of disputes submit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4 Total 46, Granted 30 and Denied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5 Q1 Total 27, Granted 13, Granted w/Exceptions 1, Denied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2(c)(iii) Response compliance of disputes (timelines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4 Total 100%, Final 100% and True-u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5 Q1 Total 100% and True-u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2(c)(iv) Other – Variance from Initial Settl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4 Final Variance 3.18%, True-up Variance 0.3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5 Q1 Final Variance 3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5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Q1 2015 Settlement Stability Review Summar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304560" y="8377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2(c)(iv) Other – DAM and RTM Total of Charges Net due to 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4 DAM Monthly Average $6.5M, RTM Monthly Average $8.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2(c)(v) Availability of ESI ID Consumption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 2015 - Settling 6.7M ESI IDs using Advanced Met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 2015 - 98.4% of Load (actual and estimated) settled with 15-Minute interval data (AMS, Competitive and NOIE ID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 2015 – 68.2% Actual Data Used in Initial Settlement (All meter typ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5" descr=""/>
          <p:cNvPicPr/>
          <p:nvPr/>
        </p:nvPicPr>
        <p:blipFill>
          <a:blip r:embed="rId1"/>
          <a:stretch/>
        </p:blipFill>
        <p:spPr>
          <a:xfrm>
            <a:off x="1295280" y="3886200"/>
            <a:ext cx="6588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Q1 2015 Settlement Stability Review Summar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80880" y="685800"/>
            <a:ext cx="83822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2(g) Uplift Amou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SWG and ERCOT staff will review current reporting requirements and possible improvements and create and submit an NPRR to implement desired 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ve input?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Attend CSWG or notify CSWG Leaders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6" name="Object 1"/>
          <p:cNvGraphicFramePr/>
          <p:nvPr/>
        </p:nvGraphicFramePr>
        <p:xfrm>
          <a:off x="1219320" y="1143000"/>
          <a:ext cx="6468840" cy="30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43000"/>
                    <a:ext cx="6468840" cy="30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Michelle Trenary</cp:lastModifiedBy>
  <cp:lastPrinted>2015-05-19T18:20:47Z</cp:lastPrinted>
  <dcterms:modified xsi:type="dcterms:W3CDTF">2015-05-20T19:09:25Z</dcterms:modified>
  <cp:revision>1228</cp:revision>
  <dc:subject/>
  <dc:title>Instructions</dc:title>
</cp:coreProperties>
</file>