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  <p:sldId id="258" r:id="rId32"/>
    <p:sldId id="259" r:id="rId33"/>
    <p:sldId id="260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dt" idx="6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 type="ftr" idx="6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 type="sldNum" idx="6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692572-E3DC-44CD-9D76-B6DB4927DB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B3AB11-6243-4AB2-8028-1A6D691FC9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6A31-149D-47F2-BE80-C34648A3C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16F8-096B-40F0-970E-41519094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0A4830-F946-4A63-BA42-BF24F392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B39790-151E-4D16-8ACD-97195289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33AE0F-5513-4BDD-8880-18E4DD8B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01CBD6-F31F-4FEC-A86C-BC36886A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5B6403-4223-453F-A35F-256C8D25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575BCE-6C20-4533-8A9E-91463BF2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EF9502-5C91-425F-BDD1-1D759F1E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6B99AE-2C84-40CA-BA1F-722D7B319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69E895-7E87-4221-B66C-8CE5AB0CD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736A4A-C6B7-4DBA-B88F-ED83ECBFC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719D-1E70-4462-B360-1780D9801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0DD427-3799-44B2-AF42-61A91EED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643E06-67DB-44F5-8922-008A4B35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D002D7-426C-41FC-A1C5-55419AEB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7B44B4-F22D-4030-A122-BEE9F054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DB642A-1C2A-49D1-A422-FE391C4E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5200C2-5F16-4DC1-A7DD-60D9CA5E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CFB3D7-2E71-4388-A3C1-BB1CFB91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FE5EFD-7C66-4AA5-B111-F57AAB07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40B27C-128C-4828-9A38-A303B4A6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B060BC-233B-40F2-8850-0CEBEEC81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0204-754B-4E56-9835-BCBC0D81E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202662-CF1E-4F07-96D0-17F830A99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CB5CBB-B9A3-40FD-8612-071190DC2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E4DB65-0A0B-454C-978D-A3A94DAB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715954-3FBB-4823-AC27-A4776C68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ACEF1B-2AD6-4E5C-A422-10E86EEB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F2ABC3-03EA-4B89-AC5D-95D0326E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8CC5F2-BEF1-4BBB-A040-FE39DA27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B21CD8-D3ED-4FEB-BCB5-AF3D1095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9FB97D-7485-4F1A-BB98-78900700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39E977-0612-4C66-B3CD-4D013A7A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05B8-F886-4C3D-95B4-8C75C8112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839B98-F110-48F5-967E-49C9FC39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51736A-C2CB-481C-8F33-6540806B4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54302E-68DB-45B8-B692-546B33276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078CA9D-2D68-4DCD-93C1-D81071FEA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AD12AF8-0E82-4B3B-AB8A-5BF0BF76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55DA509-E1AF-4B9E-944B-97B0DE9E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DA9AA85-7A1B-4D40-AC02-DBA9CD77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FAAEA6-12FF-4AD0-B9D5-D8C348A5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BDC4E20-E9B3-4D38-9F9A-F323743B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DE80A6-6C36-4956-905F-1B6E0DC9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060E-2393-4283-A83A-6B5E9348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C3E201B-B098-4E41-B361-5BEB7218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944341-3F75-4FB5-9E71-F5A42737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3CB86AD-9941-4D08-B7B8-3212CE4D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54C3803-6B66-42F9-9A9E-E7D469653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FE2E179-B79B-425C-BCD6-ACF8E4E1E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83F7-AB40-4A6B-B6A6-EF6DB6D4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7020-A4F6-4915-BDB0-2BA1C649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836F6-40EF-4801-B3FB-2B7D668D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90CB-DCF4-42C8-B004-AA305941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A552-883A-40A8-9257-BB201C23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E52B25-A346-45DA-94EA-5F5AABF62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2F6BFF-9030-4F73-BBF0-373B0B9E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5D8107-8EF8-4B9A-AEE1-DC0A198D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969C02-888D-45BF-ADD2-5E1469F9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413E8D-3B62-406C-B8EC-F35EAC3C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5D05A6-57E2-4675-A2A4-DBEB15D4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C88EF4-CA8F-4A01-B9D4-303DCFF3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0356-0275-4507-AE82-23E64BA8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FF02-9745-437F-A839-FF226BD9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6E23B1-B27C-4113-B401-FA5A4CEC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525E47-C8AA-4984-BDFB-79CF8237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F18AD0-E2D8-4364-8058-26B9D2A8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E5E7E4-6D1D-47D7-8935-F3A231BEC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72A42E-300D-4B2D-8223-F87457134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E36A5FA-F334-4BD7-B85E-26A16B76B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2CAB947-221D-4586-B108-E42CE40B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398FDB0-713A-4D51-A37B-42D83A61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366EFDE-B248-4F73-B228-00188677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788D243-26E9-46E5-BA87-62EDB08F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9F7B8-79DA-401E-8C81-0CC175AE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422ECDB-F1EB-43C2-B6E6-1E9B3260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89DB6CA-677A-4546-95F9-9DF8A074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FEC582B-834D-422A-8BEB-184475E6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BF6D74E-DF05-42F3-BF7F-0E270CE8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5BAC71C-C661-4FC7-B93C-3EBB08A0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F7C83DB-8FC9-4DE8-A348-AA7AC36E6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5BE9BB4-02B5-4EAE-8D58-F8C00C7CA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B039C76-75F9-4203-BACB-39FE34E70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8CD4611-8E0E-44B4-B4EB-257AE8AF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ADDCCBE-56A2-42F7-8842-D00C8FF0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297E-688B-4731-94BC-F764FAEA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494BD73-53E4-4E9B-B580-F64352AD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7B86173-4BCF-493A-92C0-8294A511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4C7005F-9594-4313-93B9-BAF61811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03804E2-0274-4B6E-933A-EA320C89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5A43FD9-043B-4663-B4C5-7FCFA3F1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D456387-CB33-48D3-9205-3AD43B09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8D18E63-706F-4D5A-823F-C2866B6D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4043996-24A5-40FD-B6D8-238A1FFCB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1D02134-A02D-4E85-B947-127A53610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C4338E6-9707-4CAE-8DBA-8C42ED7E7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844C0-C6CE-4B3C-BE74-AAB33FCBE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C6326F3-5245-4E66-9008-75892E73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D37F976-35DC-4759-AFA5-ED5A44D7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A39FB90-2721-4FC8-8561-A804CE868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054A977-CC5B-49DD-8BB6-8DE7009B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23733AF-4ED4-416B-A6E2-AF3AF79C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6884DE7-B906-4FF9-820C-188FEFCA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0F5652C-2AA8-413A-A340-6EC2FFAD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375B573-9904-46B3-9DAA-E71334EB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D52A02F-64FA-4FEF-8E69-64C13CEF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15FBB5F-B78C-4C90-A4DE-828AF689F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06B3E-64EF-4431-AB8E-0A954CEB9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ED305F6-04A2-41D9-9E31-19E682129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037234-67CE-4B85-839A-795DDC30A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88D457-5748-4BAB-95A7-E8D22D89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01A43E-4D92-449C-B1E2-E83386DC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9EA8E8-9067-4069-A9DE-4D4B454F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E5BE83-A330-4CD9-99A4-86BC1C02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61FB16-AD0E-4B96-AD1D-008188A0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FE0F2C-AB6C-443E-909F-739FF148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4A8271-6386-495B-8E67-C98E3D65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D136F2-1FE8-48BD-9106-C474D4B6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5EAF7-FDC7-4DAC-8E8A-A0462CC5D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1323FF-06D1-4498-86BA-23FD9B85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038A87-A4F8-4DE6-B1B0-312747B27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0F0C0C-341E-4ACC-8763-E5A4626C8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11B4011-8FA8-42B3-A13A-3E417608A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518A69D-CBD6-48F0-A563-878A08F5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6D14D07-BAAE-446C-BCC4-3126A83B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9874B50-CF8D-4186-AB11-83961F73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E029EDE-08EB-4ED0-B79E-E6A15609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C9589E0-DF46-4B59-9399-B781C4E5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0FFC005-61E9-479B-912D-C5149982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25663-7D57-4567-9F45-47C7E7D7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3E58695-78C0-4D5B-96F0-0CE56EDB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FFC0EDC-2A9F-46D6-A8FE-2A040070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64C15D6-9710-45D5-A5F4-250E1A3A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4BDB9EE-EE56-4B38-9877-556EAAD0C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FA2C743-A5DE-40DC-8C60-10F38DEE3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B4144B-C418-43C2-A2DD-DE2EBEF09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F88ED0-08F5-4712-86E6-F5624921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6B3D70-A911-4AB5-B1F5-4173C065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0F6E0C-8C2E-4E6A-AE69-48C13059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9B1F9F-CB6E-456A-8927-2345F8BC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88BA9-ECAE-4BFF-883E-B37F0081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2D80F8-00DF-4816-AA65-81B66A03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006EF2-58B4-4D3A-BEB9-182C27E8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E08340-B6FA-4247-8B34-97B13A04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F32B92-4D90-43FC-AEE4-1D9B3BD3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8A5625-AE8C-49D1-8BCF-2EFCE19D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BB5AE8-D6BC-440D-A8C1-F016ABEF7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23269D-9049-49F7-9C6A-C2C69EED3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D48B0-4851-4AAF-8D98-4C7E5619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B80BB-2470-497F-A185-A7AC0DB2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B80A-1ECC-47B8-9AB1-7234C8D3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7F9FA-B1D0-4916-89EF-8DFCB0B1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AC830-FA4E-4E9D-892A-5A539EB7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1C991-B6EC-4EA8-873D-93C1C911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8A4A6-040E-469C-8846-54DB096E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D4859-9152-4641-97E0-C65E2225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81C99-872E-4DEE-B311-F768A341E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9843C-BD0C-44AC-973D-2A066B270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4752-57E3-4EEA-9505-CB22E377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D017-6886-40E9-971B-7E7FF733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6580-62A3-4F90-B343-8828842D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A34702-A1CE-4A1C-8A2F-A6F72BFF8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568714-5DF0-4379-ADA7-2B0146A6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BB9001-CF76-441A-8AC0-44DA4FDE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B9F286-6FD9-43EC-B2F0-5B4F07CB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991FAD-A33C-4447-8C3D-18D8BA4D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1F9FD3-3816-4814-A004-7DD09DBF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C70AB1-7B73-4742-B36A-BDC3B667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FE12F2-DEA2-423A-8458-8FD1728F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735BBC-7AD3-4039-B6DD-F1BDB77B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66EB-78E6-48C9-BDB7-60200A69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266043-B015-46DD-80F5-82A65393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3FDEFF-1391-416A-9CF8-97FBB8D42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9CCFBB-8F83-4507-9DBC-214940C8A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D97180-7540-432C-87DE-8CF946E55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A18E65-1275-4405-AB3F-AB14F479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6C29EF-82DC-4427-B01E-958E27E4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3BD7FF-A50D-4602-9D71-9172099E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53518E-E72D-48DD-A309-6C003A60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BABDD4-9C5E-4856-8C27-C1D98A0B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0309B4-C9AD-41DC-A6CB-9B027480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38E4-AD5F-4E0F-B99C-DBC0FBFF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710303-3E4E-4480-9A04-C94883FF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E008CA-D935-4CEB-8EFD-BBE0BBF0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96CFCB-69AC-410D-961A-B75784DC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E4C732-54B0-4961-9654-35BED0D0C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79A188-CE09-4399-924C-296E6D822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C11B1C-2CE2-461C-9F42-A1C7ABC07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ADDC01-030E-4F00-878F-D80E1BD2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D98AE8-CF2B-41A5-B440-F0A4FCFD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EE7F01-3007-490D-8C8F-D06C0B76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D55511-455C-47F9-BB74-891599B1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D82D-53C2-4E58-A0DA-68E2BAFC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CB6ECF-730E-493E-8706-02D8A326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6E7631-B617-4E78-9864-2CF1B0AC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AE9E74-FFFA-488C-9BF6-67345B5A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0EB6C3-71C4-4A55-8D43-50BEAE9B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C13E30-0A90-4875-A95F-AEB12BF0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F2742A-20E7-454D-A005-F2CE74147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F773BB-89B1-4FD5-85C8-7C187B047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B42D2C-072C-48B6-8624-CD304CC00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28D6C3-268A-4291-830D-338FCB05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39BE6B-7DE4-4B46-89C1-A1C4BE11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509FCE-EC96-4B50-AA5A-3D689202CF1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CD3BE7-1B71-4BEA-9767-0565671CD0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468F26-52BB-4D8B-9A2B-78CA4955D276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26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51BD8B-13DD-4357-BB0E-D22E547F4B26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7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3D02DF-3073-4B52-906E-6164D3142342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28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BA1498-3D71-44BE-8C1E-E06648BAE3D9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ftr" idx="29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0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7B21C5-4B12-4B16-A697-20A0BAF8430C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1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2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5A8D05-F2CA-4649-87E5-5111EA0FAA3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7FA25D-EFAD-43D6-B85A-1359C4DB96BC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ftr" idx="33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A9C5B2-AD9D-4BD0-ADBC-3883E2415F20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ftr" idx="3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5118A2-F2FA-44C1-AEE8-80431F33F10F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ftr" idx="35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08EBA2-A350-4C9C-86C9-81771CCA7246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ftr" idx="36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37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9C3A7A-D2E5-4A29-A03E-BC6AD9623FDE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38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39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24BA57-4E1E-43E2-AF6D-B2CDAFD09D67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4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C8025C-48BB-4484-88CD-5B378FF109FE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sldNum" idx="4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3110A8-D7CF-4911-A081-7887BC10F75D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ftr" idx="4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4EB687-F0FE-4EC4-B7F2-EA4C1D48115C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sldNum" idx="4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CA280C-7A07-4428-8E15-A8200A7CB55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ftr" idx="4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E67C64-9704-4895-91A8-42D57E0AD082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A9AB9F-49FC-4247-B70C-82A9B156B4F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dt" idx="4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2E1076-25E7-4FD4-836C-05E39A77C097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sldNum" idx="4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9CF90E-0A59-48E8-A49F-509EC26E780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 type="ftr" idx="4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4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12B499-FC3A-4775-ADD6-3CC7FD5DE660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5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51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1CEF89-8953-42F5-93F1-089451B16341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52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8C874F-12F4-4910-89DB-D9FF4524034A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sldNum" idx="53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C333A6-D449-4A03-A23D-2EE5D53E0A56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ftr" idx="54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dt" idx="55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3F1994-CB28-4840-840E-638425D01B8D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ftr" idx="56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 type="sldNum" idx="57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793A3F-F75B-4745-BAC2-69605F72046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CE09E6-77D6-4BAE-B4EB-CF73C2C7AF3F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 type="ftr" idx="5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249BBE-AD38-4BB5-A5DA-A2C44DB79022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ftr" idx="5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BA44F3-13DB-4269-A2C6-DFA699F17509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 type="ftr" idx="6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50724B-A8F9-4EAC-B330-3D61FA24F15F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 type="ftr" idx="6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EFE039-F5E6-4131-95E8-D60FA508FADE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0C1E44-924C-4294-9F7A-593184E0B83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1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ftr" idx="1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1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170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50E81D-3300-4407-868A-99F3DB9FA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ftr" idx="1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2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1407C8-F475-42C4-B095-4B4BBDB71274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3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4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6B7FFF-3695-4975-A59E-EAA62BD01803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9909D2-6C60-455E-95ED-8A335483294E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6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410345-2191-4020-B38D-0226215DD31A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59105B-869A-4416-9789-1DF846F10841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sldNum" idx="1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30A715-CF73-4E78-8490-29DE50EBB95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E03A1A-9F48-488C-9294-C85F7ACED7E1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22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A40C14-2E97-4687-B728-0541CBA6723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9" name="Group 13"/>
          <p:cNvGrpSpPr/>
          <p:nvPr/>
        </p:nvGrpSpPr>
        <p:grpSpPr>
          <a:xfrm>
            <a:off x="787320" y="2804760"/>
            <a:ext cx="7543800" cy="2932560"/>
            <a:chOff x="787320" y="2804760"/>
            <a:chExt cx="7543800" cy="2932560"/>
          </a:xfrm>
        </p:grpSpPr>
        <p:sp>
          <p:nvSpPr>
            <p:cNvPr id="1180" name="TextBox 9"/>
            <p:cNvSpPr/>
            <p:nvPr/>
          </p:nvSpPr>
          <p:spPr>
            <a:xfrm>
              <a:off x="787320" y="3082680"/>
              <a:ext cx="7543800" cy="265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OS Repor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lan Ber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15 ROS Vice-Ch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hnical Advisory Committee (TAC) Mee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RCOT Publ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1908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28, 2015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Schedule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612720" y="1924200"/>
            <a:ext cx="815328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Last ROS meet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ay 7, 2015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Future ROS meeting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June 4, 2015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July 9, 2015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5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28, 2015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ROS Action Item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612720" y="1817640"/>
            <a:ext cx="815328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w Cen MT"/>
              </a:rPr>
              <a:t>PGRR040 – Clarifications of Water Supply Rights Attestation Obligation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OS endorsed for approval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w Cen MT"/>
              </a:rPr>
              <a:t>NOGRR142 – Phasor Measurement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OS endorsed for approval with January 1, 2017 dat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8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28, 2015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Status of Assignment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612720" y="1793880"/>
            <a:ext cx="81532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Planning Guide section 6.9 updat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GRR040 submitted to TAC for approva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CDR and Planning Model Study Differenc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LWG is reviewing whitepaper before submitting to RO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Load Scaling Methodologies in Planning Studi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On-going discussion at PLW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1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28, 2015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Status of Assignment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612720" y="1839960"/>
            <a:ext cx="8153280" cy="42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Voltage Reduction Repor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Update planned for July ROS meet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w Cen MT"/>
              </a:rPr>
              <a:t>EEA language in Protocols and Operating Guides 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OS has considered the matter and feels it should be in both plac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4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28, 2015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Bern, Alan</cp:lastModifiedBy>
  <cp:lastPrinted>2013-01-30T23:16:36Z</cp:lastPrinted>
  <dcterms:modified xsi:type="dcterms:W3CDTF">2015-05-27T21:59:32Z</dcterms:modified>
  <cp:revision>816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4C4FFC4A894504CB30DBFB7150C9A36</vt:lpwstr>
  </property>
  <property fmtid="{D5CDD505-2E9C-101B-9397-08002B2CF9AE}" pid="3" name="Information Classification">
    <vt:lpwstr/>
  </property>
  <property fmtid="{D5CDD505-2E9C-101B-9397-08002B2CF9AE}" pid="4" name="Vault">
    <vt:lpwstr>0</vt:lpwstr>
  </property>
</Properties>
</file>