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CB0C-942D-49C4-878B-09B0F0A41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4493-9D76-4D4F-9329-4BC65749B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60F1-EF94-40A5-B21A-52E8F87B3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00D2-FB50-490F-9CA2-762852B41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B324-109B-4E50-A803-3D7F39F7A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8E42-E717-4813-86AE-351740A6E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FCDE-5585-45BC-BF56-7A907C599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9D1F7-D1EC-4A9D-B349-716055341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309F2-0592-41C5-8DFC-29231539C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9FDF1-02EE-4788-AC76-C02E0D308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D204F-D031-4656-97A9-E28D0C7A2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8EDD2-B1EA-47E3-8F5E-3B36C86FB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22133-E186-4DA0-B54C-1CB68D209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9FF8D-28AA-4D6D-9564-971DA7647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3730B-8A3B-4B15-932C-85D9B4A2D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71D3D-B0C8-4199-938A-35FCA5C3B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A621F-49D8-4AE4-AE76-8171FA0A2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619F1-E9DF-4BBF-9FBF-979F7E440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F75B8-51BC-48D9-B91B-4FA1B27D6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2FD7A-D7C6-4105-BF70-E2C58939E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9E96F-5571-4A4B-91AA-8E9360E4F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77973-79AC-49D5-83EB-71DAD29AE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19DD84-60AC-4192-9907-12EC84CB4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691F5-413C-4B13-8FEC-ECC2ED822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B8E1F0-FBD7-4C85-8C91-07CA68415C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A7AC7-3665-4146-A3E9-5271C2C13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E9535C-839A-46C5-8F24-7834266FB0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251304-20FB-4722-A163-B013F8AC3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4CA6D-895C-4155-96D0-1A0DF555E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47B8E-AC91-40F0-A26B-5FE22D066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B58E48-74D1-4976-9D1A-3A07EF82C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E92480-05D8-48A9-8C21-202F197CD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589C9-9075-432D-85A2-6B2761B28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CBF22-671C-4F2E-90D3-A6076DFD6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615761-4856-49FF-B3EB-F569590B7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E3C117-6166-4B7A-84FF-0B4FD44235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A80012-A5BC-4607-AE17-97EECAD65C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A61664-A68F-4FE5-A993-E5163DCEE8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4CACE-50A2-4777-9D89-DF8E8B9FEF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0092FB-EDE5-45B0-9B1C-B8EE223B59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4969B-AF69-44E4-823A-282D0B480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21F322-A308-4120-A60D-095856DD20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31A89-60D5-4E35-AB6A-0946C24CC4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2384F8-F337-4EC6-B704-4FED29DAF0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316FD3-540A-4D04-A4CE-55F77FFA6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2AA86-E92C-4604-A047-541D5965F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2164B-EEF5-44EE-9D8D-311E225EC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C50564-E1E7-4C33-A6C5-B4D98586A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F1DE1E-DA6A-4023-A9AA-D929F5586D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14546F-9124-48CF-94E3-DA979E50D7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447610-AD8A-4618-92E7-58D27938CF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AAAC5-6368-4E89-B7D1-BC8391F18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49A994-800E-47C3-AE79-427B90D904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35CF73-2DFA-4E57-BD4A-FA8FE86809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9A2866-BB40-4A0D-A265-671480B2F4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33B74F-2A4E-4642-9487-F8048A9BA5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E43E94-FB44-4B8A-91FD-A94C315C7C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0B2B0-A826-49EA-A532-0EFC6217E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2C539F-F17D-47B9-B3E1-3D09486B60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919A8D-B483-4C30-9AF1-8A6675AA5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F399DC-D8AD-421B-8708-5EAD024D1B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43EB58-5E66-4DCC-8DC1-4105E9DB6F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9A66B-26A8-4C43-A262-63A094F54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65001A-0CF0-4D45-A266-A558FB033F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AE31D2-0140-4160-A133-399A1C43F2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725705-1F45-400B-BD6E-BD03126090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CAF6AE-8118-405F-AFFB-81613E67A9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BA3BC4-5622-4DF5-B1A0-75186B3D68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7AE1BF-C788-4F0F-B191-5028065BB5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AB3E78-41D3-44C5-BA9F-DF1EE3271A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7D8355-11A2-46FB-B245-9139571C71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409E85-AD34-4869-9677-C4D45820E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45422B-6C96-41B3-A6BB-CD6B41581B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2C521-3B74-449E-AC72-9B1DFFC36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C5FCDA-15A4-49ED-A177-1BE74B6C3D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4AD67C-FDDA-4C36-9E53-02CBB817FD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CF17E0-A7BE-46D7-A1AD-1A81542010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67D56C-2931-434F-9D0A-FD7E361C01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C92BC7-1002-43EB-A690-B491A921EB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1C6D1B-7830-45BA-A9C6-19956A8E38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698863-3734-450C-AB74-B636F546E8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201263-BAB0-4CDD-9A21-268C008403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0420D6-2F87-4DD9-95F6-AC5E9D0AFD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568B71-473C-4F10-BEDD-5F2E853DE3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0FDCC-6E32-42E3-AD76-32B8CE6D7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7921D3-8C0D-47F3-84F2-D417F35634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3C0F0-0A60-49F3-BF45-BA74424377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4E2D51-6777-41C0-A3E9-656E38E4E9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096E18-A4B8-417B-A426-8595B4397A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F3AB64-36FA-4CB7-BE50-28C1C97EB9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53941-4D33-421F-8037-98BAEEEA7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DB66-4B29-4233-A5B0-77EB30D38BE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EC46-524E-4B64-9925-B69D913FCFA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BBE9-C7B1-44BA-B32C-EB86763636A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C654F-5463-435D-ACEE-47AD961AA8A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1BE3-4568-4E2A-AB33-BE1B3D557A8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CDA0-8412-40B0-BBA1-DD3682F047A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AEAD-34EC-4454-8B65-1D8DFAC1D66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rcot.com/content/wcm/key_documents_lists/54233/05.__Texas_Market_Test_Planv1_10_TexasSET_04222015.doc"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28, 2015 </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6F76-16E5-4BDF-9880-608BD124B92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RCOT IT Retail Incidents Updates! </a:t>
            </a:r>
            <a:endParaRPr b="0" lang="en-US" sz="3900" spc="-1" strike="noStrike">
              <a:solidFill>
                <a:srgbClr val="572314"/>
              </a:solidFill>
              <a:latin typeface="Gill Sans MT"/>
            </a:endParaRPr>
          </a:p>
        </p:txBody>
      </p:sp>
      <p:sp>
        <p:nvSpPr>
          <p:cNvPr id="382" name=""/>
          <p:cNvSpPr txBox="1"/>
          <p:nvPr/>
        </p:nvSpPr>
        <p:spPr>
          <a:xfrm>
            <a:off x="914400" y="685440"/>
            <a:ext cx="8229600" cy="518148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RCOT’s Premature transitioning of MarkeTrak Issues                              (Issue auto-closed or state incorrectly re-assigned) </a:t>
            </a:r>
            <a:endParaRPr b="0" lang="en-US" sz="18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This occurred on February 4 ,  February 11 and February 24, 2015</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vestigation determined that a database parameter was getting changed by the MarkeTrak application.  </a:t>
            </a:r>
            <a:endParaRPr b="0" lang="en-US" sz="1600" spc="-1" strike="noStrike">
              <a:solidFill>
                <a:srgbClr val="000000"/>
              </a:solidFill>
              <a:latin typeface="Gill Sans MT"/>
            </a:endParaRPr>
          </a:p>
          <a:p>
            <a:pPr lvl="2" marL="815040" indent="-210240">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No re-occurrence of the issue since 02/24/15</a:t>
            </a:r>
            <a:endParaRPr b="0" lang="en-US" sz="1600" spc="-1" strike="noStrike">
              <a:solidFill>
                <a:srgbClr val="000000"/>
              </a:solidFill>
              <a:latin typeface="Gill Sans MT"/>
            </a:endParaRPr>
          </a:p>
          <a:p>
            <a:pPr lvl="2" marL="815040" indent="-210240">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Vendor root cause investigation:</a:t>
            </a:r>
            <a:endParaRPr b="0" lang="en-US" sz="1600" spc="-1" strike="noStrike">
              <a:solidFill>
                <a:srgbClr val="000000"/>
              </a:solidFill>
              <a:latin typeface="Gill Sans MT"/>
            </a:endParaRPr>
          </a:p>
          <a:p>
            <a:pPr lvl="3" marL="1009080" indent="-159120">
              <a:spcBef>
                <a:spcPts val="349"/>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Unable to reproduce the issue under multiple scenarios</a:t>
            </a:r>
            <a:endParaRPr b="0" lang="en-US" sz="1400" spc="-1" strike="noStrike">
              <a:solidFill>
                <a:srgbClr val="000000"/>
              </a:solidFill>
              <a:latin typeface="Gill Sans MT"/>
            </a:endParaRPr>
          </a:p>
          <a:p>
            <a:pPr lvl="3" marL="1009080" indent="-159120">
              <a:spcBef>
                <a:spcPts val="349"/>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No other customers have reported this issue</a:t>
            </a:r>
            <a:endParaRPr b="0" lang="en-US" sz="1400" spc="-1" strike="noStrike">
              <a:solidFill>
                <a:srgbClr val="000000"/>
              </a:solidFill>
              <a:latin typeface="Gill Sans MT"/>
            </a:endParaRPr>
          </a:p>
          <a:p>
            <a:pPr lvl="3" marL="1009080" indent="-159120">
              <a:spcBef>
                <a:spcPts val="349"/>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d Flag / System Generated Notices for ERCOT’s Unplanned Outages:  </a:t>
            </a:r>
            <a:endParaRPr b="0" lang="en-US" sz="1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ed Hailu (ERCOT) planned to bring additional information to RMS next month, they are working out red flag system generated emails functionality so the system will know what, when and how to communicate unplanned outages via email once red flag is triggered..  </a:t>
            </a:r>
            <a:endParaRPr b="0" lang="en-US" sz="16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is also proposing market notifications would be triggered during both business and non-business hours and these ERCOT notification changes would require updates to “Appendix A” of COPS Communication guide </a:t>
            </a:r>
            <a:endParaRPr b="0" lang="en-US" sz="16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planned to work with RMS/COPS/CSWG to make applicable revisions to COPS’ Market Guide Market Notification Process for ERCOT’s unplanned outages.     </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8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8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A7C9-D0B3-4FE7-893E-2AE31DBFE0D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387" name=""/>
          <p:cNvSpPr txBox="1"/>
          <p:nvPr/>
        </p:nvSpPr>
        <p:spPr>
          <a:xfrm>
            <a:off x="884160" y="685440"/>
            <a:ext cx="8229600" cy="518148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advertent Gain Training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Friday,  June 12, 2015:  </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9:30 a.m. -  4:00 p.m. at Oncor Dallas Office </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services/training/index.html </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uesday, July 7, 2015 RMS meeting </a:t>
            </a:r>
            <a:r>
              <a:rPr b="1" lang="en-US" sz="2400" spc="-1" strike="noStrike">
                <a:solidFill>
                  <a:srgbClr val="c00000"/>
                </a:solidFill>
                <a:latin typeface="Gill Sans MT"/>
              </a:rPr>
              <a:t>cancelled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ue to July 4</a:t>
            </a:r>
            <a:r>
              <a:rPr b="0" lang="en-US" sz="2000" spc="-1" strike="noStrike" baseline="30000">
                <a:solidFill>
                  <a:srgbClr val="000000"/>
                </a:solidFill>
                <a:latin typeface="Gill Sans MT"/>
              </a:rPr>
              <a:t>th</a:t>
            </a:r>
            <a:r>
              <a:rPr b="0" lang="en-US" sz="2000" spc="-1" strike="noStrike">
                <a:solidFill>
                  <a:srgbClr val="000000"/>
                </a:solidFill>
                <a:latin typeface="Gill Sans MT"/>
              </a:rPr>
              <a:t> holiday weekend prior to RMS and quorum concerns.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en-US" sz="2400" spc="-1" strike="noStrike">
                <a:solidFill>
                  <a:srgbClr val="000000"/>
                </a:solidFill>
                <a:latin typeface="Gill Sans MT"/>
              </a:rPr>
              <a:t>Joint RMS/WMS Workshop I</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t>
            </a:r>
            <a:r>
              <a:rPr b="1" lang="en-US" sz="2000" spc="-1" strike="noStrike">
                <a:solidFill>
                  <a:srgbClr val="000000"/>
                </a:solidFill>
                <a:latin typeface="Gill Sans MT"/>
              </a:rPr>
              <a:t>Improving 3</a:t>
            </a:r>
            <a:r>
              <a:rPr b="1" lang="en-US" sz="2000" spc="-1" strike="noStrike" baseline="30000">
                <a:solidFill>
                  <a:srgbClr val="000000"/>
                </a:solidFill>
                <a:latin typeface="Gill Sans MT"/>
              </a:rPr>
              <a:t>rd</a:t>
            </a:r>
            <a:r>
              <a:rPr b="1" lang="en-US" sz="2000" spc="-1" strike="noStrike">
                <a:solidFill>
                  <a:srgbClr val="000000"/>
                </a:solidFill>
                <a:latin typeface="Gill Sans MT"/>
              </a:rPr>
              <a:t> Party Access to Smart Meter Texas” scheduled: </a:t>
            </a:r>
            <a:endParaRPr b="0" lang="en-US" sz="20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Thursday, July 23</a:t>
            </a:r>
            <a:r>
              <a:rPr b="1" lang="en-US" sz="1800" spc="-1" strike="noStrike" baseline="30000">
                <a:solidFill>
                  <a:srgbClr val="c00000"/>
                </a:solidFill>
                <a:latin typeface="Gill Sans MT"/>
              </a:rPr>
              <a:t>rd</a:t>
            </a:r>
            <a:r>
              <a:rPr b="1" lang="en-US" sz="1800" spc="-1" strike="noStrike">
                <a:solidFill>
                  <a:srgbClr val="c00000"/>
                </a:solidFill>
                <a:latin typeface="Gill Sans MT"/>
              </a:rPr>
              <a:t> at 1:00 PM – 5:00 PM </a:t>
            </a:r>
            <a:endParaRPr b="0" lang="en-US" sz="1800" spc="-1" strike="noStrike">
              <a:solidFill>
                <a:srgbClr val="000000"/>
              </a:solidFill>
              <a:latin typeface="Gill Sans MT"/>
            </a:endParaRPr>
          </a:p>
          <a:p>
            <a:pPr lvl="3" marL="1019880" indent="-1609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Met Center Conference Room 206A </a:t>
            </a:r>
            <a:endParaRPr b="0" lang="en-US" sz="16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Friday,  July 24</a:t>
            </a:r>
            <a:r>
              <a:rPr b="1" lang="en-US" sz="1800" spc="-1" strike="noStrike" baseline="30000">
                <a:solidFill>
                  <a:srgbClr val="c00000"/>
                </a:solidFill>
                <a:latin typeface="Gill Sans MT"/>
              </a:rPr>
              <a:t>th</a:t>
            </a:r>
            <a:r>
              <a:rPr b="1" lang="en-US" sz="1800" spc="-1" strike="noStrike">
                <a:solidFill>
                  <a:srgbClr val="c00000"/>
                </a:solidFill>
                <a:latin typeface="Gill Sans MT"/>
              </a:rPr>
              <a:t> at 9:00 AM – 3:00 PM             </a:t>
            </a:r>
            <a:endParaRPr b="0" lang="en-US" sz="1800" spc="-1" strike="noStrike">
              <a:solidFill>
                <a:srgbClr val="000000"/>
              </a:solidFill>
              <a:latin typeface="Gill Sans MT"/>
            </a:endParaRPr>
          </a:p>
          <a:p>
            <a:pPr lvl="3" marL="1019880" indent="-1609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Met Center Conference Room 206</a:t>
            </a:r>
            <a:endParaRPr b="0" lang="en-US" sz="16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8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8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F0EE-5E2E-4217-9359-AFCA48BCB75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392" name="Picture 5" descr="MCj04344110000[1]"/>
          <p:cNvPicPr/>
          <p:nvPr/>
        </p:nvPicPr>
        <p:blipFill>
          <a:blip r:embed="rId1"/>
          <a:stretch/>
        </p:blipFill>
        <p:spPr>
          <a:xfrm>
            <a:off x="2286000" y="1219320"/>
            <a:ext cx="5334120" cy="4038480"/>
          </a:xfrm>
          <a:prstGeom prst="rect">
            <a:avLst/>
          </a:prstGeom>
          <a:ln w="0">
            <a:noFill/>
          </a:ln>
        </p:spPr>
      </p:pic>
      <p:sp>
        <p:nvSpPr>
          <p:cNvPr id="393"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2BAA-04EA-4611-8A53-3CB1AB75EB2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9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9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29 Voting Recommendation:</a:t>
            </a:r>
            <a:endParaRPr b="0" lang="en-US" sz="3600" spc="-1" strike="noStrike">
              <a:solidFill>
                <a:srgbClr val="572314"/>
              </a:solidFill>
              <a:latin typeface="Gill Sans MT"/>
            </a:endParaRPr>
          </a:p>
        </p:txBody>
      </p:sp>
      <p:sp>
        <p:nvSpPr>
          <p:cNvPr id="338" name=""/>
          <p:cNvSpPr txBox="1"/>
          <p:nvPr/>
        </p:nvSpPr>
        <p:spPr>
          <a:xfrm>
            <a:off x="93996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9</a:t>
            </a:r>
            <a:r>
              <a:rPr b="1" lang="en-US" sz="2400" spc="-1" strike="noStrike">
                <a:solidFill>
                  <a:srgbClr val="000000"/>
                </a:solidFill>
                <a:latin typeface="Gill Sans MT"/>
              </a:rPr>
              <a:t>, Revision to Customer Rescission Completion Timeline (Vote)</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provides additional guidelines regarding specific timing and responsibilities for a Competitive Retailer (CR) to complete a Customer Rescission MarkeTrak issue after completion of a Switch Request.  Once a Customer Rescission MarkeTrak issue has been submitted, the losing CR has two Business Days to agree to the Customer Rescission MarkeTrak issue, and another two Business Days to send a backdated 814_16, Move-In Request, once the Transmission and/or Distribution Service Provider (TDSP) has updated the MarkeTrak issue status to “Ready to Receive.”</a:t>
            </a:r>
            <a:endParaRPr b="0" lang="en-US" sz="1800" spc="-1" strike="noStrike">
              <a:solidFill>
                <a:srgbClr val="000000"/>
              </a:solidFill>
              <a:latin typeface="Gill Sans MT"/>
            </a:endParaRPr>
          </a:p>
          <a:p>
            <a:pPr lvl="2" marL="850320" indent="-219240">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Gill Sans MT"/>
              </a:rPr>
              <a:t>03/03/15 Language Review and Vote:  RMS unanimously Approved RMGRR129 as recommended by the MarkeTrak Taskforce (MTTF).   </a:t>
            </a:r>
            <a:endParaRPr b="0" lang="en-US" sz="1500" spc="-1" strike="noStrike">
              <a:solidFill>
                <a:srgbClr val="000000"/>
              </a:solidFill>
              <a:latin typeface="Gill Sans MT"/>
            </a:endParaRPr>
          </a:p>
          <a:p>
            <a:pPr lvl="2" marL="850320" indent="-219240">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04/07/15 Impact Analysis Review:</a:t>
            </a:r>
            <a:r>
              <a:rPr b="0" lang="en-US" sz="1500" spc="-1" strike="noStrike">
                <a:solidFill>
                  <a:srgbClr val="000000"/>
                </a:solidFill>
                <a:latin typeface="Gill Sans MT"/>
              </a:rPr>
              <a:t>  No project required.  This Retail Market Guide Revision Request (RMGRR) can take effect upon the Technical Advisory Committee (TAC) approval.</a:t>
            </a:r>
            <a:endParaRPr b="0" lang="en-US" sz="1500" spc="-1" strike="noStrike">
              <a:solidFill>
                <a:srgbClr val="000000"/>
              </a:solidFill>
              <a:latin typeface="Gill Sans MT"/>
            </a:endParaRPr>
          </a:p>
          <a:p>
            <a:pPr lvl="2" marL="850320" indent="-219240">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04/07/15 RMS Voting:  RMS unanimously Approved RMGRR129 </a:t>
            </a:r>
            <a:r>
              <a:rPr b="0" lang="en-US" sz="1500" spc="-1" strike="noStrike">
                <a:solidFill>
                  <a:srgbClr val="000000"/>
                </a:solidFill>
                <a:latin typeface="Gill Sans MT"/>
              </a:rPr>
              <a:t>Impact Analysis.</a:t>
            </a:r>
            <a:endParaRPr b="0" lang="en-US" sz="15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5/28/15:  RMS Unanimously Recommends RMGRR129 for TAC Approval</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5D2F-E1EB-462D-B757-012DBC607B0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30 Voting Recommendation:</a:t>
            </a:r>
            <a:endParaRPr b="0" lang="en-US" sz="3600" spc="-1" strike="noStrike">
              <a:solidFill>
                <a:srgbClr val="572314"/>
              </a:solidFill>
              <a:latin typeface="Gill Sans MT"/>
            </a:endParaRPr>
          </a:p>
        </p:txBody>
      </p:sp>
      <p:sp>
        <p:nvSpPr>
          <p:cNvPr id="343" name=""/>
          <p:cNvSpPr txBox="1"/>
          <p:nvPr/>
        </p:nvSpPr>
        <p:spPr>
          <a:xfrm>
            <a:off x="939960" y="685800"/>
            <a:ext cx="82296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0</a:t>
            </a:r>
            <a:r>
              <a:rPr b="1" lang="en-US" sz="2400" spc="-1" strike="noStrike">
                <a:solidFill>
                  <a:srgbClr val="000000"/>
                </a:solidFill>
                <a:latin typeface="Gill Sans MT"/>
              </a:rPr>
              <a:t>,  Alignment of Section 7, Market Processes, with TDSP Terms &amp; Conditions Tariff Effective 01/15/2015 (Vote)</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synchronizes Section 7, Market Processes with Public Utility Commission of Texas (PUCT), Rulemaking Proceeding to Amend PUC SUBST. R. §25.214 Relating to Terms and Conditions of Retail Delivery Service Provided by Investor Owned Transmission and Distribution Utilities (TDUs)  and Pro-Forma Retail Delivery Tariff effective 01/15/2015</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4/07/15 RMS Voting</a:t>
            </a:r>
            <a:r>
              <a:rPr b="0" lang="en-US" sz="1600" spc="-1" strike="noStrike">
                <a:solidFill>
                  <a:srgbClr val="000000"/>
                </a:solidFill>
                <a:latin typeface="Gill Sans MT"/>
              </a:rPr>
              <a:t>:  </a:t>
            </a:r>
            <a:r>
              <a:rPr b="1" lang="en-US" sz="1600" spc="-1" strike="noStrike">
                <a:solidFill>
                  <a:srgbClr val="000000"/>
                </a:solidFill>
                <a:latin typeface="Gill Sans MT"/>
              </a:rPr>
              <a:t>RMS unanimously Approved  “Tabling” RMGRR130</a:t>
            </a:r>
            <a:r>
              <a:rPr b="0" lang="en-US" sz="1600" spc="-1" strike="noStrike">
                <a:solidFill>
                  <a:srgbClr val="000000"/>
                </a:solidFill>
                <a:latin typeface="Gill Sans MT"/>
              </a:rPr>
              <a:t>.</a:t>
            </a: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4/22/15</a:t>
            </a:r>
            <a:r>
              <a:rPr b="0" lang="en-US" sz="1600" spc="-1" strike="noStrike">
                <a:solidFill>
                  <a:srgbClr val="000000"/>
                </a:solidFill>
                <a:latin typeface="Gill Sans MT"/>
              </a:rPr>
              <a:t>:  TX SET provided additional comments for RMS consideration </a:t>
            </a:r>
            <a:endParaRPr b="0" lang="en-US" sz="16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05/05/15 RMS Discussion/Vote</a:t>
            </a:r>
            <a:r>
              <a:rPr b="0" lang="en-US" sz="1800" spc="-1" strike="noStrike">
                <a:solidFill>
                  <a:srgbClr val="000000"/>
                </a:solidFill>
                <a:latin typeface="Gill Sans MT"/>
              </a:rPr>
              <a:t>:  Motion to Approve as amended by the April 22, 2015  TX SET comments and the May 5, 2015 RMS edits:                                                          </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RMS Unanimously Approved RMGRR130</a:t>
            </a:r>
            <a:r>
              <a:rPr b="0" lang="en-US" sz="1800" spc="-1" strike="noStrike">
                <a:solidFill>
                  <a:srgbClr val="c00000"/>
                </a:solidFill>
                <a:latin typeface="Gill Sans MT"/>
              </a:rPr>
              <a:t>,</a:t>
            </a:r>
            <a:r>
              <a:rPr b="0" lang="en-US" sz="1800" spc="-1" strike="noStrike">
                <a:solidFill>
                  <a:srgbClr val="000000"/>
                </a:solidFill>
                <a:latin typeface="Gill Sans MT"/>
              </a:rPr>
              <a:t> </a:t>
            </a:r>
            <a:r>
              <a:rPr b="1" lang="en-US" sz="1800" spc="-1" strike="noStrike">
                <a:solidFill>
                  <a:srgbClr val="c00000"/>
                </a:solidFill>
                <a:latin typeface="Gill Sans MT"/>
              </a:rPr>
              <a:t>which includes the new Appendix D3, TDSP’s Discretionary Services Timeline</a:t>
            </a:r>
            <a:r>
              <a:rPr b="0" lang="en-US" sz="1800" spc="-1" strike="noStrike">
                <a:solidFill>
                  <a:srgbClr val="000000"/>
                </a:solidFill>
                <a:latin typeface="Gill Sans MT"/>
              </a:rPr>
              <a:t>. </a:t>
            </a:r>
            <a:r>
              <a:rPr b="1" lang="en-US" sz="1800" spc="-1" strike="noStrike">
                <a:solidFill>
                  <a:srgbClr val="000000"/>
                </a:solidFill>
                <a:latin typeface="Gill Sans MT"/>
              </a:rPr>
              <a:t>RMS will consider RMGRR130’s Impact Analysis (IA) during the June 2</a:t>
            </a:r>
            <a:r>
              <a:rPr b="1" lang="en-US" sz="1800" spc="-1" strike="noStrike" baseline="30000">
                <a:solidFill>
                  <a:srgbClr val="000000"/>
                </a:solidFill>
                <a:latin typeface="Gill Sans MT"/>
              </a:rPr>
              <a:t>nd</a:t>
            </a:r>
            <a:r>
              <a:rPr b="1" lang="en-US" sz="1800" spc="-1" strike="noStrike">
                <a:solidFill>
                  <a:srgbClr val="000000"/>
                </a:solidFill>
                <a:latin typeface="Gill Sans MT"/>
              </a:rPr>
              <a:t> RMS meeting </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C518-5117-45B3-A1FA-0A4A4C3CE32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31 Voting Recommendation:</a:t>
            </a:r>
            <a:endParaRPr b="0" lang="en-US" sz="3600" spc="-1" strike="noStrike">
              <a:solidFill>
                <a:srgbClr val="572314"/>
              </a:solidFill>
              <a:latin typeface="Gill Sans MT"/>
            </a:endParaRPr>
          </a:p>
        </p:txBody>
      </p:sp>
      <p:sp>
        <p:nvSpPr>
          <p:cNvPr id="348" name=""/>
          <p:cNvSpPr txBox="1"/>
          <p:nvPr/>
        </p:nvSpPr>
        <p:spPr>
          <a:xfrm>
            <a:off x="93996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1</a:t>
            </a:r>
            <a:r>
              <a:rPr b="1" lang="en-US" sz="2400" spc="-1" strike="noStrike">
                <a:solidFill>
                  <a:srgbClr val="000000"/>
                </a:solidFill>
                <a:latin typeface="Gill Sans MT"/>
              </a:rPr>
              <a:t>,  Guidelines for Notification of Invoice Dispute (Vote)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will align the Retail Market Guide with current market practices.</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8.2, Guidelines for Notification of Invoice Dispute</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efficiencies or enhancements</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re were two sets of comments submitted to ERCOT’s Revision Listserv for RMGRR131 –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s and TXU Energy’s  comments required additional review and discussions by the MarkeTrak Taskforce  Subject Matter Experts (SME’s) during their May 7</a:t>
            </a:r>
            <a:r>
              <a:rPr b="0" lang="en-US" sz="1800" spc="-1" strike="noStrike" baseline="30000">
                <a:solidFill>
                  <a:srgbClr val="000000"/>
                </a:solidFill>
                <a:latin typeface="Gill Sans MT"/>
              </a:rPr>
              <a:t>th</a:t>
            </a:r>
            <a:r>
              <a:rPr b="0" lang="en-US" sz="1800" spc="-1" strike="noStrike">
                <a:solidFill>
                  <a:srgbClr val="000000"/>
                </a:solidFill>
                <a:latin typeface="Gill Sans MT"/>
              </a:rPr>
              <a:t> scheduled meeting.  </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5/15 RMS Discussion/Vote</a:t>
            </a:r>
            <a:r>
              <a:rPr b="0" lang="en-US" sz="2000" spc="-1" strike="noStrike">
                <a:solidFill>
                  <a:srgbClr val="000000"/>
                </a:solidFill>
                <a:latin typeface="Gill Sans MT"/>
              </a:rPr>
              <a:t>:  </a:t>
            </a:r>
            <a:r>
              <a:rPr b="1" lang="en-US" sz="2000" spc="-1" strike="noStrike">
                <a:solidFill>
                  <a:srgbClr val="000000"/>
                </a:solidFill>
                <a:latin typeface="Gill Sans MT"/>
              </a:rPr>
              <a:t>Motion to “</a:t>
            </a:r>
            <a:r>
              <a:rPr b="1" lang="en-US" sz="2000" spc="-1" strike="noStrike">
                <a:solidFill>
                  <a:srgbClr val="c00000"/>
                </a:solidFill>
                <a:latin typeface="Gill Sans MT"/>
              </a:rPr>
              <a:t>Table</a:t>
            </a:r>
            <a:r>
              <a:rPr b="1" lang="en-US" sz="2000" spc="-1" strike="noStrike">
                <a:solidFill>
                  <a:srgbClr val="000000"/>
                </a:solidFill>
                <a:latin typeface="Gill Sans MT"/>
              </a:rPr>
              <a:t>” </a:t>
            </a:r>
            <a:r>
              <a:rPr b="1" lang="en-US" sz="2000" spc="-1" strike="noStrike">
                <a:solidFill>
                  <a:srgbClr val="c00000"/>
                </a:solidFill>
                <a:latin typeface="Gill Sans MT"/>
              </a:rPr>
              <a:t>Unanimous by RMS</a:t>
            </a:r>
            <a:r>
              <a:rPr b="0" lang="en-US" sz="2000" spc="-1" strike="noStrike">
                <a:solidFill>
                  <a:srgbClr val="000000"/>
                </a:solidFill>
                <a:latin typeface="Gill Sans MT"/>
              </a:rPr>
              <a:t> </a:t>
            </a:r>
            <a:r>
              <a:rPr b="1" lang="en-US" sz="2000" spc="-1" strike="noStrike">
                <a:solidFill>
                  <a:srgbClr val="c00000"/>
                </a:solidFill>
                <a:latin typeface="Gill Sans MT"/>
              </a:rPr>
              <a:t>to allow RMS to receive MTTF Recommendations</a:t>
            </a:r>
            <a:r>
              <a:rPr b="1" lang="en-US" sz="2000" spc="-1" strike="noStrike">
                <a:solidFill>
                  <a:srgbClr val="000000"/>
                </a:solidFill>
                <a:latin typeface="Gill Sans MT"/>
              </a:rPr>
              <a:t>.  MTTF 5/7/15 recommendation will be considered for approval during RMS’ June 2</a:t>
            </a:r>
            <a:r>
              <a:rPr b="1" lang="en-US" sz="2000" spc="-1" strike="noStrike" baseline="30000">
                <a:solidFill>
                  <a:srgbClr val="000000"/>
                </a:solidFill>
                <a:latin typeface="Gill Sans MT"/>
              </a:rPr>
              <a:t>nd</a:t>
            </a:r>
            <a:r>
              <a:rPr b="1" lang="en-US" sz="2000" spc="-1" strike="noStrike">
                <a:solidFill>
                  <a:srgbClr val="000000"/>
                </a:solidFill>
                <a:latin typeface="Gill Sans MT"/>
              </a:rPr>
              <a:t> meeting.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6E73-B0F7-4E04-900B-D1ED7886E70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TX SET Working Group Voting Items:  </a:t>
            </a:r>
            <a:endParaRPr b="0" lang="en-US" sz="4000" spc="-1" strike="noStrike">
              <a:solidFill>
                <a:srgbClr val="572314"/>
              </a:solidFill>
              <a:latin typeface="Gill Sans MT"/>
            </a:endParaRPr>
          </a:p>
        </p:txBody>
      </p:sp>
      <p:sp>
        <p:nvSpPr>
          <p:cNvPr id="353" name=""/>
          <p:cNvSpPr txBox="1"/>
          <p:nvPr/>
        </p:nvSpPr>
        <p:spPr>
          <a:xfrm>
            <a:off x="1218960" y="685800"/>
            <a:ext cx="792468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Standard Electronic Transaction (SET) Working Group Procedures  </a:t>
            </a: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Standard Electronic Transaction (SET) Implementation Guides Change Control Process  </a:t>
            </a: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4/7/15 RMS Voting</a:t>
            </a:r>
            <a:r>
              <a:rPr b="0" lang="en-US" sz="2400" spc="-1" strike="noStrike">
                <a:solidFill>
                  <a:srgbClr val="c00000"/>
                </a:solidFill>
                <a:latin typeface="Gill Sans MT"/>
              </a:rPr>
              <a:t>:  </a:t>
            </a:r>
            <a:r>
              <a:rPr b="0" lang="en-US" sz="2400" spc="-1" strike="noStrike">
                <a:solidFill>
                  <a:srgbClr val="000000"/>
                </a:solidFill>
                <a:latin typeface="Gill Sans MT"/>
              </a:rPr>
              <a:t>Both the TX SET Procedures and TX SET Implementation Guides Change Control Process were Unanimously Approved.                                                      </a:t>
            </a:r>
            <a:r>
              <a:rPr b="0" lang="en-US" sz="2400" spc="-1" strike="noStrike">
                <a:solidFill>
                  <a:srgbClr val="c00000"/>
                </a:solidFill>
                <a:latin typeface="Gill Sans MT"/>
              </a:rPr>
              <a:t>With the RMS Approval of the TX SET Implementation Guides Change Control Process that supports NPRR668, RMS recommends TAC’s Approval of NPRR668 that is currently tabled at TAC.  </a:t>
            </a: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4"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5188-9852-420B-8DBC-DD43C5DAFFD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TX SET Working Group Voting Items:  </a:t>
            </a:r>
            <a:endParaRPr b="0" lang="en-US" sz="4000" spc="-1" strike="noStrike">
              <a:solidFill>
                <a:srgbClr val="572314"/>
              </a:solidFill>
              <a:latin typeface="Gill Sans MT"/>
            </a:endParaRPr>
          </a:p>
        </p:txBody>
      </p:sp>
      <p:sp>
        <p:nvSpPr>
          <p:cNvPr id="358" name=""/>
          <p:cNvSpPr txBox="1"/>
          <p:nvPr/>
        </p:nvSpPr>
        <p:spPr>
          <a:xfrm>
            <a:off x="1218960" y="685800"/>
            <a:ext cx="7924680" cy="5486400"/>
          </a:xfrm>
          <a:prstGeom prst="rect">
            <a:avLst/>
          </a:prstGeom>
          <a:noFill/>
          <a:ln w="0">
            <a:noFill/>
          </a:ln>
        </p:spPr>
        <p:txBody>
          <a:bodyPr anchor="t">
            <a:normAutofit fontScale="94000"/>
          </a:bodyPr>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xas Market Test Plan Revision (Vote) </a:t>
            </a:r>
            <a:endParaRPr b="0" lang="en-US" sz="28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5/05/15 RMS Discussion/Vote</a:t>
            </a:r>
            <a:r>
              <a:rPr b="0" lang="en-US" sz="2400" spc="-1" strike="noStrike">
                <a:solidFill>
                  <a:srgbClr val="000000"/>
                </a:solidFill>
                <a:latin typeface="Gill Sans MT"/>
              </a:rPr>
              <a:t>:   </a:t>
            </a:r>
            <a:r>
              <a:rPr b="1" lang="en-US" sz="2400" spc="-1" strike="noStrike">
                <a:solidFill>
                  <a:srgbClr val="c00000"/>
                </a:solidFill>
                <a:latin typeface="Gill Sans MT"/>
              </a:rPr>
              <a:t>Unanimously Approved by RMS as recommended by TX SET</a:t>
            </a:r>
            <a:r>
              <a:rPr b="0" lang="en-US" sz="2400" spc="-1" strike="noStrike">
                <a:solidFill>
                  <a:srgbClr val="c00000"/>
                </a:solidFill>
                <a:latin typeface="Gill Sans MT"/>
              </a:rPr>
              <a:t>.  </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ntent/wcm/key_documents_lists/54233/05.__Texas_Market_Test_Planv1_10_TexasSET_04222015.doc</a:t>
            </a:r>
            <a:endParaRPr b="0" lang="en-US" sz="20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015 Flight Schedule Changes (Vote) </a:t>
            </a:r>
            <a:endParaRPr b="0" lang="en-US" sz="28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5/05/15 RMS Discussion/Vote:  </a:t>
            </a:r>
            <a:r>
              <a:rPr b="1" lang="en-US" sz="3200" spc="-1" strike="noStrike">
                <a:solidFill>
                  <a:srgbClr val="000000"/>
                </a:solidFill>
                <a:latin typeface="Gill Sans MT"/>
              </a:rPr>
              <a:t> </a:t>
            </a:r>
            <a:r>
              <a:rPr b="1" lang="en-US" sz="2400" spc="-1" strike="noStrike">
                <a:solidFill>
                  <a:srgbClr val="c00000"/>
                </a:solidFill>
                <a:latin typeface="Gill Sans MT"/>
              </a:rPr>
              <a:t>Unanimously Approved by RMS as recommended by TX SE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54233/05.__Approved_Test_Flights_TXSET_04222015.doc   </a:t>
            </a:r>
            <a:endParaRPr b="0" lang="en-US" sz="2000" spc="-1" strike="noStrike">
              <a:solidFill>
                <a:srgbClr val="000000"/>
              </a:solidFill>
              <a:latin typeface="Gill Sans MT"/>
            </a:endParaRPr>
          </a:p>
        </p:txBody>
      </p:sp>
      <p:sp>
        <p:nvSpPr>
          <p:cNvPr id="359"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A8B1-F546-4903-97BC-A40CD5F4F3A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2314"/>
                </a:solidFill>
                <a:latin typeface="Gill Sans MT"/>
              </a:rPr>
              <a:t>Retail Market Training Taskforce (RMT TF)</a:t>
            </a:r>
            <a:endParaRPr b="0" lang="en-US" sz="3000" spc="-1" strike="noStrike">
              <a:solidFill>
                <a:srgbClr val="572314"/>
              </a:solidFill>
              <a:latin typeface="Gill Sans MT"/>
            </a:endParaRPr>
          </a:p>
        </p:txBody>
      </p:sp>
      <p:sp>
        <p:nvSpPr>
          <p:cNvPr id="363" name=""/>
          <p:cNvSpPr txBox="1"/>
          <p:nvPr/>
        </p:nvSpPr>
        <p:spPr>
          <a:xfrm>
            <a:off x="938160" y="762120"/>
            <a:ext cx="8229600" cy="541008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T TF Scope (Vote) </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Retail Market Training Task Force, reporting to RMS, is responsible for coordinating the development and maintenance of Retail Market training materials for ERCOT Market Participants</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5/15 RMS Discussion/Vote:   </a:t>
            </a:r>
            <a:r>
              <a:rPr b="1" lang="en-US" sz="2000" spc="-1" strike="noStrike">
                <a:solidFill>
                  <a:srgbClr val="c00000"/>
                </a:solidFill>
                <a:latin typeface="Gill Sans MT"/>
              </a:rPr>
              <a:t>Unanimously Approved</a:t>
            </a:r>
            <a:r>
              <a:rPr b="0" lang="en-US" sz="2000" spc="-1" strike="noStrike">
                <a:solidFill>
                  <a:srgbClr val="c00000"/>
                </a:solidFill>
                <a:latin typeface="Gill Sans MT"/>
              </a:rPr>
              <a:t> by </a:t>
            </a:r>
            <a:r>
              <a:rPr b="1" lang="en-US" sz="2000" spc="-1" strike="noStrike">
                <a:solidFill>
                  <a:srgbClr val="c00000"/>
                </a:solidFill>
                <a:latin typeface="Gill Sans MT"/>
              </a:rPr>
              <a:t>RMS as recommended by the Retail Market Training Taskforce. </a:t>
            </a:r>
            <a:endParaRPr b="0" lang="en-US" sz="20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www.ercot.com/content/wcm/key_documents_lists/54233/05.__RMTTF_FINAL_Update_to_RMS_20150505.pptx  </a:t>
            </a:r>
            <a:endParaRPr b="0" lang="en-US" sz="16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hanks to ERCOT for the following:  </a:t>
            </a:r>
            <a:endParaRPr b="0" lang="en-US" sz="20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ou can visit the </a:t>
            </a:r>
            <a:r>
              <a:rPr b="0" lang="en-US" sz="1600" spc="-1" strike="noStrike" u="sng">
                <a:solidFill>
                  <a:srgbClr val="000000"/>
                </a:solidFill>
                <a:uFillTx/>
                <a:latin typeface="Gill Sans MT"/>
              </a:rPr>
              <a:t>Retail Market Training Taskforce web page </a:t>
            </a:r>
            <a:r>
              <a:rPr b="0" lang="en-US" sz="1600" spc="-1" strike="noStrike">
                <a:solidFill>
                  <a:srgbClr val="000000"/>
                </a:solidFill>
                <a:latin typeface="Gill Sans MT"/>
              </a:rPr>
              <a:t> on ERCOT.com</a:t>
            </a:r>
            <a:endParaRPr b="0" lang="en-US" sz="16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ou can subscribe to the new e-mail distribution list (</a:t>
            </a:r>
            <a:r>
              <a:rPr b="0" lang="en-US" sz="1600" spc="-1" strike="noStrike" u="sng">
                <a:solidFill>
                  <a:srgbClr val="000000"/>
                </a:solidFill>
                <a:uFillTx/>
                <a:latin typeface="Gill Sans MT"/>
              </a:rPr>
              <a:t>RMTTF@lists.ercot.com</a:t>
            </a:r>
            <a:r>
              <a:rPr b="0" lang="en-US" sz="1600" spc="-1" strike="noStrike">
                <a:solidFill>
                  <a:srgbClr val="000000"/>
                </a:solidFill>
                <a:latin typeface="Gill Sans MT"/>
              </a:rPr>
              <a:t>) that has been created to facilitate communications specific to this taskforce. .</a:t>
            </a: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ext RMTTF meeting is scheduled on July 8, 2015 at 9:30 AM – ERCOT Met Center Conference Room 168.  </a:t>
            </a:r>
            <a:endParaRPr b="0" lang="en-US" sz="20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6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DA82-90B6-4654-A733-9D004EB0619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a:t>
            </a:r>
            <a:endParaRPr b="0" lang="en-US" sz="2800" spc="-1" strike="noStrike">
              <a:solidFill>
                <a:srgbClr val="572314"/>
              </a:solidFill>
              <a:latin typeface="Gill Sans MT"/>
            </a:endParaRPr>
          </a:p>
        </p:txBody>
      </p:sp>
      <p:sp>
        <p:nvSpPr>
          <p:cNvPr id="368" name=""/>
          <p:cNvSpPr txBox="1"/>
          <p:nvPr/>
        </p:nvSpPr>
        <p:spPr>
          <a:xfrm>
            <a:off x="1219320" y="685800"/>
            <a:ext cx="77724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ange Requests Implementation Cost Estimates (Vote) </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54233/05.__AMWG_Change_Requests_RMS_050515.zip</a:t>
            </a:r>
            <a:endParaRPr b="0" lang="en-US" sz="20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ange Request </a:t>
            </a:r>
            <a:r>
              <a:rPr b="1" lang="en-US" sz="2400" spc="-1" strike="noStrike">
                <a:solidFill>
                  <a:srgbClr val="000000"/>
                </a:solidFill>
                <a:latin typeface="Gill Sans MT"/>
              </a:rPr>
              <a:t>2013-010</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Approved proposed change on 06/19/2013)</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5/15 RMS Discussion/Vote: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ange Requests </a:t>
            </a:r>
            <a:r>
              <a:rPr b="1" lang="en-US" sz="2400" spc="-1" strike="noStrike">
                <a:solidFill>
                  <a:srgbClr val="000000"/>
                </a:solidFill>
                <a:latin typeface="Gill Sans MT"/>
              </a:rPr>
              <a:t>2015-021</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Approved proposed change on 02/03/2015)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5/15 RMS Discussion/Vote: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 </a:t>
            </a: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T Updates</a:t>
            </a:r>
            <a:r>
              <a:rPr b="0" lang="en-US" sz="2400" spc="-1" strike="noStrike">
                <a:solidFill>
                  <a:srgbClr val="000000"/>
                </a:solidFill>
                <a:latin typeface="Gill Sans MT"/>
              </a:rPr>
              <a:t>: Change Requests totals to date, Monthly Reports and scheduled meeting dates, location and time: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CA1A-7561-4947-BED8-24EA6262E32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4" name="Object 2"/>
          <p:cNvGraphicFramePr/>
          <p:nvPr/>
        </p:nvGraphicFramePr>
        <p:xfrm>
          <a:off x="4343400" y="5410080"/>
          <a:ext cx="824040" cy="695520"/>
        </p:xfrm>
        <a:graphic>
          <a:graphicData uri="http://schemas.openxmlformats.org/presentationml/2006/ole">
            <p:oleObj r:id="rId1" spid="">
              <p:embed/>
              <p:pic>
                <p:nvPicPr>
                  <p:cNvPr id="375" name="Object 2" descr=""/>
                  <p:cNvPicPr/>
                  <p:nvPr/>
                </p:nvPicPr>
                <p:blipFill>
                  <a:blip r:embed="rId2"/>
                  <a:stretch/>
                </p:blipFill>
                <p:spPr>
                  <a:xfrm>
                    <a:off x="4343400" y="5410080"/>
                    <a:ext cx="82404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mart Meter Texas Outage Update! </a:t>
            </a:r>
            <a:endParaRPr b="0" lang="en-US" sz="4300" spc="-1" strike="noStrike">
              <a:solidFill>
                <a:srgbClr val="572314"/>
              </a:solidFill>
              <a:latin typeface="Gill Sans MT"/>
            </a:endParaRPr>
          </a:p>
        </p:txBody>
      </p:sp>
      <p:sp>
        <p:nvSpPr>
          <p:cNvPr id="377" name=""/>
          <p:cNvSpPr txBox="1"/>
          <p:nvPr/>
        </p:nvSpPr>
        <p:spPr>
          <a:xfrm>
            <a:off x="911160" y="685440"/>
            <a:ext cx="8229600" cy="518148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art Meter Texas AMS Data File Catch-up Schedule:  </a:t>
            </a: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AY AFFECTED</a:t>
            </a:r>
            <a:r>
              <a:rPr b="0" lang="en-US" sz="2000" spc="-1" strike="noStrike">
                <a:solidFill>
                  <a:srgbClr val="000000"/>
                </a:solidFill>
                <a:latin typeface="Gill Sans MT"/>
              </a:rPr>
              <a:t>:  Saturday March 21, 2015 until Monday April 27, 2015 (Backfill of Missing Data)</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Effective April 27, 2015 All Backfill of Missing Data was complete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art Meter Texas Planned Maintenance Outage:  </a:t>
            </a:r>
            <a:endParaRPr b="0" lang="en-US" sz="2400" spc="-1" strike="noStrike">
              <a:solidFill>
                <a:srgbClr val="000000"/>
              </a:solidFill>
              <a:latin typeface="Gill Sans MT"/>
            </a:endParaRPr>
          </a:p>
          <a:p>
            <a:pPr lvl="2" marL="806040" indent="-20772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DAY AFFECTED</a:t>
            </a:r>
            <a:r>
              <a:rPr b="0" lang="en-US" sz="1400" spc="-1" strike="noStrike">
                <a:solidFill>
                  <a:srgbClr val="000000"/>
                </a:solidFill>
                <a:latin typeface="Gill Sans MT"/>
              </a:rPr>
              <a:t>: Saturday May 9th, 2015 8:00 AM CST until Sunday May 10th, 2015 12:00 AM CST--- outage duration initially estimated.  </a:t>
            </a:r>
            <a:endParaRPr b="0" lang="en-US" sz="1400" spc="-1" strike="noStrike">
              <a:solidFill>
                <a:srgbClr val="000000"/>
              </a:solidFill>
              <a:latin typeface="Gill Sans MT"/>
            </a:endParaRPr>
          </a:p>
          <a:p>
            <a:pPr lvl="2" marL="806040" indent="-20772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Reasons and Update to Market Communications</a:t>
            </a:r>
            <a:r>
              <a:rPr b="0" lang="en-US" sz="1400" spc="-1" strike="noStrike">
                <a:solidFill>
                  <a:srgbClr val="000000"/>
                </a:solidFill>
                <a:latin typeface="Gill Sans MT"/>
              </a:rPr>
              <a:t>: Planned maintenance activities were conducted and completed at SMT to cut over to the new infrastructure platform database.</a:t>
            </a:r>
            <a:endParaRPr b="0" lang="en-US" sz="1400" spc="-1" strike="noStrike">
              <a:solidFill>
                <a:srgbClr val="000000"/>
              </a:solidFill>
              <a:latin typeface="Gill Sans MT"/>
            </a:endParaRPr>
          </a:p>
          <a:p>
            <a:pPr lvl="2" marL="806040" indent="-20772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This maintenance required a 9-hour outage of SMT portal services listed below, </a:t>
            </a:r>
            <a:endParaRPr b="0" lang="en-US" sz="1400" spc="-1" strike="noStrike">
              <a:solidFill>
                <a:srgbClr val="000000"/>
              </a:solidFill>
              <a:latin typeface="Gill Sans MT"/>
            </a:endParaRPr>
          </a:p>
          <a:p>
            <a:pPr lvl="3" marL="997920" indent="-1573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Website Access</a:t>
            </a:r>
            <a:endParaRPr b="0" lang="en-US" sz="1200" spc="-1" strike="noStrike">
              <a:solidFill>
                <a:srgbClr val="000000"/>
              </a:solidFill>
              <a:latin typeface="Gill Sans MT"/>
            </a:endParaRPr>
          </a:p>
          <a:p>
            <a:pPr lvl="3" marL="997920" indent="-1573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HAN Services</a:t>
            </a:r>
            <a:endParaRPr b="0" lang="en-US" sz="1200" spc="-1" strike="noStrike">
              <a:solidFill>
                <a:srgbClr val="000000"/>
              </a:solidFill>
              <a:latin typeface="Gill Sans MT"/>
            </a:endParaRPr>
          </a:p>
          <a:p>
            <a:pPr lvl="3" marL="997920" indent="-1573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ODR Service</a:t>
            </a:r>
            <a:endParaRPr b="0" lang="en-US" sz="1200" spc="-1" strike="noStrike">
              <a:solidFill>
                <a:srgbClr val="000000"/>
              </a:solidFill>
              <a:latin typeface="Gill Sans MT"/>
            </a:endParaRPr>
          </a:p>
          <a:p>
            <a:pPr lvl="3" marL="997920" indent="-1573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PI Services</a:t>
            </a:r>
            <a:endParaRPr b="0" lang="en-US" sz="1200" spc="-1" strike="noStrike">
              <a:solidFill>
                <a:srgbClr val="000000"/>
              </a:solidFill>
              <a:latin typeface="Gill Sans MT"/>
            </a:endParaRPr>
          </a:p>
          <a:p>
            <a:pPr lvl="3" marL="997920" indent="-1573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Enrollment Service</a:t>
            </a:r>
            <a:endParaRPr b="0" lang="en-US" sz="1200" spc="-1" strike="noStrike">
              <a:solidFill>
                <a:srgbClr val="000000"/>
              </a:solidFill>
              <a:latin typeface="Gill Sans MT"/>
            </a:endParaRPr>
          </a:p>
          <a:p>
            <a:pPr lvl="3" marL="997920" indent="-1573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Historical Backfill Service</a:t>
            </a:r>
            <a:endParaRPr b="0" lang="en-US" sz="1200" spc="-1" strike="noStrike">
              <a:solidFill>
                <a:srgbClr val="000000"/>
              </a:solidFill>
              <a:latin typeface="Gill Sans MT"/>
            </a:endParaRPr>
          </a:p>
          <a:p>
            <a:pPr lvl="2" marL="806040" indent="-20772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All of the above named portal services were available and functioning normally when  maintenance was completed on Saturday May 9</a:t>
            </a:r>
            <a:r>
              <a:rPr b="1" lang="en-US" sz="1400" spc="-1" strike="noStrike" baseline="30000">
                <a:solidFill>
                  <a:srgbClr val="000000"/>
                </a:solidFill>
                <a:latin typeface="Gill Sans MT"/>
              </a:rPr>
              <a:t>th</a:t>
            </a:r>
            <a:r>
              <a:rPr b="1" lang="en-US" sz="1400" spc="-1" strike="noStrike">
                <a:solidFill>
                  <a:srgbClr val="000000"/>
                </a:solidFill>
                <a:latin typeface="Gill Sans MT"/>
              </a:rPr>
              <a:t>, 2015 5:00 PM CST</a:t>
            </a:r>
            <a:endParaRPr b="0" lang="en-US" sz="1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7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 </a:t>
            </a:r>
            <a:endParaRPr b="0" lang="en-US" sz="1200" spc="-1" strike="noStrike">
              <a:solidFill>
                <a:srgbClr val="000000"/>
              </a:solidFill>
              <a:latin typeface="Arial"/>
            </a:endParaRPr>
          </a:p>
        </p:txBody>
      </p:sp>
      <p:sp>
        <p:nvSpPr>
          <p:cNvPr id="38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F43F-0CBD-4266-83C2-4952EA909E8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5-05-28T06:03:10Z</dcterms:modified>
  <cp:revision>882</cp:revision>
  <dc:subject/>
  <dc:title>Instructions</dc:title>
</cp:coreProperties>
</file>