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dt" idx="18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ftr" idx="19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 type="sldNum" idx="20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4875-87E0-4ECB-93A2-9956529E6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index.html" TargetMode="External"/><Relationship Id="rId2" Type="http://schemas.openxmlformats.org/officeDocument/2006/relationships/hyperlink" Target="http://www.ercot.com/mktinfo/data_agg/index.html" TargetMode="External"/><Relationship Id="rId3" Type="http://schemas.openxmlformats.org/officeDocument/2006/relationships/hyperlink" Target="http://www.ercot.com/committees/board/tac/rms/amwg/index.html" TargetMode="External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index.html" TargetMode="External"/><Relationship Id="rId2" Type="http://schemas.openxmlformats.org/officeDocument/2006/relationships/hyperlink" Target="http://www.ercot.com/mktinfo/data_agg/index.html" TargetMode="External"/><Relationship Id="rId3" Type="http://schemas.openxmlformats.org/officeDocument/2006/relationships/hyperlink" Target="http://www.ercot.com/committees/board/tac/rms/amwg/index.html" TargetMode="External"/><Relationship Id="rId4" Type="http://schemas.openxmlformats.org/officeDocument/2006/relationships/slide" Target="../slides/slide26.xml"/><Relationship Id="rId5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E18B-FBE0-434A-81F8-BBB8A65DA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7516-4C2F-4177-A29C-5A0D7E424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18F7-19D2-4601-BB78-10344752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1465-857E-4D2C-B216-88DD67655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9812-8612-4EF8-A55A-5A4B94EFC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DAC6-7A21-41AD-88AD-E143932FE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65AC-6DFF-4550-9381-33BAAA077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90DF-38BC-488A-ACFA-9A5468131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7F5B-DA58-4CBB-96D8-3484C8AFF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3602-6233-419E-ABC6-544093354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AVAILBLE IN THE ERCOT Monthly Operation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: Advanced Meter Settlement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: ERCOT Wide Load Volumes by Meter Type at Initial Settl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Information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 Estimation Count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nts of ESIIDs and percentages of counts by MRE settled with actual meter data, estimated using historical meter data, and estimated using default lo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rcot.com/mktinfo/data_ag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S Volume &amp; Cou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lag between the Operating Day and the data loading date AMS rea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rcot.com/committees/board/tac/rms/amw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posted under specific AMWG meeting pages on a periodic basis starting 03/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A0B9-41A8-414D-A538-B6E7AEE9B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AVAILBLE IN THE ERCOT Monthly Operation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: Advanced Meter Settlement Imp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: ERCOT Wide Load Volumes by Meter Type at Initial Settl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itional Information Avail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ad Estimation Counts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nts of ESIIDs and percentages of counts by MRE settled with actual meter data, estimated using historical meter data, and estimated using default lo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rcot.com/mktinfo/data_ag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S Volume &amp; Count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s lag between the Operating Day and the data loading date AMS rea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rcot.com/committees/board/tac/rms/amwg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s posted under specific AMWG meeting pages on a periodic basis starting 03/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ECFC-5987-4D38-8222-8E0B4985C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C8DF-8139-40AB-A967-244E5F0FD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94800" y="4387320"/>
            <a:ext cx="555948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01DD-BDF4-42B5-ADE6-1603A2878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ooter Placeholder 5"/>
          <p:cNvSpPr/>
          <p:nvPr/>
        </p:nvSpPr>
        <p:spPr>
          <a:xfrm>
            <a:off x="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DA7B-7136-4CB5-BDB6-BDA7F117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725A-956F-4D7B-8289-9650354D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EC73-A491-454F-B140-F948029B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338B-2401-4A2D-BBAC-F5EBC56E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B26F-B2E7-4131-9E0E-4C12210E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88A1-216C-4F76-B639-3C9B70D8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75AC-F2F3-4239-8600-0DFDD019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D811-4519-49E0-AF9A-FC8E1EAE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C859-A2A5-4B5F-85C7-4CD7C092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F537-5797-40BE-B5B6-9F43B3E0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12B8-9FE0-4547-ACB3-33D3750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ADCD-D559-4C1A-A448-711A5A5E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B4FB-6BD5-4506-870F-7DEADB7B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C6F8-3961-4F35-B02B-294A82D8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ED57-D90D-4961-9CC5-241112A9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380F4-E138-494E-B1F4-B84A6557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700C-34DB-4C2C-A4FE-94B2C77A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9379E-B504-49EA-A104-46934CF5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E3FE-F926-4683-80CE-B76F5C78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CC96-2591-471C-B7D6-E029B77C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81A5-56EC-4EA9-84FA-A3CE2546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0A75-BA26-4DB4-8DD7-EB5EEBD6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5137-70B0-475E-BAD0-0FBB8CDE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5785-AE84-4DAB-8DCD-8D2AA9E8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DFEC-E9ED-40A6-837E-83219047F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8100-1847-4376-A9D0-8F10D2F11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80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41384-CAC6-4068-B98C-6CBFACA03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424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0FB86-D285-4F7D-A4E7-B18C321CF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ftr" idx="1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BB144-B544-4D69-BAFF-324E8FDC5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ftr" idx="1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51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F255BF-E051-4F92-9859-8CFC35FE0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ftr" idx="1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355E5-7571-4137-A064-2C1E37E0E43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B820F-764A-4008-AFED-963BB7733B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0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1D85F8-7515-4F56-83AD-16BE3BFF7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49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C05448-F8FD-462C-A3A5-DC52DE9A6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9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9AFBF-F08D-493C-86AA-A65E8424D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36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C7AC2-6AB6-4518-AB98-7480B1D77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2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15/4/9/54807-ETW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880" y="12193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mercial Operations Subcommittee </a:t>
            </a:r>
            <a:r>
              <a:rPr b="0" lang="en-US" sz="2800" spc="-1" strike="noStrike">
                <a:solidFill>
                  <a:srgbClr val="c00000"/>
                </a:solidFill>
                <a:latin typeface="Arial Black"/>
              </a:rPr>
              <a:t>(COPS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5/28/20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arket Information System User Group 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775, Indicative LMP Displa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presented mock-u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out and display time period finaliz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ation target date: 6/26/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rcRect l="6957" t="22408" r="7426" b="39818"/>
          <a:stretch/>
        </p:blipFill>
        <p:spPr>
          <a:xfrm>
            <a:off x="762120" y="2209680"/>
            <a:ext cx="7696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Market Information System User Group (MISU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ternal Web Services (EWS) Modifications Workshop I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y discus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for providing not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is working on a demo of a streaming solution that could be used for smaller sets of high-demand data, e.g., L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send out a survey to solicit MP feedback on the best solution for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to be tabulated and distributed in a future MISU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feedback, ERCOT will begin defining a revised EWS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UG will be used as the means for communicating progress and gather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2792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Profiling Working Group (PWG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ing with TDSPs on an ‘Initial Profile Code Assignments for Temporary Services’ draft LPGR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ing the possibility of modifying TDSP processes for handling initial load profile assignments for temporary services for non-residential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rrently, the profile “BUSMEDLF” is used, which has an associated backcast profile of approximately 500 kWh, which has caused credit and customer experience im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view of Protocol Section 18, Load Profil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ent is up-to-date and accu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e to face PWG meetings scheduled beginning May 2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rget completion by the end of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6" descr="C:\Documents and Settings\basaranh\Local Settings\Temporary Internet Files\Content.IE5\JIWL6VC7\MC900156053[1].wmf"/>
          <p:cNvPicPr/>
          <p:nvPr/>
        </p:nvPicPr>
        <p:blipFill>
          <a:blip r:embed="rId1"/>
          <a:stretch/>
        </p:blipFill>
        <p:spPr>
          <a:xfrm>
            <a:off x="3048120" y="2971800"/>
            <a:ext cx="2895480" cy="26877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533520" y="9140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xt COPS meeting is scheduled f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ly 15, 2015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533520" y="914040"/>
            <a:ext cx="80769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589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TextBox 1"/>
          <p:cNvSpPr/>
          <p:nvPr/>
        </p:nvSpPr>
        <p:spPr>
          <a:xfrm>
            <a:off x="1163520" y="2344680"/>
            <a:ext cx="64389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lement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Update to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y Ba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4/15/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3"/>
          <p:cNvSpPr/>
          <p:nvPr/>
        </p:nvSpPr>
        <p:spPr>
          <a:xfrm>
            <a:off x="352440" y="866880"/>
            <a:ext cx="8327880" cy="49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2          ERCOT Performanc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)        Settlement 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         Track number of price changes “after-the-fact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        Track number and types of disputes submitted to ERCO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       Report on compliance with timeliness of response and disposition of dispute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       Other Settlement metrics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        Availability of Electric Service Identifier (ESI ID) consumption data in conformance with Settlemen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in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)        Uplift:  ERCOT shall calculate and post the sum of all charges for all Qualified Scheduling Entities (QSEs) for eac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h and year-to-date due to each of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)         The RUC Capacity-Short Charge, as described in Section 5.7.4.1, RUC Capacity-Short Charge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        The RUC Decommitment Charge, as described in Section 5.7.6, RUC Decommitment Char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       The Load-Allocated Reliability Must Run Amount per QSE, as described in Section 6.6.6.5, RMR Servi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v)       The Load-Allocated Voltage Support Service Amount per QSE, as described in Section 6.6.7.2, Volt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Char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)        The Load-Allocated Black Start Service Amount per QSE, as described in Section 6.6.8.2, Black St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y Charg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)       The Load-Allocated Emergency Energy Amount per QSE, as described in Section 6.6.9.2, Charge f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ency Power Increas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i)      The Load-Allocated Real-Time Revenue Neutrality Amount per QSE, as described in Section 6.6.10, Real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Revenue Neutrality Allocation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ii)     The total of the ERCOT System Administration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 8.2 (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 stability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) Track number of price changes “after-the-fa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993600" y="1308240"/>
          <a:ext cx="7169400" cy="1882800"/>
        </p:xfrm>
        <a:graphic>
          <a:graphicData uri="http://schemas.openxmlformats.org/drawingml/2006/table">
            <a:tbl>
              <a:tblPr/>
              <a:tblGrid>
                <a:gridCol w="1238400"/>
                <a:gridCol w="682560"/>
                <a:gridCol w="771480"/>
                <a:gridCol w="762120"/>
                <a:gridCol w="790560"/>
                <a:gridCol w="704880"/>
                <a:gridCol w="609480"/>
                <a:gridCol w="781200"/>
                <a:gridCol w="828720"/>
              </a:tblGrid>
              <a:tr h="438120">
                <a:tc gridSpan="9">
                  <a:txBody>
                    <a:bodyPr lIns="68400" rIns="684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ing Period: 2015 Q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56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ng D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Corrected Pr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Intervals Aff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M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Ad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PP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TRMP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C Ad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276120"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25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</a:tr>
              <a:tr h="276480">
                <a:tc>
                  <a:txBody>
                    <a:bodyPr lIns="68400" rIns="684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3/30/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  <p:sp>
        <p:nvSpPr>
          <p:cNvPr id="597" name="TextBox 7"/>
          <p:cNvSpPr/>
          <p:nvPr/>
        </p:nvSpPr>
        <p:spPr>
          <a:xfrm>
            <a:off x="1035000" y="3402000"/>
            <a:ext cx="630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ce corrections for OD 3/25/2015 were due to the Tech Refresh Project production cutov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ce corrections for OD 3/30/2015 were due to an MMS application out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i) Track number and types of disputes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731880" y="932040"/>
          <a:ext cx="7191360" cy="4024080"/>
        </p:xfrm>
        <a:graphic>
          <a:graphicData uri="http://schemas.openxmlformats.org/drawingml/2006/table">
            <a:tbl>
              <a:tblPr/>
              <a:tblGrid>
                <a:gridCol w="3630600"/>
                <a:gridCol w="1185840"/>
                <a:gridCol w="1187280"/>
                <a:gridCol w="1187640"/>
              </a:tblGrid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l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Lab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Service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 Operation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-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. Res. Base Pt Deviation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ability Unit Commitment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i) Track number and types of disputes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738360" y="901800"/>
          <a:ext cx="7522920" cy="3187440"/>
        </p:xfrm>
        <a:graphic>
          <a:graphicData uri="http://schemas.openxmlformats.org/drawingml/2006/table">
            <a:tbl>
              <a:tblPr/>
              <a:tblGrid>
                <a:gridCol w="3125520"/>
                <a:gridCol w="1100160"/>
                <a:gridCol w="1098720"/>
                <a:gridCol w="1100160"/>
                <a:gridCol w="1098360"/>
              </a:tblGrid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Lab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ted w/Ex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  <a:tr h="4968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ion Revenue Right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-D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 Operations-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4bd9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VOTING Item(s) for TAC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8377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PGRR055, Extend Load Profile Model Calendar Inputs to 203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osed Effective Date: June 1, 201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son for Revision - Administrativ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s the Load Profile Model calendar-related inputs in Appendix E, Profile Model Spreadsheets, from 2020 to 2030.  The calendar inputs include calendar variables, daylight savings variables, sunrise/sunset times and holiday variables.  Corresponding changes to calendar-related inputs will be made to the Load Profile Models in the MetrixIDR load forecast and backcast system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ii) Response compliance and disposition of disputes (timeli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762120" y="1050840"/>
          <a:ext cx="7159680" cy="4054680"/>
        </p:xfrm>
        <a:graphic>
          <a:graphicData uri="http://schemas.openxmlformats.org/drawingml/2006/table">
            <a:tbl>
              <a:tblPr/>
              <a:tblGrid>
                <a:gridCol w="3549600"/>
                <a:gridCol w="1203120"/>
                <a:gridCol w="1203480"/>
                <a:gridCol w="1203480"/>
              </a:tblGrid>
              <a:tr h="3970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l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w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cillary Service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rgency Operation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-D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. Res. Base Pt Deviation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ability Unit Commitment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c)(iii) Response compliance and disposition of disputes (timelin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733320" y="1066680"/>
          <a:ext cx="6264360" cy="2925720"/>
        </p:xfrm>
        <a:graphic>
          <a:graphicData uri="http://schemas.openxmlformats.org/drawingml/2006/table">
            <a:tbl>
              <a:tblPr/>
              <a:tblGrid>
                <a:gridCol w="3678480"/>
                <a:gridCol w="1292040"/>
                <a:gridCol w="1293840"/>
              </a:tblGrid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w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estion Revenue Right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-D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y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ergency Operations-RT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4572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  <a:tc>
                  <a:txBody>
                    <a:bodyPr lIns="4572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572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e4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1"/>
          <p:cNvSpPr/>
          <p:nvPr/>
        </p:nvSpPr>
        <p:spPr>
          <a:xfrm>
            <a:off x="314280" y="3913200"/>
            <a:ext cx="451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RS Final settlement data is not represented in graph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"/>
          <p:cNvSpPr/>
          <p:nvPr/>
        </p:nvSpPr>
        <p:spPr>
          <a:xfrm>
            <a:off x="5973840" y="4129200"/>
            <a:ext cx="19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verage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4962600" y="4476600"/>
            <a:ext cx="3554280" cy="16401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225360" y="1093680"/>
            <a:ext cx="869328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3" descr=""/>
          <p:cNvPicPr/>
          <p:nvPr/>
        </p:nvPicPr>
        <p:blipFill>
          <a:blip r:embed="rId1"/>
          <a:stretch/>
        </p:blipFill>
        <p:spPr>
          <a:xfrm>
            <a:off x="5059440" y="868320"/>
            <a:ext cx="3425760" cy="25178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2"/>
          <a:stretch/>
        </p:blipFill>
        <p:spPr>
          <a:xfrm>
            <a:off x="900000" y="3678120"/>
            <a:ext cx="7182000" cy="19576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"/>
          <p:cNvPicPr/>
          <p:nvPr/>
        </p:nvPicPr>
        <p:blipFill>
          <a:blip r:embed="rId3"/>
          <a:stretch/>
        </p:blipFill>
        <p:spPr>
          <a:xfrm>
            <a:off x="363600" y="779400"/>
            <a:ext cx="4782960" cy="2698920"/>
          </a:xfrm>
          <a:prstGeom prst="rect">
            <a:avLst/>
          </a:prstGeom>
          <a:ln w="0">
            <a:noFill/>
          </a:ln>
        </p:spPr>
      </p:pic>
      <p:sp>
        <p:nvSpPr>
          <p:cNvPr id="617" name="TextBox 6"/>
          <p:cNvSpPr/>
          <p:nvPr/>
        </p:nvSpPr>
        <p:spPr>
          <a:xfrm>
            <a:off x="900000" y="5622840"/>
            <a:ext cx="741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Total of Charges” represents the sum of statements that are a net charge to the Market Participant (i.e., the amount due to ERCO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Box 3"/>
          <p:cNvSpPr/>
          <p:nvPr/>
        </p:nvSpPr>
        <p:spPr>
          <a:xfrm>
            <a:off x="352440" y="866880"/>
            <a:ext cx="832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Settlement metr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3" descr=""/>
          <p:cNvPicPr/>
          <p:nvPr/>
        </p:nvPicPr>
        <p:blipFill>
          <a:blip r:embed="rId1"/>
          <a:stretch/>
        </p:blipFill>
        <p:spPr>
          <a:xfrm>
            <a:off x="5052960" y="717480"/>
            <a:ext cx="3627360" cy="279900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4" descr=""/>
          <p:cNvPicPr/>
          <p:nvPr/>
        </p:nvPicPr>
        <p:blipFill>
          <a:blip r:embed="rId2"/>
          <a:stretch/>
        </p:blipFill>
        <p:spPr>
          <a:xfrm>
            <a:off x="925560" y="3637080"/>
            <a:ext cx="7181640" cy="195732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3" descr=""/>
          <p:cNvPicPr/>
          <p:nvPr/>
        </p:nvPicPr>
        <p:blipFill>
          <a:blip r:embed="rId3"/>
          <a:stretch/>
        </p:blipFill>
        <p:spPr>
          <a:xfrm>
            <a:off x="352440" y="809640"/>
            <a:ext cx="4848120" cy="2467080"/>
          </a:xfrm>
          <a:prstGeom prst="rect">
            <a:avLst/>
          </a:prstGeom>
          <a:ln w="0">
            <a:noFill/>
          </a:ln>
        </p:spPr>
      </p:pic>
      <p:sp>
        <p:nvSpPr>
          <p:cNvPr id="623" name="TextBox 11"/>
          <p:cNvSpPr/>
          <p:nvPr/>
        </p:nvSpPr>
        <p:spPr>
          <a:xfrm>
            <a:off x="887400" y="5594400"/>
            <a:ext cx="741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Total of Charges” represents the sum of statements that are a net charge to the Market Participant (i.e., the amount due to ERCO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79440" y="179280"/>
            <a:ext cx="8445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(c)(v) Availability of ESIID consumptio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2"/>
          <p:cNvSpPr/>
          <p:nvPr/>
        </p:nvSpPr>
        <p:spPr>
          <a:xfrm>
            <a:off x="6167520" y="1282680"/>
            <a:ext cx="2690640" cy="8240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015: At month end, settling 6.7M ESIIDs using Advanced Meter 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3"/>
          <p:cNvSpPr/>
          <p:nvPr/>
        </p:nvSpPr>
        <p:spPr>
          <a:xfrm>
            <a:off x="254160" y="3946680"/>
            <a:ext cx="2819160" cy="131076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015: 98.4% of the load in ERCOT is settled with 15-min interval data (AMS, Competitive IDR, and NOIE IDR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3" descr=""/>
          <p:cNvPicPr/>
          <p:nvPr/>
        </p:nvPicPr>
        <p:blipFill>
          <a:blip r:embed="rId1"/>
          <a:stretch/>
        </p:blipFill>
        <p:spPr>
          <a:xfrm>
            <a:off x="3139920" y="3448080"/>
            <a:ext cx="5743800" cy="274320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4" descr=""/>
          <p:cNvPicPr/>
          <p:nvPr/>
        </p:nvPicPr>
        <p:blipFill>
          <a:blip r:embed="rId2"/>
          <a:stretch/>
        </p:blipFill>
        <p:spPr>
          <a:xfrm>
            <a:off x="270000" y="666720"/>
            <a:ext cx="574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79440" y="274320"/>
            <a:ext cx="844560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v) Availability of ESIID consumption data</a:t>
            </a:r>
            <a:br>
              <a:rPr sz="1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260280" y="716040"/>
            <a:ext cx="4297320" cy="25606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"/>
          <p:cNvPicPr/>
          <p:nvPr/>
        </p:nvPicPr>
        <p:blipFill>
          <a:blip r:embed="rId2"/>
          <a:stretch/>
        </p:blipFill>
        <p:spPr>
          <a:xfrm>
            <a:off x="4597560" y="716040"/>
            <a:ext cx="4298760" cy="25606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4" descr=""/>
          <p:cNvPicPr/>
          <p:nvPr/>
        </p:nvPicPr>
        <p:blipFill>
          <a:blip r:embed="rId3"/>
          <a:stretch/>
        </p:blipFill>
        <p:spPr>
          <a:xfrm>
            <a:off x="260280" y="3313080"/>
            <a:ext cx="4297320" cy="256068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"/>
          <p:cNvPicPr/>
          <p:nvPr/>
        </p:nvPicPr>
        <p:blipFill>
          <a:blip r:embed="rId4"/>
          <a:stretch/>
        </p:blipFill>
        <p:spPr>
          <a:xfrm>
            <a:off x="4597560" y="3313080"/>
            <a:ext cx="429876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.2(g) Upl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3"/>
          <p:cNvSpPr/>
          <p:nvPr/>
        </p:nvSpPr>
        <p:spPr>
          <a:xfrm>
            <a:off x="404640" y="3467160"/>
            <a:ext cx="106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$Millio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"/>
          <p:cNvGraphicFramePr/>
          <p:nvPr/>
        </p:nvGraphicFramePr>
        <p:xfrm>
          <a:off x="8080200" y="3457440"/>
          <a:ext cx="659160" cy="243000"/>
        </p:xfrm>
        <a:graphic>
          <a:graphicData uri="http://schemas.openxmlformats.org/drawingml/2006/table">
            <a:tbl>
              <a:tblPr/>
              <a:tblGrid>
                <a:gridCol w="659160"/>
              </a:tblGrid>
              <a:tr h="24300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5.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7" name="Picture 2" descr=""/>
          <p:cNvPicPr/>
          <p:nvPr/>
        </p:nvPicPr>
        <p:blipFill>
          <a:blip r:embed="rId1"/>
          <a:stretch/>
        </p:blipFill>
        <p:spPr>
          <a:xfrm>
            <a:off x="404640" y="1433520"/>
            <a:ext cx="83347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TextBox 3" descr=""/>
          <p:cNvPicPr/>
          <p:nvPr/>
        </p:nvPicPr>
        <p:blipFill>
          <a:blip r:embed="rId1"/>
          <a:stretch/>
        </p:blipFill>
        <p:spPr>
          <a:xfrm>
            <a:off x="255600" y="689040"/>
            <a:ext cx="8736120" cy="55357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 8.2 (2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 stability –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otential protocol improvements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"/>
          <p:cNvSpPr/>
          <p:nvPr/>
        </p:nvSpPr>
        <p:spPr>
          <a:xfrm>
            <a:off x="1231920" y="5857920"/>
            <a:ext cx="4743360" cy="59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eking input - Should (g) moni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ll costs/credits allocated to load, 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nly the unpreventable load ratio share based charge-typ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6805440" y="685800"/>
            <a:ext cx="2033640" cy="170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eeking input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hould (c)(iv) remain general so that COPS has the flexibility to change the focus, as needed?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(our recommendation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hat information should be provided in support of (c)(iv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ther change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Save the Date – DER Worksho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buted Energy Resource (DER) Worksho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 18, 2015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9:30 AM – 3:30 P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Austin, Room 206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ebEx Conference availabl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detailed agenda will be posted prior to the meet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genda will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scussion of Protocol Section 16.5 (5), which requires a reset of the Distributed Generation (DG) registration threshold if the level of unregistered DG greater than 50kW in a Load Zone reaches 10 MWs.  This issue is currently under discussion at CSWG and COPS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keholder input into ERCOT’s outline of the forthcoming white paper on DERs, which was released at the April 9, 2015 ETWG meeting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alendar/2015/4/9/54807-ETW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DG Registration Threshold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hange Communication 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0520" y="68580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G Registration Threshold  &gt; 1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Market Particip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modeled RAR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d unregistered DG &gt; 50 kW and &lt;= 1 MW is tracked and repo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Section 16.5, Registration of a Resource Entity, Paragraph (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ggregated unregistered DG exceeds 10 MW in any Load Zone, ERCOT shall issue a Market Notice that states a lower DG registration threshold to reduce the total installed capacity  of DG greater than 50 kW to no more than 7 MW in any Load Z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come effective 9 months after Market Notice is issu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DG Registration Threshold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hange Communication 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SWG Special Meeting held 5-4-20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:  Existing Protocol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Grandfathering for existing D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 one time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munication will provide the necessary information and not address enforc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-up items for May 26 CSWG meet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staff will verify that Customer Billing Contact Information (CBCI) cannot be used to provide DG Facility Owner contact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staff will create a straw man communication document for CSWG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WG will review the DG Resource Webpage on ERCOT.com for possible impro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DG Registration Threshold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hange Communication Pla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30492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IGGER: Unregistered DG reaches 10 MW in any one Load Zo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Determine new DG Registration Threshol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Issue Market Notice (Includes an email to Authorized Representatives of all distribution companies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Meet with appropriate TAC Subcommittees to announce the new DG Registration Threshol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Contact NOIEs and TDSPs of specific DG Facilities impacted by the new Threshol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Work with TDSPs and NOIEs to obtain information needed to contact the DG Facility Owne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Send notice to impacted LSEs’ Authorized Representatives (This is just a heads up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Contact impacted DG Facility Owners - Include information like ‘Who is ERCOT’ and step by step instructions on how to become a Market Participant and how to register a DG Resourc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Q1 2015 Settlement Stability Review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456840" y="6858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ettlement Stability Report provided by Mandy Bauld and Blake Holt (See Appendix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Section 8.2 (2), Paragraphs (c) and (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tions from Q1 2015 repor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) Track number of price changes “after the fact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2 Intervals 3/25/2015 and 2 Intervals 3/30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i) Track number and types of disputes submit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 Total 46, Granted 30 and Denied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Total 27, Granted 13, Granted w/Exceptions 1, Denied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ii) Response compliance of disputes (timeline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 Total 100%, Final 100% and True-u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Total 100% and True-u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– Variance from Initial Settle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4 Final Variance 3.18%, True-up Variance 0.3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5 Q1 Final Variance 3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Q1 2015 Settlement Stability Review 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04560" y="8377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iv) Other – DAM and RTM Total of Charges Net due to ERC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4 DAM Monthly Average $6.5M, RTM Monthly Average $8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c)(v) Availability of ESI ID Consumption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015 - Settling 6.7M ESI IDs using Advanced Meter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015 - 98.4% of Load (actual and estimated) settled with 15-Minute interval data (AMS, Competitive and NOIE I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ch 2015 – 68.2% Actual Data Used in Initial Settlement (All meter typ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"/>
          <p:cNvPicPr/>
          <p:nvPr/>
        </p:nvPicPr>
        <p:blipFill>
          <a:blip r:embed="rId1"/>
          <a:stretch/>
        </p:blipFill>
        <p:spPr>
          <a:xfrm>
            <a:off x="1295280" y="3886200"/>
            <a:ext cx="658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Q1 2015 Settlement Stability Review Summary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0880" y="68580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2(g) Uplift Amou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WG and ERCOT staff will review current reporting requirements and possible improvements and create and submit an NPRR to implement desired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ve input?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ttend CSWG or notify CSWG Leadersh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Object 1"/>
          <p:cNvGraphicFramePr/>
          <p:nvPr/>
        </p:nvGraphicFramePr>
        <p:xfrm>
          <a:off x="1219320" y="1143000"/>
          <a:ext cx="6468840" cy="30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143000"/>
                    <a:ext cx="6468840" cy="30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Michelle Trenary</cp:lastModifiedBy>
  <cp:lastPrinted>2015-05-19T18:20:47Z</cp:lastPrinted>
  <dcterms:modified xsi:type="dcterms:W3CDTF">2015-05-20T19:09:25Z</dcterms:modified>
  <cp:revision>1228</cp:revision>
  <dc:subject/>
  <dc:title>Instructions</dc:title>
</cp:coreProperties>
</file>