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90319-3F6F-468B-955C-217DD8E8B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A4B4A-88BD-4319-8364-562557E13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4B7-7C9E-423C-B629-AAE0E8C0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353-EB08-45E0-B173-E23591F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70F4B-C737-4553-9FC7-98692F68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C90A8C-1D1E-46D7-A51C-1F55232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167515-819F-422D-B763-FB77B8A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EA903-A060-46D1-8C15-1642CAA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538559-C38A-4E00-B410-474CDB1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7160B4-29A8-4A24-8C17-EDA3538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6525F6-B78A-402A-95D2-038BCE1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ACE119-5B15-4678-BF8B-C52884FF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C2D63B-127C-464E-9588-B12289E1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4A1FF-D293-48F3-9C58-F27806D5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338-1B0C-4EB8-AB2D-AEFF0F5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F7B3C-3525-413F-A395-CFD5FA0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A48C0-31F7-4CB3-8E3D-5A4F31E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4CD89-AD55-4C8A-8CC7-3B18283B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48E27-7252-412E-808C-946CB47D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6C16F-5480-488B-B53B-5BFA00E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EB6DA-F9FF-4654-8492-530777B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0DC52-4632-4713-914F-6725DFB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EF70E-24E9-472C-829A-D5772B2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15EB3-9801-4391-A9C1-A30684A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EF9B1-C840-4261-BD7D-4C8866ED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FA9-1392-48DC-B038-EEC033BC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EB9E8C-8DE8-42BC-A6A9-AB605D47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CC6A0-C161-4226-B443-D6C955A2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84497-3C0E-4E15-A7ED-778FF688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5CDE0-404A-4C1D-9052-718CC13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7CE0B-8055-42E6-B95C-7DFD599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67EF8-EA93-4C1F-AB72-D1A3B53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EF932-B2DB-456E-858A-E91D8170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BF9D3-0FCB-4DBC-AE1B-136C1FA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B4AAA-019A-42A2-A2F3-D78BD70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B4CFB-1727-4770-A14C-3C0F573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BC4-C803-4C08-9A9C-B8BFCF0D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8928D-1351-4EB7-9A1C-9E8A7DE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35DA8-9CA1-469D-8AA8-867E8239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35FE4-DAE2-474F-A73B-CC205519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D895BB-2DF4-4866-893D-A096256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ECB18-9A99-40A2-9D4B-B4DEB336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DF4DE7-78C1-476A-A779-FA21832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7E367-9828-49A9-BCA6-19394B7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CCCD44-A901-4C01-AEAA-386FE04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CBF06-7B0E-412B-B4A7-1C22A44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602381-6DCD-45F5-BD63-227B6D5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385-3DEF-467A-92C5-A2DAF70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B9D35-4A01-4593-926A-63D039B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E6255-F689-42BE-9A3F-F931792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A86A29-D761-401F-BD76-09D21C93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554DF-53C4-4329-A766-C799C19C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226D6E-C6BC-43FA-8129-C241DD27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4BC-8F6C-4597-BE9E-DE488E84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D40A-8747-45CD-8BD9-ACEC8548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856-B171-45C7-86FE-DB812CFC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E18-4BD2-41D1-9F6E-54F1AF7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6EF9-7426-4704-AA7C-4296B9E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ECE98-A7BD-496D-9453-CBFF9BFF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12EA9-94AF-4F3F-9049-2BA0F6B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CA511-0981-4DA0-B99C-CC28048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4E863-7A77-477B-903D-3865E763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5BF00-AFE1-4604-AA28-E298664C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0DD5E-0027-4609-9223-7D116751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50181-E8E0-43C6-9A9A-6AB34EB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CDF-D6C3-4099-94E8-CC00CA4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978F-7EEE-4A97-9748-F254D42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C7DE8-95CA-42A6-978F-2A4E4A2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4AF0A-1801-46B3-8966-0E425E4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129F5-5467-490F-9060-2CC9299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3D078-C7E1-4A13-9E66-AB60EADF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56850-4BF0-48DE-AD50-57A0AF7E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615116-95AF-4C93-81B8-436581B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2813A2-55FF-460C-AAA3-AD1C30D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E8A0F0-7A49-45EF-9169-036E002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22D0F5-1E89-48FA-BF5B-1391C52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DBB3E6-AE36-4323-9580-E59BDEE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3881-5DC5-45AC-8093-964967D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8E85A1-2FAE-45D5-B70F-2C44BAE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650C54-8633-4B23-9732-E62501F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1CC822-0DE3-4776-8848-C87AEC7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34AEA5-5CA2-4256-A23C-04EDD16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68E07E-95B8-40F0-841A-EF219D0D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219BF8-013B-48D8-8107-4D1B9F09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A8E0EB-9C03-4FAF-8627-78B50964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1FCD0D-7F0A-476A-A689-36B96C33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410CC1-0E7C-4571-998B-BCD3EB0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862B33-C274-48EF-8F08-1CA3F5A5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777-2738-4C6D-8402-2C9F6CEF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FB9909-40F9-4354-9ADC-99BCF8D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464257-3429-4374-9D76-F3F3A8D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DFF631-1EB7-424A-9EFF-CD4F7F53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09CA7D-5FCF-4400-A582-6405CC0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CF00B3-2AC7-4190-95F8-5DE976D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EC0C52-A720-4C8C-B87E-F835B96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1E662-4848-4EF0-8810-9AC7914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82E2A4-6073-4AF5-8F15-5F4D6AA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D0DA6F-EEE4-4885-A96C-62D2F160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94A308-A22E-4770-AE4F-D3D8B9B5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CC2F-8A73-41EE-B28E-00F7CB6B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E60EA1-F67B-4CB2-8C03-954D57B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323EEA-3E2F-4C2B-BE10-8A6F147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8133CE-CC67-4876-9A6D-706979A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BCE5FB-5461-4178-A87C-0802FF28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2FA5EC-DC85-43C3-B5DA-3EB96A92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83B327-345F-45F7-9CE3-1B0C6239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C92D93-8CC0-448D-B73C-2BCF741F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1CEC61-8378-4FDF-BDF6-ED7F4F2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C25BD0-F433-4CDE-A639-B487E6D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1D710-ED1B-47A1-AED7-393C932D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77C9-89D8-4E32-89AF-E7CADFCD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7E56E4-8DEA-4C6F-9C58-E2F459F3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B8E08-61E7-4667-A6AA-515B1DD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33A61-3D74-4991-93C9-8C415719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9FBCC0-58E6-4B84-B2B0-38AA12B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75832-3E41-4D25-86BA-740A719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8B3E4-ED0C-4407-B1E6-78FCCCA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1E936-7C2D-49AB-AAB1-9B5BC988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E0445-969E-4BEB-82FA-3B065D4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EFB94-87AC-4AC1-AC6D-8539CD0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EE5C8-8CE9-43F5-88CF-F0D35BE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B897-77F7-40E0-AE0A-CDC3F649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848D2-DA71-4E1C-AB5D-D3D3577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ACD36-C265-468B-A12D-E457E9C4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F9214-23B9-4DFF-8657-46F3EC4D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966AEA-AD0E-493C-B360-1FE2FD00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F1A2F2-1F84-4A30-B5F4-E921C05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49D190-A4F7-4863-AAF0-24D42C62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FB24C8-45B2-44D0-B6AA-D7DF253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2F0CEE-36F0-45E8-94DE-6805FC7B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4F18D7-C403-4724-8B86-8A59C10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177EFD-D8A5-4ED1-9556-0DF601A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62F9-8303-4AC4-879C-7F31232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18AEC7-0C52-4DDA-B69A-949FE3B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090976-6552-458B-9467-82582C4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A60A20-AEED-41F7-B51C-181868AD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B7E81D-C4D4-4C4D-9879-EB45598A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ED1258-232C-4C04-8CBE-0C7F221F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7BE15-701E-4FCA-BFBD-8895BBD2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8392D-D618-4C8E-908B-EE28804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B4876-CCEC-4B98-99D0-AD4F1D2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B2A74-A441-4914-A8DA-434E56D7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DA919-D441-4F29-8EF0-362054E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FB69-9FFD-40AC-8316-AECA3833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C075E-2B0A-42B8-A012-D4996DE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FAADF-51CE-4E8B-8946-705BBA5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852FC-95A3-42A3-8CB4-B531EBF2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27450-6437-4DF7-8124-E0A3BCA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45726-0CDD-4B6A-9418-DAA11DB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DE84C-0CDC-4B78-A257-201C1782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75174-8489-4011-83DE-EE87FB64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F61E-73D3-4F34-875B-AE2EEC4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79CD-CF58-4DFF-B70C-C82586E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059-E669-47DA-B387-A2FB176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84AA-FE1D-4D36-B758-C22768A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5D29-2836-44FC-B9C4-7DE6EF3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F15A-6F12-404B-AE55-06BF215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58BD-3BBD-4067-8D55-44911E3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D777-CC09-4F8F-8A2B-BA3C26D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43CC-0AA2-4598-8FDE-6941F64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5F8D-3826-454F-99AF-8CA5133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240-AAA0-4BF3-9326-46E34823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252-54F3-4A73-9200-DEAF022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631-FD8E-4989-B34E-262181B8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A7BE1-B23A-4700-8848-9E9855BD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67E64-980F-476C-9A0D-29727D8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EAF96-31C4-4A0A-BBE2-51BD284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BF3AE-09EF-4822-B147-E29AC0F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9B9BA-6A05-4024-8D3A-A5B4AA0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03158-C3EE-47F5-BA48-6B969CE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C577B-D96F-4A17-BB0A-611DEC5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E891A-782A-41BA-B1B5-058F979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A3997-4C79-48E3-B73C-699B4DB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619-ADF6-4446-B44C-E7D3AEF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1FAB5-0617-4E96-92B0-56BBB946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14849-A377-482C-B906-94646194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A8782-F759-46C9-8BDD-451A814D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5EA8DC-8F03-4DD0-A8D7-1E4141B9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AB08F-CB6A-43A1-87BD-6A3C34A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F9298-B9B2-4723-A153-6CB7DBA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94458-FF14-41F2-9AA8-B767DFAF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3D2D07-EC03-45F0-BD09-FB9AA46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6B330-1D8B-4567-9F82-B0776D1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CF8F0-B103-4724-A344-B219E6EB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C70-F33D-4E8C-903C-0E9FD7C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0D621-011C-4153-8CF4-758D72F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B66CE-A4C0-4031-B0D3-C4EE3EF1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EE0EB-BDA1-415A-9199-9574EF0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142FD-14E9-4DDF-9377-3177A4E5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6EA85-4C8B-45FD-9BD9-EFE6529B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F978F-F6DE-481A-8B77-754EB301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F8838D-255F-40B6-AF28-FF82734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B11A7-89F5-4E6C-920F-6814252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D05648-1908-413D-927E-AF718A8B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7A258-BFF2-402F-AA3C-C0037E2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311-FC87-45F6-9DAF-9157328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C0CE3-28E0-40C4-A313-DB206655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D9398-25D6-43C6-A04C-2445D4E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7BD333-AA9D-4BED-ACC9-B20A622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6E13A-AD31-40D3-919D-7C5A1B6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C69FED-BBA1-4074-8643-7395B09F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42FCA-EDAA-4120-A03E-90A59286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A8214F-66C2-477D-AA53-0D764BE1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679B0-58F1-4F80-BB54-59BDE01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2F0758-0126-4418-B8C1-72C622A4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F5C78-E689-4D84-B72A-FA9477C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6867F-42E6-4617-AE19-876FC46B6D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30C83-3191-4418-AF85-E4FA0A3CF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1A604-DD67-4D3B-95C7-2D7B0772E67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7A851-E595-463F-A293-A2BFC0C83A8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13764-8ABE-4F63-BB62-9565DE604B2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64DDA-A1BA-40ED-9DB4-DD78B83EE70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4F6E9-D5DB-4F51-93BA-3B732F16110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6320A-B4D1-4CEF-9E42-C2669772CD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DAA58-7C3C-4F1C-8D7A-7DBFA6C569F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CB4D-F30D-4A2B-BC64-7EAFAA3CAA2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3C0B7-6C0A-4CAB-B646-BBC5FC6448B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414DE-5BDD-415C-B7CA-0AC7EB489DD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50BD8-42F2-47AE-9BA0-333305FCD3C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EE638-B53B-4DA3-B62B-73C1BB23A4E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134EF-9009-4448-B030-18C95E57898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F836A-AFC4-4BFF-B09D-046A153374C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DF5FD-8529-43FA-8438-9022C8E3AAE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1707C-194C-46E2-9510-1A222A4C5C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43C6C-13E1-49E9-921E-3B514798875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E0569-8BDB-4E12-AF9B-A4DDC32A6A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19C66-6311-4643-A2BB-94F8C58D786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116FD-2F91-41A9-AA31-BEFC16F9BB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7BE3D-AE9E-4B52-9FC9-638C5A28F7A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EED75-E711-4BC5-A41D-E6D90734D5D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4CABD-67F1-4793-A94A-A0694A250B9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ACB13-C7A1-4AE8-8CE1-A6A23358222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87A50-7EDF-4891-BC81-88BC10C17F4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3E8DF-3442-4F98-BD85-FA214F566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6BDAB-7C5D-4560-A22A-4CD2DC622B9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7164B-58F0-485B-A5D2-518DBB62D2C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0B26F-B625-4A75-8B12-B43A8F49BE6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F94CB-05FD-4D32-B777-83AA9AB4098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8B926-7851-4F59-92F2-7C7C5B45409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FB571-4ADC-4E8C-8247-83FA0C9E5D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449C9-05E8-4BB9-9B71-D251F2181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ABA0-9452-4C83-AF69-BD4B32FBB65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5E780-F2E7-427F-901F-DED50FEE529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79091-CA14-49F8-B48C-894FA5DC836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E870F-E100-4131-B6E4-7B9BDD19479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33917-2F33-40E5-9E44-A04746DA214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C71C8-43C3-47CE-833D-C74FA757C2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2EE2F-8AA9-4BFF-924C-FE07C6BDC71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E16FD-D483-4415-9B2F-8B3A086BF1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RO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y 7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e 4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ly 9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0 – Clarifications of Water Supply Rights Attestation Oblig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42 – Phasor Measuremen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 with January 1, 2017 da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79388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lanning Guide section 6.9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GRR040 submitted to TAC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is reviewing whitepaper before submitting to 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-going discussion at PL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839960"/>
            <a:ext cx="81532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pdate planned for July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w Cen MT"/>
              </a:rPr>
              <a:t>EEA language in Protocols and Operating Guides 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has considered the matter and feels it should be in both pla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05-27T21:59:32Z</dcterms:modified>
  <cp:revision>81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