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94DA-8E86-43DB-BE4B-79D7FB64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31046-017A-4A97-AA9B-37F3C11F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42DE-031D-472C-BECD-A0D157E3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C96C-64E5-40AD-AA66-60019181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1D5E-62AC-450B-9020-ED25ABD1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DED6-FDD7-493A-94CB-A30829055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45D5E-1E94-4A11-A924-91E33A71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7E3E-589D-4FB9-B7A3-73C846EA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84D2-5B5D-4599-835F-7EDFB91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FB8A-F3A1-4B6F-95D2-DE935A22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6912-F327-4DAB-8511-370280B2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597D-CE21-431E-947E-5EEDD92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06F4-36B3-439C-AFD3-BBB922580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7885-75A6-4A44-B9FB-59B774CF2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ommunication Plan for Change i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 DG Registration Threshol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G Registration Threshold  &gt; 1 M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Market Particip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odeled RA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gated unregistered DG &lt; 50 kW and &lt;= 1 MW is tracked and repor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Section 16.5, Registration of a Resource Entity, Paragraph (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ggregated unregistered DG exceeds 10 MW in any Load Zone, ERCOT shall issue a Market Notice that states a lower DG registration threshold to reduce the total installed capacity  of DG greater than 50 kW to no more than 7 MW in any Load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come effective 9 months after Market No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ommunication Plan for Change i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 DG Registration Threshol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WG Special Meeting held </a:t>
            </a:r>
            <a:r>
              <a:rPr b="1" lang="en-US" sz="2400" spc="-1" strike="noStrike">
                <a:solidFill>
                  <a:srgbClr val="4597a0"/>
                </a:solidFill>
                <a:latin typeface="Arial"/>
              </a:rPr>
              <a:t>5-4-201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: Existing Protocol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Grandfathering for existing D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 one time 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munication will provide the necessary information and not address enforc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llow-up items for May 26 CSWG meet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verify that CBCI cannot be used to provide DG Facility Owner contact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RCOT staff will create a straw man communication document for CSWG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SWG will review the DG Resource Webpage on ERCOT.com for possible improv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Communication Plan for Change in</a:t>
            </a: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Arial Black"/>
              </a:rPr>
              <a:t> DG Registration Threshol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8377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IGGER: Unregistered DG reaches 10 MW in any one Load Zon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Determin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Issue Market Notice (Includes an email to Authorized Representatives of all Distribution Companies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Meet with appropriate TAC Subcommittees to announce new DG Registration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NOIEs and TDSPs of specific DG Facilities impacted by the new Threshold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Work with TDSPs and NOIEs to obtain information needed to contact the DG Facility Owne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Send notice to impacted LSEs’ Authorized Representatives (This is just a heads up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: Contact impacted DG Facility Owners - Include ‘Who is ERCOT’ and step by step instructions on how to become a Market Participant and how to register a DG Resourc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Michelle Trenary</cp:lastModifiedBy>
  <dcterms:modified xsi:type="dcterms:W3CDTF">2015-05-06T19:12:38Z</dcterms:modified>
  <cp:revision>1144</cp:revision>
  <dc:subject/>
  <dc:title>Instructions</dc:title>
</cp:coreProperties>
</file>