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823-1055-47CB-A0B7-D9873AD6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931-E617-4307-A199-DFB1037F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041-A81E-4BD1-BB76-F2F6914A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8F8-1642-475E-AEA3-EE4AFBD1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912-7F70-4863-8047-91CBDE3C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9E5-CB48-4508-8F28-FFB5D160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4D3-5E21-4CB1-A7ED-C8743127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1FA-87D1-449C-ADCC-4017077A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EB9-8D8C-4B97-A654-A6145A50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C77-E628-43AC-9AFC-3AC4D431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314-5B83-4F90-8802-74E23049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6CF-D019-4D7B-B272-76195B7A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60ED-C598-48EE-8A15-86462D7C61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5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C2BB-B633-4B2D-A0C8-BB07C4507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GDTF Update to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y 7,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chael Juric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GDTF Chai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5562720" y="63244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7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544E-E5F2-4D2F-BB20-DC87E99D6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GDTF Meeting on April 27,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and Revised a Proposed Assignment of Responsibilities to ERCOT Staff, Transmission Planners, Transmission Owners and Generation Ow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Development of a Procedure Manual ERCOT Staff and Two TPs Will Start Work on the Manu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oter Placeholder 1"/>
          <p:cNvSpPr/>
          <p:nvPr/>
        </p:nvSpPr>
        <p:spPr>
          <a:xfrm>
            <a:off x="5562720" y="63244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7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4D1D-D499-40D8-9F7A-AB3CA0488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xt Mee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Meeting Will be Scheduled When Procedure Manual is Ready For Final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1"/>
          <p:cNvSpPr/>
          <p:nvPr/>
        </p:nvSpPr>
        <p:spPr>
          <a:xfrm>
            <a:off x="5562720" y="63244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7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5DC0-9E5F-4460-A0BD-1393FEA28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Questions and Answ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56386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7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57AB-13C4-4B95-8158-B6F9CF3CD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066680" y="1641600"/>
            <a:ext cx="6629400" cy="45100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Williams, Adrian</cp:lastModifiedBy>
  <dcterms:modified xsi:type="dcterms:W3CDTF">2015-04-30T14:56:49Z</dcterms:modified>
  <cp:revision>11</cp:revision>
  <dc:subject/>
  <dc:title>PGDTF Update to ROS</dc:title>
</cp:coreProperties>
</file>