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876-F01B-487D-8D36-4FCB1AE1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7E0-F08B-4AD9-843A-5171A1C2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13B-6E51-4062-B5F8-1611AE48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E46-998A-4FE9-9E1C-3F96069F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985-0B55-44C2-B3A2-E2D783DC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FC0-31BE-4075-A69D-0319FCDA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35A-D76C-4860-8FEF-9318D3A3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216-BE81-4F08-82F8-CB3DDCFC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2D8-EB4B-41BF-BFC4-83230675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E15-350D-4D1E-8AC6-405F9B30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592-71F4-4655-9A4E-C26F4DC6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925-9BC9-4831-9DF3-FEF67D09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350C-1F2F-4CAF-8FD7-EEC4AB2D8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SE Managers May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ED Price Cor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will come back with a report on proposed changes to the price correction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keholders discussed the current procedure, discussed whether there should be price corrections or stability on a return to SCED control, inconsistent dispatch instructions during the SCED failure, and discussed some of the root cause reasons for the recent SCED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M Del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proposed an SCR (draft) that will limit the number of transactions QSEs can have in the D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minimize DAM delays; decisions needed on best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continue to discuss at W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 Chill / MW at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RCOT meteorologist will bring back a report in June (or later) to review whether dry bulb temperature plus wind velocity would provide an accurate way to determine MW at risk in past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as in GTB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will provide a report on GTBD bias to our next QSE Managers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from market participants focused on price impacts of the 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PR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49: Received some discussion about new comments (that have since been fil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84: Discussed the Luminant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80: Anticipated comments weren’t filed, discussed whether we were done discu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19:11:22Z</dcterms:created>
  <dc:creator>Eric Goff</dc:creator>
  <dc:description/>
  <dc:language>en-US</dc:language>
  <cp:lastModifiedBy>Eric Goff</cp:lastModifiedBy>
  <dcterms:modified xsi:type="dcterms:W3CDTF">2015-05-05T19:30:04Z</dcterms:modified>
  <cp:revision>2</cp:revision>
  <dc:subject/>
  <dc:title>QSE Managers May Update</dc:title>
</cp:coreProperties>
</file>