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F628-57B0-4956-8576-A83B8064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F604-7BA7-4F0D-A3C5-E82F9B7B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CBF3-A9D8-4D47-8F00-91541B06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FB8-2D47-4D04-8D30-1EFA006A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EA49-5DA0-413C-A21E-A1F75950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452-2EED-41F2-9A97-A4CE8C48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D039-C27D-461F-AD63-A787CD82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F9CE-57BD-4259-954A-49508475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0C0-F4BC-4A61-B6D1-4332AFA7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0CE5-70C4-4D6A-A5D4-EF1C74FF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59FE-F2FE-4FD1-8060-8E68C435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0B99-97CA-4024-BFF6-FB4D9F77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D847-213E-4BC8-AEA1-76728D9577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3E39-8AB7-470B-A1D5-DA96A620F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CWG Update to W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y 6, 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99D1-78DA-44DF-828C-527959DE7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-Time Mitigation During Exceptional Fuel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52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Option 1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Continue with manual implementation of NPRR 66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ational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umber of exceptional fuel events may be too small to justify significant system changes at this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inue with manual calculation of make-whole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er the priority for implementation of Index Fuel 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sit if manual process becomes too burdens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72AF-86DC-4B82-856A-18456737C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-Time Mitigation During Exceptional Fuel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880" y="16002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Option 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- Pursue “Exceptional Fuel Cost flag” concep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ource will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 mitigated if it sets an exceptional fuel cost “flag”, submitted with its Energy Offer Curve (EO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set, Resource will be subject to verification of the exceptional fuel costs used in its E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ational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xceptional fuel costs would be reflected in LMP’s, possibly eliminating need for make-whole and new index fuel prices (i.e. NPRR66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9E83-DC92-4862-8847-A177AEE5F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-Time Mitigation During Exceptional Fuel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Option 3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Increase MOC’s during Cold Weather Ev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ERCOT issues a cold weather event and is allowed to procure more reserves through a SASM, increase the mitigated offer cap (MOC’s) multipliers in 4.4.9.4.1(e) by 0.50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tain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manual make-whole proces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higher MOC’s are not adequate to compensate for Resource fuel co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Rational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crease MOC’s during periods when the risk of gas price spikes is higher and provide headroom to reflect exceptional fuel costs in LMPs. Keep manual make-whole process as a backstop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y be an overly broad solu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9539-7CC5-42D4-97E7-A424F2915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-Time Mitigation During Exceptional Fuel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Option 3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proposed multiplier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ring ERCOT cold weather event, increase the mitigated offer cap multipliers in 4.4.9.4.1(e) by 0.5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e)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multipliers for paragraphs (b)(ii) and (c)(ii) above are as follows: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i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60 for Resources running at a ≥ 50% capacity factor for the previous 12 month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ii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65 for Resources running at a ≥ 30 and &lt; 50% capacity factor for the previous 12 month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iii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70 for Resources running at a ≥ 20 and &lt; 30% capacity factor for the previous 12 month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iv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75 for Resources running at a ≥ 10 and &lt; 20% capacity factor for the previous 12 month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v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80 for Resources running at a ≥ 5 and &lt; 10% capacity factor for the previous 12 month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vi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90 for Resources running at a ≥ 1 and &lt; 5% capacity factor for the previous 12 months;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vii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00 for Resources running at a less than 1% capacity factor for the previous 12 month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4A9C-3840-4D91-92E4-F2A6CDDFD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PRR/VCMRR - Utilizing Actual Fuel Costs in Startup Offer C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8284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Background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t Nodal implementation, realized that RUC make-whole didn’t consider revenues from breaker close to LS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correct, reduced startup costs by approximating revenues using Proxy Heat R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 – Startup offers caps are artificially low for DAM and RUC procur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Proposed NPRR/VCMRR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actual fuel costs in startup offer caps (i.e. remove PHR adjustmen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inue to use PHR adjustment in RUC Make-Whole Payment calcul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implement with NPRR617 Energy Offer Flexibilit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ot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06A8-3DD9-4DC1-96A6-C188E22CE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PRR/VCMRR - EOC Caps for Make-Whole for “Other”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Background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PRR560 established caps for Energy Storage Resources (ESRs), such as Compressed Air Energy Stor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reduce system impact, ESRs are classified as “Other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protocols, “Other” resources have a $0/MWh EOC cap for Make-Whole Calc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VCM, ESRs do not have a cap, as appro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osed NPRR/VCMR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s EOC Cap for Make-Whole Calculation for “Other” resources to the SWC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s “Wind” resource category with $0/MWh cap (aligns with current practi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otoVoltaic (PVGR) with $0/MWh cap (per NPRR58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COT will report annually to WMS the % of DAM and RUC Make-Whole Payments calculated for “Other”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ot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87C2-9E8D-4B13-A00A-D05D129A8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imum Fuel Requirement Cost in Fuel Adder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8288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RCOT seeking clarification on allocating minimum gas transportation costs in the fuel adder calcul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Background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ource can elect to submit an “actual” fuel adder instead of the default $0.50/MMB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ource must submit documentation to ERCOT for ver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s must be “clearly attributable to the resourc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Options to allocate minimum requirement cos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cate to resource usage only, excluding third-party and stor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cate to resource and third-party usage, excluding stor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cate across all activity on transportation con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C9CA-FAA0-4E8A-B5DD-8D5763139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ology for verifying exceptional fuel costs for co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R End of Life Cycle Verifiable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ND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89F9-07DF-4AA8-B864-47010D8E7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-Time Mitigation During Exceptional Fuel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Overview of NPRR664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source can designate a Fuel Index Price (FIPR) of HSC, Waha or weighted-averag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cludes Real-Time Make-Whole Payment provision for exceptional fuel cost even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ceptional event:  Actual price paid for delivered fuel must be greater than the FIPR plus the fuel adder plus a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reshold fuel price of $2/MMBt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plift allocated by L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PRR664 Approv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uthorized manual workaround to implement Make-Whole Payment for this winter, to be discontinued on May 1,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RCOT to revisit the rank and priority with TAC before project initi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EEF5-F2B6-45A0-840F-C5F9CD90F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1:58:48Z</dcterms:created>
  <dc:creator>Luminant</dc:creator>
  <dc:description/>
  <dc:language>en-US</dc:language>
  <cp:lastModifiedBy>ptvinson</cp:lastModifiedBy>
  <dcterms:modified xsi:type="dcterms:W3CDTF">2015-05-01T12:45:25Z</dcterms:modified>
  <cp:revision>345</cp:revision>
  <dc:subject/>
  <dc:title>QMWG Update to WMS</dc:title>
</cp:coreProperties>
</file>