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00DF-2561-4098-8819-0A3509158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21F3-C449-4291-A18A-C0B72E021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D49E-8A7E-499E-8849-7302EA77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2B9-F816-4017-80FC-1542BC79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1AB-5DE2-4535-AC66-C2081076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14A-245D-4916-990E-1056C6C3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3E44-758C-45CC-BF2C-1D0DDBC0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38D1-03C0-49F7-8644-1C4D09E9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0598-6DF6-44D6-9155-3CBC9B5E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473A-4F49-4406-B119-C2659FBD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2452-11F5-483E-877F-A74912A4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77A4-2117-41A8-8D42-4C87FB8A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94FC-41BF-49D5-A159-55875336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1F3-F6BA-4673-8CC1-1043050A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59F9-3764-44FE-B865-CBF183BB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0E75-020B-4091-9AD6-A932C992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3F4F-D524-49E0-AFA1-A1502E57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725C-0523-44E9-97D6-1A654F3B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F395-61C9-4F7D-9686-A18FA622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D440-9EB1-414F-B7A9-AEDDD95A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5E704-3ACA-4CD1-93DD-506C4729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2B6AD-F16D-476E-B8CA-19A8B678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A8CC1-61FC-4B80-A263-B0CA1623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8F262-7436-495B-84A7-F40AF76B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C57-06D1-4E23-897E-BFDF4D68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DCB33-EA3C-460F-A954-F379A74E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2FA1F-742D-4F18-990A-DAF46586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E00B5-448D-4C7D-8F1F-F4702F09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48A9A-DF96-4606-B7B9-77E5D238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FE48-142C-4633-A3B6-1F359EC3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7E51-386A-4F7D-86C6-4BE79DF7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D1D4F-2270-4CFF-B547-DBDC4375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69D1A-A59B-4837-812F-97EEEABB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9F2B2-6982-4981-A299-E91444EA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F7A77-FDE1-4F2F-ACCE-0BED94DD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9E0-4169-4813-AAE1-8C51FAC4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5067C-9145-4BDA-B361-36B9FB12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A7EAA-C57C-4194-AE34-FAC78591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4DA7-09AB-46FC-8A84-2B57B740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4DCF8-F497-4107-BF6D-422E5032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BF383-DD48-46CF-AE99-292EC076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C4A9C-A073-46CB-9357-B37F4E9E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C562D-D063-4591-9CA0-2051CBCC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C2AEA-C38C-4544-9C9E-8D0F9182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A3467-14F6-4698-BDC2-FB8A2ADA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E5B7D-A8C1-460A-A26D-FCF2B3B0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1BE-993F-46DA-940D-781B1E32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07257-25BC-43CC-8DB8-568D093D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8FBFB-5BA8-47F6-ACD1-188061BF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3310A-BBE6-49DD-8516-D6D4C867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2F7A1-A552-47A0-AE0F-7675367E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9FA3B-1029-46F6-9AB7-F2E8FF1A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11F8A-A456-4BF8-AA14-4C6F0954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D4A64-E4E9-44FE-BF2E-57D41141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D1AC1-B912-45FF-8965-D57C39F2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38C85-ABB4-4C2E-8689-0092F39A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5A205-53B5-42FA-B307-C4058B8D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950-71DE-4215-A419-40A7DB8E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18C91-412C-4D91-AEDF-A32D9892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E0047-F240-446B-8B51-AF4AFC11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965FF-9849-4337-ADF8-1357AD0A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9A07C-08F0-4F6D-B24C-95FB81AE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C6DE0-F869-454B-9587-E5D48419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69F1D-B92C-44EE-9D12-B4FB3991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6E14B-7C86-4E5F-9520-DCAD7AD5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3F000-4E77-437C-914E-14A66708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536EB-FADA-40D0-8933-93A12A3B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0E655-FF2C-401F-9455-53AEF189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235-BA30-43AA-AB08-D5961EB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33DAE-8FEF-4002-8336-221986FF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B0DA6-836B-42CF-A3C0-4DC8A3B7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675F7-F362-4D08-B388-B62F9A64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74CF5-F8D1-44D4-8A21-7D0CAB38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1E114-A7EF-4000-AA6C-6B092EA4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A4988-4C45-4129-9F8A-953211DA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BF389-F088-451A-B55A-943271D9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CFD5C-6B47-4094-8AE6-92F0727A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3AF6E-287A-449C-AB2A-1606241F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55719-15FC-481E-ABF3-FB28B6E6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FA53-9ABB-456B-8C28-B3828369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ACD78-3C09-4900-B2E3-1ED0EA20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979DD-DA5E-4882-8368-765ABBB5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0CED1-19FA-45F1-BA02-0CE743AF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D4CE7-4C2F-4981-A1B8-BEBF8CE5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10A7F-E05F-4C5A-AE10-777280A7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C5377-C79A-4F21-982C-6DBF23C2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13408-88F4-42BA-8658-DA6C57B5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60600-6891-432F-98DB-E5E02EE9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22216-7DF3-4BB3-8CD9-6779C93B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C9CDD-D687-4A4F-9AC5-90962172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227-5D30-4E6D-9721-8E019E9E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D45E3-AB74-41F5-ACA5-702464F7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3FDF8-25F7-433E-BEEA-AFCE9192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FB32C-E9DE-4C46-BA8F-F841658D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B40F4-5E09-47E7-AB4C-54F32A4A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2E731-FBC6-4B76-AF24-489BE403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9A38D-9C8D-45DE-A37A-C4AD4908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5C689-0599-474B-B6DF-47420F1C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74C1-CB71-4E15-A225-304EA1D1C4F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9CA9-239C-43BB-8A23-59B48BFCD5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D6A7-110C-421D-BC4A-CEF2107561E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CBD9-DD40-4774-B569-E60D6BACA1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30AF-6E0A-4A8F-B35B-0823B1FA675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DE13-0734-4776-B380-928BF0517E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ACBE-4293-42A9-B268-CCB82B33694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059C-E048-4224-985A-EAF662BEDB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400A-0AB3-414F-BDCA-335382D26F4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7C32-9317-45DC-95D7-86F5409AC6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54A3-D6C4-4858-ABF9-161A7915DD5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5931-89E4-4326-ACE8-4FA11BA668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3030-2D1C-4422-84B1-F4B6CF86390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BEAC-E8EF-4A82-AA91-5F34C6C04C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2408-3651-4F35-B85F-CAC5A878213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6087-8CFC-4C12-9910-1E44EB97CF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partnership.org/intelligent-energy-management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371520" y="1755720"/>
            <a:ext cx="808992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Lucida Sans Unicode"/>
              </a:rPr>
              <a:t>Update to 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Lucida Sans Unicode"/>
              </a:rPr>
              <a:t>May 5, 201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BED2-D4E7-4233-A636-3D136F839828}" type="slidenum">
              <a:rPr b="0" lang="en-US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rt Energy Roadmap Re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verview provided by Doug Lewin of SPE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-depth discussion at May AMW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port accessed via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Lucida Sans Unicode"/>
                <a:hlinkClick r:id="rId1"/>
              </a:rPr>
              <a:t>http://eepartnership.org/intelligent-energy-management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T 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arty Registration (Federation) Pro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esentation by Samsu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urther discussion resulted in a Workshop to be held….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C50F-2B01-4D8A-9D3D-6925436EF06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kshop to discuss 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arty Ac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entatively August 4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, following RM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 2014-018, SMT Display of DRG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dditional option forthcoming </a:t>
            </a: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(Option 3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ption 1: DRG overlaid on consump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ption 2: DRG shown separatel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Option 3: DRG numerical data onl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98B2-19A3-463F-A0EE-A0039E52F59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T data “catch-up” is comple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 Up:  Database conversion, which will require an out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ate, time, and duration TB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rket Notice will be sent at least 7 days prior to the outa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A3B9-7C83-441E-8392-44C72D07E3E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0 total AMWG C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9 delive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 waiting next relea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3 RMS approved &amp; awaiting AMWG prioritiz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~ 5 CRs in revision prior to RMS present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01600" y="262080"/>
            <a:ext cx="848520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52EE-62F6-4969-A3F2-A8C11BEFD3E2}" type="slidenum">
              <a:rPr b="0" lang="en-US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T Help Desk Call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5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T Help Desk Ticke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77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sidential = 701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GUI access issues = 415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gistration issues = 148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T Registered User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8,66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Is in SM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7,002,27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ers in SM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Active Meters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6,931,19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18400" cy="124308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28EE-4F42-41A7-99FF-2A803AE909F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ergy Data Agreeme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N Device Agreeme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8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N Devic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,66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arties Registered @ SM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s Registered @ SM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9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Demand Rea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ustomer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vg. 800/wee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P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vg. 5/wee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FFB6-A6AC-45A7-993B-EA682ED3F16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nthly, alternating between in-person and WebE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 meeting is May 19th, 9:00 – 3:00, ERCOT Met Center, Room 16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maining meetings for 2015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June 16th – WebEx only                   September 2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Room 168 at ERCO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July 2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Lucida Sans Unicode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– Room 168 at ERCOT        October 2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Lucida Sans Unicode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– WebEx only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ugust 1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– WebEx only                November 1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– Room 209 at ERCO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ecember 1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– WebEx onl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A09F-8462-4EAD-9A25-6AE48F429C37}" type="slidenum">
              <a:rPr b="0" lang="en-US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2590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58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Lucida Sans Unicode"/>
              </a:rPr>
              <a:t>Questions?</a:t>
            </a:r>
            <a:endParaRPr b="0" lang="en-US" sz="7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06F1-3D1A-46E7-A7EE-6446883D871F}" type="slidenum">
              <a:rPr b="0" lang="en-US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20:53:10Z</dcterms:created>
  <dc:creator>Schatz, John</dc:creator>
  <dc:description/>
  <dc:language>en-US</dc:language>
  <cp:lastModifiedBy>Schatz, John</cp:lastModifiedBy>
  <cp:lastPrinted>2015-04-27T19:27:05Z</cp:lastPrinted>
  <dcterms:modified xsi:type="dcterms:W3CDTF">2015-04-27T19:30:42Z</dcterms:modified>
  <cp:revision>39</cp:revision>
  <dc:subject/>
  <dc:title>Advanced Metering Working Group (AMWG)</dc:title>
</cp:coreProperties>
</file>