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39F8E43-27CF-472C-BFE3-5505C4E384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38320" y="687240"/>
            <a:ext cx="4592520" cy="3445200"/>
          </a:xfrm>
          <a:prstGeom prst="rect">
            <a:avLst/>
          </a:prstGeom>
          <a:ln w="0">
            <a:noFill/>
          </a:ln>
        </p:spPr>
      </p:sp>
      <p:sp>
        <p:nvSpPr>
          <p:cNvPr id="6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7F3420C-FB20-4D3E-A4EC-30C85190C98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38320" y="687240"/>
            <a:ext cx="4592520" cy="3445200"/>
          </a:xfrm>
          <a:prstGeom prst="rect">
            <a:avLst/>
          </a:prstGeom>
          <a:ln w="0">
            <a:noFill/>
          </a:ln>
        </p:spPr>
      </p:sp>
      <p:sp>
        <p:nvSpPr>
          <p:cNvPr id="7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86941DF-D9B6-4CA6-9183-FB56DB0442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38320" y="687240"/>
            <a:ext cx="4592520" cy="3445200"/>
          </a:xfrm>
          <a:prstGeom prst="rect">
            <a:avLst/>
          </a:prstGeom>
          <a:ln w="0">
            <a:noFill/>
          </a:ln>
        </p:spPr>
      </p:sp>
      <p:sp>
        <p:nvSpPr>
          <p:cNvPr id="7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6A937C2-EFFB-47C1-B2B9-A8CBF0F5DC8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C9B09-9027-46A1-A446-7F24118D6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43160-6C7E-40E7-96C2-615066050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A4466-F55B-48E1-BA78-66BE3810F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E2734-9422-417F-93C8-45E7D1B24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E2275-B7A4-463C-84F2-FEF97FD95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EE02F-924D-4F5B-A752-5195A63CB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6B121-FE23-4A32-8077-36BE6A51C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04D7-7932-4745-B479-2719896F1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47480-79C4-4D6F-BAAA-AF2D218E7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43B7-904F-43F8-870B-57EA3FAB0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DE5B0-A837-4123-8E86-495A22249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4829A-4D99-4359-8477-921E7DC21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rcRect l="0" t="0" r="38640" b="0"/>
          <a:stretch/>
        </p:blipFill>
        <p:spPr>
          <a:xfrm>
            <a:off x="6058080" y="0"/>
            <a:ext cx="3085920" cy="1359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22DD-0406-4DDA-8EF4-53BB9091BBA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314280" y="22860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C590-B069-4BE1-A7EF-A699084C378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53" name="Text Box 4"/>
          <p:cNvSpPr/>
          <p:nvPr/>
        </p:nvSpPr>
        <p:spPr>
          <a:xfrm>
            <a:off x="5105520" y="566424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5, 2015</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80880" y="1569600"/>
            <a:ext cx="8382240" cy="5002200"/>
          </a:xfrm>
          <a:prstGeom prst="rect">
            <a:avLst/>
          </a:prstGeom>
          <a:noFill/>
          <a:ln w="0">
            <a:noFill/>
          </a:ln>
        </p:spPr>
        <p:txBody>
          <a:bodyPr anchor="t">
            <a:normAutofit fontScale="89000"/>
          </a:bodyPr>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RCOT System Outages and Failures</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rkeTrak Performance</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ave Pagliai with ERCOT to present report updates to RMS</a:t>
            </a: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05280" indent="-3052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1188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71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1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71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1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Slide Number Placeholder 3"/>
          <p:cNvSpPr/>
          <p:nvPr/>
        </p:nvSpPr>
        <p:spPr>
          <a:xfrm>
            <a:off x="5181480" y="60958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 name="Slide Number Placeholder 4"/>
          <p:cNvSpPr/>
          <p:nvPr/>
        </p:nvSpPr>
        <p:spPr>
          <a:xfrm>
            <a:off x="65530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2316-B5FE-4EFD-B2EA-701EC06A311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7" name="TextBox 1"/>
          <p:cNvSpPr/>
          <p:nvPr/>
        </p:nvSpPr>
        <p:spPr>
          <a:xfrm>
            <a:off x="2761920" y="457200"/>
            <a:ext cx="282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eting Update</a:t>
            </a:r>
            <a:endParaRPr b="1" lang="en-US" sz="28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533520" y="137124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ea typeface="Times New Roman"/>
              </a:rPr>
              <a:t>ERCOT Test Environ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TWG continues to work on the “Business Case” portion of the SCR template to include in Qualitative Benefits and Quantitative Benefits.</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449A-CA50-462B-8F24-E594935941B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
          <p:cNvSpPr txBox="1"/>
          <p:nvPr/>
        </p:nvSpPr>
        <p:spPr>
          <a:xfrm>
            <a:off x="609480" y="1676160"/>
            <a:ext cx="8229600" cy="47545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Times New Roman"/>
                <a:ea typeface="Times New Roman"/>
              </a:rPr>
              <a:t>NAESB Updates</a:t>
            </a:r>
            <a:endParaRPr b="0" lang="en-US" sz="28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COT shared details from NAESB March 25, 2015 meeting –Discussion was on Part 2 of the Request filed by ERCOT on behalf of TDTWG to add Transaction-Set code values. ERCOT and NAESB staff attorney spoke offline to discuss the Request further and implied that it will be easier to make this change as Minor correction to standard rather than as a request to add/modify the standard. TDTWG Leadership gave permission to withdraw the request and ERCOT formally submitted request to NAESB Office to withdraw R14004 and submit change into Minor Corrections Request (MC15006-Minor Correction)</a:t>
            </a:r>
            <a:endParaRPr b="0" lang="en-US" sz="2400" spc="-1" strike="noStrike">
              <a:solidFill>
                <a:srgbClr val="000000"/>
              </a:solidFill>
              <a:latin typeface="Arial"/>
            </a:endParaRPr>
          </a:p>
        </p:txBody>
      </p:sp>
      <p:sp>
        <p:nvSpPr>
          <p:cNvPr id="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C5F4-3853-40AD-86E2-D3F05EC0EDB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33520" y="1600200"/>
            <a:ext cx="8229600" cy="4525920"/>
          </a:xfrm>
          <a:prstGeom prst="rect">
            <a:avLst/>
          </a:prstGeom>
          <a:noFill/>
          <a:ln w="0">
            <a:noFill/>
          </a:ln>
        </p:spPr>
        <p:txBody>
          <a:bodyPr anchor="t">
            <a:normAutofit fontScale="7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 Hoc items</a:t>
            </a:r>
            <a:endParaRPr b="0" lang="en-US" sz="2800" spc="-1" strike="noStrike">
              <a:solidFill>
                <a:srgbClr val="000000"/>
              </a:solidFill>
              <a:latin typeface="Arial"/>
            </a:endParaRPr>
          </a:p>
          <a:p>
            <a:pPr lvl="1" marL="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4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xt Meeting- Wednesday, May 13, 2015 (1:00pm-5:00pm) at the ERCOT MET Center</a:t>
            </a:r>
            <a:endParaRPr b="0" lang="en-US" sz="2400" spc="-1" strike="noStrike">
              <a:solidFill>
                <a:srgbClr val="000000"/>
              </a:solidFill>
              <a:latin typeface="Arial"/>
            </a:endParaRPr>
          </a:p>
          <a:p>
            <a:pPr lvl="1" marL="324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24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649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2" marL="649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3A6F-A41B-4B1D-BC1B-0A7034F0630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8AB3-B038-4181-9CFB-D4831CD9B91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6" name="PlaceHolder 1"/>
          <p:cNvSpPr>
            <a:spLocks noGrp="1"/>
          </p:cNvSpPr>
          <p:nvPr>
            <p:ph type="title"/>
          </p:nvPr>
        </p:nvSpPr>
        <p:spPr>
          <a:xfrm>
            <a:off x="457200" y="350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y Questions</a:t>
            </a:r>
            <a:br>
              <a:rPr sz="4000"/>
            </a:br>
            <a:br>
              <a:rPr sz="4000"/>
            </a:br>
            <a:br>
              <a:rPr sz="4000"/>
            </a:br>
            <a:br>
              <a:rPr sz="2000"/>
            </a:br>
            <a:endParaRPr b="0" lang="en-US" sz="40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ones, Monica Y.</cp:lastModifiedBy>
  <cp:lastPrinted>2002-09-24T18:27:58Z</cp:lastPrinted>
  <dcterms:modified xsi:type="dcterms:W3CDTF">2015-05-04T14:10:09Z</dcterms:modified>
  <cp:revision>902</cp:revision>
  <dc:subject/>
  <dc:title>PowerPoint Presentation</dc:title>
</cp:coreProperties>
</file>