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cy FB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A23-CB37-4189-AC12-E0680A993415}" type="slidenum">
              <a:rPr b="0" lang="en-US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8E1-8BF9-48D2-B5FB-85421779E55E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D130-7D8E-4658-83A7-FBAD33A714D6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449-52E1-426B-8526-4C188A43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5E7-797C-4EAF-A4E3-11195C7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850-32DB-46C4-B3AA-1C0928B8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693-7099-4227-B6CB-BE3AD117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ADB-0F21-4BCD-B1C2-CAF842C6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38B-B467-4531-82B6-58C953E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B4B-74FA-4FED-A2E9-6FDC2CE0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43C-1AE8-4619-9C3D-33FA6252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CDC-77D4-4D80-9897-A8E9CF1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9EF-46F6-4633-A6D0-FB15AE63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47E-2DFB-4DD4-960A-3A184B4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759-B305-43AF-9350-F0823F1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D869-D181-4822-8663-58B51F97197E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3057-080B-4FF8-AA05-C9D0AAA6A8C9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Update to RMS </a:t>
            </a:r>
            <a:br>
              <a:rPr sz="5400"/>
            </a:br>
            <a:br>
              <a:rPr sz="2800"/>
            </a:b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May 5, 2015</a:t>
            </a:r>
            <a:endParaRPr b="0" lang="en-US" sz="5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819520" y="685800"/>
            <a:ext cx="358128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3048120" y="457200"/>
            <a:ext cx="3149640" cy="289548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AutoShape 28"/>
          <p:cNvSpPr/>
          <p:nvPr/>
        </p:nvSpPr>
        <p:spPr>
          <a:xfrm>
            <a:off x="3424320" y="785880"/>
            <a:ext cx="2371680" cy="1942920"/>
          </a:xfrm>
          <a:custGeom>
            <a:avLst/>
            <a:gdLst/>
            <a:ahLst/>
            <a:rect l="l" t="t" r="r" b="b"/>
            <a:pathLst>
              <a:path w="2371725" h="1943100">
                <a:moveTo>
                  <a:pt x="3" y="742196"/>
                </a:moveTo>
                <a:lnTo>
                  <a:pt x="905923" y="742201"/>
                </a:lnTo>
                <a:lnTo>
                  <a:pt x="1185863" y="0"/>
                </a:lnTo>
                <a:lnTo>
                  <a:pt x="1465802" y="742201"/>
                </a:lnTo>
                <a:lnTo>
                  <a:pt x="2371722" y="742196"/>
                </a:lnTo>
                <a:lnTo>
                  <a:pt x="1638814" y="1200897"/>
                </a:lnTo>
                <a:lnTo>
                  <a:pt x="1918764" y="1943095"/>
                </a:lnTo>
                <a:lnTo>
                  <a:pt x="1185863" y="1484386"/>
                </a:lnTo>
                <a:lnTo>
                  <a:pt x="452961" y="1943095"/>
                </a:lnTo>
                <a:lnTo>
                  <a:pt x="732911" y="1200897"/>
                </a:lnTo>
                <a:lnTo>
                  <a:pt x="3" y="742196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WordArt 30"/>
          <p:cNvSpPr txBox="1"/>
          <p:nvPr/>
        </p:nvSpPr>
        <p:spPr>
          <a:xfrm>
            <a:off x="2209680" y="685800"/>
            <a:ext cx="4724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latin typeface="Niagara Solid"/>
              </a:rPr>
              <a:t>TX SET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c00000"/>
              </a:solidFill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6B0A-548B-4B79-B840-638CC26D1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a4"/>
                </a:solidFill>
                <a:latin typeface="Agency FB"/>
              </a:rPr>
              <a:t>April 2015 Meeting Update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RMGRR130, Alignment of Section 7, Market Processes, with TDSP Terms and Conditions Tariff Effective 01/15/2015 (Vote)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Texas Market Test Plan Revision (Vote)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2015 Flight Schedule Changes (Vote)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Texas Market Test Plan Review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Next Meeting– May 20</a:t>
            </a:r>
            <a:r>
              <a:rPr b="0" lang="en-US" sz="28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 RM 168 1:00 PM – 4:00 PM &amp; 21</a:t>
            </a:r>
            <a:r>
              <a:rPr b="0" lang="en-US" sz="2800" spc="-1" strike="noStrike" baseline="30000">
                <a:solidFill>
                  <a:srgbClr val="0000a4"/>
                </a:solidFill>
                <a:latin typeface="Agency FB"/>
              </a:rPr>
              <a:t>st</a:t>
            </a: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  RM 101 ERCOT MET Center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501B-B341-4F73-95AA-628CC49B66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a4"/>
                </a:solidFill>
                <a:latin typeface="Agency FB"/>
              </a:rPr>
              <a:t>Any questions?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TX SET  04222015</cp:lastModifiedBy>
  <dcterms:modified xsi:type="dcterms:W3CDTF">2015-04-28T20:33:43Z</dcterms:modified>
  <cp:revision>279</cp:revision>
  <dc:subject/>
  <dc:title>PowerPoint Presentation</dc:title>
</cp:coreProperties>
</file>