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2BA-9673-485F-91B4-9E68E04B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EC6-F4B0-4FE2-9A1A-6B7B8AC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07C-7FBB-4542-8916-B7E27D58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2F2-11A6-410C-B9B2-9E7BFE3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899-6322-4BFC-BE8A-F9215D2E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B89-4247-47E1-9ACE-8C30733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EC8-6E9B-48DA-8266-F7C13576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DB2-89B9-46EF-8D8B-FA32F83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981-403B-40CB-BE85-C78FB18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CED-52D5-4551-9EA3-B856C57E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074-1FF9-4867-AD78-38E1AB3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71F-3070-4496-9111-7CC11E6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6F0-34F6-44DD-96F2-296BC33FF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0F3-BA9C-4302-8E3E-47F195A6B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ril 6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 V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B11-B9E3-4097-875E-A25913F4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Overview of NPRR66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ource can designate a Fuel Index Price (FIPR) of HSC, Waha or weighted-aver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ludes Real-Time Make-Whole Payment provision for exceptional fuel cost ev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al event:  Actual price paid for delivered fuel must be greater than the FIPR plus the fuel adder plus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reshold fuel price of $2/MMB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plift allocated by L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PRR664 Approv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thorized manual workaround to implement Make-Whole Payment for this winter, to be discontinued on May 1,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to revisit the rank and priority with TAC before project init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F9B-7BAE-43AA-9843-01F2C7381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ption 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ntinue with manual implementation of NPRR 6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tional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mber of exceptional fuel events may be too small to justify significant system changes at this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with manual calculation of make-whol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the priority for implementation of Index Fuel 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if manual process becomes too burden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B8F-2CEC-4804-86CB-BDEC0C595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Option 2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- Pursue “Exceptional Fuel Cost flag” concep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wil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mitigated if it sets an exceptional fuel cost “flag”, submitted with its Energy Offer Curve (EO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et, Resource will be subject to verification of the exceptional fuel costs used in its EO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Rationa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ceptional fuel costs would be reflected in LMP’s, possibly eliminating need for make-whole and new index fuel prices (i.e. NPRR66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variations discu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 MOC’s by large percentage during exceptional fuel even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FOP as the fuel price during exceptional gas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B59-CE14-4983-8E56-4F70A5CF5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/VCMRR - Utilizing Actual Fuel Costs in Startup Offer C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Nodal implementation, realized that RUC make-whole didn’t consider revenues from breaker close to LS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orrect, reduced startup costs by approximating revenues using Proxy Heat R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– Startup offers caps are artificially low for DAM and RUC procur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oposed NPR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ctual fuel costs in startup offer caps (i.e. remove PHR adjus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to use PHR adjustment in RUC Make-Whole Payment calc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mplement with NPRR617 Energy Offer Flexi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te – authorization for RCWG to submit NPRR and VCMR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te on the merit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E74-FE67-4F12-9B0C-A108A08CE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/VCMRR - EOC Caps for Make-Whole for “Other”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PRR560 established caps for Energy Storage Resources (ESRs), such as Compressed Air Energy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duce system impact, ESRs are classified as “Other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otocols, “Other” resources have a $0/MWh EOC cap for Make-Whole Calc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VCM, ESRs do not have a cap, as ap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osed NPR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s EOC Cap for Make-Whole Calculation for “Other” resources to the SWC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s “Wind” resource category with $0/MWh cap (aligns with current prac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report annually to WMS the % of DAM and RUC Make-Whole Payments calculated for “Other”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te – authorization for RCWG to submit NPRR and VCMR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te on the meri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19A5-F880-4F15-9603-60082B652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Fuel Requirement Cost in Fuel Adder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can elect to submit an “actual” fuel adder instead of the default $0.50/MMB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ust submit documentation to ERCOT for 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must be “clearly attributable to the resourc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Options to allocate minimum requirement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e to resource usage only, excluding third-party and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e to resource and third-party usage, excluding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e across all activity on transportation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3FE-C9B5-4CB0-8434-D1AEB9C8D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5-03-31T16:31:23Z</dcterms:modified>
  <cp:revision>336</cp:revision>
  <dc:subject/>
  <dc:title>QMWG Update to WMS</dc:title>
</cp:coreProperties>
</file>