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24E0-F9C9-404C-A7F1-FFC8FB4E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7731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2E80-DD34-4385-92A6-0A867CFF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0000" y="106668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7731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0000" y="37731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2C03-3473-401D-A52F-E9F540FF2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65840" y="106668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02720" y="106668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7731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65840" y="37731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02720" y="37731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8F61-E2F7-40FC-8F44-B5D21AC00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39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0" y="1066680"/>
            <a:ext cx="4239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28600" y="179280"/>
            <a:ext cx="86868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1066680"/>
            <a:ext cx="4239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37731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B2CD-B750-4941-BF51-31073779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39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0000" y="106668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0000" y="37731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0000" y="106668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37731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8600" y="37731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0000" y="106668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8600" y="37731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0000" y="37731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65840" y="106668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02720" y="106668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8600" y="37731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65840" y="37731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02720" y="37731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B003-2A7E-4424-91F2-AA4D7C1E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39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066680"/>
            <a:ext cx="4239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E15D-47F4-448E-AB8D-4AE3DD6F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62FB-EB2C-4EB9-9E31-E9E6555C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8600" y="179280"/>
            <a:ext cx="86868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6AA8-601F-4A3E-8EB9-2CB9127A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680"/>
            <a:ext cx="4239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7731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67E5-93C4-47DF-BD35-C794DB31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39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68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0000" y="37731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B4BF-F176-425C-ACCE-50C08195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06668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7731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D037-4514-4D86-9BB5-B79661A7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0666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14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8" descr="logo_C"/>
          <p:cNvPicPr/>
          <p:nvPr/>
        </p:nvPicPr>
        <p:blipFill>
          <a:blip r:embed="rId2"/>
          <a:stretch/>
        </p:blipFill>
        <p:spPr>
          <a:xfrm>
            <a:off x="41400" y="6434280"/>
            <a:ext cx="761760" cy="360360"/>
          </a:xfrm>
          <a:prstGeom prst="rect">
            <a:avLst/>
          </a:prstGeom>
          <a:ln w="0">
            <a:noFill/>
          </a:ln>
        </p:spPr>
      </p:pic>
      <p:sp>
        <p:nvSpPr>
          <p:cNvPr id="5" name="Line 11"/>
          <p:cNvSpPr/>
          <p:nvPr/>
        </p:nvSpPr>
        <p:spPr>
          <a:xfrm>
            <a:off x="892080" y="6512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866520" y="6451560"/>
            <a:ext cx="99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41CA-82AC-4D40-869D-7219AE6113D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8000640" y="644688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ERS Annual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4343400" y="646596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E9FA-F4D4-4169-B07C-0886690FD2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"/>
          <p:cNvGrpSpPr/>
          <p:nvPr/>
        </p:nvGrpSpPr>
        <p:grpSpPr>
          <a:xfrm>
            <a:off x="0" y="0"/>
            <a:ext cx="9144000" cy="838080"/>
            <a:chOff x="0" y="0"/>
            <a:chExt cx="9144000" cy="838080"/>
          </a:xfrm>
        </p:grpSpPr>
        <p:sp>
          <p:nvSpPr>
            <p:cNvPr id="47" name="Rectangle 13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solidFill>
              <a:srgbClr val="5469a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14"/>
            <p:cNvSpPr/>
            <p:nvPr/>
          </p:nvSpPr>
          <p:spPr>
            <a:xfrm>
              <a:off x="0" y="838080"/>
              <a:ext cx="91440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18" descr="http://ep.ercot.com/cc/Photos%20for%20ERCOT%20Presentations/ERCOT%20Logos/ERCOT%202x1%20Logo%20with%20Transparent%20Background.gif"/>
            <p:cNvPicPr/>
            <p:nvPr/>
          </p:nvPicPr>
          <p:blipFill>
            <a:blip r:embed="rId2"/>
            <a:stretch/>
          </p:blipFill>
          <p:spPr>
            <a:xfrm>
              <a:off x="152280" y="152280"/>
              <a:ext cx="1371600" cy="53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228600" y="10666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1752120"/>
            <a:ext cx="6477120" cy="124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mand Integration Update to DSW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990720" y="1447920"/>
            <a:ext cx="7086600" cy="40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RCOT Emergency Responsive Service (ERS)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to the Public Utility Commission of Texas for the 2014 ERS Program Year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No. 27706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achment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umulative Sites (Unique) Participating in ERID Proces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Date Placeholder 2"/>
          <p:cNvSpPr/>
          <p:nvPr/>
        </p:nvSpPr>
        <p:spPr>
          <a:xfrm>
            <a:off x="866880" y="6451560"/>
            <a:ext cx="99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130E-79CC-460E-A0DF-1EDA263DFA37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3"/>
          <p:cNvSpPr/>
          <p:nvPr/>
        </p:nvSpPr>
        <p:spPr>
          <a:xfrm>
            <a:off x="7489800" y="6446880"/>
            <a:ext cx="1600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ERS Annual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4343400" y="646596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053F-67E7-41AC-80AC-EF40AC4840C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"/>
          <p:cNvSpPr/>
          <p:nvPr/>
        </p:nvSpPr>
        <p:spPr>
          <a:xfrm>
            <a:off x="457200" y="5997600"/>
            <a:ext cx="845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JunSep14 value due to Residential Weather Sensitive Resource and OctJan15 value due to Residential participating in Non Weather Sensitive progra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"/>
          <p:cNvPicPr/>
          <p:nvPr/>
        </p:nvPicPr>
        <p:blipFill>
          <a:blip r:embed="rId1"/>
          <a:srcRect l="0" t="0" r="2220" b="0"/>
          <a:stretch/>
        </p:blipFill>
        <p:spPr>
          <a:xfrm>
            <a:off x="228600" y="838080"/>
            <a:ext cx="876312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1752120"/>
            <a:ext cx="6477120" cy="124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mand Integration Update to DSW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990720" y="1447920"/>
            <a:ext cx="7086600" cy="40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2014 ERS Procuremen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ebruary-May 2014 Standard Contract Ter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Date Placeholder 2"/>
          <p:cNvSpPr/>
          <p:nvPr/>
        </p:nvSpPr>
        <p:spPr>
          <a:xfrm>
            <a:off x="866880" y="6451560"/>
            <a:ext cx="99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83C0-1302-44E9-9C67-D9049C64641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7489800" y="6446880"/>
            <a:ext cx="1600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ERS Annual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4343400" y="646596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070E-342A-42EE-9911-B245CD28976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16080" y="50292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 Cost for this Standard Contract Term: $ 14,324,315.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28600" y="1219320"/>
          <a:ext cx="8763120" cy="1514520"/>
        </p:xfrm>
        <a:graphic>
          <a:graphicData uri="http://schemas.openxmlformats.org/drawingml/2006/table">
            <a:tbl>
              <a:tblPr/>
              <a:tblGrid>
                <a:gridCol w="828720"/>
                <a:gridCol w="2252520"/>
                <a:gridCol w="2167200"/>
                <a:gridCol w="1531800"/>
                <a:gridCol w="1982880"/>
              </a:tblGrid>
              <a:tr h="532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Capacity Procu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(MW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Capacity Not Procured (MW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Clearing 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Highest Offer Received ($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BH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772.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$16.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$16.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BH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732.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47.6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$10.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$12.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BH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716.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44.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$10.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$12.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5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NB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615.4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64.0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$3.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$8.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28600" y="3211560"/>
          <a:ext cx="4343400" cy="1473120"/>
        </p:xfrm>
        <a:graphic>
          <a:graphicData uri="http://schemas.openxmlformats.org/drawingml/2006/table">
            <a:tbl>
              <a:tblPr/>
              <a:tblGrid>
                <a:gridCol w="652320"/>
                <a:gridCol w="1844640"/>
                <a:gridCol w="1846440"/>
              </a:tblGrid>
              <a:tr h="49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Capacity Procu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(MW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Capacity Not Procured (MW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BH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149.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BH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125.9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26.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BH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118.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20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NB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97.2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2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4648320" y="3200400"/>
          <a:ext cx="4344840" cy="1471680"/>
        </p:xfrm>
        <a:graphic>
          <a:graphicData uri="http://schemas.openxmlformats.org/drawingml/2006/table">
            <a:tbl>
              <a:tblPr/>
              <a:tblGrid>
                <a:gridCol w="647640"/>
                <a:gridCol w="1849320"/>
                <a:gridCol w="1847880"/>
              </a:tblGrid>
              <a:tr h="490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Capacity Procu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(MW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Capacity No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Procured (MW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5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BH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622.9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5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BH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607.0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21.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5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BH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598.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21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5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NB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518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39.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53" name="TextBox 14"/>
          <p:cNvSpPr/>
          <p:nvPr/>
        </p:nvSpPr>
        <p:spPr>
          <a:xfrm>
            <a:off x="228600" y="7621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RS Procurement for the combined offer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5"/>
          <p:cNvSpPr/>
          <p:nvPr/>
        </p:nvSpPr>
        <p:spPr>
          <a:xfrm>
            <a:off x="228600" y="2938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S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6"/>
          <p:cNvSpPr/>
          <p:nvPr/>
        </p:nvSpPr>
        <p:spPr>
          <a:xfrm>
            <a:off x="4681440" y="2917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S-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une-September 2014 Standard Contract Ter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Date Placeholder 2"/>
          <p:cNvSpPr/>
          <p:nvPr/>
        </p:nvSpPr>
        <p:spPr>
          <a:xfrm>
            <a:off x="866880" y="6451560"/>
            <a:ext cx="99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1B66-DA42-44DB-9641-8E44BD557398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3"/>
          <p:cNvSpPr/>
          <p:nvPr/>
        </p:nvSpPr>
        <p:spPr>
          <a:xfrm>
            <a:off x="7489800" y="6446880"/>
            <a:ext cx="1600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ERS Annual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4343400" y="646596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4924-27B9-48A7-8927-88FB42B6F63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936720" y="610704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 Cost for this Standard Contract Term: $ 19,464,138.7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52280" y="1208160"/>
          <a:ext cx="8763120" cy="1473120"/>
        </p:xfrm>
        <a:graphic>
          <a:graphicData uri="http://schemas.openxmlformats.org/drawingml/2006/table">
            <a:tbl>
              <a:tblPr/>
              <a:tblGrid>
                <a:gridCol w="828720"/>
                <a:gridCol w="2252880"/>
                <a:gridCol w="2166840"/>
                <a:gridCol w="1531800"/>
                <a:gridCol w="1982880"/>
              </a:tblGrid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Capacity Procu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(MW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Capacity Not Procured (MW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Clearing 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Highest Offer Received ($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BH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831.4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2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$3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$14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BH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642.5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14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$38.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$4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4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BH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625.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14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$39.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$4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NB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738.4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18.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$3.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$14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152280" y="3036960"/>
          <a:ext cx="4329360" cy="1501560"/>
        </p:xfrm>
        <a:graphic>
          <a:graphicData uri="http://schemas.openxmlformats.org/drawingml/2006/table">
            <a:tbl>
              <a:tblPr/>
              <a:tblGrid>
                <a:gridCol w="530280"/>
                <a:gridCol w="1900440"/>
                <a:gridCol w="1898640"/>
              </a:tblGrid>
              <a:tr h="50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Capacity Procu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(MW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Capacity No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Procured (MW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0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BH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630.6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16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5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BH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454.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1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9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BH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451.5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1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5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NB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574.5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16.2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4648320" y="3014640"/>
          <a:ext cx="4327560" cy="1488960"/>
        </p:xfrm>
        <a:graphic>
          <a:graphicData uri="http://schemas.openxmlformats.org/drawingml/2006/table">
            <a:tbl>
              <a:tblPr/>
              <a:tblGrid>
                <a:gridCol w="533160"/>
                <a:gridCol w="1897200"/>
                <a:gridCol w="1897200"/>
              </a:tblGrid>
              <a:tr h="503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Capacity Procu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(MW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Capacity Not Procured (MW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5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BH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200.8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13.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6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BH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166.9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7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BH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152.4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5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NB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163.9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185760" y="4995720"/>
          <a:ext cx="4330800" cy="982800"/>
        </p:xfrm>
        <a:graphic>
          <a:graphicData uri="http://schemas.openxmlformats.org/drawingml/2006/table">
            <a:tbl>
              <a:tblPr/>
              <a:tblGrid>
                <a:gridCol w="658800"/>
                <a:gridCol w="1835280"/>
                <a:gridCol w="1836720"/>
              </a:tblGrid>
              <a:tr h="492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Capacity Procu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(MW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Capacity Not Procured (MW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4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BH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5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BH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65" name="TextBox 14"/>
          <p:cNvSpPr/>
          <p:nvPr/>
        </p:nvSpPr>
        <p:spPr>
          <a:xfrm>
            <a:off x="152280" y="27432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Weather Sensitive ERS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5"/>
          <p:cNvSpPr/>
          <p:nvPr/>
        </p:nvSpPr>
        <p:spPr>
          <a:xfrm>
            <a:off x="4659480" y="2720880"/>
            <a:ext cx="40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Weather Sensitive ERS-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6"/>
          <p:cNvSpPr/>
          <p:nvPr/>
        </p:nvSpPr>
        <p:spPr>
          <a:xfrm>
            <a:off x="174600" y="4702320"/>
            <a:ext cx="408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ther Sensitive ERS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659480" y="4995720"/>
          <a:ext cx="4255920" cy="982800"/>
        </p:xfrm>
        <a:graphic>
          <a:graphicData uri="http://schemas.openxmlformats.org/drawingml/2006/table">
            <a:tbl>
              <a:tblPr/>
              <a:tblGrid>
                <a:gridCol w="660240"/>
                <a:gridCol w="1798560"/>
                <a:gridCol w="1797120"/>
              </a:tblGrid>
              <a:tr h="492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Capacity Procu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(MW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Capacity Not Procured (MW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4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BH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2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5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BH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2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69" name="TextBox 18"/>
          <p:cNvSpPr/>
          <p:nvPr/>
        </p:nvSpPr>
        <p:spPr>
          <a:xfrm>
            <a:off x="98280" y="7621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S Procurement for the combined offer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9"/>
          <p:cNvSpPr/>
          <p:nvPr/>
        </p:nvSpPr>
        <p:spPr>
          <a:xfrm>
            <a:off x="4637160" y="4681440"/>
            <a:ext cx="38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ther Sensitive ERS-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ctober 2014-January 2015 Standard Contract Ter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Date Placeholder 2"/>
          <p:cNvSpPr/>
          <p:nvPr/>
        </p:nvSpPr>
        <p:spPr>
          <a:xfrm>
            <a:off x="866880" y="6451560"/>
            <a:ext cx="99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EC8E-E71B-4098-8551-1E3F84A47CE5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oter Placeholder 3"/>
          <p:cNvSpPr/>
          <p:nvPr/>
        </p:nvSpPr>
        <p:spPr>
          <a:xfrm>
            <a:off x="7489800" y="6446880"/>
            <a:ext cx="1600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ERS Annual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4343400" y="646596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1B81-0E83-400D-9D3D-57259CFE428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609480" y="532296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Projected Cost for this Standard Contract term: $15,016,201.6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52280" y="1143000"/>
          <a:ext cx="8839440" cy="1514520"/>
        </p:xfrm>
        <a:graphic>
          <a:graphicData uri="http://schemas.openxmlformats.org/drawingml/2006/table">
            <a:tbl>
              <a:tblPr/>
              <a:tblGrid>
                <a:gridCol w="844560"/>
                <a:gridCol w="2300400"/>
                <a:gridCol w="2209680"/>
                <a:gridCol w="1563840"/>
                <a:gridCol w="1920960"/>
              </a:tblGrid>
              <a:tr h="532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Capacity Procu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(MW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Capacity Not Procured (MW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Clearing 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Highest Offer Received ($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BH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892.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1.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$14.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$15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BH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847.5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29.5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$3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$14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BH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848.7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.3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$14.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$15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5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NB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757.6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$3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$14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152280" y="3352680"/>
          <a:ext cx="4515120" cy="1473480"/>
        </p:xfrm>
        <a:graphic>
          <a:graphicData uri="http://schemas.openxmlformats.org/drawingml/2006/table">
            <a:tbl>
              <a:tblPr/>
              <a:tblGrid>
                <a:gridCol w="720720"/>
                <a:gridCol w="1897200"/>
                <a:gridCol w="1897200"/>
              </a:tblGrid>
              <a:tr h="490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Capacity Procu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(MW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Capacity No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Procured (MW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5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BH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611.4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1.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6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BH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590.7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13.4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5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BH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592.6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.3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4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NB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545.9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4648320" y="3352680"/>
          <a:ext cx="4209840" cy="1478160"/>
        </p:xfrm>
        <a:graphic>
          <a:graphicData uri="http://schemas.openxmlformats.org/drawingml/2006/table">
            <a:tbl>
              <a:tblPr/>
              <a:tblGrid>
                <a:gridCol w="738000"/>
                <a:gridCol w="1735200"/>
                <a:gridCol w="173664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Capacity Procu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(MW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Capacity Not Procured (MW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7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BH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280.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BH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256.8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16.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7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BH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256.0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NB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211.6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79" name="TextBox 14"/>
          <p:cNvSpPr/>
          <p:nvPr/>
        </p:nvSpPr>
        <p:spPr>
          <a:xfrm>
            <a:off x="152280" y="3070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S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8"/>
          <p:cNvSpPr/>
          <p:nvPr/>
        </p:nvSpPr>
        <p:spPr>
          <a:xfrm>
            <a:off x="4648320" y="3070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S-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9"/>
          <p:cNvSpPr/>
          <p:nvPr/>
        </p:nvSpPr>
        <p:spPr>
          <a:xfrm>
            <a:off x="228600" y="7621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S Procurement for the combined offer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4 ERS Procurement Over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Date Placeholder 2"/>
          <p:cNvSpPr/>
          <p:nvPr/>
        </p:nvSpPr>
        <p:spPr>
          <a:xfrm>
            <a:off x="866880" y="6451560"/>
            <a:ext cx="99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5CEF-AD1A-426C-A91E-1955FF40A432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8001000" y="6446880"/>
            <a:ext cx="114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ERS Annual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4343400" y="646596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BA5F-F1C8-4F5E-94D3-016BB9163D4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609480" y="1143000"/>
          <a:ext cx="8001000" cy="1523880"/>
        </p:xfrm>
        <a:graphic>
          <a:graphicData uri="http://schemas.openxmlformats.org/drawingml/2006/table">
            <a:tbl>
              <a:tblPr/>
              <a:tblGrid>
                <a:gridCol w="4480200"/>
                <a:gridCol w="3520800"/>
              </a:tblGrid>
              <a:tr h="507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nditure Limit for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,000,0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07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 Spent (Project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8,804,656.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07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pent (Project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95,343.9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533520" y="2895480"/>
          <a:ext cx="8153280" cy="862200"/>
        </p:xfrm>
        <a:graphic>
          <a:graphicData uri="http://schemas.openxmlformats.org/drawingml/2006/table">
            <a:tbl>
              <a:tblPr/>
              <a:tblGrid>
                <a:gridCol w="1850760"/>
                <a:gridCol w="2036880"/>
                <a:gridCol w="1990800"/>
                <a:gridCol w="2274840"/>
              </a:tblGrid>
              <a:tr h="517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 ERS Cap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May14 Total (Fin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Sep14 Total (Fin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14Jan15 Total (Project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4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4,324,315.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9,148,454.8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,016,201.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ttlement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Date Placeholder 2"/>
          <p:cNvSpPr/>
          <p:nvPr/>
        </p:nvSpPr>
        <p:spPr>
          <a:xfrm>
            <a:off x="866880" y="6451560"/>
            <a:ext cx="99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6990-1207-431B-9096-41AEF057FF71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3"/>
          <p:cNvSpPr/>
          <p:nvPr/>
        </p:nvSpPr>
        <p:spPr>
          <a:xfrm>
            <a:off x="7478640" y="6492960"/>
            <a:ext cx="1600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ERS Annual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4343400" y="646596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A6C9-4BCC-4461-967D-B06F1792C1C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5"/>
          <p:cNvSpPr/>
          <p:nvPr/>
        </p:nvSpPr>
        <p:spPr>
          <a:xfrm>
            <a:off x="163440" y="5562720"/>
            <a:ext cx="55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yment reductions due to Availability and Testing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6"/>
          <p:cNvGrpSpPr/>
          <p:nvPr/>
        </p:nvGrpSpPr>
        <p:grpSpPr>
          <a:xfrm>
            <a:off x="163440" y="838080"/>
            <a:ext cx="8904240" cy="4134960"/>
            <a:chOff x="163440" y="838080"/>
            <a:chExt cx="8904240" cy="4134960"/>
          </a:xfrm>
        </p:grpSpPr>
        <p:pic>
          <p:nvPicPr>
            <p:cNvPr id="194" name="Picture 9" descr=""/>
            <p:cNvPicPr/>
            <p:nvPr/>
          </p:nvPicPr>
          <p:blipFill>
            <a:blip r:embed="rId1"/>
            <a:stretch/>
          </p:blipFill>
          <p:spPr>
            <a:xfrm>
              <a:off x="163440" y="838080"/>
              <a:ext cx="8904240" cy="4084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5" name="Group 5"/>
            <p:cNvGrpSpPr/>
            <p:nvPr/>
          </p:nvGrpSpPr>
          <p:grpSpPr>
            <a:xfrm>
              <a:off x="2035440" y="4346280"/>
              <a:ext cx="1632960" cy="626760"/>
              <a:chOff x="2035440" y="4346280"/>
              <a:chExt cx="1632960" cy="626760"/>
            </a:xfrm>
          </p:grpSpPr>
          <p:sp>
            <p:nvSpPr>
              <p:cNvPr id="196" name="TextBox 1"/>
              <p:cNvSpPr/>
              <p:nvPr/>
            </p:nvSpPr>
            <p:spPr>
              <a:xfrm>
                <a:off x="2939040" y="4365360"/>
                <a:ext cx="718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N/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Box 8"/>
              <p:cNvSpPr/>
              <p:nvPr/>
            </p:nvSpPr>
            <p:spPr>
              <a:xfrm>
                <a:off x="2035440" y="4665960"/>
                <a:ext cx="718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N/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Box 9"/>
              <p:cNvSpPr/>
              <p:nvPr/>
            </p:nvSpPr>
            <p:spPr>
              <a:xfrm>
                <a:off x="2950200" y="4647600"/>
                <a:ext cx="718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N/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Box 10"/>
              <p:cNvSpPr/>
              <p:nvPr/>
            </p:nvSpPr>
            <p:spPr>
              <a:xfrm>
                <a:off x="2035440" y="4346280"/>
                <a:ext cx="718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N/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12"/>
            <p:cNvGrpSpPr/>
            <p:nvPr/>
          </p:nvGrpSpPr>
          <p:grpSpPr>
            <a:xfrm>
              <a:off x="4860360" y="4365360"/>
              <a:ext cx="1643760" cy="607680"/>
              <a:chOff x="4860360" y="4365360"/>
              <a:chExt cx="1643760" cy="607680"/>
            </a:xfrm>
          </p:grpSpPr>
          <p:sp>
            <p:nvSpPr>
              <p:cNvPr id="201" name="TextBox 13"/>
              <p:cNvSpPr/>
              <p:nvPr/>
            </p:nvSpPr>
            <p:spPr>
              <a:xfrm>
                <a:off x="5774760" y="4365360"/>
                <a:ext cx="718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N/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Box 14"/>
              <p:cNvSpPr/>
              <p:nvPr/>
            </p:nvSpPr>
            <p:spPr>
              <a:xfrm>
                <a:off x="4871160" y="4665960"/>
                <a:ext cx="718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N/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Box 15"/>
              <p:cNvSpPr/>
              <p:nvPr/>
            </p:nvSpPr>
            <p:spPr>
              <a:xfrm>
                <a:off x="5785920" y="4647600"/>
                <a:ext cx="718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N/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Box 16"/>
              <p:cNvSpPr/>
              <p:nvPr/>
            </p:nvSpPr>
            <p:spPr>
              <a:xfrm>
                <a:off x="4860360" y="4365360"/>
                <a:ext cx="718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N/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nten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Date Placeholder 2"/>
          <p:cNvSpPr/>
          <p:nvPr/>
        </p:nvSpPr>
        <p:spPr>
          <a:xfrm>
            <a:off x="866880" y="6451560"/>
            <a:ext cx="99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9CBA-A5DA-4922-B88E-23A97B19D4BC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3"/>
          <p:cNvSpPr/>
          <p:nvPr/>
        </p:nvSpPr>
        <p:spPr>
          <a:xfrm>
            <a:off x="7467480" y="6446880"/>
            <a:ext cx="167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ERS Annual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4343400" y="646596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01C4-376D-4C03-8A19-162C741D60B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3352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685800" y="129528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urement Summary Tr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y (MW) offered and proc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ERS Resources (All Service Typ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mulative Individual Sites Participating in ERID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ailed Procurement Results by 2014 Standard Contract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tlement 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tandard Contract Terms &amp; Time Period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Date Placeholder 2"/>
          <p:cNvSpPr/>
          <p:nvPr/>
        </p:nvSpPr>
        <p:spPr>
          <a:xfrm>
            <a:off x="866880" y="6451560"/>
            <a:ext cx="99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EA3D-8977-4211-BF70-2727452956BB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3"/>
          <p:cNvSpPr/>
          <p:nvPr/>
        </p:nvSpPr>
        <p:spPr>
          <a:xfrm>
            <a:off x="8001000" y="6446880"/>
            <a:ext cx="114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ERS Annual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4343400" y="646596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0B2C-B4FE-49D4-A434-224DA697D89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380880" y="968400"/>
            <a:ext cx="85345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RS is procured 3 times annually for 4-month Standard Contract Term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bruary through 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through Sept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ober through Janu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articipants may offer to provide ERS for one or more Time Period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Hours 1:  8AM to 1PM  Monday-Friday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Hours 2:  1PM to 4PM  Monday-Friday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Hours 3:  4PM to 8PM  Monday-Friday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Business Hours:  All other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*Except ERCOT Holiday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ime Periods are designed to allow flexibility for customers during    traditional business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ime Periods have been in effect in current form since th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June-September 2008 EILS Contract Perio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S Procurement Trends (Time and Capacity Weighted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Date Placeholder 2"/>
          <p:cNvSpPr/>
          <p:nvPr/>
        </p:nvSpPr>
        <p:spPr>
          <a:xfrm>
            <a:off x="866880" y="6451560"/>
            <a:ext cx="99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8D6E-E261-4565-9984-68BCE36537C3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7467480" y="6446880"/>
            <a:ext cx="167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ERS Annual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4343400" y="646596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5404-6137-4AED-904E-1953EEE008B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80880" y="968400"/>
            <a:ext cx="85345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RS is procured 3 times annually for 4-month Standard Contract Term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bruary through 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through Sept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ober through Janu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articipants may offer to provide ERS for one or more Time Period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Hours 1:  8AM to 1PM  Monday-Friday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Hours 2:  1PM to 4PM  Monday-Friday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Hours 3:  4PM to 8PM  Monday-Friday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Business Hours:  All other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*Except ERCOT Holiday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ime Periods are designed to allow flexibility for customers during    traditional business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ime Periods have been in effect in current form since th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June-September 2008 EILS Contract Perio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rcRect l="1308" t="7986" r="1418" b="1866"/>
          <a:stretch/>
        </p:blipFill>
        <p:spPr>
          <a:xfrm>
            <a:off x="76320" y="990720"/>
            <a:ext cx="8991360" cy="53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5680" y="179280"/>
            <a:ext cx="89820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RS Capacity Procurement Trends  (Business Hours 1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Date Placeholder 2"/>
          <p:cNvSpPr/>
          <p:nvPr/>
        </p:nvSpPr>
        <p:spPr>
          <a:xfrm>
            <a:off x="866880" y="6451560"/>
            <a:ext cx="99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90C8-D31A-4F77-9AA8-610EB7F979E4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7391520" y="6446880"/>
            <a:ext cx="1752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ERS Annual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4343400" y="646596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B88C-79B8-4CA0-AD0A-AFAE3C19B6D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tretch/>
        </p:blipFill>
        <p:spPr>
          <a:xfrm>
            <a:off x="65160" y="719280"/>
            <a:ext cx="9078840" cy="54529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"/>
          <p:cNvSpPr/>
          <p:nvPr/>
        </p:nvSpPr>
        <p:spPr>
          <a:xfrm>
            <a:off x="576360" y="614988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haded area indicates a single offer stack for all ERS Service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RS Capacity Procurement Trends (Business Hours 2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Date Placeholder 2"/>
          <p:cNvSpPr/>
          <p:nvPr/>
        </p:nvSpPr>
        <p:spPr>
          <a:xfrm>
            <a:off x="866880" y="6451560"/>
            <a:ext cx="99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38EE-81BE-430A-9480-BAE60BF11B1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3"/>
          <p:cNvSpPr/>
          <p:nvPr/>
        </p:nvSpPr>
        <p:spPr>
          <a:xfrm>
            <a:off x="7489800" y="6446880"/>
            <a:ext cx="1600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ERS Annual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4343400" y="646596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D5F8-7821-4305-B0C9-B58F7DF459F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1"/>
          <a:stretch/>
        </p:blipFill>
        <p:spPr>
          <a:xfrm>
            <a:off x="76320" y="762120"/>
            <a:ext cx="9067680" cy="53877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7"/>
          <p:cNvSpPr/>
          <p:nvPr/>
        </p:nvSpPr>
        <p:spPr>
          <a:xfrm>
            <a:off x="576360" y="614988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haded area indicates a single offer stack for all ERS Service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RS Capacity Procurement Trends (Business Hours 3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Date Placeholder 2"/>
          <p:cNvSpPr/>
          <p:nvPr/>
        </p:nvSpPr>
        <p:spPr>
          <a:xfrm>
            <a:off x="866880" y="6451560"/>
            <a:ext cx="99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FC69-F7F9-4357-9D71-E95110736FD4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ooter Placeholder 3"/>
          <p:cNvSpPr/>
          <p:nvPr/>
        </p:nvSpPr>
        <p:spPr>
          <a:xfrm>
            <a:off x="7489800" y="6446880"/>
            <a:ext cx="1600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ERS Annual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4343400" y="646596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30B7-AE15-47C4-8464-2C67EE6AA9D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991720" cy="54687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7"/>
          <p:cNvSpPr/>
          <p:nvPr/>
        </p:nvSpPr>
        <p:spPr>
          <a:xfrm>
            <a:off x="576360" y="614988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haded area indicates a single offer stack for all ERS Service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RS Capacity Procurement Trends (Non-Business Hours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Date Placeholder 2"/>
          <p:cNvSpPr/>
          <p:nvPr/>
        </p:nvSpPr>
        <p:spPr>
          <a:xfrm>
            <a:off x="866880" y="6451560"/>
            <a:ext cx="99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1DDF-290D-4F76-8B4D-2AE10EAC44EB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3"/>
          <p:cNvSpPr/>
          <p:nvPr/>
        </p:nvSpPr>
        <p:spPr>
          <a:xfrm>
            <a:off x="7489800" y="6446880"/>
            <a:ext cx="1600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ERS Annual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4343400" y="646596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A3CB-7265-494E-BE99-62FAAE62E05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3546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7"/>
          <p:cNvSpPr/>
          <p:nvPr/>
        </p:nvSpPr>
        <p:spPr>
          <a:xfrm>
            <a:off x="576360" y="614988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haded area indicates a single offer stack for all ERS Service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179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S Procurement Trends (Number of Resources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Date Placeholder 2"/>
          <p:cNvSpPr/>
          <p:nvPr/>
        </p:nvSpPr>
        <p:spPr>
          <a:xfrm>
            <a:off x="866880" y="6451560"/>
            <a:ext cx="99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56FE-5F0A-433C-9AAB-BE450BB0FFB2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3"/>
          <p:cNvSpPr/>
          <p:nvPr/>
        </p:nvSpPr>
        <p:spPr>
          <a:xfrm>
            <a:off x="7489800" y="6446880"/>
            <a:ext cx="1600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ERS Annual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4343400" y="646596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2D4E-8927-41A3-9B35-CEC2CD776D7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"/>
          <p:cNvSpPr/>
          <p:nvPr/>
        </p:nvSpPr>
        <p:spPr>
          <a:xfrm>
            <a:off x="228600" y="614376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Includes all ERS Service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1"/>
          <a:stretch/>
        </p:blipFill>
        <p:spPr>
          <a:xfrm>
            <a:off x="87480" y="755640"/>
            <a:ext cx="899136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Patterson, Mark</dc:creator>
  <dc:description/>
  <dc:language>en-US</dc:language>
  <cp:lastModifiedBy>Patterson, Mark</cp:lastModifiedBy>
  <cp:lastPrinted>2015-03-13T18:45:39Z</cp:lastPrinted>
  <dcterms:modified xsi:type="dcterms:W3CDTF">2015-03-18T19:31:47Z</dcterms:modified>
  <cp:revision>225</cp:revision>
  <dc:subject/>
  <dc:title>Instructions</dc:title>
</cp:coreProperties>
</file>