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EBAB9-6C52-494F-AA0E-25CC5DFE0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FE5D5-E818-4828-BF84-538336735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C4807-2080-48A7-BA1B-1A4D00917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D208A-C6B8-4AD7-B94E-086426358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31EB4C-D7C8-4EB1-AA47-DFA427382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D3F7-31F4-43C4-A4DF-2FC54610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690-15B1-4947-BC08-D29299B9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403-860F-4AE2-B469-3DAC5944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424-025E-4D8F-90B2-50877E82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3FA-20B9-4C5F-9727-9451D828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D08-D285-4452-B901-ADF37D89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B17-AACC-4590-8432-4F7DE7F4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6DD-EEE6-46E1-87CE-C74B4DD6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EE8-091C-4C47-B2A8-CE088604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34C9-DE6C-4995-B92D-8F8FFFDD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6C6-F7B3-44A7-8A67-EE1E4B39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D203-6DA1-43B6-AA94-72B3673B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69978-14EE-4535-91D5-95C9CE7A53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285C7-7FFB-48BE-8BB0-11C965B04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4F04B-D186-467D-846A-21460DAAB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171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3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ohn Varn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5 PR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ch 26, 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03200" y="738360"/>
            <a:ext cx="849312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Recommended for Approval by PRS – Unopposed (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70, Clarification of Portfolio Weighted Auction Clearing Price (PWACP)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71, Incorporation of DAM Credit Parameters into Protocol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72, Clarification of EMR Statu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73, Correction to Estimated Aggregate Liability (EAL) for a QSE that Represents Neither Load nor Generatio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78, Posting of Wind Peak Average Capacity Percentage Data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403200" y="71424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ual Review of Other Binding Documents (OBDs) (Vo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suant to paragraph (3) of Section 1.1, Summary of the ERCOT Protocols Document, PRS reviewed and unanimously approved the current list of OB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5 PRS Goals (Vo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NPRRs and SCRs (Section 21 requirem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and make recommendations for Project Priorities for NPRRs and SCRs by reviewing Business Cases and ensuring they provide adequate justific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requests and assignments from the ERCOT Board and TAC in a timely and diligent ma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ther Binding Documents (OBDs) annually for elimination or incorporation into Protocols/Market Gu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PRS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403200" y="65556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d Delivery Options for NPRR626 Bu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44520" y="71280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3/4/15, ERCOT recommended to WMS the removal of ORDC Phase 2 (NPR568 Phase 2 and NPRR644) from the June 2015 delivery.  WMS concurred with ERCOT’s recommen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3/12/15, PRS unanimously approved the shifting of those ORDC Phase 2 NPRRs to the September 2015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264960" y="2741760"/>
            <a:ext cx="8614080" cy="34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 Phillips</cp:lastModifiedBy>
  <cp:lastPrinted>2013-01-30T23:16:36Z</cp:lastPrinted>
  <dcterms:modified xsi:type="dcterms:W3CDTF">2015-03-16T19:31:34Z</dcterms:modified>
  <cp:revision>256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