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CE22-E368-4F5D-9E83-7370DB3AC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DF97-0E3B-42DA-80D3-97EB54391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4F24-C3AF-4E37-AC6E-B81BDAF59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DAB1-6B66-404C-A830-72EB0929C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3EC6-F87A-4154-9765-57DA61F0B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4D66-292A-4645-A745-28FD3655A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BB96-478D-4372-9730-F75E82542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00AD-AE04-4955-8647-757C4D71F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6C5BD4A-C44E-4F92-B4F9-2010DA0D4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19427C-39CF-4347-A1E4-DFD8EDB00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A947C5-E2F6-4B2E-9ADC-FB73862CB5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B4DFB0-972E-4B6B-9220-95B08ED66C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551C01-0AD7-4E94-9D99-D18717BA76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1BE3D9-713D-4A49-B0C5-FD2FC53288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7DED58-23D7-499A-8F84-B5A22E5D0C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64F1C1-0915-4A3F-A571-7DE8C4B8EE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1C5C68-AE29-4842-864B-B2655AA577B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D7B0323-F90E-4F11-A379-7CC5AEF05C8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C268391-3917-43CE-9FF3-FDE9A507460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DE3E94B-6673-4B0B-8DE4-E5F91C7AF8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B7F2BC-8783-492B-A318-4AF49D2820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9CA96-F5A4-46EC-87CD-C9E6B4067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6FABE-1B33-4262-B575-AAACCF740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76F87-B685-4873-9F5A-D04985D33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43109-2B61-45D5-A44C-7ADAE9784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FF7D4-50AB-4462-9BD0-D8F4AA9C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52EF9-7DC5-4F98-A643-DDD199B9A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3333D-EA7C-442D-A1D5-8B1C35659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B2195B1-2C6A-4991-AAC9-A628ABA41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5B018-9925-4A3F-9F1F-EADBA8489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D1F89-3F86-46EA-A068-E16F6974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D6766-F197-4B9B-B39C-122B73ED9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E8D92-667C-499F-AAB3-6D2E7EE64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A1B20-EF85-4940-ACF9-814EF2B37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75E9F8-1D0A-4FFD-9A78-35BEC746A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AEF53F-3102-467F-A9B4-F50B86EDD4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FF460F-8E0C-4F44-A124-FE4F8E002D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2BD34A-94BE-40D8-A8C2-7C0C989EE5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E02F08-69B2-4B58-AAA1-3B62510C0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C62A20-A7C6-4AA2-9323-8C8E30E53F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94307C-87F1-410C-A07E-9CAAF45CAF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85ADD3-9493-470E-A19D-1BF7375D44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863871-4917-4A5E-938B-E665A393CA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EDEA0D-5316-49F1-8B93-B5BBAD756B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01BC39-FD68-48E9-9EDB-D72B7BB9DA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6BE47C-5D3D-46FA-A5A8-868FEA303C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68601C-609C-4E17-8449-A7D0EE3721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2E9184-6C74-4573-BE61-46FF1D10DCA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B95F653-C973-4C3D-B412-078F1420C3C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C1930A-E75C-45C8-9AFF-990AA73C1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8C31C3-DC4D-4D6A-AA02-D7847DCF06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56050D-2534-4DD4-93B5-54F7A25BC4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D821BF-31D3-4618-B78E-7B5222D0DD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4B0187-9C24-4DC6-93F7-448DF81438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41DCD78-E8CF-4A35-BEBF-80B0440468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E869A5-6232-45E0-BB27-80B424F8D5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C04BDA-AD5E-47E1-9252-793E0A7DF0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976088-06A0-42A5-9012-9AE759B825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6FD4663-B08A-405F-B17A-0D7CDB11CA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17F6F9C-E2A7-45E5-9242-3C259EB0118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9000A6-E88D-4748-9CDA-BE9941407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A4C250-C9CF-4131-83DD-31B042703A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DDBE5A2-63B6-4B78-8F72-76630344106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4425DF-7FBB-4BEB-A6A6-A1643458D5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EF2D78-6BF9-433F-B5EF-0743905AFE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506FB4-95CE-4908-855E-3453DC588D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FFEFF8B-8CCC-44B7-98AE-30524AA135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034AA9-328A-4A73-B3FD-9F1BA4E89A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1F1AAC-5293-437B-9526-90D19F78F8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C6E89B-879A-4947-861E-5E3BDA2CF8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BB085D-AA4D-41C5-9E8F-6EF5D0A3BC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1216FF-FE8A-4C8F-8D7C-CF7024B16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18049F-813E-41FA-9B52-133FBC16C9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A58466A-D751-470C-AFF7-F3B2519CDFA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3C9BD00-E9E2-405B-8068-B449DACB5E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5F7D643-02C8-43EA-87EF-A1E281AB819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FE8A0C-D3E0-4C7F-906D-3F2EDD9F97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9056D1-1162-43A2-A6C9-F8F649071A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E6DAA24-1D7E-47EC-99FE-55FDBA2AFFE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BD219E-0E35-49A9-B132-63C6BBC5DB4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521F407-5C99-4732-8F0E-4E71FB0F1C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A9F67C-4CB6-422A-8259-1C6E5CF698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B61A08-F4AA-44A4-8D98-FEECB1147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E5CDE4-9ED5-4663-86F2-A6DB21D149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787162-D118-4240-8988-D1A181548E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80AB76-2827-4EA4-8945-68BD2EF92F8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9DA95AB-00DD-4A80-B9EB-845E431090D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696B5CF-E64D-428D-B10A-5C355209099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47A48F5-2886-45AC-8057-2CD1A0838E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E76BDEF-4A5D-4083-BD4F-FD76284F41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E6857B-B3DE-4635-8018-EDDF45E14E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EE9770-D00A-4736-81AC-73C3D2106F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F924F4-83A4-4068-A2F2-E4D7576230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99A7F2-F07F-4EA0-B621-08E31FD36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D7DAF6-9620-4287-8255-64D17EDFDE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662A42-09E2-4EB0-9FEE-928650A94F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2C6526-BD2A-4DA8-B766-B77AB4DADD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794238-3AF2-4DEB-8B3D-0370B0199B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21BF23-39B1-4275-B66D-F7CF454988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F83F253-4060-48A1-A9B9-7551E4FDF84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A410F3D-0E3C-4E59-B945-14872091F95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D22CE37-392B-4314-82BD-776319C7B5F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E65B4A-3929-4618-A49C-A3E3DB0675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1370C5-B715-4DF0-A123-7538CDFD1F0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DD7F-BE18-46E6-A2BF-66BA510F6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5A90-3F4E-4AED-BCE5-54F6A4F61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EF21-EFB0-4D7A-9042-55C07FEB52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87C5-6356-48C4-B7CF-75E140D2A30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9404-EFE0-454F-BDD3-0FB5D3BFEB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E0D5-4879-40A4-9F41-6946F66AD3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6A1D-7188-4C9B-B7F6-41378F3697D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9DA7-0498-464A-BC90-4A841196DF6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ED1E-0AE1-414F-91D3-AE9BF5B1B2B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15/5/5/59434-COPS-RMS-WORKSHOPS"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calendar/2015/4/15/58873"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 </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6, 2015 </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7EB6-AE70-4BC3-81D2-B7695AEC20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art Meter Texas Unplanned Outage! </a:t>
            </a:r>
            <a:endParaRPr b="0" lang="en-US" sz="3900" spc="-1" strike="noStrike">
              <a:solidFill>
                <a:srgbClr val="572314"/>
              </a:solidFill>
              <a:latin typeface="Gill Sans MT"/>
            </a:endParaRPr>
          </a:p>
        </p:txBody>
      </p:sp>
      <p:sp>
        <p:nvSpPr>
          <p:cNvPr id="472" name=""/>
          <p:cNvSpPr txBox="1"/>
          <p:nvPr/>
        </p:nvSpPr>
        <p:spPr>
          <a:xfrm>
            <a:off x="762120" y="838080"/>
            <a:ext cx="8229600" cy="518184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ate:  Saturday March 21, 2015 06:00AM CST</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Smart Meter Texas portal began experiencing an unplanned outage today Saturday March 21, 2015 from 06:00AM CST</a:t>
            </a:r>
            <a:endParaRPr b="0" lang="en-US" sz="16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s a result of this outage, the following SMT services are unavailable: </a:t>
            </a:r>
            <a:endParaRPr b="0" lang="en-US" sz="18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ortal and associated services such as:</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gistrations,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ystem login,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me Area Network (HAN),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Demand Reading (ODR) functionality,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PI &amp; Reporting requests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riginally CRs were able to access their Rep of Record 15 Minute Interval Data via FTPS, along with there were no impacts to Bulk and Enrollments.   Once SMT systems failed over to alternate server created a database failure causing all functionality to become disabled including FTPS, Bulk and Enrollment functionality.   </a:t>
            </a: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ate:  Sunday March 22, 2015 01:00PM CST</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stead of trying to recover the legacy systems,  a decision as made by the JDOA to go-live with the new Hardware Refresh platform that was a planned outage originally scheduled on March 27-29, 2015.    This decision allowed CRs the ability to access their 15-minute Interval Data on their FTPS as early as 10:35 PM Sunday, March 22, 2015.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7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7C57-0895-4B97-913B-21B883D2413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art Meter Texas Unplanned Outage! </a:t>
            </a:r>
            <a:endParaRPr b="0" lang="en-US" sz="3900" spc="-1" strike="noStrike">
              <a:solidFill>
                <a:srgbClr val="572314"/>
              </a:solidFill>
              <a:latin typeface="Gill Sans MT"/>
            </a:endParaRPr>
          </a:p>
        </p:txBody>
      </p:sp>
      <p:sp>
        <p:nvSpPr>
          <p:cNvPr id="477" name=""/>
          <p:cNvSpPr txBox="1"/>
          <p:nvPr/>
        </p:nvSpPr>
        <p:spPr>
          <a:xfrm>
            <a:off x="884160" y="685440"/>
            <a:ext cx="8229600" cy="51814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ate:  Wednesday, March 25, 2015 </a:t>
            </a:r>
            <a:endParaRPr b="0" lang="en-US" sz="20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mart Meter Texas continued to experience an outage affecting the following: </a:t>
            </a:r>
            <a:endParaRPr b="0" lang="en-US" sz="18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ebsite Access,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me Area Network Services,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Demand Read Services,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PI Services,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nrollment Services and</a:t>
            </a:r>
            <a:endParaRPr b="0" lang="en-US" sz="16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istorical Backfill Services and Full System Refresh functionality</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art Meter Texas Current Status: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lanned maintenance activities continue to be performed at SMT to cut over all functionality and historical data to the new infrastructure platform.  This activity will require multiple days outage of all SMT services with the exception of CRs access to their daily 15-minute Interval Data via their FTPS.   </a:t>
            </a:r>
            <a:r>
              <a:rPr b="1" lang="en-US" sz="1600" spc="-1" strike="noStrike">
                <a:solidFill>
                  <a:srgbClr val="000000"/>
                </a:solidFill>
                <a:latin typeface="Gill Sans MT"/>
              </a:rPr>
              <a:t>REP’s access to their daily LSE files via their FTP folders continues as normal.</a:t>
            </a:r>
            <a:endParaRPr b="0" lang="en-US" sz="1600" spc="-1" strike="noStrike">
              <a:solidFill>
                <a:srgbClr val="000000"/>
              </a:solidFill>
              <a:latin typeface="Gill Sans MT"/>
            </a:endParaRPr>
          </a:p>
          <a:p>
            <a:pPr lvl="2" marL="815040" indent="-21024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MT teams encountered unexpected problems restoring the SMT database in the refreshed environment, which has required additional efforts to prepare that database.  Currently,  the SMT  team expects go live to be early Monday, March 30</a:t>
            </a:r>
            <a:r>
              <a:rPr b="0" lang="en-US" sz="1400" spc="-1" strike="noStrike" baseline="30000">
                <a:solidFill>
                  <a:srgbClr val="000000"/>
                </a:solidFill>
                <a:latin typeface="Gill Sans MT"/>
              </a:rPr>
              <a:t>th</a:t>
            </a:r>
            <a:r>
              <a:rPr b="0" lang="en-US" sz="1400" spc="-1" strike="noStrike">
                <a:solidFill>
                  <a:srgbClr val="000000"/>
                </a:solidFill>
                <a:latin typeface="Gill Sans MT"/>
              </a:rPr>
              <a:t>, opposed to the previously planned Friday morning  of March 27</a:t>
            </a:r>
            <a:r>
              <a:rPr b="0" lang="en-US" sz="1400" spc="-1" strike="noStrike" baseline="30000">
                <a:solidFill>
                  <a:srgbClr val="000000"/>
                </a:solidFill>
                <a:latin typeface="Gill Sans MT"/>
              </a:rPr>
              <a:t>th</a:t>
            </a:r>
            <a:r>
              <a:rPr b="0" lang="en-US" sz="1400" spc="-1" strike="noStrike">
                <a:solidFill>
                  <a:srgbClr val="000000"/>
                </a:solidFill>
                <a:latin typeface="Gill Sans MT"/>
              </a:rPr>
              <a:t>,  The SMT team expects to be fully caught up with processing the daily interval data by the middle of next week. </a:t>
            </a:r>
            <a:r>
              <a:rPr b="0" lang="en-US" sz="1200" spc="-1" strike="noStrike">
                <a:solidFill>
                  <a:srgbClr val="000000"/>
                </a:solidFill>
                <a:latin typeface="Gill Sans MT"/>
              </a:rPr>
              <a:t> </a:t>
            </a:r>
            <a:endParaRPr b="0" lang="en-US" sz="12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E8DD-AE82-4FF5-9842-372FAC7C09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IT Retail Incidents Report! </a:t>
            </a:r>
            <a:endParaRPr b="0" lang="en-US" sz="4300" spc="-1" strike="noStrike">
              <a:solidFill>
                <a:srgbClr val="572314"/>
              </a:solidFill>
              <a:latin typeface="Gill Sans MT"/>
            </a:endParaRPr>
          </a:p>
        </p:txBody>
      </p:sp>
      <p:sp>
        <p:nvSpPr>
          <p:cNvPr id="482" name=""/>
          <p:cNvSpPr txBox="1"/>
          <p:nvPr/>
        </p:nvSpPr>
        <p:spPr>
          <a:xfrm>
            <a:off x="884160" y="685440"/>
            <a:ext cx="8229600" cy="51814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s Premature transitioning of MarkeTrak Issues                              (Issue auto-closed or state incorrectly re-assigned) </a:t>
            </a:r>
            <a:endParaRPr b="0" lang="en-US" sz="18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occurred on February 4 ,  February 11 and February 24, 2015</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vestigation determined that a database parameter was getting changed by the MarkeTrak application.  </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oot cause under investigation with Vendor   </a:t>
            </a:r>
            <a:endParaRPr b="0" lang="en-US" sz="16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ystem issue resulting in duplicate transactions</a:t>
            </a:r>
            <a:endParaRPr b="0" lang="en-US" sz="18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On Tuesday, February 17, 2015, from 10:00 – 14:00</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experienced a Retail Processing system issue that resulted in duplicate transactions being forwarded to Market Participants</a:t>
            </a:r>
            <a:endParaRPr b="0" lang="en-US" sz="16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ystem issue resulting in impacts to market facing applications</a:t>
            </a:r>
            <a:endParaRPr b="0" lang="en-US" sz="18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ursday, March 5, 2015 from 14:15 through 17:05</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experienced a system issue on March 5, 2015, from 14:15 through 14:50.  As a result Market facing systems were unavailable or not performing as expected:</a:t>
            </a:r>
            <a:endParaRPr b="0" lang="en-US" sz="1600" spc="-1" strike="noStrike">
              <a:solidFill>
                <a:srgbClr val="000000"/>
              </a:solidFill>
              <a:latin typeface="Gill Sans MT"/>
            </a:endParaRPr>
          </a:p>
          <a:p>
            <a:pPr lvl="3" marL="975960" indent="-15408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d Transaction,  Find ESIID,  MarkeTrak and MPIM impacts. </a:t>
            </a:r>
            <a:r>
              <a:rPr b="0" lang="en-US" sz="1200" spc="-1" strike="noStrike">
                <a:solidFill>
                  <a:srgbClr val="000000"/>
                </a:solidFill>
                <a:latin typeface="Gill Sans MT"/>
              </a:rPr>
              <a:t>  </a:t>
            </a:r>
            <a:endParaRPr b="0" lang="en-US" sz="12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 addition,  Retail transaction processing was degraded from 14:15 until 17:05, impacting 3,685 transactions.</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17:05 transactions began processing normally and the backlog was cleared at 17:25.</a:t>
            </a:r>
            <a:endParaRPr b="0" lang="en-US" sz="16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RCOT will provide root cause analysis and process improvements to RMS</a:t>
            </a: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788400" indent="-203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8693-F471-4100-9C95-EA718DF506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 – Save the Dates! </a:t>
            </a:r>
            <a:endParaRPr b="0" lang="en-US" sz="4300" spc="-1" strike="noStrike">
              <a:solidFill>
                <a:srgbClr val="572314"/>
              </a:solidFill>
              <a:latin typeface="Gill Sans MT"/>
            </a:endParaRPr>
          </a:p>
        </p:txBody>
      </p:sp>
      <p:sp>
        <p:nvSpPr>
          <p:cNvPr id="487" name=""/>
          <p:cNvSpPr txBox="1"/>
          <p:nvPr/>
        </p:nvSpPr>
        <p:spPr>
          <a:xfrm>
            <a:off x="884160" y="685440"/>
            <a:ext cx="8229600" cy="5181480"/>
          </a:xfrm>
          <a:prstGeom prst="rect">
            <a:avLst/>
          </a:prstGeom>
          <a:noFill/>
          <a:ln w="0">
            <a:noFill/>
          </a:ln>
        </p:spPr>
        <p:txBody>
          <a:bodyPr anchor="t">
            <a:normAutofit fontScale="97000"/>
          </a:bodyPr>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enterPoint Energy’s CR Workshop</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e:   Tuesday,  April 28, 2015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ime/Location:</a:t>
            </a:r>
            <a:r>
              <a:rPr b="0" lang="en-US" sz="2400" spc="-1" strike="noStrike">
                <a:solidFill>
                  <a:srgbClr val="000000"/>
                </a:solidFill>
                <a:latin typeface="Gill Sans MT"/>
              </a:rPr>
              <a:t>  Being Finalized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S/COPS Workshop V: IDR Meter Protocol Requirement Threshold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e:  </a:t>
            </a:r>
            <a:r>
              <a:rPr b="1" lang="en-US" sz="2400" spc="-1" strike="noStrike">
                <a:solidFill>
                  <a:srgbClr val="000000"/>
                </a:solidFill>
                <a:latin typeface="Gill Sans MT"/>
              </a:rPr>
              <a:t>	</a:t>
            </a:r>
            <a:r>
              <a:rPr b="1" lang="en-US" sz="2400" spc="-1" strike="noStrike">
                <a:solidFill>
                  <a:srgbClr val="000000"/>
                </a:solidFill>
                <a:latin typeface="Gill Sans MT"/>
              </a:rPr>
              <a:t>Tuesday, May 5, 2015 </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Met Center Conference Room 206 </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30 p.m.- 4:30 p.m.  (Following RMS) </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www.ercot.com/calendar/2015/5/5/59434-COPS-RMS-WORKSHOP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9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99BA-A7F9-48A8-86DE-CEA9452E49A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 – Save the Dates! </a:t>
            </a:r>
            <a:endParaRPr b="0" lang="en-US" sz="4300" spc="-1" strike="noStrike">
              <a:solidFill>
                <a:srgbClr val="572314"/>
              </a:solidFill>
              <a:latin typeface="Gill Sans MT"/>
            </a:endParaRPr>
          </a:p>
        </p:txBody>
      </p:sp>
      <p:sp>
        <p:nvSpPr>
          <p:cNvPr id="492" name=""/>
          <p:cNvSpPr txBox="1"/>
          <p:nvPr/>
        </p:nvSpPr>
        <p:spPr>
          <a:xfrm>
            <a:off x="884160" y="685440"/>
            <a:ext cx="8229600" cy="5181480"/>
          </a:xfrm>
          <a:prstGeom prst="rect">
            <a:avLst/>
          </a:prstGeom>
          <a:noFill/>
          <a:ln w="0">
            <a:noFill/>
          </a:ln>
        </p:spPr>
        <p:txBody>
          <a:bodyPr anchor="t">
            <a:normAutofit fontScale="95000"/>
          </a:bodyPr>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Inadvertent Gain (IAG) Training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uesday, May 12, 2015: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4:00 p.m. at ERCOT MET Center, Room 206 </a:t>
            </a:r>
            <a:endParaRPr b="0" lang="en-US" sz="2400" spc="-1" strike="noStrike">
              <a:solidFill>
                <a:srgbClr val="000000"/>
              </a:solidFill>
              <a:latin typeface="Gill Sans MT"/>
            </a:endParaRPr>
          </a:p>
          <a:p>
            <a:pPr lvl="2" marL="841320" indent="-217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riday, May 15, 2015: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4:00 p.m. at CenterPoint Energy, Room 1360 </a:t>
            </a:r>
            <a:endParaRPr b="0" lang="en-US" sz="2400" spc="-1" strike="noStrike">
              <a:solidFill>
                <a:srgbClr val="000000"/>
              </a:solidFill>
              <a:latin typeface="Gill Sans MT"/>
            </a:endParaRPr>
          </a:p>
          <a:p>
            <a:pPr lvl="2" marL="841320" indent="-217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riday, June 12, 2015: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4:00 p.m. at Oncor Dallas Office </a:t>
            </a:r>
            <a:endParaRPr b="0" lang="en-US" sz="2400" spc="-1" strike="noStrike">
              <a:solidFill>
                <a:srgbClr val="000000"/>
              </a:solidFill>
              <a:latin typeface="Gill Sans MT"/>
            </a:endParaRPr>
          </a:p>
        </p:txBody>
      </p:sp>
      <p:sp>
        <p:nvSpPr>
          <p:cNvPr id="4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9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9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F24E-EEA8-4F89-BAAA-5E2D71704F5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97" name="Picture 5" descr="MCj04344110000[1]"/>
          <p:cNvPicPr/>
          <p:nvPr/>
        </p:nvPicPr>
        <p:blipFill>
          <a:blip r:embed="rId1"/>
          <a:stretch/>
        </p:blipFill>
        <p:spPr>
          <a:xfrm>
            <a:off x="2286000" y="1219320"/>
            <a:ext cx="5334120" cy="4038480"/>
          </a:xfrm>
          <a:prstGeom prst="rect">
            <a:avLst/>
          </a:prstGeom>
          <a:ln w="0">
            <a:noFill/>
          </a:ln>
        </p:spPr>
      </p:pic>
      <p:sp>
        <p:nvSpPr>
          <p:cNvPr id="49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5574-699D-48A3-9CBF-BEB47252829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5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Subcommittee (RMS) 2015 Goals </a:t>
            </a:r>
            <a:endParaRPr b="0" lang="en-US" sz="3000" spc="-1" strike="noStrike">
              <a:solidFill>
                <a:srgbClr val="572314"/>
              </a:solidFill>
              <a:latin typeface="Gill Sans MT"/>
            </a:endParaRPr>
          </a:p>
        </p:txBody>
      </p:sp>
      <p:sp>
        <p:nvSpPr>
          <p:cNvPr id="424" name=""/>
          <p:cNvSpPr txBox="1"/>
          <p:nvPr/>
        </p:nvSpPr>
        <p:spPr>
          <a:xfrm>
            <a:off x="938160" y="837720"/>
            <a:ext cx="8229600" cy="54104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Retail Market processes that are consistent with PURA and PUC.</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ort the appropriate incorporation of demand response and load participation in the Wholesale market.</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plore and Implement Retail Market Enhancements. </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f board approved, support all phases of the Retail Data Transport Upgrade to NAESB EDM and ERCOT’s implementation of a new Retail Testing Environment, including planning, execution, testing and market education &amp; communication.</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nset MarkeTrak Task Force, if plan is developed and finalized to transition all MarkeTrak Taskforce responsibilities to the Texas Data Transport Working Group.</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a:t>
            </a: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3/03/15 RMS Vote:  These 2015 RMS Goals were Unanimously Approved by RMS and RMS Recommends TAC’s Approval of our 2015 Goals as listed above. </a:t>
            </a:r>
            <a:endParaRPr b="0" lang="en-US" sz="16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1759-5680-4847-8025-6CB93F43781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28" name="Object 6"/>
          <p:cNvGraphicFramePr/>
          <p:nvPr/>
        </p:nvGraphicFramePr>
        <p:xfrm>
          <a:off x="7086600" y="4952880"/>
          <a:ext cx="914400" cy="771480"/>
        </p:xfrm>
        <a:graphic>
          <a:graphicData uri="http://schemas.openxmlformats.org/presentationml/2006/ole">
            <p:oleObj progId="Word.Document.12" r:id="rId1" spid="">
              <p:embed/>
              <p:pic>
                <p:nvPicPr>
                  <p:cNvPr id="429" name="Object 6" descr=""/>
                  <p:cNvPicPr/>
                  <p:nvPr/>
                </p:nvPicPr>
                <p:blipFill>
                  <a:blip r:embed="rId2"/>
                  <a:stretch/>
                </p:blipFill>
                <p:spPr>
                  <a:xfrm>
                    <a:off x="7086600" y="49528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6 Voting Recommendation </a:t>
            </a:r>
            <a:endParaRPr b="0" lang="en-US" sz="3600" spc="-1" strike="noStrike">
              <a:solidFill>
                <a:srgbClr val="572314"/>
              </a:solidFill>
              <a:latin typeface="Gill Sans MT"/>
            </a:endParaRPr>
          </a:p>
        </p:txBody>
      </p:sp>
      <p:sp>
        <p:nvSpPr>
          <p:cNvPr id="431" name=""/>
          <p:cNvSpPr txBox="1"/>
          <p:nvPr/>
        </p:nvSpPr>
        <p:spPr>
          <a:xfrm>
            <a:off x="939960" y="685440"/>
            <a:ext cx="8229600" cy="52578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6</a:t>
            </a:r>
            <a:r>
              <a:rPr b="0" lang="en-US" sz="2400" spc="-1" strike="noStrike">
                <a:solidFill>
                  <a:srgbClr val="000000"/>
                </a:solidFill>
                <a:latin typeface="Gill Sans MT"/>
              </a:rPr>
              <a:t>, </a:t>
            </a:r>
            <a:r>
              <a:rPr b="1" lang="en-US" sz="2400" spc="-1" strike="noStrike">
                <a:solidFill>
                  <a:srgbClr val="000000"/>
                </a:solidFill>
                <a:latin typeface="Gill Sans MT"/>
              </a:rPr>
              <a:t>Additional ERCOT Validations for Customer Billing Contact Information File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etail Market Guide Revision Request (RMGRR) requires ERCOT to validate that the submitting Competitive Retailer’s (CR’s) DUNS Number (DUNS #) and the Electric Service Identifiers (ESI IDs) provided in the Customer Billing Contact Information file are valid in the ERCOT registration system.</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2/03/15 RMS:  </a:t>
            </a:r>
            <a:r>
              <a:rPr b="1" lang="en-US" sz="1400" spc="-1" strike="noStrike">
                <a:solidFill>
                  <a:srgbClr val="c00000"/>
                </a:solidFill>
                <a:latin typeface="Gill Sans MT"/>
              </a:rPr>
              <a:t>RMS unanimously Approved RMGRR126 with TX SET January 26, 2015 comments. Impact Analysis review scheduled  on March 3, 2015 RMS meeting.</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3/03/15 RMS Impact Analysis Review and Vote:  </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ost Between $35k and $55k</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e timeline for implementing this Retail Market Guide Revision Request (RMGRR) is dependent upon ERCOT Board prioritization and approval.  Please see the Project Priority List (PPL) for additional information.</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stimated project duration:  4 to 6 months</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o Impacts to ERCOTs Staffing</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03/03/15:  RMS Unanimously Approved RMGRR126 Impact Analysis with a Priority of 2015 and Rank of 1290.  </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3/12/15:  PRS Unanimously Approved RMS’ recommendation</a:t>
            </a:r>
            <a:r>
              <a:rPr b="1" lang="en-US" sz="1600" spc="-1" strike="noStrike">
                <a:solidFill>
                  <a:srgbClr val="c00000"/>
                </a:solidFill>
                <a:latin typeface="Gill Sans MT"/>
              </a:rPr>
              <a:t>.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26/15:  RMS Unanimously Recommends TAC’s Approval of RMGRR126 with a Priority of 2015 and Rank of 1290.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BEDD-7D3B-4197-A670-7FA45CD4995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8  Voting  Recommendation </a:t>
            </a:r>
            <a:endParaRPr b="0" lang="en-US" sz="3600" spc="-1" strike="noStrike">
              <a:solidFill>
                <a:srgbClr val="572314"/>
              </a:solidFill>
              <a:latin typeface="Gill Sans MT"/>
            </a:endParaRPr>
          </a:p>
        </p:txBody>
      </p:sp>
      <p:sp>
        <p:nvSpPr>
          <p:cNvPr id="436" name=""/>
          <p:cNvSpPr txBox="1"/>
          <p:nvPr/>
        </p:nvSpPr>
        <p:spPr>
          <a:xfrm>
            <a:off x="939960" y="685800"/>
            <a:ext cx="8229600" cy="5486400"/>
          </a:xfrm>
          <a:prstGeom prst="rect">
            <a:avLst/>
          </a:prstGeom>
          <a:noFill/>
          <a:ln w="0">
            <a:noFill/>
          </a:ln>
        </p:spPr>
        <p:txBody>
          <a:bodyPr anchor="t">
            <a:normAutofit/>
          </a:bodyPr>
          <a:p>
            <a:pPr lvl="2" marL="65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8</a:t>
            </a:r>
            <a:r>
              <a:rPr b="1" lang="en-US" sz="2400" spc="-1" strike="noStrike">
                <a:solidFill>
                  <a:srgbClr val="000000"/>
                </a:solidFill>
                <a:latin typeface="Gill Sans MT"/>
              </a:rPr>
              <a:t>, Reinstate Critical Care Status After Resolution of an Inadvertent Gain (Vote)</a:t>
            </a:r>
            <a:r>
              <a:rPr b="1" lang="en-US" sz="2000" spc="-1" strike="noStrike">
                <a:solidFill>
                  <a:srgbClr val="000000"/>
                </a:solidFill>
                <a:latin typeface="Gill Sans MT"/>
              </a:rPr>
              <a:t> </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etail Market Guide Revision Request (RMGRR) provides guidelines for a Competitive Retailer (CR) to request that a Transmission and/or Distribution Service Provider (TDSP) restore a critical care status to an Electric Service Identifier (ESI ID) that may have been removed from the ESI ID due to an inadvertent gain.</a:t>
            </a:r>
            <a:endParaRPr b="0" lang="en-US" sz="1600" spc="-1" strike="noStrike">
              <a:solidFill>
                <a:srgbClr val="000000"/>
              </a:solidFill>
              <a:latin typeface="Gill Sans MT"/>
            </a:endParaRPr>
          </a:p>
          <a:p>
            <a:pPr lvl="2" marL="6573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2/03/15 RMS:  </a:t>
            </a:r>
            <a:r>
              <a:rPr b="1" lang="en-US" sz="1400" spc="-1" strike="noStrike">
                <a:solidFill>
                  <a:srgbClr val="c00000"/>
                </a:solidFill>
                <a:latin typeface="Gill Sans MT"/>
              </a:rPr>
              <a:t>RMS unanimously Approved RMGRR128 with TX SET January 26, 2015 comments.  Impact Analysis review scheduled  on March 3, 2015 RMS meeting.    </a:t>
            </a:r>
            <a:endParaRPr b="0" lang="en-US" sz="1400" spc="-1" strike="noStrike">
              <a:solidFill>
                <a:srgbClr val="000000"/>
              </a:solidFill>
              <a:latin typeface="Gill Sans MT"/>
            </a:endParaRPr>
          </a:p>
          <a:p>
            <a:pPr lvl="2" marL="6573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3/03/15 RMS Impact Analysis Review and Vote: </a:t>
            </a:r>
            <a:endParaRPr b="0" lang="en-US" sz="1400" spc="-1" strike="noStrike">
              <a:solidFill>
                <a:srgbClr val="000000"/>
              </a:solidFill>
              <a:latin typeface="Gill Sans MT"/>
            </a:endParaRPr>
          </a:p>
          <a:p>
            <a:pPr lvl="4" marL="1297080" indent="-18252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No project required</a:t>
            </a:r>
            <a:r>
              <a:rPr b="0" lang="en-US" sz="1400" spc="-1" strike="noStrike">
                <a:solidFill>
                  <a:srgbClr val="000000"/>
                </a:solidFill>
                <a:latin typeface="Gill Sans MT"/>
              </a:rPr>
              <a:t>.  </a:t>
            </a:r>
            <a:r>
              <a:rPr b="1" lang="en-US" sz="1400" spc="-1" strike="noStrike">
                <a:solidFill>
                  <a:srgbClr val="000000"/>
                </a:solidFill>
                <a:latin typeface="Gill Sans MT"/>
              </a:rPr>
              <a:t>This Retail Market Guide Revision Request (RMGRR) can take effect upon the Technical Advisory Committee (TAC) approval. No impacts to ERCOT’s Staffing </a:t>
            </a:r>
            <a:endParaRPr b="0" lang="en-US" sz="1400" spc="-1" strike="noStrike">
              <a:solidFill>
                <a:srgbClr val="000000"/>
              </a:solidFill>
              <a:latin typeface="Gill Sans MT"/>
            </a:endParaRPr>
          </a:p>
          <a:p>
            <a:pPr lvl="2" marL="6573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03/03/15:  RMS Unanimously Approved RMGRR128 </a:t>
            </a:r>
            <a:endParaRPr b="0" lang="en-US" sz="1400" spc="-1" strike="noStrike">
              <a:solidFill>
                <a:srgbClr val="000000"/>
              </a:solidFill>
              <a:latin typeface="Gill Sans MT"/>
            </a:endParaRPr>
          </a:p>
          <a:p>
            <a:pPr lvl="2" marL="6573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6573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26/15:  RMS Unanimously Recommends TAC’s Approval of RMGRR128.  </a:t>
            </a:r>
            <a:endParaRPr b="0" lang="en-US" sz="2000" spc="-1" strike="noStrike">
              <a:solidFill>
                <a:srgbClr val="000000"/>
              </a:solidFill>
              <a:latin typeface="Gill Sans MT"/>
            </a:endParaRPr>
          </a:p>
          <a:p>
            <a:pPr lvl="2" marL="6573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3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C08E-4EA5-4E64-B794-315206656D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sp>
        <p:nvSpPr>
          <p:cNvPr id="441" name=""/>
          <p:cNvSpPr txBox="1"/>
          <p:nvPr/>
        </p:nvSpPr>
        <p:spPr>
          <a:xfrm>
            <a:off x="938160" y="837720"/>
            <a:ext cx="8229600" cy="541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unanimously Approved the Creation of our New </a:t>
            </a:r>
            <a:r>
              <a:rPr b="1" lang="en-US" sz="2400" spc="-1" strike="noStrike">
                <a:solidFill>
                  <a:srgbClr val="000000"/>
                </a:solidFill>
                <a:latin typeface="Gill Sans MT"/>
              </a:rPr>
              <a:t>Retail Market Training Taskforce (RMT TF)</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1" lang="en-US" sz="2400" spc="-1" strike="noStrike">
                <a:solidFill>
                  <a:srgbClr val="000000"/>
                </a:solidFill>
                <a:latin typeface="Gill Sans MT"/>
              </a:rPr>
              <a:t>Save the Da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Kick-Off Meeting scheduled April 15, 2015 at 1:00 PM </a:t>
            </a:r>
            <a:endParaRPr b="0" lang="en-US" sz="20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RCOT Met Center Conference Room 206B and via Web Conference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alendar/2015/4/15/58873</a:t>
            </a:r>
            <a:r>
              <a:rPr b="1" lang="en-US" sz="1600" spc="-1" strike="noStrike">
                <a:solidFill>
                  <a:srgbClr val="000000"/>
                </a:solidFill>
                <a:latin typeface="Gill Sans MT"/>
              </a:rPr>
              <a:t> </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WebEx Conference </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eleconference: 877-668-4493</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eeting number: 650 587 061</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eeting password: Rmttf </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c00000"/>
                </a:solidFill>
                <a:latin typeface="Gill Sans MT"/>
              </a:rPr>
              <a:t>Leadership: </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ebbie McKeever – Oncor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heri Wiegand – TXU Energy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omas Fernandez - NRG </a:t>
            </a:r>
            <a:endParaRPr b="0" lang="en-US" sz="18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977D-5BC5-482E-A0B6-5204CAA26A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Pending Voting Status:</a:t>
            </a:r>
            <a:endParaRPr b="0" lang="en-US" sz="3600" spc="-1" strike="noStrike">
              <a:solidFill>
                <a:srgbClr val="572314"/>
              </a:solidFill>
              <a:latin typeface="Gill Sans MT"/>
            </a:endParaRPr>
          </a:p>
        </p:txBody>
      </p:sp>
      <p:sp>
        <p:nvSpPr>
          <p:cNvPr id="446"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3/03/15 Language Review and Vote:  RMS unanimously Approved RMGRR129 as recommended by the MarkeTrak Taskforce (MTTF).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4/07/15:  RMGRR129 Impact Analysis review will be considered by RMS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4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3B9B-6E8B-450D-90C7-828D43EB7A4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Pending Voting Items Status:  </a:t>
            </a:r>
            <a:endParaRPr b="0" lang="en-US" sz="4000" spc="-1" strike="noStrike">
              <a:solidFill>
                <a:srgbClr val="572314"/>
              </a:solidFill>
              <a:latin typeface="Gill Sans MT"/>
            </a:endParaRPr>
          </a:p>
        </p:txBody>
      </p:sp>
      <p:sp>
        <p:nvSpPr>
          <p:cNvPr id="451" name=""/>
          <p:cNvSpPr txBox="1"/>
          <p:nvPr/>
        </p:nvSpPr>
        <p:spPr>
          <a:xfrm>
            <a:off x="1219320" y="685800"/>
            <a:ext cx="77724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Standard Electronic Transaction (SET) Working Group Procedures (Vote)</a:t>
            </a:r>
            <a:r>
              <a:rPr b="0" lang="en-US" sz="2800" spc="-1" strike="noStrike">
                <a:solidFill>
                  <a:srgbClr val="000000"/>
                </a:solidFill>
                <a:latin typeface="Gill Sans MT"/>
              </a:rPr>
              <a:t>  and</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Texas Standard Electronic Transaction (SET) Implementation Guides Change Control Process (Vote)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te:  TX SET Implementation Guides Change Control Process supports NPRR668 (Tabled at TAC): </a:t>
            </a:r>
            <a:r>
              <a:rPr b="0" lang="en-US" sz="2400" spc="-1" strike="noStrike">
                <a:solidFill>
                  <a:srgbClr val="c00000"/>
                </a:solidFill>
                <a:latin typeface="Gill Sans MT"/>
              </a:rPr>
              <a:t> </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ill Sans MT"/>
              </a:rPr>
              <a:t>Due to several redline changes that were made prior to RMS that requires TX SET’s discussion and consensus both of these votes were postponed until the April 7</a:t>
            </a:r>
            <a:r>
              <a:rPr b="0" lang="en-US" sz="2800" spc="-1" strike="noStrike" baseline="30000">
                <a:solidFill>
                  <a:srgbClr val="c00000"/>
                </a:solidFill>
                <a:latin typeface="Gill Sans MT"/>
              </a:rPr>
              <a:t>th</a:t>
            </a:r>
            <a:r>
              <a:rPr b="0" lang="en-US" sz="2800" spc="-1" strike="noStrike">
                <a:solidFill>
                  <a:srgbClr val="c00000"/>
                </a:solidFill>
                <a:latin typeface="Gill Sans MT"/>
              </a:rPr>
              <a:t> RMS meeting.</a:t>
            </a:r>
            <a:endParaRPr b="0" lang="en-US" sz="2800" spc="-1" strike="noStrike">
              <a:solidFill>
                <a:srgbClr val="000000"/>
              </a:solidFill>
              <a:latin typeface="Gill Sans MT"/>
            </a:endParaRPr>
          </a:p>
        </p:txBody>
      </p:sp>
      <p:sp>
        <p:nvSpPr>
          <p:cNvPr id="452"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5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54A2-8BA5-4EB0-A27A-6540E4516D2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art Meter Texas Portal Change Requests: </a:t>
            </a:r>
            <a:endParaRPr b="0" lang="en-US" sz="2800" spc="-1" strike="noStrike">
              <a:solidFill>
                <a:srgbClr val="572314"/>
              </a:solidFill>
              <a:latin typeface="Gill Sans MT"/>
            </a:endParaRPr>
          </a:p>
        </p:txBody>
      </p:sp>
      <p:sp>
        <p:nvSpPr>
          <p:cNvPr id="456" name=""/>
          <p:cNvSpPr txBox="1"/>
          <p:nvPr/>
        </p:nvSpPr>
        <p:spPr>
          <a:xfrm>
            <a:off x="1219320" y="685800"/>
            <a:ext cx="77724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S Voting Update: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MWG Change Requests </a:t>
            </a:r>
            <a:r>
              <a:rPr b="1" lang="en-US" sz="2800" spc="-1" strike="noStrike">
                <a:solidFill>
                  <a:srgbClr val="c00000"/>
                </a:solidFill>
                <a:latin typeface="Gill Sans MT"/>
              </a:rPr>
              <a:t>2015-030</a:t>
            </a:r>
            <a:r>
              <a:rPr b="1" lang="en-US" sz="2800" spc="-1" strike="noStrike">
                <a:solidFill>
                  <a:srgbClr val="000000"/>
                </a:solidFill>
                <a:latin typeface="Gill Sans MT"/>
              </a:rPr>
              <a:t> through </a:t>
            </a:r>
            <a:r>
              <a:rPr b="1" lang="en-US" sz="2800" spc="-1" strike="noStrike">
                <a:solidFill>
                  <a:srgbClr val="c00000"/>
                </a:solidFill>
                <a:latin typeface="Gill Sans MT"/>
              </a:rPr>
              <a:t>2015-039</a:t>
            </a:r>
            <a:r>
              <a:rPr b="1" lang="en-US" sz="2800" spc="-1" strike="noStrike">
                <a:solidFill>
                  <a:srgbClr val="000000"/>
                </a:solidFill>
                <a:latin typeface="Gill Sans MT"/>
              </a:rPr>
              <a:t> (Vote)</a:t>
            </a:r>
            <a:endParaRPr b="0" lang="en-US" sz="28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 Control 2015-030, 2015-031, 2015-032, 2015-033, 2015-034, 2015-036, 2015-037, 2015-038 and 2015-039</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pproved by RMS with (1) </a:t>
            </a:r>
            <a:r>
              <a:rPr b="1" lang="en-US" sz="2000" spc="-1" strike="noStrike">
                <a:solidFill>
                  <a:srgbClr val="000000"/>
                </a:solidFill>
                <a:latin typeface="Gill Sans MT"/>
              </a:rPr>
              <a:t>NO</a:t>
            </a:r>
            <a:r>
              <a:rPr b="0" lang="en-US" sz="2000" spc="-1" strike="noStrike">
                <a:solidFill>
                  <a:srgbClr val="000000"/>
                </a:solidFill>
                <a:latin typeface="Gill Sans MT"/>
              </a:rPr>
              <a:t> vote from Consumer Segment </a:t>
            </a:r>
            <a:endParaRPr b="0" lang="en-US" sz="20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 Control 2015-035 </a:t>
            </a:r>
            <a:endParaRPr b="0" lang="en-US" sz="24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a:t>
            </a:r>
            <a:r>
              <a:rPr b="1" lang="en-US" sz="2000" spc="-1" strike="noStrike">
                <a:solidFill>
                  <a:srgbClr val="000000"/>
                </a:solidFill>
                <a:latin typeface="Gill Sans MT"/>
              </a:rPr>
              <a:t>Tabling</a:t>
            </a:r>
            <a:r>
              <a:rPr b="0" lang="en-US" sz="2000" spc="-1" strike="noStrike">
                <a:solidFill>
                  <a:srgbClr val="000000"/>
                </a:solidFill>
                <a:latin typeface="Gill Sans MT"/>
              </a:rPr>
              <a:t>” CR 2015-035 for additional discussions at the March 25, 2015 Advanced Metering Working Group meeting.  </a:t>
            </a:r>
            <a:endParaRPr b="0" lang="en-US" sz="2000" spc="-1" strike="noStrike">
              <a:solidFill>
                <a:srgbClr val="000000"/>
              </a:solidFill>
              <a:latin typeface="Gill Sans MT"/>
            </a:endParaRPr>
          </a:p>
          <a:p>
            <a:pPr lvl="4" marL="1270800" indent="-178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Question:  Should this functionality be available to Customer’s through Smart Meter Texas or only available through their Competitive Retailer?  </a:t>
            </a:r>
            <a:endParaRPr b="0" lang="en-US" sz="1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7370-4740-4356-87A4-2FDCE8C6A9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Object 2" descr=""/>
          <p:cNvPicPr/>
          <p:nvPr/>
        </p:nvPicPr>
        <p:blipFill>
          <a:blip r:embed="rId1"/>
          <a:stretch/>
        </p:blipFill>
        <p:spPr>
          <a:xfrm>
            <a:off x="8153280" y="5486400"/>
            <a:ext cx="914400" cy="77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T Portal Change Requests Cost Estimates: </a:t>
            </a:r>
            <a:endParaRPr b="0" lang="en-US" sz="2800" spc="-1" strike="noStrike">
              <a:solidFill>
                <a:srgbClr val="572314"/>
              </a:solidFill>
              <a:latin typeface="Gill Sans MT"/>
            </a:endParaRPr>
          </a:p>
        </p:txBody>
      </p:sp>
      <p:sp>
        <p:nvSpPr>
          <p:cNvPr id="464" name=""/>
          <p:cNvSpPr txBox="1"/>
          <p:nvPr/>
        </p:nvSpPr>
        <p:spPr>
          <a:xfrm>
            <a:off x="1219320" y="68580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T Change Requests Implementation Cost Estimates (Vote) Upda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MWG Change Request </a:t>
            </a:r>
            <a:r>
              <a:rPr b="1" lang="en-US" sz="2000" spc="-1" strike="noStrike">
                <a:solidFill>
                  <a:srgbClr val="000000"/>
                </a:solidFill>
                <a:latin typeface="Gill Sans MT"/>
              </a:rPr>
              <a:t>2013-001</a:t>
            </a:r>
            <a:r>
              <a:rPr b="0" lang="en-US" sz="2000" spc="-1" strike="noStrike">
                <a:solidFill>
                  <a:srgbClr val="000000"/>
                </a:solidFill>
                <a:latin typeface="Gill Sans MT"/>
              </a:rPr>
              <a:t>,   AMWG Change Request </a:t>
            </a:r>
            <a:r>
              <a:rPr b="1" lang="en-US" sz="2000" spc="-1" strike="noStrike">
                <a:solidFill>
                  <a:srgbClr val="000000"/>
                </a:solidFill>
                <a:latin typeface="Gill Sans MT"/>
              </a:rPr>
              <a:t>2013-003</a:t>
            </a:r>
            <a:r>
              <a:rPr b="0" lang="en-US" sz="2000" spc="-1" strike="noStrike">
                <a:solidFill>
                  <a:srgbClr val="000000"/>
                </a:solidFill>
                <a:latin typeface="Gill Sans MT"/>
              </a:rPr>
              <a:t>,  AMWG Change Request </a:t>
            </a:r>
            <a:r>
              <a:rPr b="1" lang="en-US" sz="2000" spc="-1" strike="noStrike">
                <a:solidFill>
                  <a:srgbClr val="000000"/>
                </a:solidFill>
                <a:latin typeface="Gill Sans MT"/>
              </a:rPr>
              <a:t>2013-004</a:t>
            </a:r>
            <a:r>
              <a:rPr b="0" lang="en-US" sz="2000" spc="-1" strike="noStrike">
                <a:solidFill>
                  <a:srgbClr val="000000"/>
                </a:solidFill>
                <a:latin typeface="Gill Sans MT"/>
              </a:rPr>
              <a:t>,  AMWG Change Request </a:t>
            </a:r>
            <a:r>
              <a:rPr b="1" lang="en-US" sz="2000" spc="-1" strike="noStrike">
                <a:solidFill>
                  <a:srgbClr val="000000"/>
                </a:solidFill>
                <a:latin typeface="Gill Sans MT"/>
              </a:rPr>
              <a:t>2013-008</a:t>
            </a:r>
            <a:r>
              <a:rPr b="0" lang="en-US" sz="2000" spc="-1" strike="noStrike">
                <a:solidFill>
                  <a:srgbClr val="000000"/>
                </a:solidFill>
                <a:latin typeface="Gill Sans MT"/>
              </a:rPr>
              <a:t>,  AMWG Change Request </a:t>
            </a:r>
            <a:r>
              <a:rPr b="1" lang="en-US" sz="2000" spc="-1" strike="noStrike">
                <a:solidFill>
                  <a:srgbClr val="000000"/>
                </a:solidFill>
                <a:latin typeface="Gill Sans MT"/>
              </a:rPr>
              <a:t>2013-011</a:t>
            </a:r>
            <a:r>
              <a:rPr b="0" lang="en-US" sz="2000" spc="-1" strike="noStrike">
                <a:solidFill>
                  <a:srgbClr val="000000"/>
                </a:solidFill>
                <a:latin typeface="Gill Sans MT"/>
              </a:rPr>
              <a:t>,  AMWG Change Request </a:t>
            </a:r>
            <a:r>
              <a:rPr b="1" lang="en-US" sz="2000" spc="-1" strike="noStrike">
                <a:solidFill>
                  <a:srgbClr val="000000"/>
                </a:solidFill>
                <a:latin typeface="Gill Sans MT"/>
              </a:rPr>
              <a:t>2013-015</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ll were Unanimously Approved by RMS</a:t>
            </a:r>
            <a:endParaRPr b="0" lang="en-US" sz="20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te:   AMWG Change Request 2013-001, 2013-003, 2013-004, 2013-008, 2013-011, 2013-015.   These RMS Approved Cost estimates will be reviewed and recommended by AMWG for project priority and implementation schedule.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MWG Change Request </a:t>
            </a:r>
            <a:r>
              <a:rPr b="1" lang="en-US" sz="2000" spc="-1" strike="noStrike">
                <a:solidFill>
                  <a:srgbClr val="000000"/>
                </a:solidFill>
                <a:latin typeface="Gill Sans MT"/>
              </a:rPr>
              <a:t>2014-018</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otion to “</a:t>
            </a:r>
            <a:r>
              <a:rPr b="1" lang="en-US" sz="1800" spc="-1" strike="noStrike">
                <a:solidFill>
                  <a:srgbClr val="c00000"/>
                </a:solidFill>
                <a:latin typeface="Gill Sans MT"/>
              </a:rPr>
              <a:t>Table</a:t>
            </a:r>
            <a:r>
              <a:rPr b="1" lang="en-US" sz="1800" spc="-1" strike="noStrike">
                <a:solidFill>
                  <a:srgbClr val="000000"/>
                </a:solidFill>
                <a:latin typeface="Gill Sans MT"/>
              </a:rPr>
              <a:t>” Change Request 2014-018 was Approved pending AMWG’s additional discussion concerning research (number of customer’s impacted) and if cost benefit to implement is justified.   </a:t>
            </a:r>
            <a:endParaRPr b="0" lang="en-US" sz="18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6, 2015</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B417-3700-46C9-83BC-F98B1A7B54E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Object 2" descr=""/>
          <p:cNvPicPr/>
          <p:nvPr/>
        </p:nvPicPr>
        <p:blipFill>
          <a:blip r:embed="rId1"/>
          <a:stretch/>
        </p:blipFill>
        <p:spPr>
          <a:xfrm>
            <a:off x="7162920" y="5410080"/>
            <a:ext cx="91440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5-03-26T04:00:29Z</dcterms:modified>
  <cp:revision>795</cp:revision>
  <dc:subject/>
  <dc:title>Instructions</dc:title>
</cp:coreProperties>
</file>