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13E18-4B88-411F-8BF6-B1346BBC2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2BDCB-6B92-4D70-87D6-B296673DB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66F-8ACF-4FF7-BAF2-21DC548D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C26-1C91-49F3-B9DC-BF318997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69E0CE-F7DF-4CFB-8251-8061A639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E282BE-E6E7-44C4-B211-D6B273B7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B7CECC-3ABA-49D1-827D-C0A55BA4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37484A-C46B-492C-BFA8-9A1A171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0B9510-FB4B-4825-A0E0-0CCE364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32C757-8F01-47F6-BF50-FCCADB7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F8F084-27C2-4290-867A-618F78F1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2F79B7-E43A-4AE5-A5D2-00D52E16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73D3CB-99C4-4A75-ACC5-5BA8D49D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153AF-2965-4F2B-9A05-EE5FC17F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050-C510-472A-A07A-4963AC47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D8427-2AF4-46A8-BC54-1101602A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B17C88-78C6-4862-BE8D-C13A8661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B59F3-349D-439F-8021-13F002DB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5694FB-D3A5-41AC-8DE7-9CB2D357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8D8094-1908-4C17-8036-18B823EB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8AA4C-0E6C-4D13-A459-B6B832EA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081E5-9666-4F7D-90C1-0157A82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636614-89E7-4A7F-AC69-FBE781D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FAFA6-750A-48F6-ACD5-8E19878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C4ED5-6A13-44CA-BDA3-D99A3D9C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103-86CE-4E06-B3E7-BC98C663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9B182-FBB8-4C7E-BE14-DBA00254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2DD17-38C8-446B-B597-B5621BAF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BD889-427F-46C7-9623-D43E4A7C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3BBDB-8D90-4BDC-981A-6C08C5DA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A2630-A2AB-4306-A310-8E4B9AD7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767BF-259E-4CF9-A933-EF718E41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5A533-1982-4300-9228-D39EE8ED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FC919-3AB7-4150-AE52-2BB6FE83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C9ADC-D23F-4299-ABE5-33C3D38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679B9-EFEF-4B69-855A-66E68DB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9BAC-0726-4C5C-A3A6-4C3C6B2A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0A002-1CD1-4513-9201-F45BEF3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F9004-ACAB-4802-A5BD-8CFF3431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C5A22-725A-4D8A-B749-B27335E2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58266B-2734-4C8A-87F9-E013D65E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81921D-485E-4382-9BEE-B7B572FF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408BE3-254C-4BEE-8EC2-D123FE3D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39CB26-8843-4245-A1E8-CB7B74D2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A7973B-7051-4AEA-A41F-C484F539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B7C707-A0D4-405B-B706-5226381B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1DCA16-78D0-43D7-ADEE-89732A32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6417-0F93-40F9-9A24-C1F88E7A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B05E9A-4B6B-4C77-8AB7-A371D49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E98AEE-856D-4E08-B624-81FED6F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B9EC7A-9C26-4F92-AA08-DB2F37F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4169DA-92F2-4ADD-8B5F-EB39F242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D896EC-5E08-4EA2-A2D7-B743DB9A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E968-A679-49EB-9D56-AE2FEE32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1F1E-3551-493A-A5C8-10717B80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B844-530B-458D-A09F-9920A0D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A7EF-D4D5-4A06-8062-64BCB65F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21F-7D91-41B9-AC88-3AFE9F3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88577-DAFA-4D14-996C-7317BD88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36BA7-BB3B-4020-94E2-4FDD64C6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199DA-8BE1-453A-AE61-2E2B4B0D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D5F0A-EBDD-40B1-B816-8D76E8C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AFF28-39CB-409D-9836-4C4B0FD3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B30E8-CCA4-4211-B1BC-407BBBD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7231E-1839-4C94-A24C-27F9F0BD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7E7-6ADC-4812-8867-1F99C163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A827-24A3-4238-9BC3-07AE6C1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395E0-AC82-4206-91AB-C0CDF94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C5C7E-6932-4269-BB64-FB28C6B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A8EF1-8690-48FD-B957-FF1A2E63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8B7D8-3449-4F98-80DF-B03A2392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D4653-2E94-440B-BDE6-89102F36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EA3B23-6E8D-428E-95AB-CA0DFA2F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D4335B-F3C0-4252-8C9C-72F04A8B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0E8767-C86B-46BF-9056-764DDF98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A18787-394D-40B0-AD69-FBB5CC9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B88027-C370-4492-B226-5743AF9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E28-096E-4CC9-8D5F-2AC3FF3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8CAB5D-2B4A-4699-AC89-3E59252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6F8E53-83A8-4CCD-8769-04E18F5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9D8BD1-63DA-48B0-8018-F0E2CF9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067F32-B23F-4DDE-BF6B-F94621B0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0A6B6A-FE95-43CB-87B9-EFA7758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71EFA6-1B88-472E-9961-79B7FCCB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C191C4-F379-46D3-9783-222FF212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A0B0B2-01FE-4639-8F4A-E486AE59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DB9A92-DAA9-4848-8039-4291210E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15DCFF-8C66-4251-8C6A-95ABD4A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F6C7-9FC7-4919-A37D-4743A7B5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0DE627-E40D-4824-B927-C2777DE7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96B052-AA83-4194-AC60-2237524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0561C6-CACA-464D-8CA7-16C7A54B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4C3E93-1C96-4B5B-8137-814C80B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8FA564-4EDE-497A-946C-3F40451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C4F7CC-C318-44EC-8285-F6ECA6D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A59BF7-CAC9-4B44-B4F9-373B662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A475A8-E45C-436E-B531-A43C3B09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4A8E3D-BE65-453E-8721-78890FEC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766C85-7F4A-47DE-BFD8-812E6D4F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1F10-575F-4B00-81FD-2AE3A63C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E90822-6BA9-4372-A052-18D1A9D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03D2B7-DF78-4507-ACC0-E1F15A02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5AA77D-E1C3-42E6-B16D-B095B056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F8C18A-5CFF-4E62-BF72-815FA24F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54785F-2AC3-400B-80AD-0F9D6C0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1445B3-00B1-4C26-A28B-26B09D9D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9C9A54-C36A-4BC2-A523-CDB868C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790F88-5633-40E9-AA7B-C6EB5FE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C0CDFF-674C-4330-81C9-2398EE73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F90483-19B1-4509-880B-9AA27CA0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389B-A223-43CE-B69D-478583AC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F3D8F3-8662-413E-B0CC-F588F1D4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99B30-C087-43AE-9C70-28F5E5BB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7079A-6836-404D-8938-9CD37DC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345FB-E1B2-4E2E-B118-DAD1D98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8E802-9138-48C3-A120-18E60E99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CDA3E-CFB0-46A0-BFE3-77A94D9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3674F-59F1-4F25-B57C-89D9BD0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25E57-C930-4537-9D4A-103C417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E49E3-F15C-4410-85C2-535054B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D8854-1062-4E28-B05E-578957C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2567-8C16-4825-8BF4-2C52C028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5672C-3254-457D-AC1B-95D15989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D6DB3-7070-49DC-B62B-9BE7C5B0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17314-B918-403E-9B9E-70C4B99E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EC5A4D-D183-451B-81BB-35F5BA51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7970F9-D86C-4F50-B744-6612CFA7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DAAC57-F179-40B0-BB90-4D035FA5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F51056-8C7E-4BB0-8215-73E31D4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471060-1D4D-464D-9C1E-A85E6CB6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BC1770-4CFB-446D-B068-984CF234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423B10-8A1A-4082-B507-1A2555CA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9A61-FB0C-418F-99BD-F6B487FE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C8B814-9B4E-45BE-BF4D-E08B1DD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CD6314-5E91-4734-A5DA-E31D7FA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6408A3-32CB-49F2-A0E9-B34D0E98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4EEAD0-8129-46BC-8987-D1B015FD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085F53-0BF9-4061-B776-40877465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F64CA-A8BD-4045-9968-1714128C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7B5CC-6E4A-4474-99C7-F732606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F8142F-FF81-480D-B9FD-C4716EDA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337FA-799B-4E69-8BBF-4287A686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F715E-9C13-41F1-9F28-72CEE1A8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94E5-DC39-4E85-AB9A-2E48B2B0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40086-E862-47D3-9851-D5139E3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B8DDF-7AB1-460E-9A95-ABEBF9A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5309F3-914B-4C66-AD18-12B2641A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E75FD-FE46-46F4-98DA-64591D9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80A37-85A6-4AA6-BF15-C75BD3CE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1180F7-2828-4B21-9B40-BECD4BB1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91FA6-34E9-4DFB-8E9C-E6B821BF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0AE2-E210-4F3C-AAD5-82D98058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8EB6-1EF0-4F59-B1AE-32CBD02E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F4E-5549-4608-9740-F585207A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B7D6-3BB2-4FD9-A7E5-E7849838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8FE6-998E-49A3-BF11-B785C79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F52B-4E55-474A-9BB3-000853E1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B212-7F59-4E4B-81E8-C32C5AF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54FD-D239-4F24-B13B-CE43722B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4A1C-B32D-4B99-A742-39D2A77C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62E0-5C8C-4B27-A719-7A9FA249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EC6-91B0-462B-BAB4-F9E2DA67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527-91E6-4690-92C4-44DE6359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389-FBC0-453F-A2E8-A75BDD21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15E38-2A1D-4798-A285-C9CAC5AF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42E35-9803-47C1-A222-8356540A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AB2C2-A15F-4BAC-AB8A-2B6FB0DD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54815-E8C4-41FF-9827-8DB9D246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3D56D-83F7-4ECB-8BA7-97492553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F2DAF-CCCB-4726-AE1E-9FFAB876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36E2E-B227-481F-B7D2-30B9CF2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94E8E-7215-48F2-AAF2-BC0FFCF3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3AE99-AF81-4569-8C51-A683E0B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476-37BB-4CAC-8233-57D2ABA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4BCF1-C854-40FE-80ED-49FD9ED0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956D4-1DAC-478B-BAE8-AB3FB709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FA4F9-17A9-4856-9B02-DEFE1D5B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E75619-4FEA-437D-A638-1E58A3FD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C9C5C-F8F9-41A3-8D2D-3D1811D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DE681-5E20-44AA-8145-BBA4787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9BC1DF-192B-40CD-B3F2-240A0522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D6EA7-8330-4B23-864D-5ECA6403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7D3F4-9099-431F-AA99-29DFCBC9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7E5490-39BD-4081-860C-E652B9A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950-E58D-4E55-B6B5-C8D502E8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8A00F-6141-435F-AB3F-FB88A51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AB094-2933-4938-860F-9D11AF3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07D934-FDF9-4860-851A-BCE9D20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4B7FD-FB73-4A65-AEF3-27D1FF6E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33E12-26CE-489A-98AA-802FD57A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8302DB-59A1-4B32-80B4-EA11297A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B17D6-B294-45BA-AF32-6FB19BF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098016-9509-47EB-BF43-008B50B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6C89CB-1E14-4D32-9D84-19EDCC43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1AD8CF-230D-4CE2-8B81-6087D929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3E3-8A00-4BB8-8A2C-4DA860F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E79257-0C54-4006-8F1E-1068270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18197B-1FEE-4B58-8C7A-843F54D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A4C35B-FD40-455E-AEC0-E81E1CF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74799E-1B5D-418D-84DB-31407C4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53996-F143-40E2-856D-6D751E3B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BF83A8-EE11-413D-9560-624A7BE2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147E78-9E31-4F7B-9868-D03891C5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77294F-39A8-41EC-9EDB-5599DB0B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506881-F8D5-4429-B5A4-98FA3C51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7F2EE-4452-4AC3-BBD6-7E8BCB40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0A5A1-BB4E-461A-8CC8-5E6AFA9F84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C872E-649E-4554-9726-7FF7C6C1B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0F4EB-6C9F-4719-80BB-6A66844020C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39204-32B9-43C1-A040-05408965A10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36E91-FFBA-456E-BDEE-AF0BC89D26B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3CC88-8E08-45AE-A864-10AE1108EAF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F96CE-6160-4CF2-B6FA-301528709BF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78694-7351-41E4-9005-18B5B3448E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CF87A-0C0D-4806-8001-5902E6FD169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6F6D1-E612-49DA-88AB-E20BC50EFAD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01B56-C446-4D21-BF2C-784BA581096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0198A-3D9B-4FC9-8A99-1565BC9B07E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1FFA4-D410-4CEC-8C5B-8068A30996F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00E78-A6D1-430A-AC99-E6F11D4815A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7ED88-0DB7-40DA-A376-380FB082FDF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DC963-31C7-41DC-9CD8-A43842A9CA0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02658-E160-47CF-96C5-A5821963E8B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05921-0CBC-470F-88C8-B8BF9893BF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CAE6E-D3CC-4EA9-9B38-4F730F37D81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D4750-918D-45AE-AAD5-FB9C124471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1315A-C7A0-46E8-9014-ECC19210681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4524F-7D02-4B26-AFE3-1A9B5174CF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55652-ECAB-4285-8FC6-5E2C8EF59B9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FA4D3-B87B-4035-8303-BBB2D852C71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FC366-00DD-4FC3-99B0-4EC3E6FAFEF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D92B6-07EB-4CAC-B865-F95A0AE7B69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2D570-EA85-4987-8A09-6D6A65ACA0B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7E867-6B0A-4CC4-BEAA-83E15C169D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57615-FD0F-4757-9399-B1D87D4CD1D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CE223-81FA-40AD-9F17-16D39360A81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57CDC-8DBA-4779-B459-DCE40A350A3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E40D6-1BFE-4F81-9FFD-0A28E31BE6F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D26C5-232A-4072-8FA4-23D4607B5B5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DE40B-CE41-4F72-8FF2-B3F14D32CB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E67ED-890B-45B0-BADF-7F63E96C7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2786F-0EE1-4458-A817-629B6D37547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5996D-B811-413B-B943-E7ABC8F35DA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7FB1D-5F1B-4BEE-9BFD-2BD82A2D8F8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E36BA-281E-4DF2-BD1F-8EBDE7DFE3B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25346-39DB-41F8-88E0-DE8FBBC158A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90B87-D34F-4735-A16A-E0372BD6C1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02366-509A-476A-830F-025FBC1565B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FD2DB-5436-4EF7-8E3E-EB87EC1C95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el Firest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r 12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r 2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681 – Clarifications to Dynamic Rating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for approval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PRR685 – Change Criteria for Resource Opportunity Outag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ferred to OCITF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OGRR135 – Constraint Management During Energy Emergency Aler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OGRR138 – Delete Grey Box for Reporting of Back-up Control Plan Submittal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NOGRR139 – Under/Over-Frequency Relaying Requireme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35, 138 and 139 all approved by ROS as submitted by OW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PGRR041 – Revise and Add Requirements for NERC TPL-001-4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Approved by ROS as revised by 3/3/15 ERCOT com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Outage Coordination Improvement</a:t>
            </a:r>
            <a:br>
              <a:rPr sz="36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Task Force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CITF Charter discussed/approved by ROS at Mar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meeting.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lanning Guide section 6.9 upd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GRR040 at PLWG and tabl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pon conclusion of NPRR674, PLWG will adjust PGRR040 according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WG is awaiting ERCOT’s comments/input on the whitepap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RCOT wants to align this with activities ongoing at the PUC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filed PGRR042 Regional Transmission Plan Model Reserve Requirement and Load-Generation Imbalance Methodolog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LWG will review/discuss at March meeting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rvey with TDSPs was extended by VRTF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nticipate update at April ROS meeting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w Cen MT"/>
              </a:rPr>
              <a:t>2015 Ancillary Services Plan changes for BAL-003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arting mid 2015, PDCWG will commence analyzing system impacts of new RRS procurement strategy to ensure adequate system inerti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w Cen MT"/>
              </a:rPr>
              <a:t>EEA language in Protocols and Operating Guides 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voted Mar.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to refer this matter to PRS for creation of process rule related to ensuring consistent EEA language in the Protocols and Op Guides. 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Joel Firestone</cp:lastModifiedBy>
  <cp:lastPrinted>2013-01-30T23:16:36Z</cp:lastPrinted>
  <dcterms:modified xsi:type="dcterms:W3CDTF">2015-03-24T17:16:02Z</dcterms:modified>
  <cp:revision>810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