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012A29-E972-40EB-938E-EA689458C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632315-5102-4D0C-BD09-9626475C79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FA6E4E-F97C-4886-8DFC-15BF7F8C82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E2CFC4-9F5B-41CB-BA48-7A6E26845F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FC5A57-317E-491B-A839-FE681EB04E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B29D-45A3-49BC-A50B-F12ACC60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BABA-0F6D-4D9B-A028-AA38853D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11CD-ADE7-499F-A33A-F617BFE9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99DF-6424-4301-B115-C056A4F96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1C63-C352-4993-867A-1453D178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8C78-D763-46A8-8FE2-F0E5BC2F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3245-1938-4E72-BAC8-44130B8F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48E0-EE98-4A71-BBD1-484ED484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22AB-2A2E-4B1B-8300-45E69FF7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D47F-D1E6-4F7E-BF70-38B20CD3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8389-8CCC-4573-B174-8BFC5D21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8D57-B182-46EA-B782-24AE780F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0E4A8A-D8DC-4132-BDF6-1EB0C5194D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ftr" idx="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737C41-3851-45FB-81AA-66DDD58AB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ftr" idx="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2" name="Straight Connector 6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1BD3C5-3493-459A-82FE-AC698473C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ftr" idx="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3"/>
          <p:cNvGrpSpPr/>
          <p:nvPr/>
        </p:nvGrpSpPr>
        <p:grpSpPr>
          <a:xfrm>
            <a:off x="787320" y="2804760"/>
            <a:ext cx="7543800" cy="2840760"/>
            <a:chOff x="787320" y="2804760"/>
            <a:chExt cx="7543800" cy="2840760"/>
          </a:xfrm>
        </p:grpSpPr>
        <p:sp>
          <p:nvSpPr>
            <p:cNvPr id="171" name="TextBox 9"/>
            <p:cNvSpPr/>
            <p:nvPr/>
          </p:nvSpPr>
          <p:spPr>
            <a:xfrm>
              <a:off x="787320" y="3082680"/>
              <a:ext cx="75438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tem 3: PR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ohn Varne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5 PR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chnical Advisory Committee (TAC) Mee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rch 26, 20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403200" y="738360"/>
            <a:ext cx="8493120" cy="55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sion Requests Recommended for Approval by PRS – Unopposed (Vot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670, Clarification of Portfolio Weighted Auction Clearing Price (PWACP)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671, Incorporation of DAM Credit Parameters into Protocol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672, Clarification of EMR Statu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673, Correction to Estimated Aggregate Liability (EAL) for a QSE that Represents Neither Load nor Generation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678, Posting of Wind Peak Average Capacity Percentage Data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* denotes no impa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of PRS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403200" y="714240"/>
            <a:ext cx="84931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ual Review of Other Binding Documents (OBDs) (Vo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suant to paragraph (3) of Section 1.1, Summary of the ERCOT Protocols Document, PRS reviewed and unanimously approved the current list of OB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5 PRS Goals (Vo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NPRRs and SCRs (Section 21 requirem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and make recommendations for Project Priorities for NPRRs and SCRs by reviewing Business Cases and ensuring they provide adequate justifica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requests and assignments from the ERCOT Board and TAC in a timely and diligent man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Other Binding Documents (OBDs) annually for elimination or incorporation into Protocols/Market Gu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PRS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"/>
          <p:cNvSpPr/>
          <p:nvPr/>
        </p:nvSpPr>
        <p:spPr>
          <a:xfrm>
            <a:off x="403200" y="655560"/>
            <a:ext cx="84931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d Delivery Options for NPRR626 Bu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44520" y="712800"/>
            <a:ext cx="84931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3/4/15, ERCOT recommended to WMS the removal of ORDC Phase 2 (NPR568 Phase 2 and NPRR644) from the June 2015 delivery.  WMS concurred with ERCOT’s recommend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3/12/15, PRS unanimously approved the shifting of those ORDC Phase 2 NPRRs to the September 2015 deliv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264960" y="2741760"/>
            <a:ext cx="8614080" cy="34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C Phillips</cp:lastModifiedBy>
  <cp:lastPrinted>2013-01-30T23:16:36Z</cp:lastPrinted>
  <dcterms:modified xsi:type="dcterms:W3CDTF">2015-03-16T19:31:34Z</dcterms:modified>
  <cp:revision>256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EB6C32BA7893B4D8D08DA703C6B8599</vt:lpwstr>
  </property>
  <property fmtid="{D5CDD505-2E9C-101B-9397-08002B2CF9AE}" pid="3" name="Information Classification">
    <vt:lpwstr/>
  </property>
</Properties>
</file>