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16715-AF43-44E5-8309-4233F4B4E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9A139-4D6C-4862-988C-9BA869595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AC495-1DD8-45F0-8DA9-439CFDB6D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EC22F-414B-4EB3-AFBB-4B7978739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E72CE-C69E-46F6-81EF-D6FE9C732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04B-C9F9-47CD-ADFE-ADB9EEE6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A5B-F635-487E-9CAC-D5F17233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89F-C141-4C8B-B152-2E5E23D3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CAC-E9CA-405A-B071-61775A7B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738-866F-4B66-AC5C-DEB7E7A3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C21-6678-4C10-9CE2-D18C874F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60D-41EC-4FE1-8150-8DB1F365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680-A449-4543-9378-EAB8F564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F35-68AF-46C4-9DF6-2EAC4EE4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39E-BF4B-4F15-9F9B-3C5447F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ECE-B5BE-4339-8D1F-FD50BDF5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8BA-72A2-46A6-B4EF-A3B32EF2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CB6BF-2718-4C0B-B21A-32088FA8E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FD311-290D-4DEF-9F6B-B0416AD1A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D6068-3BCE-43F5-956D-8AC3186D5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3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ch 26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73836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0, Clarification of Portfolio Weighted Auction Clearing Price (PWACP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1, Incorporation of DAM Credit Parameters into Protocol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2, Clarification of EMR Statu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3, Correction to Estimated Aggregate Liability (EAL) for a QSE that Represents Neither Load nor Generatio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8, Posting of Wind Peak Average Capacity Percentage Dat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Review of Other Binding Documents (OBDs) (Vo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suant to paragraph (3) of Section 1.1, Summary of the ERCOT Protocols Document, PRS reviewed and unanimously approved the current list of OB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5 PRS Goals (Vo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NPRRs and SCRs (Section 21 requirem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and make recommendations for Project Priorities for NPRRs and SCRs by reviewing Business Cases and ensuring they provide adequate justific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requests and assignments from the ERCOT Board and TAC in a timely and diligent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ther Binding Documents (OBDs) annually for elimination or incorporation into Protocols/Market Gu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PRS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403200" y="65556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d Delivery Options for NPRR626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44520" y="71280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3/4/15, ERCOT recommended to WMS the removal of ORDC Phase 2 (NPR568 Phase 2 and NPRR644) from the June 2015 delivery.  WMS concurred with ERCOT’s recommen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3/12/15, PRS unanimously approved the shifting of those ORDC Phase 2 NPRRs to the September 2015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264960" y="2741760"/>
            <a:ext cx="861408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5-03-16T19:31:34Z</dcterms:modified>
  <cp:revision>25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