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C7E6-8291-49CD-9603-E2B9A3896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FEA4-3191-423A-97B0-0CC39AB28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DDFF-5BC8-4A6F-8E95-7733ED229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E8F9-BEC1-40E6-BEAE-5BE0490F1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683A-305F-48B1-8DA5-116915127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99AF-ED72-4D13-94E4-1EA2E8F2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CB035-8FF4-4B5D-8248-F7E778225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A9A1-71A8-497A-9179-ECCBADFDF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C33D-98C3-4C2E-B068-821F439F2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E292-74EC-4F9E-8F07-26EA04EEF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FCC5-994D-464A-B974-AD77A7AEB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62B5-54A8-4CCA-A00E-55D1D4B5A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FC35-9FCA-40F3-82FA-68F0A2E0D42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/5/2015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5DDC-428A-4CC8-9CC3-686C05890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67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Arial"/>
              </a:rPr>
              <a:t>PGDTF Update to R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276360"/>
            <a:ext cx="64008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Arial"/>
              </a:rPr>
              <a:t>March 5, 201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Michael Juricek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PGDTF Chairm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Footer Placeholder 4"/>
          <p:cNvSpPr/>
          <p:nvPr/>
        </p:nvSpPr>
        <p:spPr>
          <a:xfrm>
            <a:off x="5562720" y="632448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/5/2015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F1E23-2F91-4E7E-8BD4-CC03ADD81C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GDTF Meeting on February 11, 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viewed Draft Geomagnetic Disturbance (GMD) Planning Standar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viewed Data Required for GMD Stu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cussed Nex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oter Placeholder 1"/>
          <p:cNvSpPr/>
          <p:nvPr/>
        </p:nvSpPr>
        <p:spPr>
          <a:xfrm>
            <a:off x="5562720" y="632448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/5/2015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4F9C-86EB-4982-A83E-4E03BA5150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Footer Placeholder 1"/>
          <p:cNvSpPr/>
          <p:nvPr/>
        </p:nvSpPr>
        <p:spPr>
          <a:xfrm>
            <a:off x="5562720" y="632448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/5/2015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290D9-E268-4E18-AA49-4A01E25BCD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Diagram 3" descr=""/>
          <p:cNvPicPr/>
          <p:nvPr/>
        </p:nvPicPr>
        <p:blipFill>
          <a:blip r:embed="rId1"/>
          <a:stretch/>
        </p:blipFill>
        <p:spPr>
          <a:xfrm>
            <a:off x="450720" y="1517760"/>
            <a:ext cx="807732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GDTF Meeting on March 11, 201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raft 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quired R 1 Responsib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dure Manu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re Participants Nee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1"/>
          <p:cNvSpPr/>
          <p:nvPr/>
        </p:nvSpPr>
        <p:spPr>
          <a:xfrm>
            <a:off x="5562720" y="632448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/5/2015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D0A14-03AA-480F-B5A1-C24E68AF57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Arial"/>
              </a:rPr>
              <a:t>Questions and Answe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Footer Placeholder 3"/>
          <p:cNvSpPr/>
          <p:nvPr/>
        </p:nvSpPr>
        <p:spPr>
          <a:xfrm>
            <a:off x="5638680" y="6324480"/>
            <a:ext cx="28958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3/5/2015 ROS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0ABCB-EC4C-42D4-A1FE-FF08E1F7B8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1066680" y="1641600"/>
            <a:ext cx="6629400" cy="451008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14:40:13Z</dcterms:created>
  <dc:creator>Williams, Adrian</dc:creator>
  <dc:description/>
  <dc:language>en-US</dc:language>
  <cp:lastModifiedBy>Williams, Adrian</cp:lastModifiedBy>
  <dcterms:modified xsi:type="dcterms:W3CDTF">2015-02-26T16:37:01Z</dcterms:modified>
  <cp:revision>9</cp:revision>
  <dc:subject/>
  <dc:title>PGDTF Update to ROS</dc:title>
</cp:coreProperties>
</file>