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D86-4181-483D-8317-7C0C75A5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805-4E2E-43B2-8903-3784FDA5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602-0B49-449A-AA1F-27982C9F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EBD-2939-4E40-BA7E-F83A59F8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139-09AE-4139-B37F-C507006C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DE4-EA53-4576-9314-50CAD1A3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B03-7847-4F65-99C6-EAADE46A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8D7-C202-4007-902A-6FC04184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7C1-3D71-4179-9570-40DC33E3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8FA-A2B0-47BF-8C36-AC334BC8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A1D-8078-4210-8752-21C0C86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46C-B477-41B9-A1ED-0554BCF0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886E-0A1E-4027-8FF4-1DD176FFF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A52F-CE66-4D6E-B145-6EB13A0B6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rch 4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ul V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2961-B093-4285-BDD2-D67F67A30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CMRR006 Fuel Adder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ackgrou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can elect to submit an “actual” fuel adder instead of the default $0.50/MMB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ly, Resource must submit documentation seasonally (4x/yr) to ERCOT for ver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posed VCMRR00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timeline for data submission and approval from seasonally (4 x/yr) to 2x/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E3C5-1728-4F63-8902-2AA24D420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to NPRR66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verview of NPRR6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can designate a Fuel Index Price (FIPR) of HSC, Waha or weighted a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Real-Time Make-Whole Payment provision for exceptional fuel cost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al event:  Actual price paid for delivered fuel must be greater than the fuel price plus the fuel adder plus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eshold fuel price of $2/MMB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lift allocated by L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RR664 Appro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horized manual workaround to implement Make-Whole Payment for this winter, to be discontinued on May 1,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sit the rank and priority before project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95AF-17DB-4835-B844-DECAE6A5C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to NPRR66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ssible Alternative to NPRR6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can set an Exceptional Fuel Event “Flag” submitted with its Energy Offer Curve (EO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ctual price paid for delivered fuel is greater than the fuel price plus the fuel adder plus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eshold fuel price of $2/MMBtu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.e. exceptional ev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Exceptional Fuel Event flag is se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’s EOC wil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 mitig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must contemporaneously submit a template to ERCOT summarizing the exceptional fuel cost information (price, quantity, duration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must be able to verify its EOC to ERCOT and/or IMM with contracts, invoic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C3A3-6A6C-419C-B45F-7953E9513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to NPRR66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al fuel costs reflected in LMP’s instead of recovery via make-whole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s need for make-whole payment and possibly FI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ation cost expected to be lower than NPRR6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WG to develop draft NPR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88B2-F27C-4BA8-A8BB-FAE12C746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arification of minimum fuel requirement costs in the fuel ad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PRR/VCMRR to remove specific vendor names from protoc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R End of Life Cycle Verifiable Co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hodology for verifying exceptional fuel costs for co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E593-475D-4B47-8F9F-A79A06AB5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ptvinson</cp:lastModifiedBy>
  <dcterms:modified xsi:type="dcterms:W3CDTF">2015-03-02T20:00:16Z</dcterms:modified>
  <cp:revision>294</cp:revision>
  <dc:subject/>
  <dc:title>QMWG Update to WMS</dc:title>
</cp:coreProperties>
</file>