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D1A4C3-5D5B-49DA-89DD-D1F1B24CE7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14890F-61EA-412F-BD77-8581A34688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02EBB7-2133-4DD0-BE7D-1078EE4841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3455-56DC-46D5-A793-93D49F10F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AC2C-FF97-45AE-9DE5-A734E11F9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B40A-B6A7-499D-8A95-6A17B4C84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BC16-69A2-4F1B-A01F-4A06CAA7C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9F9A-C6E5-412D-B948-227C4D5B0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50D5-C2FA-44F7-9001-EA16694AC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2D9B-973E-4E20-9776-A20AEF788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2533-889E-49A3-9717-F0DFE8DB1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CF9F-ED66-4C95-96AE-C105BB1F9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AA57-7FB6-4AE5-8842-25610FA1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1B3C-A2F3-4610-AE54-9F7BD849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2CAF-0358-40BB-914E-91D8BAE7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C7AD44-69D0-4C7D-ADB5-3485A9946A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ftr" idx="4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82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5F5BFB-5932-437B-965B-769C87025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ftr" idx="5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122" name="Straight Connector 6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069AAC-09E7-484D-B292-4F8468B6F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ftr" idx="6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13"/>
          <p:cNvGrpSpPr/>
          <p:nvPr/>
        </p:nvGrpSpPr>
        <p:grpSpPr>
          <a:xfrm>
            <a:off x="787320" y="2804760"/>
            <a:ext cx="7543800" cy="2840760"/>
            <a:chOff x="787320" y="2804760"/>
            <a:chExt cx="7543800" cy="2840760"/>
          </a:xfrm>
        </p:grpSpPr>
        <p:sp>
          <p:nvSpPr>
            <p:cNvPr id="171" name="TextBox 9"/>
            <p:cNvSpPr/>
            <p:nvPr/>
          </p:nvSpPr>
          <p:spPr>
            <a:xfrm>
              <a:off x="787320" y="3082680"/>
              <a:ext cx="754380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Item 6: PRS Report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John Varnel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015 PRS Ch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chnical Advisory Committee (TAC) Mee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RCOT Publ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ebruary 26, 20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Straight Connector 12"/>
            <p:cNvSpPr/>
            <p:nvPr/>
          </p:nvSpPr>
          <p:spPr>
            <a:xfrm flipV="1">
              <a:off x="787320" y="2804760"/>
              <a:ext cx="6286680" cy="12600"/>
            </a:xfrm>
            <a:prstGeom prst="line">
              <a:avLst/>
            </a:prstGeom>
            <a:ln w="2556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403200" y="655560"/>
            <a:ext cx="849312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sion Requests Recommended for Approval by PRS – Unopposed (Vote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PRR654, Discontinue Ancillary Service Requirement Methodology Assessment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PRR655, Discontinue Contingency List Changes Due to Weather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PRR657, Discontinue Backup Control Plan Submittal Results, Dispatch Instructions Compliance Metrics, and Backup Control Plan Test Dates and Results Summary Re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PRR661, Discontinue Posting Profile Data Evaluation Report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PRR668, Updates to Texas SET Implementation Guide Process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PRR676, Emergency Response Service (ERS) Offer Disclo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PRR677, Remove Outdated NERC Reference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* denotes no impa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79080" y="179280"/>
            <a:ext cx="8458200" cy="4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ary of PRS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23:12:02Z</dcterms:created>
  <dc:creator>Diana</dc:creator>
  <dc:description/>
  <dc:language>en-US</dc:language>
  <cp:lastModifiedBy>C Phillips</cp:lastModifiedBy>
  <cp:lastPrinted>2013-01-30T23:16:36Z</cp:lastPrinted>
  <dcterms:modified xsi:type="dcterms:W3CDTF">2015-02-19T13:50:08Z</dcterms:modified>
  <cp:revision>249</cp:revision>
  <dc:subject/>
  <dc:title>FileNew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EB6C32BA7893B4D8D08DA703C6B8599</vt:lpwstr>
  </property>
  <property fmtid="{D5CDD505-2E9C-101B-9397-08002B2CF9AE}" pid="3" name="Information Classification">
    <vt:lpwstr/>
  </property>
</Properties>
</file>