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5A4D-8970-435F-9B79-8E41BDFD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515B-E283-4A03-98A0-1DF9A54E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A69-31E6-464E-89B7-9FF6FC21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D1E3-54D4-4CF8-BCCD-EB3BD628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B99A-543A-4A28-AA35-ECCF43B8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809-E972-4889-A650-FFBAA4F2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8A99-17E9-45EF-91A2-8AE287A7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A9AF-74D9-455D-BB2F-B9D42966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D27-0883-4FBF-AC57-BE64AB45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A28-18EC-4C4D-9A75-DC55A66B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AE37-3B03-4D36-903A-A68F3B21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C866-3792-44FC-828C-34F3C479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C1D7-610D-450A-97C6-4802854A56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9D0C-AFED-4562-85BC-252DD4C34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CWG Update to W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ebruary 4,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ul Vi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3B20-2B09-4DA2-BED9-337E64B7C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ft VCMRR Fuel Adder Timeline (Vo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761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Calibri"/>
              </a:rPr>
              <a:t>Background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Resource can elect to submit an “actual” fuel adder instead of the default $0.50/MMBtu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Resource must submit documentation seasonally (4x/yr) to ERCOT for verification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Calibri"/>
              </a:rPr>
              <a:t>Proposed VCMRR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Reduce timeline for data submission and approval from seasonally (4 x/yr) to 2x/year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EA55-9C7C-4DFB-8268-238ABE212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6761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PRR/VCMRR to remove specific vendor names from protoc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arification of emissions pr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arification of minimum fuel requirement costs in the fuel ad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pot Fuel Price for RT Mitig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thodology for verifying exceptional fuel costs for co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D882-E2B6-40D6-8E98-CCA6F0A34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1:58:48Z</dcterms:created>
  <dc:creator>Luminant</dc:creator>
  <dc:description/>
  <dc:language>en-US</dc:language>
  <cp:lastModifiedBy>ptvinson</cp:lastModifiedBy>
  <dcterms:modified xsi:type="dcterms:W3CDTF">2015-01-30T17:38:56Z</dcterms:modified>
  <cp:revision>266</cp:revision>
  <dc:subject/>
  <dc:title>QMWG Update to WMS</dc:title>
</cp:coreProperties>
</file>