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3482-F96B-4144-95E5-6DB556E9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27F5-E0AD-4751-B098-9F063683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001E-A5B0-431E-8283-2B215CA9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405F-6CF6-4F4E-B6AB-0EE79DEA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6344-F206-462B-A2E0-3C3B72BB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E92E-6D24-446F-B585-C1C28398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EE3A-BEA1-44AC-8B4F-F2E42BFA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2850-0E79-4070-AB05-47597988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9FCC-B2FE-451D-8E2D-BFC9656F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B629-3F96-433D-B6B9-193BA969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57F1-DF9F-4B55-AA26-F6889EB0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EEC4-243F-4A7B-B7CD-5723D1BC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8C7A-D925-4DDD-A494-06649C0C4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37DB-2577-40E9-8C1D-A465EAD9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4,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280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gestion Management Working Group (CM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: Mark Soutter, Invenergy / Vice Chair: Kris Dixit, EDF Tr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 Side Working Group (DS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: Tim Carter, MP2 Energy / Vice Chair: Suzanne Bertin, EnerN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Technologies Working Group (ET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: Chad Blevins, The Butler Firm / Vice Chair: Hugo Mena, EPE Consu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Credit Working Group (MC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: Bill Barnes, Reliant Energy Retail Services / Vice Chair: Josephine Wan, Austi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ering Working Group (M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: Darrell Sumbera, CenterPoint Energy/ Vice Chair:  Harvey Scheffler, CP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fied Scheduling Entity Managers Working Group (QM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: Eric Goff, Citigroup Energy / Vice Chair: Billy McCranor, Tenaska Pow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ource Cost Working Group (RC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: Paul Vinson, CPS Energy  /  Vice Chair: Bob Helton, GDF Su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y Analysis Working Group (SA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: Brandon Whittle, Stratus Energy / Vice Chair: Pete Warnken,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15 WMS Working Group/Task Force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Albracht, Brittney</cp:lastModifiedBy>
  <dcterms:modified xsi:type="dcterms:W3CDTF">2015-02-03T19:49:28Z</dcterms:modified>
  <cp:revision>92</cp:revision>
  <dc:subject/>
  <dc:title>Instructions</dc:title>
</cp:coreProperties>
</file>