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288F4-1052-483D-BF37-7A5278C00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6ED1D-BF53-4A76-A499-B2A8086D0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7B0-95AA-4E25-88AC-D1604AFD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32E-3ECA-46A0-8FD5-BD0F6C68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CD2AB6-2E85-40D3-9A01-9E15EAC2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4C56ED-45DD-4454-8681-B29E7C87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45DBC2-DD86-483F-B121-9E1822A1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6B0A79-03EF-4D47-BA90-BC48B5A1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597ADF-B50C-4F9D-912B-99AA6175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13C602-CA12-4351-83F2-4381551B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E0ABCF-B1E0-4A9E-B044-47F8CAD1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B23A07-0A7C-48EB-B12A-8C1F2468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71902B-B2B1-4F88-AE12-D15DF300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97538A-BED5-421C-9716-D554A353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D3D-69BA-4520-A8A8-B2AA8B81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6B84AF-012D-47C9-987C-C6470086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107D41-066B-4DA5-B82D-BC8477F2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41F9A4-BB79-4A1A-AAFF-845530AF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A8FB56-AD7B-497E-BCE2-E302BED2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8577A-9E47-4044-A9D9-827553ED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B3566-9B8D-4BEA-85E8-0BEB6C5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13264-F77A-4F9D-A30B-C3D6841F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4BE2CC-E577-4CA2-AC08-5CD5B7A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4938E3-5AD2-4AC0-BCBE-EA6B5703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8A123-5530-4504-87A4-3CFE1C2B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476-412B-411B-ABBD-BA04E422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42C7C8-C050-4B2B-BDDB-0476E6F7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CEF8E-8EB1-47CD-B98A-5DB23F35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E9965-9255-4E48-8AEA-AF763279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50BCC-7362-47A5-AF02-6BB573AB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30492-25B1-4D84-82F8-1A534F26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C6F9B-887F-45CF-A1A4-46812FD3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33CB1-75E0-4213-B7F5-7B593D63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551E5-1C35-4ACA-8F24-55B7A8C0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03147-8DA1-40D5-A24B-4AE3190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86E7F-08AD-4491-8842-E2A98AD9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5D82-1145-4F60-8675-0CC03778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79271-1939-43A7-86CC-0352F577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97C54-5E37-485B-A8B3-F8C88697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C14B1-C1C4-425D-8603-C9FAFE74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413700-F732-49F7-8CEB-A0EE0C88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E3AD42-33E6-4F88-B8AB-5625F0A4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D8BA95-C4A2-4760-A728-71A143D7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1FEF3F-82B9-4EE4-9EB9-446EE423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FB36F6-D77A-4C22-B5E9-054590CB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B670F8-316F-4336-8CCD-4B8C3BD4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0B358F-639F-4CCC-9113-B5472882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591C-DFC6-404D-AD87-DAF697AE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993FED-EB4A-4425-9AF4-8F6307E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701D3C-AF71-45D6-84C0-596E311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9D1D88-F914-495F-B718-10FA8462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04B6AD-0937-40A8-B4D0-1160DBF4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A5E15D-B3F1-4F4B-B9C0-09EE9777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E616-F7EC-4283-AE96-EC12927C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2E81-8586-4A8B-A1A7-1B9E9CC6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3942-5D0E-4B4F-AA43-E40A3E44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46FF-CD7B-4C2D-B52D-AE543E2D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029D-280D-46D2-A168-8A7CB9A4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91490-6CF0-4D58-B135-13D01E3E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4E8BE-9CA1-48BC-A643-B6358C23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42B91-6239-4F18-8EEC-7F25AFC4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14F6B-B7C3-410D-BDB6-C4412DC7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CD313-367B-4706-9D3C-2F2CEE63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DEC3E-04B4-49A5-B330-B3B42316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E944E-0AA3-4F1C-A3B1-8C56041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0A1-6425-4D25-B4AC-21C77542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EE41-47DD-4A11-AB37-A059A92F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AB7FC-4436-4E5D-AB7A-B666A637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64117-495B-4FA9-913D-E08505D2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0AAE5-923D-45E8-8849-CD1F3007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3182B-EB21-4180-992C-0215A327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894AC-ECB2-415E-BEB6-089F490E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CED371-7849-4A7A-AF42-8710696B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6AFE74-1809-4199-BB3D-D9A4526B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B100EC-F846-4148-AC3A-607FF305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ADE0D5-90AA-47E0-B973-3D980547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F3F52E-006C-4AE7-BA5A-D1D02A2B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2871-D94A-4F5D-ABC9-F26F57D3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D99185-1C5A-4D80-ADF6-CE074CA4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DBA554-6932-4C8E-9301-625DCC1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2763C4-FD74-4462-BC83-E28F8ADF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C74688-3F8D-4FAC-B2C1-63A9EBE3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108C0F-53B4-4BB4-83AB-F5B3E45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A2A312-A9FE-401C-B163-14E3AA36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0858AC-34BC-45CA-A77C-2BD27BF4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1F722B-A68E-4FB3-B89B-FB75F5DD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E1C8BD-FD3F-40A2-949F-A4EE9286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CC414C-0B44-43BA-B0F5-0A5FDB5F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9EF5-616C-4027-A365-B2C66C9E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19E8D8-7717-4188-BB9D-AE6DAF3E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997492-9AD6-4A5B-A24F-945412D9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073218-51E6-4B2C-BF9B-8ACF8A2D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92FF46-B036-4AC7-AFEB-CFB98E96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B0CEAB-CEB9-4517-8F0C-0D28907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C6482D-BE5D-4036-82BF-EDF8149D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237FF9-8410-4BED-ADF7-F86BCE0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6735CE-6712-4EE3-B092-0119EAE5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082175-CA5D-49EB-AF83-853FAA3E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DBB90E-2020-4B41-8472-EB5A2651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7908-CE6E-4B7D-A332-D14CEFCA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89A22A-C7C8-4521-B4D4-54E97E42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60FFD5-1142-4D2B-951B-C265D377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05DBDB-2A6F-4780-82B7-7C2576C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F7B16B-A5EA-41E2-8EF7-740CC336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A258DB-F71D-4180-BB62-6174945B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DED465-FF2F-4E7C-819A-9E54864B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F3D08B-298D-45F5-8208-3BEFE527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A4E707-0E4D-4B09-A677-2D6333E8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BE9DB9-0C69-4B70-BC01-6D0FC4E0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995381-4404-433A-ACFA-0CE5250C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30E5-A5EC-4F8B-823D-1F19ED2F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8E6CA5-435D-42DC-9510-10CEEEBF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30E154-2B33-4262-892F-093908C5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13CB2-DEAD-434E-A12A-C448763F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8CEB7-3034-4B6E-8590-BC9F95B7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B305E-EABE-4295-A7BC-9FBBF4E8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081897-0401-4362-BC1F-EF9F390C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2992A-AD61-4CC9-8D2E-1020851A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D6C21-5286-41D9-9B36-26E7E59D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123B6-BF67-4440-AB90-E46006CA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10D0E-6A8D-4311-BBBA-2D4DEA6F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A810-B215-46B7-A775-5445EA7C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A8E37-7ED3-494B-BD97-74C658E5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CFD4B-8CC7-4EDD-A969-B873ABD8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D8C3B-3ACB-4AEA-B3EF-3CA87359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B39EC2-3F6D-47E6-94A4-4086F438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4A1B89-D078-452A-ACE9-A7899919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30599B9-3465-4CA5-AE8A-6A595801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2AD63D-A6E5-4ABC-85B4-4AE61617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1DB1110-1C4F-4971-B4A0-87FD07A9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B78953-73C9-4787-A52A-E6E145D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690FBE-0AEA-4273-AD25-4F6E922C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26209-383A-4611-910B-24A39BD6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3F350D-35B9-4FCF-96FD-CAEC0D38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E6D668-FAA8-4A5E-9848-79CCF038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9734CE-1D70-4D29-8A1D-520EC8BB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ECB265-5F7F-4C04-86E2-DE563146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C706FD-5684-4F9F-B8A8-C1E91FAF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C5CE1-066D-4871-9E66-DAA84C15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64504-9A55-4690-B1F0-58CB0A30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219698-6FD1-43BE-B4AA-416D603A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45C615-B50E-43EC-87A6-C78507AF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B36322-CF91-4CFC-A697-7D90F03C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A539-E110-46BA-A452-EE5A6F99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55A792-52B0-4372-B62B-15EB85F9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937B62-EAFD-41BF-95C8-E34AFA17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1061E6-242A-4916-B4B8-29A7637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B637B-EE91-4866-A3B6-E904F504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59AB2-8C8D-4A51-A6E6-147E3574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70214-EDD6-4867-A070-AA351E22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EEB7A-FA20-478B-BBE7-39C04BA1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8372-D33E-437C-BDB7-8890EDA1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5CD97-2134-4504-9D49-A51F3B4A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FDB-334B-4C1E-A112-F3E3A3C4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8477-D81C-46A8-8B29-1AD8A7F2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6798A-DB7D-4235-86BF-6FE278B9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7A6C-0642-4A7E-A589-606E420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C475-C2DA-41AB-8159-671615C9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9ED8-DF22-4B6D-9575-5F028788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65DC-B7BE-42CC-B361-76DA37C0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C74E-A7AE-45CD-A11F-2CF358AF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857-E720-4B1B-922C-0E093CEA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A69-EFD7-4A67-9381-1C445842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378-03C6-4B2F-8DB5-30F8ED70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C5435-6956-488C-BF9A-1CD0CFC3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A9EE1-F0E9-4C93-8720-8B2CF02A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B80F1-76AF-4BCA-817D-8E578F8A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4FB18-D00E-4DF0-94B0-D0813104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83D33-E363-4CAE-988E-1511A6D4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683F9-DA18-4481-865C-907BD2A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3A70B-9158-47C3-8FDE-C46303E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E44ED-7AAB-4154-A5B1-5849FFE7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54ADD-72E0-4181-B7D3-F5C7CD1D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DC2-E747-4330-8CCA-70363B84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82C43-361B-4776-9AAD-62AF0715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3AFE7-5A2C-499A-8990-2CF8E229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C80FF-4298-48A6-8DE1-1B5C6FBE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15C8D2-5A8A-4536-9DEB-9214F9C7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DB1B88-5CF8-4B77-AF7E-CD2E6B4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356041-80FC-4FE8-9AE5-3616AE73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1795AF-3808-4EFF-8126-6FC48E1E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941B9-C7AA-4530-9325-5FECCD6B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CD4464-5097-47AC-9D24-C162E3BA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E918EB-73E7-4A89-A519-DA7BBA7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E40-FBB7-4591-AAF9-114C23F4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CA4E38-733E-4E9C-9679-17CFDDB4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12FDA9-CF58-4F25-9791-89E9A9D0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4DD34B-AAA0-4961-8AD4-3ED3F0FC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BC85F2-CF09-4A0C-AA56-0018071E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577C0A-FE7F-498B-BBF1-147757FF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977938-1543-46FF-98B6-0241F42E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61AC94-A56C-4371-921B-9EDA3953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8E316A-59FD-449B-9820-DAE5F3B0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768BC8-C477-4D7B-9179-D82D7525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4BC6FE-6CF7-48BC-943F-92F9752E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133-7988-4D46-ACDA-E986A73C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044E79-03D7-4DCD-A136-A57D070A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2FBB2C-C7F6-4E69-8D33-B7000626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125FCC-1053-4446-864B-BC34E840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56157F-E1F5-4318-BF90-F0F861B3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A1F86C-5200-4639-9371-6EE3717A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73CF95-4A6A-412B-81F7-EB90BF04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E41463-50CA-4CEC-8A1E-5A8E3D06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1D7946-B713-4A6E-8600-89C3E995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D5CF47-FE6D-4CEB-B232-BE9B4B80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5F007-C385-40E1-AF42-609293F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C6DEF-1179-4983-B6D1-27379EA9D6B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DE766-0876-4B46-AD99-63F383928D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3BFE8-273E-41F4-912A-CBD9108F5F5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F03F4-1D86-4E12-AA5A-A7F9CF6851F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8475A-13F3-49FB-822A-214A80B3870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DB0F3-869E-4966-A640-2CA007C6D89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92D00-A068-4838-A64C-276EF8145EB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46BC6-220B-4FBA-BA8F-A9AC58B71F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CB09B-A853-48F9-8B38-CDD20EB1707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DD780-5704-4F04-B344-B95DB4E9D34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7DACD-9352-4259-899E-88905746DE9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5D51D-5288-426F-B3C2-3755414404B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4D41A-05AB-4CFE-9D7F-A8C380D20F5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AAB91-61D5-49CE-96B6-424ECF43938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403EB-B1E8-4783-A52D-972EFF785BD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778E7-0F52-4890-8317-4CCCD4DFB44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E0104-7141-41C1-BC43-1C976B90868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9048D-59F1-4EE4-B74D-A61E5B6B25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0CE4A-006B-4389-9D52-0252B80F11E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644EB-5CBF-4D51-9BBA-5448CD6EE3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2AD80-2C6E-424A-A290-52782F898D0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E75EB-EFF6-4144-8143-22D83DB9AA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E061E-C8D0-46C5-A1A7-0063CEA2006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A11B6-D236-4A51-A0E8-1778B2C9F84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5A27C-A98F-4A11-BE1E-5A279D639BE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63E08-9CE6-41B3-B4C3-18DEB46F6C7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789A9-20B2-429C-8F8F-7B0AD7DD946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DCE01-BFC3-4DF5-BD4F-2E79A53E5A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D2A71-656C-402E-B028-5C66347B73B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70876-BB4B-4D32-91A0-F3F46A755E0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37E0E-8711-4A66-847E-D431CB51EC4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52684-DC22-499B-B516-D112D202409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9990E-80CB-4264-9286-74E2A7C666A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AB639-EAAB-4B75-9ADE-29B55E10E0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58D1C-41F6-4512-83D9-8B8B40A66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99FF2-4C1B-46AC-B8F7-BBF7CD558B2B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9005D-1DAB-4823-95F6-B435EAB30CFA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54389-0CB1-4244-BF2E-BDF36D3CB2C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F58F8-2430-4232-B4FC-A9FE749559F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2A796-B7BA-47E0-873C-254B020FADE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7309B-3476-4B8E-A644-4A4F97FB6A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57768-DB1E-4EAA-822E-B8175388D6E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D6C09-1B90-4B06-92AA-64B24F22A2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oel Firest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an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uture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eb 5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 (Vote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RGRR005: Clarify Data Necessary for Planning Mode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per RDWG re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OGRR136: Verifying QSE Capability to Operate in CF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per OWG re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OGRR140: Posting of the ERCOT Geomagnetic Disturbance Operating Pl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commend approval (unanimous) per OWG re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IA endorsed as submit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 (Update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PRR654: Discontinue Ancillary Service Requirement Methodology Assessment Repo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as submit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PRR655: Discontinue Contingency List Changes Due to Weather Repo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as submit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PRR661: Discontinue Posting Profile Data Evaluation Repo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as submit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PRR657: Discontinue Backup Control Plan Submittal Results, Dispatch Instructions Compliance Metrics, and Backup Control Plan Test Dates and Results Summary Repor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as submit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OGRR132: Automatic Under-Voltage and Under-Frequency Load Shedding Protection Systems – Load Restor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Remanded to OW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Economic Impacts of Outage Scheduling – Task Force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RCOT requested a new task force be created to evaluate market impacts related to equipment outage scheduling.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RCOT will schedule a meeting in February to better define the issue and develop the task force scope for presentation at next ROS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ask force would be a joint effort by ROS and WM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source Interconnection Handboo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 Handbook distributed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RCOT working on revised Draft Handboo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 Whitepaper distributed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ding more language to better explain differen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ed PGRR language for ERCOT revie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Voltage Reduction Re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RTF further explo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Implementation cost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Load participa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RTF conducting survey with TDSP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0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Albracht, Brittney</cp:lastModifiedBy>
  <cp:lastPrinted>2013-01-30T23:16:36Z</cp:lastPrinted>
  <dcterms:modified xsi:type="dcterms:W3CDTF">2015-01-22T19:56:54Z</dcterms:modified>
  <cp:revision>795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