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1A15C-43F2-4422-A5CE-EF9A34D3B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72F09-157C-435D-9882-BC129DBB3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79BC1-804B-4812-88C4-63541C41A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A1B11-C29C-437E-8E4B-20071E617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EAB-19F1-4FCE-A735-DD8FD2A7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5C8-646F-48EA-8B36-C6D9BCA0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697-8B6B-42D9-9AE9-63B39E34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70A-D4BF-45A7-B5BB-976C70A2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1F4-E136-464D-9E73-E91EE11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01A-66B6-45B0-B777-C96D599E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6E9-2D15-48DF-A62A-9082AE31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B46-B400-45CE-AA4E-49EBB57E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6FD-E509-42F2-B676-AA68A28D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507-F8D3-4B0E-845D-E475820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BFE-788F-4D0E-AF51-0647B57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38D-9314-4317-AF40-08871E5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02C78-4B32-4E48-8CE5-6405FDD1B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B1EB6-5678-40E3-9D25-D8D4F10D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98E89-08A1-416B-8B76-1B828500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9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nuary 29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19, Resolution of Alignment Items A33, A92, A106, and A150 - TSPs Must Submit Outages for Resource Owned Equipment and Clarification of Changes in Status of Transmission Element P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1, Season Definition Change for Switchable Resources Reporting Unavailable Capacit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0, Remove CRR State Change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9, Maintaining Frequency Responsiveness from Generation Resources Providing RR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783, Outage Scheduler Enhancements – Group 2, Usability and Filtering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Withdra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25, Clarification of Non-Spin Requirements and Operational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Options for NPRR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44520" y="80820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1/15/15, PRS discussed delivery options for NPRR626 and unanimously endorsed Option 3 – Phased approa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3 – Phas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1 – 626/665/568ph2/644/645/598/OBD – Late June – most likely 6/27-6/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2 – NPRR595 – Mid-September – most likely 9/12-9/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1-19T14:45:07Z</dcterms:modified>
  <cp:revision>24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