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8CB19-DB1D-40D2-BDEE-CBB0AB31B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7A7E9-D670-4FE8-8094-0AE4080E9D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F2E12-598D-4C8E-8944-B1098B955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9B90-71F4-45F6-9D2B-DA85EF041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52BC-B115-4A65-90A1-315C60194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7B23-2219-4F89-AD72-58BFDE7B62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8ED9-5E7E-4DDC-8748-3A8110275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E9436FD-1C66-473F-A48B-773F0B083F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7032312-E280-4CAA-919F-CD351700A7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9D2182E-9E85-4B9D-802E-40C9FAF06C0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AB8DC00-9872-4C8E-96F7-544E5B6D36C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F6A02E3-353C-4EAB-AF43-6F271564531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A8F4A3B-5D30-46C9-BA16-D14671C618A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99D3684-3B9D-49ED-A334-E1FFF742479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DF623F9-008D-43C8-84AA-7F2311AA0C7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44E6446-1611-461C-85A6-673895E7EC4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A3CC16B-F6DC-4ABB-ADE3-D56775E2C68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EF3A60A-F215-4742-A5CD-FA1E84DB2A3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7ADD0DD-5897-47F3-9C70-9293DFF6EC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9B0AFB6-E435-4AC9-9302-A1A815347A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AD9816-1805-48AB-8249-F99F1A2FD1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E2DC3-1B72-482B-B92E-F58028EEA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5F552-CC63-4015-885B-3503D01D7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1E0DD-E1B1-4A3F-9E49-53C530010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72F3F-8DA3-4925-9CCF-ACA3693D1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0FBF3-E230-4207-AE53-9EF1B3E2A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EA4F9-6EF2-4EFF-8DC0-59F2963A9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8E6E288-F7D1-43A3-8459-AE1C920022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B39CF-546F-433F-8BAB-DA0F43721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87838-8D50-4189-9166-30036F10E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50594-411D-419B-92C0-DD3972863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438EED-97B1-4B95-9400-23BA439878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4519CF-E821-4F53-88B7-2BAE7542C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F6C6D84-46A4-4045-B293-D3031B0918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500B30B-0E5B-419A-8EED-1605C76F885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88802FB-E6BE-47C0-BF3C-533FDB621D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6BAC3E6-AC13-4D65-B7FB-A3F209D05AC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8DC5B3A-8E40-4652-9A58-0960B34203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F2C6AB4-4AFF-410D-9DFE-C26531EC30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B262BF6-CE8D-45F1-86B4-9601B053966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BE32A5F-110F-40EB-BF56-BCC707DD33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3E95349-0960-4912-BD46-272FCC3FA8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2820CEA-D15D-426F-A8CF-FCA24381EF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DB86D2-50E5-4FA7-A8E7-3E83FF0413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6A00DD5-1C09-477E-B2AC-B81EEB459E2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7E0A195-2EB9-444C-8ADE-F6683EACD81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8644DAF-4F8E-4103-B420-177C6E98FA7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6588CA5-1769-4E17-B59B-EFDAA895CF7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1BEE969-F32E-4200-BB48-8452B5270A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D62A14E-2A84-4FB6-84A8-13E607B48D3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8505006-CB56-4EDA-9810-97686060617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572C0AD-8E02-4BF0-8F5A-972D8396042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B9DB576-47FA-4BE3-A42E-D8A5EE4DBAB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F301253-1F60-4671-92C3-0C01BE35598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9BD7155-2926-48C7-9474-806B131001E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DBB567D-DE9A-4B58-A5B3-B91486BC6DE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B435B96-855A-47E7-BEF5-F03312FE832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274ED89-A608-413B-AB07-66C4C27F207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4581691-4021-4AB8-8353-92A76B70DEF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5F0DDBB-69BC-4A66-ACC3-A4B1C3CEF4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30708D7-26CD-4B6A-BF63-EC1D960FD31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166D8E2-B5FB-4B8C-9ED2-95E550ABB4D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020CF50-895E-4BD5-823C-EE92D7D2C79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49AC745-9BC4-4F67-AD79-C3ADD092103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492B326-283D-4ED3-AB66-BED9560AF18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3EA7894-EF4D-4B6F-BA5E-F4168ED4332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2AD8D63-F20B-4E0D-904A-1C2C6DD9EBC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8C501EC-022D-4F32-9C04-89D874876A8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CCD4F8C-1BEC-4FAC-AC33-3A0BEF36B1B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29AD0F0-3FC7-4711-A806-5CB10E05EDF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2A8A668-605D-4B1B-A89E-A5DF6F829E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079D42E-D509-4317-8487-EA821BCDAD0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E1E1F79-5CA5-4296-98A6-88D9F68BD16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4E9D559-9304-4341-AD9B-6FC2841C5DF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F095477-F396-492B-8275-C36502AE2C2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AC5E75F-99FC-4822-A856-C87693771EF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993FF0F-A084-451F-82D3-01F2EE25C7C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68A2852-AA4E-40FD-AE30-A144B92A05C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4C28206-0AC2-416A-9D83-D9C5231B3B8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C5CA23D-5C8E-4B8A-AF89-26A30426E1C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BFD5447-3F7E-4054-A1B9-A29057AB4BF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A755789-0779-4D37-91E8-AED516A76D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52AF57A-4512-48FE-959F-A320DCC741C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94D8F7F-D36A-4F7B-80BA-93A13E70380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69AD6A4-612E-4D10-AC26-F6C8927BB69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52CED3B-34B2-47C1-BED3-41BE79C4762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564F819-D2A5-4BB6-B04F-90440A0D6E9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AAB0591-1787-4789-8E27-B80F70C2680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9E69D1E-F2A4-4561-8A23-B30425D9AFA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6D4A614-636E-4E70-9BFB-2BA2ECD7AB9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FE032E2-6360-4A8E-A754-FF3CEFA35F4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11AB7AD-8337-458F-AEED-4D2A423B70A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8F67651-496E-4BE3-82E8-17E02AE196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D8D3D68-1648-4923-AF93-39B05D0FAA8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EB83E02-0237-4A5E-AC9F-C37498D0072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9C885F4-A6D0-4983-9CE9-8A56C4B3CD5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AC9A507-004A-4B90-9945-786E725D0B8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A6B3214-F527-4AB7-BAE8-46995C1F220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414A3C7-7211-4B96-8A4B-0287D012337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8F59A77-A8A2-446E-A7E7-D7E90EEF6BF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A044D81-5795-4891-B7DC-BB2FE1B5172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480D40C-BC88-469E-88D2-BFE98556673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6B4C681-1D2C-44D3-BDC2-698855CDD167}"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ABFB2-A886-4921-A606-609441276A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S Update to COP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51F1E-64B3-4E7D-82E3-1A279FF7B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9E30-2974-4E6B-9BA3-65D96A4E5A1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1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MS Update to COP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FF84D-5793-4556-BE1E-8F22B790AD7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1D08-338E-457D-BAE9-0A774200299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EEF2B-7978-4E1E-9F0A-FF6348588B0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C9CF-2935-48F7-9D9B-F12FF19F4CF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0A8D-87AA-487E-A5D1-B9AB8B23C96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47405-AF4E-4526-B79C-120BF6FD989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9, 2015 </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42CB5-2383-40B9-85F2-094E4AD01A3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nouncements! </a:t>
            </a:r>
            <a:endParaRPr b="0" lang="en-US" sz="4300" spc="-1" strike="noStrike">
              <a:solidFill>
                <a:srgbClr val="572314"/>
              </a:solidFill>
              <a:latin typeface="Gill Sans MT"/>
            </a:endParaRPr>
          </a:p>
        </p:txBody>
      </p:sp>
      <p:sp>
        <p:nvSpPr>
          <p:cNvPr id="468" name=""/>
          <p:cNvSpPr txBox="1"/>
          <p:nvPr/>
        </p:nvSpPr>
        <p:spPr>
          <a:xfrm>
            <a:off x="884160" y="838080"/>
            <a:ext cx="8229600" cy="518184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UCT 36234- HAN Low Income Program Finalized</a:t>
            </a:r>
            <a:endParaRPr b="0" lang="en-US" sz="24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meetings/rms/keydocs/2015/0106/11.__AMS_Low_Income_Program_-_Implementation_Plan_(36234).pdf</a:t>
            </a: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meetings/rms/keydocs/2015/0106/11.__36234_REP_Reimbursement_Invoice.xls</a:t>
            </a: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1" lang="en-US" sz="2400" spc="-1" strike="noStrike">
                <a:solidFill>
                  <a:srgbClr val="000000"/>
                </a:solidFill>
                <a:latin typeface="Gill Sans MT"/>
              </a:rPr>
              <a:t>Inadvertent Gain Training</a:t>
            </a:r>
            <a:endParaRPr b="0" lang="en-US" sz="24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rket Training should be held around 2</a:t>
            </a:r>
            <a:r>
              <a:rPr b="0" lang="en-US" sz="2400" spc="-1" strike="noStrike" baseline="30000">
                <a:solidFill>
                  <a:srgbClr val="000000"/>
                </a:solidFill>
                <a:latin typeface="Gill Sans MT"/>
              </a:rPr>
              <a:t>nd</a:t>
            </a:r>
            <a:r>
              <a:rPr b="0" lang="en-US" sz="2400" spc="-1" strike="noStrike">
                <a:solidFill>
                  <a:srgbClr val="000000"/>
                </a:solidFill>
                <a:latin typeface="Gill Sans MT"/>
              </a:rPr>
              <a:t> Quarter of 2015</a:t>
            </a:r>
            <a:endParaRPr b="0" lang="en-US" sz="24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AG Training Leadership: </a:t>
            </a:r>
            <a:endParaRPr b="0" lang="en-US" sz="24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omas Fernandez – NRG * Focus CR’s IAG processes</a:t>
            </a:r>
            <a:endParaRPr b="0" lang="en-US" sz="20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rde Nuru- CNP  *Focus TDSP’s IAG processes   </a:t>
            </a:r>
            <a:endParaRPr b="0" lang="en-US" sz="20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Jim Lee – AEP  *Focus on Draft RMGRR Rescission Changes  </a:t>
            </a:r>
            <a:endParaRPr b="0" lang="en-US" sz="20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John Schatz – TXU  *Focus: Challenge CRs to examine processes to discover ways in which to reduce IAGs  </a:t>
            </a:r>
            <a:endParaRPr b="0" lang="en-US" sz="20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6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9, 2015</a:t>
            </a:r>
            <a:endParaRPr b="0" lang="en-US" sz="1200" spc="-1" strike="noStrike">
              <a:solidFill>
                <a:srgbClr val="000000"/>
              </a:solidFill>
              <a:latin typeface="Arial"/>
            </a:endParaRPr>
          </a:p>
        </p:txBody>
      </p:sp>
      <p:sp>
        <p:nvSpPr>
          <p:cNvPr id="47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7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DBFC-4B72-47C7-B529-04519F171C6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nouncements! </a:t>
            </a:r>
            <a:endParaRPr b="0" lang="en-US" sz="4300" spc="-1" strike="noStrike">
              <a:solidFill>
                <a:srgbClr val="572314"/>
              </a:solidFill>
              <a:latin typeface="Gill Sans MT"/>
            </a:endParaRPr>
          </a:p>
        </p:txBody>
      </p:sp>
      <p:sp>
        <p:nvSpPr>
          <p:cNvPr id="473" name=""/>
          <p:cNvSpPr txBox="1"/>
          <p:nvPr/>
        </p:nvSpPr>
        <p:spPr>
          <a:xfrm>
            <a:off x="914400" y="457200"/>
            <a:ext cx="8229600" cy="55627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RMS/COPS Workshop III WebEx Only </a:t>
            </a:r>
            <a:r>
              <a:rPr b="1" lang="en-US" sz="2200" spc="-1" strike="noStrike">
                <a:solidFill>
                  <a:srgbClr val="000000"/>
                </a:solidFill>
                <a:latin typeface="Gill Sans MT"/>
              </a:rPr>
              <a:t>- IDR Meter Protocol Requirement Threshold – </a:t>
            </a:r>
            <a:r>
              <a:rPr b="1" lang="en-US" sz="2200" spc="-1" strike="noStrike">
                <a:solidFill>
                  <a:srgbClr val="c00000"/>
                </a:solidFill>
                <a:latin typeface="Gill Sans MT"/>
              </a:rPr>
              <a:t>“Save the Date”</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riday, January 30, 2015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00 p.m.- 4:00 p.m. </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www.ercot.com/calendar/2015/01/20150130-IDRWorkshop </a:t>
            </a:r>
            <a:endParaRPr b="0" lang="en-US" sz="16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AMS Data Workshop V (Tuesday, February 3</a:t>
            </a:r>
            <a:r>
              <a:rPr b="1" lang="en-US" sz="2200" spc="-1" strike="noStrike" baseline="30000">
                <a:solidFill>
                  <a:srgbClr val="c00000"/>
                </a:solidFill>
                <a:latin typeface="Gill Sans MT"/>
              </a:rPr>
              <a:t>rd</a:t>
            </a:r>
            <a:r>
              <a:rPr b="1" lang="en-US" sz="2200" spc="-1" strike="noStrike">
                <a:solidFill>
                  <a:srgbClr val="c00000"/>
                </a:solidFill>
                <a:latin typeface="Gill Sans MT"/>
              </a:rPr>
              <a:t> at 1:30 pm) </a:t>
            </a:r>
            <a:endParaRPr b="0" lang="en-US" sz="2200" spc="-1" strike="noStrike">
              <a:solidFill>
                <a:srgbClr val="000000"/>
              </a:solidFill>
              <a:latin typeface="Gill Sans MT"/>
            </a:endParaRPr>
          </a:p>
          <a:p>
            <a:pPr lvl="2" marL="885960" indent="-22860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ERCOT Met Center Conference Room 206  following RMS</a:t>
            </a:r>
            <a:endParaRPr b="0" lang="en-US" sz="1400" spc="-1" strike="noStrike">
              <a:solidFill>
                <a:srgbClr val="000000"/>
              </a:solidFill>
              <a:latin typeface="Gill Sans MT"/>
            </a:endParaRPr>
          </a:p>
          <a:p>
            <a:pPr lvl="3" marL="1096920" indent="-173160">
              <a:spcBef>
                <a:spcPts val="2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FOCUS: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view Updated Metrics,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iscuss Market’s Longer-Term Reporting needs,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iscuss TDSP’s Follow-ups from prior workshops,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iscuss Sunsetting of AMS Data Workshops</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9, 2015</a:t>
            </a:r>
            <a:endParaRPr b="0" lang="en-US" sz="1200" spc="-1" strike="noStrike">
              <a:solidFill>
                <a:srgbClr val="000000"/>
              </a:solidFill>
              <a:latin typeface="Arial"/>
            </a:endParaRPr>
          </a:p>
        </p:txBody>
      </p:sp>
      <p:sp>
        <p:nvSpPr>
          <p:cNvPr id="47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7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9B3D5-DFC1-4841-B598-6C418F331B5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478" name="Picture 5" descr="MCj04344110000[1]"/>
          <p:cNvPicPr/>
          <p:nvPr/>
        </p:nvPicPr>
        <p:blipFill>
          <a:blip r:embed="rId1"/>
          <a:stretch/>
        </p:blipFill>
        <p:spPr>
          <a:xfrm>
            <a:off x="2286000" y="1219320"/>
            <a:ext cx="5334120" cy="4038480"/>
          </a:xfrm>
          <a:prstGeom prst="rect">
            <a:avLst/>
          </a:prstGeom>
          <a:ln w="0">
            <a:noFill/>
          </a:ln>
        </p:spPr>
      </p:pic>
      <p:sp>
        <p:nvSpPr>
          <p:cNvPr id="479"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4690-88C4-465A-B7F7-E195B0207E2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8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9, 2015</a:t>
            </a:r>
            <a:endParaRPr b="0" lang="en-US" sz="1200" spc="-1" strike="noStrike">
              <a:solidFill>
                <a:srgbClr val="000000"/>
              </a:solidFill>
              <a:latin typeface="Arial"/>
            </a:endParaRPr>
          </a:p>
        </p:txBody>
      </p:sp>
      <p:sp>
        <p:nvSpPr>
          <p:cNvPr id="48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lection of RMS 2015 Leadership </a:t>
            </a:r>
            <a:endParaRPr b="0" lang="en-US" sz="4300" spc="-1" strike="noStrike">
              <a:solidFill>
                <a:srgbClr val="572314"/>
              </a:solidFill>
              <a:latin typeface="Gill Sans MT"/>
            </a:endParaRPr>
          </a:p>
        </p:txBody>
      </p:sp>
      <p:sp>
        <p:nvSpPr>
          <p:cNvPr id="424" name=""/>
          <p:cNvSpPr txBox="1"/>
          <p:nvPr/>
        </p:nvSpPr>
        <p:spPr>
          <a:xfrm>
            <a:off x="939960" y="1219320"/>
            <a:ext cx="8229600" cy="50292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Kathy Scott – CenterPoint Energy </a:t>
            </a:r>
            <a:endParaRPr b="0" lang="en-US" sz="3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Re-elected as 2015 RMS Chai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Rob Bevill – Green Mountain/NRG</a:t>
            </a:r>
            <a:endParaRPr b="0" lang="en-US" sz="3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Re-elected as 2015 Vice Chai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Note</a:t>
            </a:r>
            <a:r>
              <a:rPr b="1" lang="en-US" sz="2400" spc="-1" strike="noStrike">
                <a:solidFill>
                  <a:srgbClr val="000000"/>
                </a:solidFill>
                <a:latin typeface="Gill Sans MT"/>
              </a:rPr>
              <a:t>:  This vote requires TAC’s confirmation</a:t>
            </a:r>
            <a:endParaRPr b="0" lang="en-US" sz="24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9, 2015</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128B7-F0EB-4913-8043-A50A26558D7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GRR127 RMS Consideration  </a:t>
            </a:r>
            <a:endParaRPr b="0" lang="en-US" sz="4300" spc="-1" strike="noStrike">
              <a:solidFill>
                <a:srgbClr val="572314"/>
              </a:solidFill>
              <a:latin typeface="Gill Sans MT"/>
            </a:endParaRPr>
          </a:p>
        </p:txBody>
      </p:sp>
      <p:sp>
        <p:nvSpPr>
          <p:cNvPr id="429" name=""/>
          <p:cNvSpPr txBox="1"/>
          <p:nvPr/>
        </p:nvSpPr>
        <p:spPr>
          <a:xfrm>
            <a:off x="939960" y="68580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27</a:t>
            </a:r>
            <a:r>
              <a:rPr b="1" lang="en-US" sz="2400" spc="-1" strike="noStrike">
                <a:solidFill>
                  <a:srgbClr val="000000"/>
                </a:solidFill>
                <a:latin typeface="Gill Sans MT"/>
              </a:rPr>
              <a:t>, Efficiencies for Acquisition Transfer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is Retail Market Guide Revision Request (RMGRR) removes the date restriction from ERCOT for self-selected Acquisition Transfer transactions. </a:t>
            </a:r>
            <a:endParaRPr b="0" lang="en-US" sz="22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ason for revision:  Market efficiencies or enhancements</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2/02/14</a:t>
            </a:r>
            <a:r>
              <a:rPr b="0" lang="en-US" sz="2000" spc="-1" strike="noStrike">
                <a:solidFill>
                  <a:srgbClr val="000000"/>
                </a:solidFill>
                <a:latin typeface="Gill Sans MT"/>
              </a:rPr>
              <a:t>:  </a:t>
            </a:r>
            <a:r>
              <a:rPr b="1" lang="en-US" sz="2000" spc="-1" strike="noStrike">
                <a:solidFill>
                  <a:srgbClr val="000000"/>
                </a:solidFill>
                <a:latin typeface="Gill Sans MT"/>
              </a:rPr>
              <a:t>Motion to approve as submitted by ERCOT was Unanimous.  IA will be returned to RMS during the January 6, 2015 meeting</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01/06/15: Impact Analysis Review</a:t>
            </a:r>
            <a:r>
              <a:rPr b="0" lang="en-US" sz="2200" spc="-1" strike="noStrike">
                <a:solidFill>
                  <a:srgbClr val="000000"/>
                </a:solidFill>
                <a:latin typeface="Gill Sans MT"/>
              </a:rPr>
              <a:t>: </a:t>
            </a:r>
            <a:endParaRPr b="0" lang="en-US" sz="22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ess than $10k, which will be absorbed by the Operations &amp; Maintenance (O&amp;M) budgets of affected department.</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RMS unanimously Approved RMGRR127 Impact Analysis as submitted</a:t>
            </a:r>
            <a:r>
              <a:rPr b="1" lang="en-US" sz="2000" spc="-1" strike="noStrike">
                <a:solidFill>
                  <a:srgbClr val="000000"/>
                </a:solidFill>
                <a:latin typeface="Gill Sans MT"/>
              </a:rPr>
              <a:t>.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1/29/15 TAC meeting: </a:t>
            </a:r>
            <a:r>
              <a:rPr b="1" lang="en-US" sz="2000" spc="-1" strike="noStrike">
                <a:solidFill>
                  <a:srgbClr val="c00000"/>
                </a:solidFill>
                <a:latin typeface="Gill Sans MT"/>
              </a:rPr>
              <a:t>RMS unanimously recommends TAC’s approval of RMGRR127 </a:t>
            </a: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2" marL="885960" indent="-22860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9, 2015</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81CF-F9D7-418C-9D40-A35F327CE8F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PRR668, Submission Approval</a:t>
            </a:r>
            <a:endParaRPr b="0" lang="en-US" sz="4300" spc="-1" strike="noStrike">
              <a:solidFill>
                <a:srgbClr val="572314"/>
              </a:solidFill>
              <a:latin typeface="Gill Sans MT"/>
            </a:endParaRPr>
          </a:p>
        </p:txBody>
      </p:sp>
      <p:sp>
        <p:nvSpPr>
          <p:cNvPr id="434" name=""/>
          <p:cNvSpPr txBox="1"/>
          <p:nvPr/>
        </p:nvSpPr>
        <p:spPr>
          <a:xfrm>
            <a:off x="914400" y="990720"/>
            <a:ext cx="8229600" cy="5410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NPRR668</a:t>
            </a:r>
            <a:r>
              <a:rPr b="1" lang="en-US" sz="2400" spc="-1" strike="noStrike">
                <a:solidFill>
                  <a:srgbClr val="000000"/>
                </a:solidFill>
                <a:latin typeface="Gill Sans MT"/>
              </a:rPr>
              <a:t>, Update to TX SET Implementation Guide Process (Vo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is Nodal Protocol Revision Request (NPRR) updates the change control process for the Texas Standard Electronic Transaction (TX SET) Implementation Guides to clarify classification of change requests and to remove redundant and outdated language.</a:t>
            </a:r>
            <a:endParaRPr b="0" lang="en-US" sz="22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2/02/14</a:t>
            </a:r>
            <a:r>
              <a:rPr b="0" lang="en-US" sz="2000" spc="-1" strike="noStrike">
                <a:solidFill>
                  <a:srgbClr val="000000"/>
                </a:solidFill>
                <a:latin typeface="Gill Sans MT"/>
              </a:rPr>
              <a:t>:  NPRR668 was tabled at the request of RMS to include additional clarification to TX SET Change Control’s dispute process, TX SET’s Protocol definitions and to include normal timeline process for TX SET Change Controls.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1/06/15:  NPRR668 was unanimously endorsed by RMS with TX SET’s edits and comments.  </a:t>
            </a:r>
            <a:r>
              <a:rPr b="1" lang="en-US" sz="2000" spc="-1" strike="noStrike">
                <a:solidFill>
                  <a:srgbClr val="c00000"/>
                </a:solidFill>
                <a:latin typeface="Gill Sans MT"/>
              </a:rPr>
              <a:t>RMS’ endorsement was considered and approved by PRS during their January 15, 2015 meeting.   </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9, 2015</a:t>
            </a:r>
            <a:endParaRPr b="0" lang="en-US" sz="1200" spc="-1" strike="noStrike">
              <a:solidFill>
                <a:srgbClr val="000000"/>
              </a:solidFill>
              <a:latin typeface="Arial"/>
            </a:endParaRPr>
          </a:p>
        </p:txBody>
      </p:sp>
      <p:sp>
        <p:nvSpPr>
          <p:cNvPr id="43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6AB8-4DF6-4895-9C23-55216D37CC9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GRR126 RMS Consideration  </a:t>
            </a:r>
            <a:endParaRPr b="0" lang="en-US" sz="4300" spc="-1" strike="noStrike">
              <a:solidFill>
                <a:srgbClr val="572314"/>
              </a:solidFill>
              <a:latin typeface="Gill Sans MT"/>
            </a:endParaRPr>
          </a:p>
        </p:txBody>
      </p:sp>
      <p:sp>
        <p:nvSpPr>
          <p:cNvPr id="439" name=""/>
          <p:cNvSpPr txBox="1"/>
          <p:nvPr/>
        </p:nvSpPr>
        <p:spPr>
          <a:xfrm>
            <a:off x="939960" y="685800"/>
            <a:ext cx="8229600" cy="54864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26</a:t>
            </a:r>
            <a:r>
              <a:rPr b="0" lang="en-US" sz="2400" spc="-1" strike="noStrike">
                <a:solidFill>
                  <a:srgbClr val="000000"/>
                </a:solidFill>
                <a:latin typeface="Gill Sans MT"/>
              </a:rPr>
              <a:t>, </a:t>
            </a:r>
            <a:r>
              <a:rPr b="1" lang="en-US" sz="2400" spc="-1" strike="noStrike">
                <a:solidFill>
                  <a:srgbClr val="000000"/>
                </a:solidFill>
                <a:latin typeface="Gill Sans MT"/>
              </a:rPr>
              <a:t>Additional ERCOT Validations for Customer Billing Contact Information File </a:t>
            </a:r>
            <a:endParaRPr b="0" lang="en-US" sz="2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is Retail Market Guide Revision Request (RMGRR) requires ERCOT to validate that the submitting Competitive Retailer’s (CR’s) DUNS Number (DUNS #) and the Electric Service Identifiers (ESI IDs) provided in the Customer Billing Contact Information file are valid in the ERCOT registration system.</a:t>
            </a:r>
            <a:endParaRPr b="0" lang="en-US" sz="22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ason for revision:  Market efficiencies or enhancements</a:t>
            </a:r>
            <a:endParaRPr b="0" lang="en-US" sz="18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10/28/14: Unanimously Approved by RMS.</a:t>
            </a:r>
            <a:endParaRPr b="0" lang="en-US" sz="1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12/02/14 Impact Analysis</a:t>
            </a:r>
            <a:r>
              <a:rPr b="0" lang="en-US" sz="2000" spc="-1" strike="noStrike">
                <a:solidFill>
                  <a:srgbClr val="000000"/>
                </a:solidFill>
                <a:latin typeface="Gill Sans MT"/>
              </a:rPr>
              <a:t>:  ERCOT requested and recommended that IA vote be tabled for additional review of their IA process; ERCOT planned to provide manual and automated process cost estimates within the IA for RMS consideration.   Need to come back with two IAs both the manual and automated process estimates.  </a:t>
            </a:r>
            <a:r>
              <a:rPr b="1" lang="en-US" sz="2000" spc="-1" strike="noStrike">
                <a:solidFill>
                  <a:srgbClr val="000000"/>
                </a:solidFill>
                <a:latin typeface="Gill Sans MT"/>
              </a:rPr>
              <a:t>Revised IA will come back to RMS in January or February 2015</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1/06/15: </a:t>
            </a:r>
            <a:r>
              <a:rPr b="1" lang="en-US" sz="2000" spc="-1" strike="noStrike">
                <a:solidFill>
                  <a:srgbClr val="000000"/>
                </a:solidFill>
                <a:latin typeface="Gill Sans MT"/>
              </a:rPr>
              <a:t>RMGRR126 continued to be tabled at RMS. </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2" marL="832680" indent="-21456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44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9, 2015</a:t>
            </a:r>
            <a:endParaRPr b="0" lang="en-US" sz="1200" spc="-1" strike="noStrike">
              <a:solidFill>
                <a:srgbClr val="000000"/>
              </a:solidFill>
              <a:latin typeface="Arial"/>
            </a:endParaRPr>
          </a:p>
        </p:txBody>
      </p:sp>
      <p:sp>
        <p:nvSpPr>
          <p:cNvPr id="44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5D3AA-0009-4333-842D-82E6236EBAA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GRR128 RMS Consideration  </a:t>
            </a:r>
            <a:endParaRPr b="0" lang="en-US" sz="4300" spc="-1" strike="noStrike">
              <a:solidFill>
                <a:srgbClr val="572314"/>
              </a:solidFill>
              <a:latin typeface="Gill Sans MT"/>
            </a:endParaRPr>
          </a:p>
        </p:txBody>
      </p:sp>
      <p:sp>
        <p:nvSpPr>
          <p:cNvPr id="444" name=""/>
          <p:cNvSpPr txBox="1"/>
          <p:nvPr/>
        </p:nvSpPr>
        <p:spPr>
          <a:xfrm>
            <a:off x="939960" y="685800"/>
            <a:ext cx="8229600" cy="54864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28</a:t>
            </a:r>
            <a:r>
              <a:rPr b="1" lang="en-US" sz="2400" spc="-1" strike="noStrike">
                <a:solidFill>
                  <a:srgbClr val="000000"/>
                </a:solidFill>
                <a:latin typeface="Gill Sans MT"/>
              </a:rPr>
              <a:t>, Reinstate Critical Care Status After Resolution of an Inadvertent Gain (Vote) </a:t>
            </a:r>
            <a:r>
              <a:rPr b="1" lang="en-US" sz="3200" spc="-1" strike="noStrike">
                <a:solidFill>
                  <a:srgbClr val="000000"/>
                </a:solidFill>
                <a:latin typeface="Gill Sans MT"/>
              </a:rPr>
              <a:t> </a:t>
            </a:r>
            <a:endParaRPr b="0" lang="en-US" sz="32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is Retail Market Guide Revision Request (RMGRR) provides guidelines for a Competitive Retailer (CR) to request that a Transmission and/or Distribution Service Provider (TDSP) restore a critical care status to an Electric Service Identifier (ESI ID) that may have been removed from the ESI ID due to an inadvertent gain.</a:t>
            </a:r>
            <a:endParaRPr b="0" lang="en-US" sz="22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1/06/15:   RMGRR128 Motion to Table was Unanimously Approved by RMS </a:t>
            </a:r>
            <a:r>
              <a:rPr b="0" lang="en-US" sz="2000" spc="-1" strike="noStrike">
                <a:solidFill>
                  <a:srgbClr val="000000"/>
                </a:solidFill>
                <a:latin typeface="Gill Sans MT"/>
              </a:rPr>
              <a:t>—During RMS CRs discussed that TDSPs’ have the responsibility to reinstate  Critical/Chronic Care (CC) status flag without CR input or a MarkeTrak notification. Language in RMGRR128 will need to be modified to support this new process.  </a:t>
            </a:r>
            <a:endParaRPr b="0" lang="en-US" sz="20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ction Item for TDSPs</a:t>
            </a:r>
            <a:r>
              <a:rPr b="0" lang="en-US" sz="2000" spc="-1" strike="noStrike">
                <a:solidFill>
                  <a:srgbClr val="000000"/>
                </a:solidFill>
                <a:latin typeface="Gill Sans MT"/>
              </a:rPr>
              <a:t>:   Discuss CRs’ request for additional process changes to RMGRR128 to support CC reinstatements.     </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9, 2015</a:t>
            </a:r>
            <a:endParaRPr b="0" lang="en-US" sz="1200" spc="-1" strike="noStrike">
              <a:solidFill>
                <a:srgbClr val="000000"/>
              </a:solidFill>
              <a:latin typeface="Arial"/>
            </a:endParaRPr>
          </a:p>
        </p:txBody>
      </p:sp>
      <p:sp>
        <p:nvSpPr>
          <p:cNvPr id="44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9534-031F-4C3E-A885-761E82308CE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2015 Retail Service Level Agreement (SLA)</a:t>
            </a:r>
            <a:endParaRPr b="0" lang="en-US" sz="2800" spc="-1" strike="noStrike">
              <a:solidFill>
                <a:srgbClr val="572314"/>
              </a:solidFill>
              <a:latin typeface="Gill Sans MT"/>
            </a:endParaRPr>
          </a:p>
        </p:txBody>
      </p:sp>
      <p:sp>
        <p:nvSpPr>
          <p:cNvPr id="449" name=""/>
          <p:cNvSpPr txBox="1"/>
          <p:nvPr/>
        </p:nvSpPr>
        <p:spPr>
          <a:xfrm>
            <a:off x="1219320" y="685800"/>
            <a:ext cx="77724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ue to last minute changes that were drafted by ERCOT to move from a 45-day to 15-day RMS notification of SLA exception, RMS agreed to postpone this vote to allow MPs more time to review redlined edits and also for Texas Data Transport Working Group (TDTWG) to discuss and provide an RMS recommendation.  </a:t>
            </a:r>
            <a:endParaRPr b="0" lang="en-US" sz="2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ction Item:  </a:t>
            </a:r>
            <a:r>
              <a:rPr b="0" lang="en-US" sz="2400" spc="-1" strike="noStrike">
                <a:solidFill>
                  <a:srgbClr val="000000"/>
                </a:solidFill>
                <a:latin typeface="Gill Sans MT"/>
              </a:rPr>
              <a:t>Market Participants should review ERCOT’s redlined changes to draft 2015 Retail Service Level Agreement (SLA) to determine if new timelines can be supported.   </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MS postponed draft 2015 Retail SLA vote</a:t>
            </a:r>
            <a:endParaRPr b="0" lang="en-US" sz="2400" spc="-1" strike="noStrike">
              <a:solidFill>
                <a:srgbClr val="000000"/>
              </a:solidFill>
              <a:latin typeface="Gill Sans MT"/>
            </a:endParaRPr>
          </a:p>
          <a:p>
            <a:pPr lvl="4" marL="1297080" indent="-18252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9, 2015</a:t>
            </a:r>
            <a:endParaRPr b="0" lang="en-US" sz="1200" spc="-1" strike="noStrike">
              <a:solidFill>
                <a:srgbClr val="000000"/>
              </a:solidFill>
              <a:latin typeface="Arial"/>
            </a:endParaRPr>
          </a:p>
        </p:txBody>
      </p:sp>
      <p:sp>
        <p:nvSpPr>
          <p:cNvPr id="45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5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739F4-B018-4345-ABD9-9AB66509F77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53" name="Object 6"/>
          <p:cNvGraphicFramePr/>
          <p:nvPr/>
        </p:nvGraphicFramePr>
        <p:xfrm>
          <a:off x="4800600" y="5715000"/>
          <a:ext cx="631800" cy="533520"/>
        </p:xfrm>
        <a:graphic>
          <a:graphicData uri="http://schemas.openxmlformats.org/presentationml/2006/ole">
            <p:oleObj progId="Word.Document.12" r:id="rId1" spid="">
              <p:embed/>
              <p:pic>
                <p:nvPicPr>
                  <p:cNvPr id="454" name="Object 6" descr=""/>
                  <p:cNvPicPr/>
                  <p:nvPr/>
                </p:nvPicPr>
                <p:blipFill>
                  <a:blip r:embed="rId2"/>
                  <a:stretch/>
                </p:blipFill>
                <p:spPr>
                  <a:xfrm>
                    <a:off x="4800600" y="5715000"/>
                    <a:ext cx="63180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1526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Retail Testing Environment (Vote) </a:t>
            </a:r>
            <a:endParaRPr b="0" lang="en-US" sz="3200" spc="-1" strike="noStrike">
              <a:solidFill>
                <a:srgbClr val="572314"/>
              </a:solidFill>
              <a:latin typeface="Gill Sans MT"/>
            </a:endParaRPr>
          </a:p>
        </p:txBody>
      </p:sp>
      <p:sp>
        <p:nvSpPr>
          <p:cNvPr id="456" name=""/>
          <p:cNvSpPr txBox="1"/>
          <p:nvPr/>
        </p:nvSpPr>
        <p:spPr>
          <a:xfrm>
            <a:off x="1219320" y="990360"/>
            <a:ext cx="7772400" cy="5257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MS Leadership directed TDTWG to draft SCR that includes examples of current testing limitations, issues and market requirements (specifications) needed for new Retail Market PROD Test Region. </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000000"/>
              </a:solidFill>
              <a:latin typeface="Gill Sans MT"/>
            </a:endParaRPr>
          </a:p>
          <a:p>
            <a:pPr lvl="2" marL="885960" indent="-228600">
              <a:spcBef>
                <a:spcPts val="9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5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9, 2015</a:t>
            </a:r>
            <a:endParaRPr b="0" lang="en-US" sz="1200" spc="-1" strike="noStrike">
              <a:solidFill>
                <a:srgbClr val="000000"/>
              </a:solidFill>
              <a:latin typeface="Arial"/>
            </a:endParaRPr>
          </a:p>
        </p:txBody>
      </p:sp>
      <p:sp>
        <p:nvSpPr>
          <p:cNvPr id="45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5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DFA4-DC16-4DF7-8056-33F4B4BF25A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60" name="Object 2"/>
          <p:cNvGraphicFramePr/>
          <p:nvPr/>
        </p:nvGraphicFramePr>
        <p:xfrm>
          <a:off x="4267080" y="3581280"/>
          <a:ext cx="914400" cy="771480"/>
        </p:xfrm>
        <a:graphic>
          <a:graphicData uri="http://schemas.openxmlformats.org/presentationml/2006/ole">
            <p:oleObj progId="Word.Document.12" r:id="rId1" spid="">
              <p:embed/>
              <p:pic>
                <p:nvPicPr>
                  <p:cNvPr id="461" name="Object 2" descr=""/>
                  <p:cNvPicPr/>
                  <p:nvPr/>
                </p:nvPicPr>
                <p:blipFill>
                  <a:blip r:embed="rId2"/>
                  <a:stretch/>
                </p:blipFill>
                <p:spPr>
                  <a:xfrm>
                    <a:off x="4267080" y="35812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142640" y="-152640"/>
            <a:ext cx="7715160" cy="609480"/>
          </a:xfrm>
          <a:prstGeom prst="rect">
            <a:avLst/>
          </a:prstGeom>
          <a:noFill/>
          <a:ln w="0">
            <a:noFill/>
          </a:ln>
        </p:spPr>
        <p:txBody>
          <a:bodyPr lIns="90000" rIns="90000" tIns="46800" bIns="46800" anchor="ctr">
            <a:noAutofit/>
          </a:bodyPr>
          <a:p>
            <a:pPr indent="0">
              <a:buNone/>
              <a:tabLst>
                <a:tab algn="l" pos="0"/>
                <a:tab algn="l" pos="4343400"/>
                <a:tab algn="l" pos="4572000"/>
                <a:tab algn="l" pos="5486400"/>
                <a:tab algn="l" pos="6400800"/>
                <a:tab algn="l" pos="7315200"/>
                <a:tab algn="l" pos="8229600"/>
                <a:tab algn="l" pos="9144000"/>
                <a:tab algn="l" pos="10058400"/>
              </a:tabLst>
            </a:pPr>
            <a:br>
              <a:rPr sz="3200"/>
            </a:br>
            <a:r>
              <a:rPr b="1" lang="en-US" sz="3600" spc="-1" strike="noStrike">
                <a:solidFill>
                  <a:srgbClr val="572314"/>
                </a:solidFill>
                <a:latin typeface="Gill Sans MT"/>
              </a:rPr>
              <a:t>Flight 0215 Schedule: </a:t>
            </a:r>
            <a:endParaRPr b="0" lang="en-US" sz="3600" spc="-1" strike="noStrike">
              <a:solidFill>
                <a:srgbClr val="572314"/>
              </a:solidFill>
              <a:latin typeface="Gill Sans MT"/>
            </a:endParaRPr>
          </a:p>
        </p:txBody>
      </p:sp>
      <p:sp>
        <p:nvSpPr>
          <p:cNvPr id="463" name=""/>
          <p:cNvSpPr txBox="1"/>
          <p:nvPr/>
        </p:nvSpPr>
        <p:spPr>
          <a:xfrm>
            <a:off x="990720" y="761760"/>
            <a:ext cx="8153280" cy="5562360"/>
          </a:xfrm>
          <a:prstGeom prst="rect">
            <a:avLst/>
          </a:prstGeom>
          <a:noFill/>
          <a:ln w="0">
            <a:noFill/>
          </a:ln>
        </p:spPr>
        <p:txBody>
          <a:bodyPr anchor="t">
            <a:normAutofit fontScale="97000"/>
          </a:bodyPr>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light 0215 signup begins 01/07/15</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light 0215 signup deadline is 01/14/15 (03/27/15 for Current MPs Only, subject to Flight Administrator and TDSPs’ Approval)</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onnectivity kick-off conference call is 01/20/15</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light kick-off conference call is 02/13/15</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ay 1 transactions begin 02/16/15</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light 0215 is scheduled to conclude 02/27/15 (contingency/Adhoc period until 04/17/15)</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6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9, 2015</a:t>
            </a:r>
            <a:endParaRPr b="0" lang="en-US" sz="1200" spc="-1" strike="noStrike">
              <a:solidFill>
                <a:srgbClr val="000000"/>
              </a:solidFill>
              <a:latin typeface="Arial"/>
            </a:endParaRPr>
          </a:p>
        </p:txBody>
      </p:sp>
      <p:sp>
        <p:nvSpPr>
          <p:cNvPr id="46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6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B65FC-7FEA-4133-AF27-1ECDBB351B7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5-01-21T02:50:42Z</dcterms:modified>
  <cp:revision>711</cp:revision>
  <dc:subject/>
  <dc:title>Instructions</dc:title>
</cp:coreProperties>
</file>